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228-6247-4C3D-871D-FE59526C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038-B805-41E6-90CF-7992FE7C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25D-7D18-44F2-AC30-2851CF23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039-EC45-4AB1-8A0C-B1584BEE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0902-499D-48B7-B0C1-14A63ACD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F183-DF97-4393-A4A4-1530E29C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BF3C-6C04-4BF4-8ACD-8DB95977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C58C-B68C-4B92-85F1-C849C52B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47D9-686B-4226-997F-7032BEED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752120" y="3808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F15C-497E-4018-BE9E-28508944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89A0-C0F6-4085-8B0F-69EB708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4A1-3A3F-4C3A-A1E7-7406CA14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ED32-B8E7-432D-BC91-76EFB629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B885-B2BB-4F0A-A6E2-C470311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6A29-8C7B-491E-AB32-A7A8FDC4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1DB1-0515-4CFF-A181-EF49CA14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57E6-9E20-40A1-B5B5-03C91BBD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CE2-26A9-45BF-91B3-425284E2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3CC-7ED8-4619-A3FF-3B14BCB2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187-59A8-4E20-98D5-39DD3ADD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52120" y="3808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4E0-B068-4CB0-A78D-055D2CD9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B07-5AD7-4751-AA9E-C6561117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472-0B5C-43EC-BDBE-4DB89F97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57C-C2B3-4A3F-A39C-2D590EA9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48b063"/>
              </a:gs>
              <a:gs pos="100000">
                <a:srgbClr val="2151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88280"/>
            <a:ext cx="9144000" cy="380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39080" y="228600"/>
            <a:ext cx="304920" cy="6477120"/>
          </a:xfrm>
          <a:prstGeom prst="rect">
            <a:avLst/>
          </a:prstGeom>
          <a:solidFill>
            <a:srgbClr val="48b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476760" y="640044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200040" y="6519600"/>
            <a:ext cx="213372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840B-71E8-481C-B591-1AE147F6B733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752480" y="380880"/>
            <a:ext cx="7086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0" y="1019160"/>
            <a:ext cx="9144000" cy="152280"/>
            <a:chOff x="0" y="1019160"/>
            <a:chExt cx="9144000" cy="152280"/>
          </a:xfrm>
        </p:grpSpPr>
        <p:sp>
          <p:nvSpPr>
            <p:cNvPr id="9" name="Line 11"/>
            <p:cNvSpPr/>
            <p:nvPr/>
          </p:nvSpPr>
          <p:spPr>
            <a:xfrm>
              <a:off x="0" y="1019160"/>
              <a:ext cx="9144000" cy="0"/>
            </a:xfrm>
            <a:prstGeom prst="line">
              <a:avLst/>
            </a:prstGeom>
            <a:ln w="28440">
              <a:solidFill>
                <a:srgbClr val="db86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1019160"/>
              <a:ext cx="1752480" cy="152280"/>
            </a:xfrm>
            <a:prstGeom prst="rect">
              <a:avLst/>
            </a:prstGeom>
            <a:solidFill>
              <a:srgbClr val="db8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86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8b0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48b063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87440"/>
            <a:ext cx="9147240" cy="6381720"/>
          </a:xfrm>
          <a:prstGeom prst="rect">
            <a:avLst/>
          </a:prstGeom>
          <a:solidFill>
            <a:srgbClr val="48b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 flipV="1">
            <a:off x="304920" y="685440"/>
            <a:ext cx="5257800" cy="601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1143000" y="2133720"/>
            <a:ext cx="8001000" cy="4724280"/>
            <a:chOff x="1143000" y="2133720"/>
            <a:chExt cx="8001000" cy="4724280"/>
          </a:xfrm>
        </p:grpSpPr>
        <p:sp>
          <p:nvSpPr>
            <p:cNvPr id="52" name="Rectangle 6"/>
            <p:cNvSpPr/>
            <p:nvPr/>
          </p:nvSpPr>
          <p:spPr>
            <a:xfrm>
              <a:off x="1638360" y="2133720"/>
              <a:ext cx="750564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7"/>
            <p:cNvGrpSpPr/>
            <p:nvPr/>
          </p:nvGrpSpPr>
          <p:grpSpPr>
            <a:xfrm>
              <a:off x="1143000" y="2133720"/>
              <a:ext cx="990720" cy="4723920"/>
              <a:chOff x="1143000" y="2133720"/>
              <a:chExt cx="990720" cy="4723920"/>
            </a:xfrm>
          </p:grpSpPr>
          <p:sp>
            <p:nvSpPr>
              <p:cNvPr id="54" name="Oval 8"/>
              <p:cNvSpPr/>
              <p:nvPr/>
            </p:nvSpPr>
            <p:spPr>
              <a:xfrm>
                <a:off x="1143000" y="2133720"/>
                <a:ext cx="990720" cy="916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9"/>
              <p:cNvSpPr/>
              <p:nvPr/>
            </p:nvSpPr>
            <p:spPr>
              <a:xfrm>
                <a:off x="1143000" y="2627280"/>
                <a:ext cx="914400" cy="423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Rectangle 10"/>
          <p:cNvSpPr/>
          <p:nvPr/>
        </p:nvSpPr>
        <p:spPr>
          <a:xfrm>
            <a:off x="533520" y="6564240"/>
            <a:ext cx="861048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76320" y="604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7"/>
          <p:cNvGraphicFramePr/>
          <p:nvPr/>
        </p:nvGraphicFramePr>
        <p:xfrm>
          <a:off x="6973920" y="685800"/>
          <a:ext cx="88596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73920" y="685800"/>
                    <a:ext cx="885960" cy="914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" name="Object 18"/>
          <p:cNvGraphicFramePr/>
          <p:nvPr/>
        </p:nvGraphicFramePr>
        <p:xfrm>
          <a:off x="8007480" y="685800"/>
          <a:ext cx="907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7480" y="685800"/>
                    <a:ext cx="907920" cy="914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" name="Object 19"/>
          <p:cNvGraphicFramePr/>
          <p:nvPr/>
        </p:nvGraphicFramePr>
        <p:xfrm>
          <a:off x="5943600" y="685800"/>
          <a:ext cx="888840" cy="88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3600" y="685800"/>
                    <a:ext cx="888840" cy="88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86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8b0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80680" y="657360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576840"/>
            <a:ext cx="2133720" cy="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78D-481E-476E-BE0B-F794E25BA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2"/>
          <p:cNvSpPr/>
          <p:nvPr/>
        </p:nvSpPr>
        <p:spPr>
          <a:xfrm>
            <a:off x="581040" y="65739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23623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owerPoint Templat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057400" y="1890000"/>
            <a:ext cx="6934320" cy="475920"/>
          </a:xfrm>
          <a:prstGeom prst="rect">
            <a:avLst/>
          </a:prstGeom>
          <a:solidFill>
            <a:srgbClr val="db8647"/>
          </a:solidFill>
          <a:ln w="19080">
            <a:solidFill>
              <a:srgbClr val="ffffff"/>
            </a:solidFill>
            <a:miter/>
          </a:ln>
        </p:spPr>
        <p:txBody>
          <a:bodyPr lIns="9360" rIns="9360" tIns="9360" bIns="93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5240" y="37339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绿色培训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下载免费完整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1143000" y="1981080"/>
            <a:ext cx="7086600" cy="3833640"/>
            <a:chOff x="1143000" y="1981080"/>
            <a:chExt cx="7086600" cy="3833640"/>
          </a:xfrm>
        </p:grpSpPr>
        <p:sp>
          <p:nvSpPr>
            <p:cNvPr id="285" name="AutoShape 4"/>
            <p:cNvSpPr/>
            <p:nvPr/>
          </p:nvSpPr>
          <p:spPr>
            <a:xfrm>
              <a:off x="1143000" y="1981080"/>
              <a:ext cx="3833640" cy="383364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3640"/>
                <a:gd name="textAreaBottom" fmla="*/ 3271680 h 383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db8647"/>
                </a:gs>
                <a:gs pos="50000">
                  <a:srgbClr val="e9b58f">
                    <a:alpha val="12156"/>
                  </a:srgbClr>
                </a:gs>
                <a:gs pos="100000">
                  <a:srgbClr val="db86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>
              <a:off x="1447920" y="22860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e2e26f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>
              <a:off x="3852720" y="23112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bdbb7"/>
                </a:gs>
                <a:gs pos="100000">
                  <a:srgbClr val="48b06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>
              <a:off x="4183200" y="29732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dee7"/>
                </a:gs>
                <a:gs pos="100000">
                  <a:srgbClr val="90b7c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>
              <a:off x="4449600" y="36338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bdbb7"/>
                </a:gs>
                <a:gs pos="100000">
                  <a:srgbClr val="48b06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9"/>
            <p:cNvSpPr/>
            <p:nvPr/>
          </p:nvSpPr>
          <p:spPr>
            <a:xfrm>
              <a:off x="4183200" y="42940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dee7"/>
                </a:gs>
                <a:gs pos="100000">
                  <a:srgbClr val="90b7c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0"/>
            <p:cNvSpPr/>
            <p:nvPr/>
          </p:nvSpPr>
          <p:spPr>
            <a:xfrm>
              <a:off x="3852720" y="49561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bdbb7"/>
                </a:gs>
                <a:gs pos="100000">
                  <a:srgbClr val="48b06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2286720" y="3047760"/>
              <a:ext cx="1535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1295280" y="1600200"/>
            <a:ext cx="7391520" cy="4476600"/>
            <a:chOff x="1295280" y="1600200"/>
            <a:chExt cx="7391520" cy="4476600"/>
          </a:xfrm>
        </p:grpSpPr>
        <p:sp>
          <p:nvSpPr>
            <p:cNvPr id="296" name="Freeform 4"/>
            <p:cNvSpPr/>
            <p:nvPr/>
          </p:nvSpPr>
          <p:spPr>
            <a:xfrm>
              <a:off x="1295280" y="20383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48b063"/>
                </a:gs>
                <a:gs pos="100000">
                  <a:srgbClr val="db864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"/>
            <p:cNvSpPr/>
            <p:nvPr/>
          </p:nvSpPr>
          <p:spPr>
            <a:xfrm>
              <a:off x="6019560" y="379080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"/>
            <p:cNvGrpSpPr/>
            <p:nvPr/>
          </p:nvGrpSpPr>
          <p:grpSpPr>
            <a:xfrm>
              <a:off x="3400200" y="3809880"/>
              <a:ext cx="1704960" cy="2028960"/>
              <a:chOff x="3400200" y="3809880"/>
              <a:chExt cx="1704960" cy="2028960"/>
            </a:xfrm>
          </p:grpSpPr>
          <p:sp>
            <p:nvSpPr>
              <p:cNvPr id="299" name="Oval 7"/>
              <p:cNvSpPr/>
              <p:nvPr/>
            </p:nvSpPr>
            <p:spPr>
              <a:xfrm rot="20876400">
                <a:off x="3468600" y="502920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8"/>
              <p:cNvSpPr/>
              <p:nvPr/>
            </p:nvSpPr>
            <p:spPr>
              <a:xfrm>
                <a:off x="3400200" y="380988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9"/>
              <p:cNvSpPr/>
              <p:nvPr/>
            </p:nvSpPr>
            <p:spPr>
              <a:xfrm>
                <a:off x="3420720" y="381924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10"/>
              <p:cNvSpPr/>
              <p:nvPr/>
            </p:nvSpPr>
            <p:spPr>
              <a:xfrm>
                <a:off x="3438360" y="3835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11"/>
              <p:cNvSpPr/>
              <p:nvPr/>
            </p:nvSpPr>
            <p:spPr>
              <a:xfrm>
                <a:off x="3530520" y="3879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12"/>
              <p:cNvSpPr/>
              <p:nvPr/>
            </p:nvSpPr>
            <p:spPr>
              <a:xfrm>
                <a:off x="3817800" y="443700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3"/>
            <p:cNvGrpSpPr/>
            <p:nvPr/>
          </p:nvGrpSpPr>
          <p:grpSpPr>
            <a:xfrm>
              <a:off x="1549440" y="3429000"/>
              <a:ext cx="1371240" cy="1718640"/>
              <a:chOff x="1549440" y="3429000"/>
              <a:chExt cx="1371240" cy="1718640"/>
            </a:xfrm>
          </p:grpSpPr>
          <p:sp>
            <p:nvSpPr>
              <p:cNvPr id="306" name="Oval 14"/>
              <p:cNvSpPr/>
              <p:nvPr/>
            </p:nvSpPr>
            <p:spPr>
              <a:xfrm rot="20826600">
                <a:off x="1625760" y="441936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1549440" y="3429000"/>
                <a:ext cx="1371240" cy="1441080"/>
                <a:chOff x="1549440" y="3429000"/>
                <a:chExt cx="1371240" cy="1441080"/>
              </a:xfrm>
            </p:grpSpPr>
            <p:sp>
              <p:nvSpPr>
                <p:cNvPr id="308" name="Oval 16"/>
                <p:cNvSpPr/>
                <p:nvPr/>
              </p:nvSpPr>
              <p:spPr>
                <a:xfrm>
                  <a:off x="1549440" y="342900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7"/>
                <p:cNvSpPr/>
                <p:nvPr/>
              </p:nvSpPr>
              <p:spPr>
                <a:xfrm>
                  <a:off x="1567440" y="343728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8"/>
                <p:cNvSpPr/>
                <p:nvPr/>
              </p:nvSpPr>
              <p:spPr>
                <a:xfrm>
                  <a:off x="1580400" y="345060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9"/>
                <p:cNvSpPr/>
                <p:nvPr/>
              </p:nvSpPr>
              <p:spPr>
                <a:xfrm>
                  <a:off x="1652040" y="348732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Text Box 20"/>
                <p:cNvSpPr/>
                <p:nvPr/>
              </p:nvSpPr>
              <p:spPr>
                <a:xfrm>
                  <a:off x="1829880" y="393516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Group 21"/>
            <p:cNvGrpSpPr/>
            <p:nvPr/>
          </p:nvGrpSpPr>
          <p:grpSpPr>
            <a:xfrm>
              <a:off x="1447560" y="2057400"/>
              <a:ext cx="1100160" cy="1139760"/>
              <a:chOff x="1447560" y="2057400"/>
              <a:chExt cx="1100160" cy="1139760"/>
            </a:xfrm>
          </p:grpSpPr>
          <p:sp>
            <p:nvSpPr>
              <p:cNvPr id="314" name="Oval 22"/>
              <p:cNvSpPr/>
              <p:nvPr/>
            </p:nvSpPr>
            <p:spPr>
              <a:xfrm>
                <a:off x="1447560" y="266400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23"/>
              <p:cNvSpPr/>
              <p:nvPr/>
            </p:nvSpPr>
            <p:spPr>
              <a:xfrm>
                <a:off x="1523880" y="205740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>
                <a:off x="1536480" y="206208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25"/>
              <p:cNvSpPr/>
              <p:nvPr/>
            </p:nvSpPr>
            <p:spPr>
              <a:xfrm>
                <a:off x="1547640" y="207324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26"/>
              <p:cNvSpPr/>
              <p:nvPr/>
            </p:nvSpPr>
            <p:spPr>
              <a:xfrm>
                <a:off x="1601640" y="209880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27"/>
              <p:cNvSpPr/>
              <p:nvPr/>
            </p:nvSpPr>
            <p:spPr>
              <a:xfrm>
                <a:off x="1720800" y="240660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28"/>
            <p:cNvGrpSpPr/>
            <p:nvPr/>
          </p:nvGrpSpPr>
          <p:grpSpPr>
            <a:xfrm>
              <a:off x="2714400" y="1600200"/>
              <a:ext cx="804960" cy="762120"/>
              <a:chOff x="2714400" y="1600200"/>
              <a:chExt cx="804960" cy="762120"/>
            </a:xfrm>
          </p:grpSpPr>
          <p:sp>
            <p:nvSpPr>
              <p:cNvPr id="321" name="Oval 29"/>
              <p:cNvSpPr/>
              <p:nvPr/>
            </p:nvSpPr>
            <p:spPr>
              <a:xfrm>
                <a:off x="2714400" y="213372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30"/>
              <p:cNvSpPr/>
              <p:nvPr/>
            </p:nvSpPr>
            <p:spPr>
              <a:xfrm>
                <a:off x="2836800" y="160020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31"/>
              <p:cNvSpPr/>
              <p:nvPr/>
            </p:nvSpPr>
            <p:spPr>
              <a:xfrm>
                <a:off x="2846160" y="160344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32"/>
              <p:cNvSpPr/>
              <p:nvPr/>
            </p:nvSpPr>
            <p:spPr>
              <a:xfrm>
                <a:off x="2852640" y="160956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33"/>
              <p:cNvSpPr/>
              <p:nvPr/>
            </p:nvSpPr>
            <p:spPr>
              <a:xfrm>
                <a:off x="2889000" y="162864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34"/>
              <p:cNvSpPr/>
              <p:nvPr/>
            </p:nvSpPr>
            <p:spPr>
              <a:xfrm>
                <a:off x="2907000" y="18241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5d5d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331" name="AutoShape 5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db8647"/>
                </a:gs>
                <a:gs pos="50000">
                  <a:srgbClr val="653e21"/>
                </a:gs>
                <a:gs pos="100000">
                  <a:srgbClr val="db8647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6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cccc00"/>
                </a:gs>
                <a:gs pos="50000">
                  <a:srgbClr val="5e5e00"/>
                </a:gs>
                <a:gs pos="100000">
                  <a:srgbClr val="cccc00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7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cccc00"/>
                </a:gs>
                <a:gs pos="50000">
                  <a:srgbClr val="5e5e00"/>
                </a:gs>
                <a:gs pos="100000">
                  <a:srgbClr val="cccc00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8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9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db8647"/>
                </a:gs>
                <a:gs pos="50000">
                  <a:srgbClr val="653e21"/>
                </a:gs>
                <a:gs pos="100000">
                  <a:srgbClr val="db8647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0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db8647"/>
                </a:gs>
                <a:gs pos="50000">
                  <a:srgbClr val="653e21"/>
                </a:gs>
                <a:gs pos="100000">
                  <a:srgbClr val="db8647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cccc00"/>
                </a:gs>
                <a:gs pos="50000">
                  <a:srgbClr val="5e5e00"/>
                </a:gs>
                <a:gs pos="100000">
                  <a:srgbClr val="cccc00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5202000" y="220968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295280" y="1752480"/>
            <a:ext cx="6781680" cy="4343400"/>
            <a:chOff x="1295280" y="1752480"/>
            <a:chExt cx="6781680" cy="4343400"/>
          </a:xfrm>
        </p:grpSpPr>
        <p:grpSp>
          <p:nvGrpSpPr>
            <p:cNvPr id="343" name="Group 4"/>
            <p:cNvGrpSpPr/>
            <p:nvPr/>
          </p:nvGrpSpPr>
          <p:grpSpPr>
            <a:xfrm>
              <a:off x="2895480" y="2819160"/>
              <a:ext cx="3580920" cy="1904040"/>
              <a:chOff x="2895480" y="2819160"/>
              <a:chExt cx="3580920" cy="1904040"/>
            </a:xfrm>
          </p:grpSpPr>
          <p:sp>
            <p:nvSpPr>
              <p:cNvPr id="344" name="AutoShape 5"/>
              <p:cNvSpPr/>
              <p:nvPr/>
            </p:nvSpPr>
            <p:spPr>
              <a:xfrm rot="10800000">
                <a:off x="5866920" y="281916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6"/>
              <p:cNvSpPr/>
              <p:nvPr/>
            </p:nvSpPr>
            <p:spPr>
              <a:xfrm rot="17914800">
                <a:off x="3581640" y="411408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144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7"/>
              <p:cNvSpPr/>
              <p:nvPr/>
            </p:nvSpPr>
            <p:spPr>
              <a:xfrm>
                <a:off x="2895480" y="281916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8"/>
              <p:cNvSpPr/>
              <p:nvPr/>
            </p:nvSpPr>
            <p:spPr>
              <a:xfrm rot="13815000">
                <a:off x="5181480" y="411408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185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9"/>
            <p:cNvGrpSpPr/>
            <p:nvPr/>
          </p:nvGrpSpPr>
          <p:grpSpPr>
            <a:xfrm>
              <a:off x="3504960" y="1752480"/>
              <a:ext cx="2361960" cy="2437920"/>
              <a:chOff x="3504960" y="1752480"/>
              <a:chExt cx="2361960" cy="2437920"/>
            </a:xfrm>
          </p:grpSpPr>
          <p:grpSp>
            <p:nvGrpSpPr>
              <p:cNvPr id="349" name="Group 10"/>
              <p:cNvGrpSpPr/>
              <p:nvPr/>
            </p:nvGrpSpPr>
            <p:grpSpPr>
              <a:xfrm>
                <a:off x="3504960" y="1752480"/>
                <a:ext cx="2361960" cy="2437920"/>
                <a:chOff x="3504960" y="1752480"/>
                <a:chExt cx="2361960" cy="2437920"/>
              </a:xfrm>
            </p:grpSpPr>
            <p:sp>
              <p:nvSpPr>
                <p:cNvPr id="350" name="Oval 11"/>
                <p:cNvSpPr/>
                <p:nvPr/>
              </p:nvSpPr>
              <p:spPr>
                <a:xfrm>
                  <a:off x="3504960" y="1752480"/>
                  <a:ext cx="2358000" cy="24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12"/>
                <p:cNvSpPr/>
                <p:nvPr/>
              </p:nvSpPr>
              <p:spPr>
                <a:xfrm>
                  <a:off x="3509280" y="1772640"/>
                  <a:ext cx="2357640" cy="241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d8755a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3"/>
                <p:cNvSpPr/>
                <p:nvPr/>
              </p:nvSpPr>
              <p:spPr>
                <a:xfrm>
                  <a:off x="3634920" y="1910160"/>
                  <a:ext cx="204624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4"/>
                <p:cNvSpPr/>
                <p:nvPr/>
              </p:nvSpPr>
              <p:spPr>
                <a:xfrm>
                  <a:off x="3628080" y="1899000"/>
                  <a:ext cx="204660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0"/>
                      </a:srgbClr>
                    </a:gs>
                    <a:gs pos="100000">
                      <a:srgbClr val="894a3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5"/>
                <p:cNvSpPr/>
                <p:nvPr/>
              </p:nvSpPr>
              <p:spPr>
                <a:xfrm>
                  <a:off x="3736440" y="2017080"/>
                  <a:ext cx="1842840" cy="18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Group 16"/>
                <p:cNvGrpSpPr/>
                <p:nvPr/>
              </p:nvGrpSpPr>
              <p:grpSpPr>
                <a:xfrm>
                  <a:off x="3777480" y="2045520"/>
                  <a:ext cx="1786680" cy="1833480"/>
                  <a:chOff x="3777480" y="2045520"/>
                  <a:chExt cx="1786680" cy="1833480"/>
                </a:xfrm>
              </p:grpSpPr>
              <p:sp>
                <p:nvSpPr>
                  <p:cNvPr id="356" name="Oval 17"/>
                  <p:cNvSpPr/>
                  <p:nvPr/>
                </p:nvSpPr>
                <p:spPr>
                  <a:xfrm>
                    <a:off x="3777480" y="2045520"/>
                    <a:ext cx="1786680" cy="183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Oval 18"/>
                  <p:cNvSpPr/>
                  <p:nvPr/>
                </p:nvSpPr>
                <p:spPr>
                  <a:xfrm>
                    <a:off x="3800160" y="2055600"/>
                    <a:ext cx="1743480" cy="178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Oval 19"/>
                  <p:cNvSpPr/>
                  <p:nvPr/>
                </p:nvSpPr>
                <p:spPr>
                  <a:xfrm>
                    <a:off x="3818880" y="2073240"/>
                    <a:ext cx="1658160" cy="167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Oval 20"/>
                  <p:cNvSpPr/>
                  <p:nvPr/>
                </p:nvSpPr>
                <p:spPr>
                  <a:xfrm>
                    <a:off x="3915720" y="2120040"/>
                    <a:ext cx="1473840" cy="135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0" name="Text Box 21"/>
              <p:cNvSpPr/>
              <p:nvPr/>
            </p:nvSpPr>
            <p:spPr>
              <a:xfrm>
                <a:off x="3962160" y="2590560"/>
                <a:ext cx="1434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22"/>
            <p:cNvGrpSpPr/>
            <p:nvPr/>
          </p:nvGrpSpPr>
          <p:grpSpPr>
            <a:xfrm>
              <a:off x="6637320" y="2361960"/>
              <a:ext cx="1439640" cy="1440000"/>
              <a:chOff x="6637320" y="2361960"/>
              <a:chExt cx="1439640" cy="1440000"/>
            </a:xfrm>
          </p:grpSpPr>
          <p:grpSp>
            <p:nvGrpSpPr>
              <p:cNvPr id="362" name="Group 23"/>
              <p:cNvGrpSpPr/>
              <p:nvPr/>
            </p:nvGrpSpPr>
            <p:grpSpPr>
              <a:xfrm>
                <a:off x="6637320" y="2361960"/>
                <a:ext cx="1439640" cy="1440000"/>
                <a:chOff x="6637320" y="2361960"/>
                <a:chExt cx="1439640" cy="1440000"/>
              </a:xfrm>
            </p:grpSpPr>
            <p:sp>
              <p:nvSpPr>
                <p:cNvPr id="363" name="Oval 24"/>
                <p:cNvSpPr/>
                <p:nvPr/>
              </p:nvSpPr>
              <p:spPr>
                <a:xfrm>
                  <a:off x="6637320" y="2361960"/>
                  <a:ext cx="143964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25"/>
                <p:cNvSpPr/>
                <p:nvPr/>
              </p:nvSpPr>
              <p:spPr>
                <a:xfrm>
                  <a:off x="6637320" y="2361960"/>
                  <a:ext cx="143964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26"/>
                <p:cNvSpPr/>
                <p:nvPr/>
              </p:nvSpPr>
              <p:spPr>
                <a:xfrm>
                  <a:off x="6732360" y="2455560"/>
                  <a:ext cx="124884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27"/>
                <p:cNvSpPr/>
                <p:nvPr/>
              </p:nvSpPr>
              <p:spPr>
                <a:xfrm>
                  <a:off x="6732360" y="2458800"/>
                  <a:ext cx="124884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28"/>
                <p:cNvSpPr/>
                <p:nvPr/>
              </p:nvSpPr>
              <p:spPr>
                <a:xfrm>
                  <a:off x="6794280" y="2519280"/>
                  <a:ext cx="112500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8" name="Group 29"/>
                <p:cNvGrpSpPr/>
                <p:nvPr/>
              </p:nvGrpSpPr>
              <p:grpSpPr>
                <a:xfrm>
                  <a:off x="6811560" y="2536560"/>
                  <a:ext cx="1090440" cy="1092240"/>
                  <a:chOff x="6811560" y="2536560"/>
                  <a:chExt cx="1090440" cy="1092240"/>
                </a:xfrm>
              </p:grpSpPr>
              <p:sp>
                <p:nvSpPr>
                  <p:cNvPr id="369" name="Oval 30"/>
                  <p:cNvSpPr/>
                  <p:nvPr/>
                </p:nvSpPr>
                <p:spPr>
                  <a:xfrm>
                    <a:off x="6811560" y="253656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Oval 31"/>
                  <p:cNvSpPr/>
                  <p:nvPr/>
                </p:nvSpPr>
                <p:spPr>
                  <a:xfrm>
                    <a:off x="6825240" y="2542680"/>
                    <a:ext cx="106416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Oval 32"/>
                  <p:cNvSpPr/>
                  <p:nvPr/>
                </p:nvSpPr>
                <p:spPr>
                  <a:xfrm>
                    <a:off x="6836760" y="255312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Oval 33"/>
                  <p:cNvSpPr/>
                  <p:nvPr/>
                </p:nvSpPr>
                <p:spPr>
                  <a:xfrm>
                    <a:off x="6895800" y="258084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3" name="Text Box 34"/>
              <p:cNvSpPr/>
              <p:nvPr/>
            </p:nvSpPr>
            <p:spPr>
              <a:xfrm>
                <a:off x="6993000" y="289548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35"/>
            <p:cNvGrpSpPr/>
            <p:nvPr/>
          </p:nvGrpSpPr>
          <p:grpSpPr>
            <a:xfrm>
              <a:off x="5257800" y="4572000"/>
              <a:ext cx="1444680" cy="1523880"/>
              <a:chOff x="5257800" y="4572000"/>
              <a:chExt cx="1444680" cy="1523880"/>
            </a:xfrm>
          </p:grpSpPr>
          <p:sp>
            <p:nvSpPr>
              <p:cNvPr id="375" name="Oval 36"/>
              <p:cNvSpPr/>
              <p:nvPr/>
            </p:nvSpPr>
            <p:spPr>
              <a:xfrm>
                <a:off x="5257800" y="457200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50000">
                    <a:srgbClr val="ffffff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37"/>
              <p:cNvSpPr/>
              <p:nvPr/>
            </p:nvSpPr>
            <p:spPr>
              <a:xfrm>
                <a:off x="5257800" y="457200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f6699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38"/>
              <p:cNvSpPr/>
              <p:nvPr/>
            </p:nvSpPr>
            <p:spPr>
              <a:xfrm>
                <a:off x="5351400" y="4670280"/>
                <a:ext cx="1257480" cy="132732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50000">
                    <a:srgbClr val="8a3753"/>
                  </a:gs>
                  <a:gs pos="100000">
                    <a:srgbClr val="ff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39"/>
              <p:cNvSpPr/>
              <p:nvPr/>
            </p:nvSpPr>
            <p:spPr>
              <a:xfrm>
                <a:off x="5334120" y="4648320"/>
                <a:ext cx="1255680" cy="1326960"/>
              </a:xfrm>
              <a:prstGeom prst="ellipse">
                <a:avLst/>
              </a:prstGeom>
              <a:gradFill rotWithShape="0">
                <a:gsLst>
                  <a:gs pos="0">
                    <a:srgbClr val="ff6699">
                      <a:alpha val="0"/>
                    </a:srgbClr>
                  </a:gs>
                  <a:gs pos="100000">
                    <a:srgbClr val="a241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0"/>
              <p:cNvSpPr/>
              <p:nvPr/>
            </p:nvSpPr>
            <p:spPr>
              <a:xfrm>
                <a:off x="5419800" y="4738680"/>
                <a:ext cx="1130400" cy="119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41"/>
              <p:cNvSpPr/>
              <p:nvPr/>
            </p:nvSpPr>
            <p:spPr>
              <a:xfrm>
                <a:off x="5410080" y="4724280"/>
                <a:ext cx="1094040" cy="115416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42"/>
              <p:cNvSpPr/>
              <p:nvPr/>
            </p:nvSpPr>
            <p:spPr>
              <a:xfrm>
                <a:off x="5451480" y="4764240"/>
                <a:ext cx="1068480" cy="11253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43"/>
              <p:cNvSpPr/>
              <p:nvPr/>
            </p:nvSpPr>
            <p:spPr>
              <a:xfrm>
                <a:off x="5464080" y="4775040"/>
                <a:ext cx="1015920" cy="105264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44"/>
              <p:cNvSpPr/>
              <p:nvPr/>
            </p:nvSpPr>
            <p:spPr>
              <a:xfrm>
                <a:off x="5522760" y="4805280"/>
                <a:ext cx="90360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45"/>
              <p:cNvSpPr/>
              <p:nvPr/>
            </p:nvSpPr>
            <p:spPr>
              <a:xfrm>
                <a:off x="5639400" y="51656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46"/>
            <p:cNvGrpSpPr/>
            <p:nvPr/>
          </p:nvGrpSpPr>
          <p:grpSpPr>
            <a:xfrm>
              <a:off x="1295280" y="2361960"/>
              <a:ext cx="1445760" cy="1523520"/>
              <a:chOff x="1295280" y="2361960"/>
              <a:chExt cx="1445760" cy="1523520"/>
            </a:xfrm>
          </p:grpSpPr>
          <p:grpSp>
            <p:nvGrpSpPr>
              <p:cNvPr id="386" name="Group 47"/>
              <p:cNvGrpSpPr/>
              <p:nvPr/>
            </p:nvGrpSpPr>
            <p:grpSpPr>
              <a:xfrm>
                <a:off x="1295280" y="2361960"/>
                <a:ext cx="1445760" cy="1523520"/>
                <a:chOff x="1295280" y="2361960"/>
                <a:chExt cx="1445760" cy="1523520"/>
              </a:xfrm>
            </p:grpSpPr>
            <p:sp>
              <p:nvSpPr>
                <p:cNvPr id="387" name="Oval 48"/>
                <p:cNvSpPr/>
                <p:nvPr/>
              </p:nvSpPr>
              <p:spPr>
                <a:xfrm>
                  <a:off x="1295280" y="236196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9"/>
                <p:cNvSpPr/>
                <p:nvPr/>
              </p:nvSpPr>
              <p:spPr>
                <a:xfrm>
                  <a:off x="1295280" y="236196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cc66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50"/>
                <p:cNvSpPr/>
                <p:nvPr/>
              </p:nvSpPr>
              <p:spPr>
                <a:xfrm>
                  <a:off x="1389240" y="2460960"/>
                  <a:ext cx="125784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51"/>
                <p:cNvSpPr/>
                <p:nvPr/>
              </p:nvSpPr>
              <p:spPr>
                <a:xfrm>
                  <a:off x="1390680" y="2460960"/>
                  <a:ext cx="125640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0"/>
                      </a:srgbClr>
                    </a:gs>
                    <a:gs pos="100000">
                      <a:srgbClr val="00824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52"/>
                <p:cNvSpPr/>
                <p:nvPr/>
              </p:nvSpPr>
              <p:spPr>
                <a:xfrm>
                  <a:off x="1458000" y="2528280"/>
                  <a:ext cx="1130400" cy="11912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53"/>
                <p:cNvSpPr/>
                <p:nvPr/>
              </p:nvSpPr>
              <p:spPr>
                <a:xfrm>
                  <a:off x="1476360" y="2547360"/>
                  <a:ext cx="1095480" cy="115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54"/>
                <p:cNvSpPr/>
                <p:nvPr/>
              </p:nvSpPr>
              <p:spPr>
                <a:xfrm>
                  <a:off x="1490040" y="2554560"/>
                  <a:ext cx="1068480" cy="11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55"/>
                <p:cNvSpPr/>
                <p:nvPr/>
              </p:nvSpPr>
              <p:spPr>
                <a:xfrm>
                  <a:off x="1501200" y="2565000"/>
                  <a:ext cx="1016640" cy="10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56"/>
                <p:cNvSpPr/>
                <p:nvPr/>
              </p:nvSpPr>
              <p:spPr>
                <a:xfrm>
                  <a:off x="1560240" y="2595240"/>
                  <a:ext cx="904320" cy="85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Text Box 57"/>
              <p:cNvSpPr/>
              <p:nvPr/>
            </p:nvSpPr>
            <p:spPr>
              <a:xfrm>
                <a:off x="1676880" y="295560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58"/>
            <p:cNvGrpSpPr/>
            <p:nvPr/>
          </p:nvGrpSpPr>
          <p:grpSpPr>
            <a:xfrm>
              <a:off x="2598480" y="4572000"/>
              <a:ext cx="1440000" cy="1439640"/>
              <a:chOff x="2598480" y="4572000"/>
              <a:chExt cx="1440000" cy="1439640"/>
            </a:xfrm>
          </p:grpSpPr>
          <p:grpSp>
            <p:nvGrpSpPr>
              <p:cNvPr id="398" name="Group 59"/>
              <p:cNvGrpSpPr/>
              <p:nvPr/>
            </p:nvGrpSpPr>
            <p:grpSpPr>
              <a:xfrm>
                <a:off x="2598480" y="4572000"/>
                <a:ext cx="1440000" cy="1439640"/>
                <a:chOff x="2598480" y="4572000"/>
                <a:chExt cx="1440000" cy="1439640"/>
              </a:xfrm>
            </p:grpSpPr>
            <p:sp>
              <p:nvSpPr>
                <p:cNvPr id="399" name="Oval 60"/>
                <p:cNvSpPr/>
                <p:nvPr/>
              </p:nvSpPr>
              <p:spPr>
                <a:xfrm>
                  <a:off x="2598480" y="4572000"/>
                  <a:ext cx="144000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50000">
                      <a:srgbClr val="ffffff"/>
                    </a:gs>
                    <a:gs pos="100000">
                      <a:srgbClr val="3965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61"/>
                <p:cNvSpPr/>
                <p:nvPr/>
              </p:nvSpPr>
              <p:spPr>
                <a:xfrm>
                  <a:off x="2598480" y="4572000"/>
                  <a:ext cx="144000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3965e1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62"/>
                <p:cNvSpPr/>
                <p:nvPr/>
              </p:nvSpPr>
              <p:spPr>
                <a:xfrm>
                  <a:off x="2688840" y="4667040"/>
                  <a:ext cx="1249560" cy="125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50000">
                      <a:srgbClr val="1f377a"/>
                    </a:gs>
                    <a:gs pos="100000">
                      <a:srgbClr val="3965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688840" y="4676400"/>
                  <a:ext cx="124956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>
                        <a:alpha val="0"/>
                      </a:srgbClr>
                    </a:gs>
                    <a:gs pos="100000">
                      <a:srgbClr val="26439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750760" y="4738320"/>
                  <a:ext cx="1125720" cy="11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100000">
                      <a:srgbClr val="0306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Group 65"/>
                <p:cNvGrpSpPr/>
                <p:nvPr/>
              </p:nvGrpSpPr>
              <p:grpSpPr>
                <a:xfrm>
                  <a:off x="2779560" y="4752720"/>
                  <a:ext cx="1090440" cy="1091880"/>
                  <a:chOff x="2779560" y="4752720"/>
                  <a:chExt cx="1090440" cy="1091880"/>
                </a:xfrm>
              </p:grpSpPr>
              <p:sp>
                <p:nvSpPr>
                  <p:cNvPr id="405" name="Oval 66"/>
                  <p:cNvSpPr/>
                  <p:nvPr/>
                </p:nvSpPr>
                <p:spPr>
                  <a:xfrm>
                    <a:off x="2779560" y="4752720"/>
                    <a:ext cx="109044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Oval 67"/>
                  <p:cNvSpPr/>
                  <p:nvPr/>
                </p:nvSpPr>
                <p:spPr>
                  <a:xfrm>
                    <a:off x="2793240" y="475884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Oval 68"/>
                  <p:cNvSpPr/>
                  <p:nvPr/>
                </p:nvSpPr>
                <p:spPr>
                  <a:xfrm>
                    <a:off x="2804760" y="476928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69"/>
                  <p:cNvSpPr/>
                  <p:nvPr/>
                </p:nvSpPr>
                <p:spPr>
                  <a:xfrm>
                    <a:off x="2863800" y="479700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9" name="Text Box 70"/>
              <p:cNvSpPr/>
              <p:nvPr/>
            </p:nvSpPr>
            <p:spPr>
              <a:xfrm>
                <a:off x="2951640" y="50972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3" name="Group 4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4" name="Rectangle 5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6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7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417" name="Group 8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418" name="Group 9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419" name="Freeform 10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11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12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422" name="Freeform 13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14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Group 15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425" name="Oval 16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17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18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19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20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0" name="Group 21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31" name="Oval 22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23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24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25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Text Box 26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27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38" name="Group 29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439" name="Group 30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440" name="Freeform 31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32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33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443" name="Freeform 34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35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Group 36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46" name="Oval 37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38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39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40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41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1" name="Group 42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52" name="Oval 43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44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45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46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6" name="Text Box 47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48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49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59" name="Group 50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460" name="Group 51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461" name="Freeform 52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53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Group 54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464" name="Freeform 55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56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Group 57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67" name="Oval 58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Oval 59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Oval 60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Oval 61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62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Group 63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73" name="Oval 64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65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66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67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Text Box 68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69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70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480" name="Group 71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481" name="Group 72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82" name="Freeform 73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74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Group 75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485" name="Freeform 76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77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Oval 78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79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80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81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2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Group 83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493" name="Oval 84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85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86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87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Text Box 88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89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0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4" name="AutoShape 95"/>
              <p:cNvCxnSpPr>
                <a:stCxn id="500" idx="3"/>
                <a:endCxn id="501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5" name="AutoShape 96"/>
              <p:cNvCxnSpPr>
                <a:stCxn id="501" idx="3"/>
                <a:endCxn id="502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6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17D1-C476-45B3-8357-A72EBD5497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1123920" y="1447920"/>
            <a:ext cx="6953400" cy="4876200"/>
            <a:chOff x="1123920" y="1447920"/>
            <a:chExt cx="6953400" cy="4876200"/>
          </a:xfrm>
        </p:grpSpPr>
        <p:sp>
          <p:nvSpPr>
            <p:cNvPr id="513" name="AutoShape 4"/>
            <p:cNvSpPr/>
            <p:nvPr/>
          </p:nvSpPr>
          <p:spPr>
            <a:xfrm>
              <a:off x="1447920" y="1981080"/>
              <a:ext cx="6248160" cy="4114440"/>
            </a:xfrm>
            <a:prstGeom prst="upArrow">
              <a:avLst>
                <a:gd name="adj1" fmla="val 73769"/>
                <a:gd name="adj2" fmla="val 32588"/>
              </a:avLst>
            </a:prstGeom>
            <a:gradFill rotWithShape="0">
              <a:gsLst>
                <a:gs pos="0">
                  <a:srgbClr val="db86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3124080" y="14479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"/>
            <p:cNvSpPr/>
            <p:nvPr/>
          </p:nvSpPr>
          <p:spPr>
            <a:xfrm>
              <a:off x="2438280" y="3238200"/>
              <a:ext cx="4267440" cy="3085920"/>
            </a:xfrm>
            <a:prstGeom prst="upArrow">
              <a:avLst>
                <a:gd name="adj1" fmla="val 72694"/>
                <a:gd name="adj2" fmla="val 33931"/>
              </a:avLst>
            </a:prstGeom>
            <a:gradFill rotWithShape="0">
              <a:gsLst>
                <a:gs pos="0">
                  <a:srgbClr val="48b06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7"/>
            <p:cNvSpPr/>
            <p:nvPr/>
          </p:nvSpPr>
          <p:spPr>
            <a:xfrm>
              <a:off x="5638680" y="4708440"/>
              <a:ext cx="2438640" cy="161568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90b7c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8"/>
            <p:cNvGrpSpPr/>
            <p:nvPr/>
          </p:nvGrpSpPr>
          <p:grpSpPr>
            <a:xfrm>
              <a:off x="3371760" y="4743360"/>
              <a:ext cx="2286000" cy="1542600"/>
              <a:chOff x="3371760" y="4743360"/>
              <a:chExt cx="2286000" cy="1542600"/>
            </a:xfrm>
          </p:grpSpPr>
          <p:sp>
            <p:nvSpPr>
              <p:cNvPr id="518" name="AutoShape 9"/>
              <p:cNvSpPr/>
              <p:nvPr/>
            </p:nvSpPr>
            <p:spPr>
              <a:xfrm>
                <a:off x="3371760" y="4743360"/>
                <a:ext cx="2286000" cy="1542600"/>
              </a:xfrm>
              <a:prstGeom prst="upArrow">
                <a:avLst>
                  <a:gd name="adj1" fmla="val 78306"/>
                  <a:gd name="adj2" fmla="val 48213"/>
                </a:avLst>
              </a:prstGeom>
              <a:gradFill rotWithShape="0">
                <a:gsLst>
                  <a:gs pos="0">
                    <a:srgbClr val="90b7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10"/>
              <p:cNvSpPr/>
              <p:nvPr/>
            </p:nvSpPr>
            <p:spPr>
              <a:xfrm>
                <a:off x="3756240" y="536940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 Box 11"/>
            <p:cNvSpPr/>
            <p:nvPr/>
          </p:nvSpPr>
          <p:spPr>
            <a:xfrm>
              <a:off x="6042240" y="53719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2"/>
            <p:cNvSpPr/>
            <p:nvPr/>
          </p:nvSpPr>
          <p:spPr>
            <a:xfrm>
              <a:off x="3599640" y="41130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3"/>
            <p:cNvSpPr/>
            <p:nvPr/>
          </p:nvSpPr>
          <p:spPr>
            <a:xfrm>
              <a:off x="3599640" y="237636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14"/>
            <p:cNvGrpSpPr/>
            <p:nvPr/>
          </p:nvGrpSpPr>
          <p:grpSpPr>
            <a:xfrm>
              <a:off x="1123920" y="4752720"/>
              <a:ext cx="2286000" cy="1542600"/>
              <a:chOff x="1123920" y="4752720"/>
              <a:chExt cx="2286000" cy="1542600"/>
            </a:xfrm>
          </p:grpSpPr>
          <p:sp>
            <p:nvSpPr>
              <p:cNvPr id="524" name="AutoShape 15"/>
              <p:cNvSpPr/>
              <p:nvPr/>
            </p:nvSpPr>
            <p:spPr>
              <a:xfrm>
                <a:off x="1123920" y="4752720"/>
                <a:ext cx="2286000" cy="1542600"/>
              </a:xfrm>
              <a:prstGeom prst="upArrow">
                <a:avLst>
                  <a:gd name="adj1" fmla="val 78306"/>
                  <a:gd name="adj2" fmla="val 48213"/>
                </a:avLst>
              </a:prstGeom>
              <a:gradFill rotWithShape="0">
                <a:gsLst>
                  <a:gs pos="0">
                    <a:srgbClr val="90b7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6"/>
              <p:cNvSpPr/>
              <p:nvPr/>
            </p:nvSpPr>
            <p:spPr>
              <a:xfrm>
                <a:off x="1508400" y="537876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db8647"/>
                </a:gs>
                <a:gs pos="100000">
                  <a:srgbClr val="653e2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8b0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db8647"/>
                </a:gs>
                <a:gs pos="100000">
                  <a:srgbClr val="653e2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8b0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990720" y="2057400"/>
          <a:ext cx="7315200" cy="3430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55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b7c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864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86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1777320" y="1217880"/>
            <a:ext cx="5481000" cy="5149080"/>
            <a:chOff x="1777320" y="1217880"/>
            <a:chExt cx="5481000" cy="5149080"/>
          </a:xfrm>
        </p:grpSpPr>
        <p:sp>
          <p:nvSpPr>
            <p:cNvPr id="566" name="Freeform 4"/>
            <p:cNvSpPr/>
            <p:nvPr/>
          </p:nvSpPr>
          <p:spPr>
            <a:xfrm rot="20805000">
              <a:off x="4744800" y="29512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"/>
            <p:cNvSpPr/>
            <p:nvPr/>
          </p:nvSpPr>
          <p:spPr>
            <a:xfrm rot="5461200">
              <a:off x="2950920" y="24984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fffff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rot="14128200">
              <a:off x="4796280" y="97344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a00"/>
                </a:gs>
                <a:gs pos="100000">
                  <a:srgbClr val="ffffff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7"/>
            <p:cNvGrpSpPr/>
            <p:nvPr/>
          </p:nvGrpSpPr>
          <p:grpSpPr>
            <a:xfrm>
              <a:off x="1777320" y="1722960"/>
              <a:ext cx="5481000" cy="4644000"/>
              <a:chOff x="1777320" y="1722960"/>
              <a:chExt cx="5481000" cy="4644000"/>
            </a:xfrm>
          </p:grpSpPr>
          <p:sp>
            <p:nvSpPr>
              <p:cNvPr id="570" name="Freeform 8"/>
              <p:cNvSpPr/>
              <p:nvPr/>
            </p:nvSpPr>
            <p:spPr>
              <a:xfrm>
                <a:off x="4547160" y="305100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9"/>
              <p:cNvSpPr/>
              <p:nvPr/>
            </p:nvSpPr>
            <p:spPr>
              <a:xfrm rot="6256200">
                <a:off x="2950920" y="235044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0"/>
              <p:cNvSpPr/>
              <p:nvPr/>
            </p:nvSpPr>
            <p:spPr>
              <a:xfrm rot="14922600">
                <a:off x="4928760" y="120240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11"/>
            <p:cNvGrpSpPr/>
            <p:nvPr/>
          </p:nvGrpSpPr>
          <p:grpSpPr>
            <a:xfrm>
              <a:off x="4037040" y="3014640"/>
              <a:ext cx="1339560" cy="1338120"/>
              <a:chOff x="4037040" y="3014640"/>
              <a:chExt cx="1339560" cy="1338120"/>
            </a:xfrm>
          </p:grpSpPr>
          <p:sp>
            <p:nvSpPr>
              <p:cNvPr id="574" name="Oval 12"/>
              <p:cNvSpPr/>
              <p:nvPr/>
            </p:nvSpPr>
            <p:spPr>
              <a:xfrm>
                <a:off x="4037040" y="301464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3"/>
              <p:cNvSpPr/>
              <p:nvPr/>
            </p:nvSpPr>
            <p:spPr>
              <a:xfrm>
                <a:off x="4190040" y="303660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14"/>
            <p:cNvSpPr/>
            <p:nvPr/>
          </p:nvSpPr>
          <p:spPr>
            <a:xfrm>
              <a:off x="4232520" y="35053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5"/>
            <p:cNvSpPr/>
            <p:nvPr/>
          </p:nvSpPr>
          <p:spPr>
            <a:xfrm>
              <a:off x="2117520" y="3205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6"/>
            <p:cNvSpPr/>
            <p:nvPr/>
          </p:nvSpPr>
          <p:spPr>
            <a:xfrm>
              <a:off x="5313240" y="23763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3647880" y="4927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13" name="Group 4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14" name="AutoShape 5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6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7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b8647"/>
                  </a:gs>
                  <a:gs pos="100000">
                    <a:srgbClr val="653e21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8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0066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1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21" name="Group 12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22" name="AutoShape 13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14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15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8b063"/>
                  </a:gs>
                  <a:gs pos="100000">
                    <a:srgbClr val="21512e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16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0066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8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9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29" name="Group 20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30" name="AutoShape 21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22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23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b8647"/>
                  </a:gs>
                  <a:gs pos="100000">
                    <a:srgbClr val="653e21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24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0066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5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6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7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37" name="Group 28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38" name="AutoShape 29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30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31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8b063"/>
                  </a:gs>
                  <a:gs pos="100000">
                    <a:srgbClr val="21512e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Line 32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0066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3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4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5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82" name="Group 3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583" name="AutoShape 4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90b7ca"/>
                </a:gs>
                <a:gs pos="100000">
                  <a:srgbClr val="f2f6f9"/>
                </a:gs>
              </a:gsLst>
              <a:lin ang="5400000"/>
            </a:gradFill>
            <a:ln w="25560">
              <a:solidFill>
                <a:srgbClr val="90b7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Object 5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AutoShape 6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555d"/>
                </a:gs>
                <a:gs pos="50000">
                  <a:srgbClr val="90b7ca"/>
                </a:gs>
                <a:gs pos="100000">
                  <a:srgbClr val="4355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9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48b063"/>
                </a:gs>
                <a:gs pos="100000">
                  <a:srgbClr val="cde9d4"/>
                </a:gs>
              </a:gsLst>
              <a:lin ang="5400000"/>
            </a:gradFill>
            <a:ln w="25560">
              <a:solidFill>
                <a:srgbClr val="48b0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Object 10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1512e"/>
                </a:gs>
                <a:gs pos="50000">
                  <a:srgbClr val="48b063"/>
                </a:gs>
                <a:gs pos="100000">
                  <a:srgbClr val="2151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12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13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2"/>
          <p:cNvSpPr/>
          <p:nvPr/>
        </p:nvSpPr>
        <p:spPr>
          <a:xfrm>
            <a:off x="581040" y="65739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WordArt 2"/>
          <p:cNvSpPr txBox="1"/>
          <p:nvPr/>
        </p:nvSpPr>
        <p:spPr>
          <a:xfrm>
            <a:off x="2286000" y="2790720"/>
            <a:ext cx="609588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8b063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8b063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2198520" y="1965960"/>
            <a:ext cx="6934320" cy="466560"/>
          </a:xfrm>
          <a:prstGeom prst="rect">
            <a:avLst/>
          </a:prstGeom>
          <a:solidFill>
            <a:srgbClr val="db8647"/>
          </a:solidFill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1416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b86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8b0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676520" y="5486400"/>
            <a:ext cx="52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1143000" y="3505320"/>
            <a:ext cx="2286000" cy="2666880"/>
            <a:chOff x="1143000" y="3505320"/>
            <a:chExt cx="2286000" cy="2666880"/>
          </a:xfrm>
        </p:grpSpPr>
        <p:sp>
          <p:nvSpPr>
            <p:cNvPr id="152" name="AutoShape 4"/>
            <p:cNvSpPr/>
            <p:nvPr/>
          </p:nvSpPr>
          <p:spPr>
            <a:xfrm>
              <a:off x="114300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1238400" y="3705480"/>
              <a:ext cx="2038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Freeform 6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5d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3048120" y="1781280"/>
            <a:ext cx="2998440" cy="1601280"/>
            <a:chOff x="3048120" y="1781280"/>
            <a:chExt cx="2998440" cy="1601280"/>
          </a:xfrm>
        </p:grpSpPr>
        <p:grpSp>
          <p:nvGrpSpPr>
            <p:cNvPr id="157" name="Group 9"/>
            <p:cNvGrpSpPr/>
            <p:nvPr/>
          </p:nvGrpSpPr>
          <p:grpSpPr>
            <a:xfrm>
              <a:off x="3048120" y="1781280"/>
              <a:ext cx="2998440" cy="1601280"/>
              <a:chOff x="3048120" y="1781280"/>
              <a:chExt cx="2998440" cy="1601280"/>
            </a:xfrm>
          </p:grpSpPr>
          <p:grpSp>
            <p:nvGrpSpPr>
              <p:cNvPr id="158" name="Group 10"/>
              <p:cNvGrpSpPr/>
              <p:nvPr/>
            </p:nvGrpSpPr>
            <p:grpSpPr>
              <a:xfrm>
                <a:off x="3048120" y="1924200"/>
                <a:ext cx="2998440" cy="1458360"/>
                <a:chOff x="3048120" y="1924200"/>
                <a:chExt cx="2998440" cy="1458360"/>
              </a:xfrm>
            </p:grpSpPr>
            <p:sp>
              <p:nvSpPr>
                <p:cNvPr id="159" name="Oval 11"/>
                <p:cNvSpPr/>
                <p:nvPr/>
              </p:nvSpPr>
              <p:spPr>
                <a:xfrm>
                  <a:off x="3080880" y="19706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4123"/>
                    </a:gs>
                    <a:gs pos="100000">
                      <a:srgbClr val="db86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12"/>
                <p:cNvSpPr/>
                <p:nvPr/>
              </p:nvSpPr>
              <p:spPr>
                <a:xfrm>
                  <a:off x="3048120" y="19242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b8647"/>
                    </a:gs>
                    <a:gs pos="100000">
                      <a:srgbClr val="efc9a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Oval 13"/>
              <p:cNvSpPr/>
              <p:nvPr/>
            </p:nvSpPr>
            <p:spPr>
              <a:xfrm>
                <a:off x="3189240" y="17812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8b063"/>
                  </a:gs>
                  <a:gs pos="100000">
                    <a:srgbClr val="2151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4"/>
              <p:cNvSpPr/>
              <p:nvPr/>
            </p:nvSpPr>
            <p:spPr>
              <a:xfrm>
                <a:off x="3224160" y="17892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fe3c9"/>
                  </a:gs>
                  <a:gs pos="100000">
                    <a:srgbClr val="48b063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5"/>
              <p:cNvSpPr/>
              <p:nvPr/>
            </p:nvSpPr>
            <p:spPr>
              <a:xfrm>
                <a:off x="3251160" y="18018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8b063">
                      <a:alpha val="48235"/>
                    </a:srgbClr>
                  </a:gs>
                  <a:gs pos="100000">
                    <a:srgbClr val="398b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6"/>
              <p:cNvSpPr/>
              <p:nvPr/>
            </p:nvSpPr>
            <p:spPr>
              <a:xfrm>
                <a:off x="3382920" y="18288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8b063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7"/>
            <p:cNvSpPr/>
            <p:nvPr/>
          </p:nvSpPr>
          <p:spPr>
            <a:xfrm>
              <a:off x="3882960" y="19814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5562720" y="3505320"/>
            <a:ext cx="2286000" cy="2666880"/>
            <a:chOff x="5562720" y="3505320"/>
            <a:chExt cx="2286000" cy="2666880"/>
          </a:xfrm>
        </p:grpSpPr>
        <p:sp>
          <p:nvSpPr>
            <p:cNvPr id="167" name="AutoShape 19"/>
            <p:cNvSpPr/>
            <p:nvPr/>
          </p:nvSpPr>
          <p:spPr>
            <a:xfrm>
              <a:off x="556272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5791320" y="3733920"/>
              <a:ext cx="2038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21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4d9c5"/>
              </a:gs>
              <a:gs pos="100000">
                <a:srgbClr val="db86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73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9d9d9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5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db8647"/>
                </a:gs>
                <a:gs pos="100000">
                  <a:srgbClr val="4c2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8b063"/>
                </a:gs>
                <a:gs pos="100000">
                  <a:srgbClr val="1737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e2e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0b7ca"/>
                </a:gs>
                <a:gs pos="100000">
                  <a:srgbClr val="323f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4063320" y="2433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6673320" y="2654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507312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9"/>
            <p:cNvSpPr/>
            <p:nvPr/>
          </p:nvSpPr>
          <p:spPr>
            <a:xfrm>
              <a:off x="260604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2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96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b3b3b">
                    <a:alpha val="12156"/>
                  </a:srgbClr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8b063"/>
                </a:gs>
                <a:gs pos="50000">
                  <a:srgbClr val="21512e"/>
                </a:gs>
                <a:gs pos="100000">
                  <a:srgbClr val="48b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aeaea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db8647"/>
                </a:gs>
                <a:gs pos="50000">
                  <a:srgbClr val="653e21"/>
                </a:gs>
                <a:gs pos="100000">
                  <a:srgbClr val="db86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aeaeae">
                    <a:alpha val="12156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219320" y="2209680"/>
            <a:ext cx="6705000" cy="3352680"/>
            <a:chOff x="1219320" y="2209680"/>
            <a:chExt cx="6705000" cy="3352680"/>
          </a:xfrm>
        </p:grpSpPr>
        <p:grpSp>
          <p:nvGrpSpPr>
            <p:cNvPr id="217" name="Group 4"/>
            <p:cNvGrpSpPr/>
            <p:nvPr/>
          </p:nvGrpSpPr>
          <p:grpSpPr>
            <a:xfrm>
              <a:off x="3085560" y="2209680"/>
              <a:ext cx="2899800" cy="2706120"/>
              <a:chOff x="3085560" y="2209680"/>
              <a:chExt cx="2899800" cy="2706120"/>
            </a:xfrm>
          </p:grpSpPr>
          <p:sp>
            <p:nvSpPr>
              <p:cNvPr id="218" name="AutoShape 5"/>
              <p:cNvSpPr/>
              <p:nvPr/>
            </p:nvSpPr>
            <p:spPr>
              <a:xfrm flipH="1" rot="16200000">
                <a:off x="300420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c3c3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6"/>
              <p:cNvSpPr/>
              <p:nvPr/>
            </p:nvSpPr>
            <p:spPr>
              <a:xfrm flipH="1" rot="5400000">
                <a:off x="560736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c3c3"/>
                  </a:gs>
                  <a:gs pos="100000">
                    <a:srgbClr val="0066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7"/>
              <p:cNvSpPr/>
              <p:nvPr/>
            </p:nvSpPr>
            <p:spPr>
              <a:xfrm flipH="1" rot="10800000">
                <a:off x="431532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c3c3"/>
                  </a:gs>
                  <a:gs pos="100000">
                    <a:srgbClr val="00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8"/>
              <p:cNvSpPr/>
              <p:nvPr/>
            </p:nvSpPr>
            <p:spPr>
              <a:xfrm>
                <a:off x="3382200" y="2209680"/>
                <a:ext cx="23288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9"/>
              <p:cNvSpPr/>
              <p:nvPr/>
            </p:nvSpPr>
            <p:spPr>
              <a:xfrm>
                <a:off x="3515040" y="2344680"/>
                <a:ext cx="206208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0"/>
              <p:cNvSpPr/>
              <p:nvPr/>
            </p:nvSpPr>
            <p:spPr>
              <a:xfrm>
                <a:off x="3636360" y="2471040"/>
                <a:ext cx="1819800" cy="1878480"/>
              </a:xfrm>
              <a:prstGeom prst="ellipse">
                <a:avLst/>
              </a:prstGeom>
              <a:gradFill rotWithShape="0">
                <a:gsLst>
                  <a:gs pos="0">
                    <a:srgbClr val="db8647"/>
                  </a:gs>
                  <a:gs pos="50000">
                    <a:srgbClr val="ffffff"/>
                  </a:gs>
                  <a:gs pos="100000">
                    <a:srgbClr val="db864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1"/>
              <p:cNvSpPr/>
              <p:nvPr/>
            </p:nvSpPr>
            <p:spPr>
              <a:xfrm>
                <a:off x="3636360" y="2471040"/>
                <a:ext cx="18198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2"/>
              <p:cNvSpPr/>
              <p:nvPr/>
            </p:nvSpPr>
            <p:spPr>
              <a:xfrm>
                <a:off x="3756240" y="2594520"/>
                <a:ext cx="1580400" cy="1631880"/>
              </a:xfrm>
              <a:prstGeom prst="ellipse">
                <a:avLst/>
              </a:prstGeom>
              <a:gradFill rotWithShape="0">
                <a:gsLst>
                  <a:gs pos="0">
                    <a:srgbClr val="db8647"/>
                  </a:gs>
                  <a:gs pos="50000">
                    <a:srgbClr val="774926"/>
                  </a:gs>
                  <a:gs pos="100000">
                    <a:srgbClr val="db864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3"/>
              <p:cNvSpPr/>
              <p:nvPr/>
            </p:nvSpPr>
            <p:spPr>
              <a:xfrm>
                <a:off x="3756240" y="2594520"/>
                <a:ext cx="158040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AutoShape 14"/>
            <p:cNvSpPr/>
            <p:nvPr/>
          </p:nvSpPr>
          <p:spPr>
            <a:xfrm>
              <a:off x="121932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5"/>
            <p:cNvSpPr/>
            <p:nvPr/>
          </p:nvSpPr>
          <p:spPr>
            <a:xfrm>
              <a:off x="121932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6"/>
            <p:cNvSpPr/>
            <p:nvPr/>
          </p:nvSpPr>
          <p:spPr>
            <a:xfrm>
              <a:off x="121932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7"/>
            <p:cNvSpPr/>
            <p:nvPr/>
          </p:nvSpPr>
          <p:spPr>
            <a:xfrm>
              <a:off x="6196320" y="370764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b063"/>
                </a:gs>
                <a:gs pos="50000">
                  <a:srgbClr val="21512e"/>
                </a:gs>
                <a:gs pos="100000">
                  <a:srgbClr val="48b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8"/>
            <p:cNvSpPr/>
            <p:nvPr/>
          </p:nvSpPr>
          <p:spPr>
            <a:xfrm>
              <a:off x="6196320" y="3208320"/>
              <a:ext cx="172800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b063"/>
                </a:gs>
                <a:gs pos="50000">
                  <a:srgbClr val="21512e"/>
                </a:gs>
                <a:gs pos="100000">
                  <a:srgbClr val="48b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9"/>
            <p:cNvSpPr/>
            <p:nvPr/>
          </p:nvSpPr>
          <p:spPr>
            <a:xfrm>
              <a:off x="6196320" y="270900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b063"/>
                </a:gs>
                <a:gs pos="50000">
                  <a:srgbClr val="21512e"/>
                </a:gs>
                <a:gs pos="100000">
                  <a:srgbClr val="48b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38516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21"/>
            <p:cNvSpPr/>
            <p:nvPr/>
          </p:nvSpPr>
          <p:spPr>
            <a:xfrm>
              <a:off x="2778840" y="5063400"/>
              <a:ext cx="352512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2"/>
            <p:cNvSpPr/>
            <p:nvPr/>
          </p:nvSpPr>
          <p:spPr>
            <a:xfrm>
              <a:off x="16758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67580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167580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67734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6"/>
            <p:cNvSpPr/>
            <p:nvPr/>
          </p:nvSpPr>
          <p:spPr>
            <a:xfrm>
              <a:off x="677340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677340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286000" y="1676520"/>
            <a:ext cx="4495320" cy="4514400"/>
            <a:chOff x="2286000" y="1676520"/>
            <a:chExt cx="4495320" cy="4514400"/>
          </a:xfrm>
        </p:grpSpPr>
        <p:sp>
          <p:nvSpPr>
            <p:cNvPr id="244" name="Puzzle3"/>
            <p:cNvSpPr/>
            <p:nvPr/>
          </p:nvSpPr>
          <p:spPr>
            <a:xfrm>
              <a:off x="4474800" y="1676520"/>
              <a:ext cx="1767240" cy="2399040"/>
            </a:xfrm>
            <a:custGeom>
              <a:avLst/>
              <a:gdLst>
                <a:gd name="textAreaLeft" fmla="*/ 185400 w 1767240"/>
                <a:gd name="textAreaRight" fmla="*/ 1567440 w 176724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53" h="21678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2e703f"/>
                </a:gs>
                <a:gs pos="100000">
                  <a:srgbClr val="48b063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Puzzle2"/>
            <p:cNvSpPr/>
            <p:nvPr/>
          </p:nvSpPr>
          <p:spPr>
            <a:xfrm>
              <a:off x="3961080" y="342432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e8e88b"/>
                </a:gs>
                <a:gs pos="100000">
                  <a:srgbClr val="cccc00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Puzzle4"/>
            <p:cNvSpPr/>
            <p:nvPr/>
          </p:nvSpPr>
          <p:spPr>
            <a:xfrm>
              <a:off x="2869560" y="33973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18" h="21666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edc1a0"/>
                </a:gs>
                <a:gs pos="100000">
                  <a:srgbClr val="db8647"/>
                </a:gs>
              </a:gsLst>
              <a:lin ang="135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Puzzle1"/>
            <p:cNvSpPr/>
            <p:nvPr/>
          </p:nvSpPr>
          <p:spPr>
            <a:xfrm>
              <a:off x="2286000" y="2402280"/>
              <a:ext cx="2855520" cy="166500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000"/>
                <a:gd name="textAreaBottom" fmla="*/ 1506600 h 1665000"/>
              </a:gdLst>
              <a:ahLst/>
              <a:rect l="textAreaLeft" t="textAreaTop" r="textAreaRight" b="textAreaBottom"/>
              <a:pathLst>
                <a:path w="21645" h="2173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43555d"/>
                </a:gs>
                <a:gs pos="100000">
                  <a:srgbClr val="90b7ca"/>
                </a:gs>
              </a:gsLst>
              <a:lin ang="81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8"/>
          <p:cNvSpPr/>
          <p:nvPr/>
        </p:nvSpPr>
        <p:spPr>
          <a:xfrm>
            <a:off x="6477840" y="41911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838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2438280" y="1676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267080" y="58672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55" name="Freeform 4"/>
            <p:cNvSpPr/>
            <p:nvPr/>
          </p:nvSpPr>
          <p:spPr>
            <a:xfrm>
              <a:off x="7834320" y="2286000"/>
              <a:ext cx="5760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db8647"/>
                </a:gs>
                <a:gs pos="100000">
                  <a:srgbClr val="653e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b8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8b063"/>
                </a:gs>
                <a:gs pos="100000">
                  <a:srgbClr val="2151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7"/>
            <p:cNvSpPr/>
            <p:nvPr/>
          </p:nvSpPr>
          <p:spPr>
            <a:xfrm>
              <a:off x="4243320" y="311796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8b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"/>
            <p:cNvSpPr/>
            <p:nvPr/>
          </p:nvSpPr>
          <p:spPr>
            <a:xfrm>
              <a:off x="6673680" y="3949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b7ca"/>
                </a:gs>
                <a:gs pos="100000">
                  <a:srgbClr val="435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"/>
            <p:cNvSpPr/>
            <p:nvPr/>
          </p:nvSpPr>
          <p:spPr>
            <a:xfrm>
              <a:off x="2592360" y="4776840"/>
              <a:ext cx="408132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1"/>
            <p:cNvGrpSpPr/>
            <p:nvPr/>
          </p:nvGrpSpPr>
          <p:grpSpPr>
            <a:xfrm>
              <a:off x="872640" y="2276640"/>
              <a:ext cx="5033880" cy="3324240"/>
              <a:chOff x="872640" y="2276640"/>
              <a:chExt cx="5033880" cy="3324240"/>
            </a:xfrm>
          </p:grpSpPr>
          <p:sp>
            <p:nvSpPr>
              <p:cNvPr id="263" name="Line 12"/>
              <p:cNvSpPr/>
              <p:nvPr/>
            </p:nvSpPr>
            <p:spPr>
              <a:xfrm flipH="1">
                <a:off x="873000" y="5599440"/>
                <a:ext cx="165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3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4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5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6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7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9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0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21"/>
              <p:cNvSpPr/>
              <p:nvPr/>
            </p:nvSpPr>
            <p:spPr>
              <a:xfrm>
                <a:off x="1224720" y="26006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22"/>
              <p:cNvSpPr/>
              <p:nvPr/>
            </p:nvSpPr>
            <p:spPr>
              <a:xfrm>
                <a:off x="1224720" y="34275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23"/>
              <p:cNvSpPr/>
              <p:nvPr/>
            </p:nvSpPr>
            <p:spPr>
              <a:xfrm>
                <a:off x="1224720" y="42912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24"/>
              <p:cNvSpPr/>
              <p:nvPr/>
            </p:nvSpPr>
            <p:spPr>
              <a:xfrm>
                <a:off x="1224720" y="50976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5"/>
              <p:cNvSpPr/>
              <p:nvPr/>
            </p:nvSpPr>
            <p:spPr>
              <a:xfrm>
                <a:off x="3184560" y="2440080"/>
                <a:ext cx="183816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b063"/>
                  </a:gs>
                  <a:gs pos="100000">
                    <a:srgbClr val="21512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26"/>
            <p:cNvSpPr/>
            <p:nvPr/>
          </p:nvSpPr>
          <p:spPr>
            <a:xfrm>
              <a:off x="5079960" y="2827440"/>
              <a:ext cx="2766960" cy="304920"/>
            </a:xfrm>
            <a:prstGeom prst="rect">
              <a:avLst/>
            </a:prstGeom>
            <a:gradFill rotWithShape="0">
              <a:gsLst>
                <a:gs pos="0">
                  <a:srgbClr val="8b552d"/>
                </a:gs>
                <a:gs pos="50000">
                  <a:srgbClr val="db8647"/>
                </a:gs>
                <a:gs pos="100000">
                  <a:srgbClr val="8b55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7"/>
            <p:cNvSpPr/>
            <p:nvPr/>
          </p:nvSpPr>
          <p:spPr>
            <a:xfrm>
              <a:off x="4244760" y="3657600"/>
              <a:ext cx="3016440" cy="298440"/>
            </a:xfrm>
            <a:prstGeom prst="rect">
              <a:avLst/>
            </a:prstGeom>
            <a:gradFill rotWithShape="0">
              <a:gsLst>
                <a:gs pos="0">
                  <a:srgbClr val="307542"/>
                </a:gs>
                <a:gs pos="50000">
                  <a:srgbClr val="48b063"/>
                </a:gs>
                <a:gs pos="100000">
                  <a:srgbClr val="307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8"/>
            <p:cNvSpPr/>
            <p:nvPr/>
          </p:nvSpPr>
          <p:spPr>
            <a:xfrm>
              <a:off x="3419280" y="3949920"/>
              <a:ext cx="383400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b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9"/>
            <p:cNvSpPr/>
            <p:nvPr/>
          </p:nvSpPr>
          <p:spPr>
            <a:xfrm>
              <a:off x="3422520" y="44928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688593"/>
                </a:gs>
                <a:gs pos="50000">
                  <a:srgbClr val="90b7ca"/>
                </a:gs>
                <a:gs pos="100000">
                  <a:srgbClr val="6885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0"/>
            <p:cNvSpPr/>
            <p:nvPr/>
          </p:nvSpPr>
          <p:spPr>
            <a:xfrm>
              <a:off x="2590560" y="5318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565600"/>
                </a:gs>
                <a:gs pos="50000">
                  <a:srgbClr val="cccc00"/>
                </a:gs>
                <a:gs pos="100000">
                  <a:srgbClr val="56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5Z</dcterms:modified>
  <cp:revision>3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