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A92C-2F36-48CF-AACC-7E5382CFE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2F7E-A70A-47D6-8809-1530C4D0F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712E-92CE-44D7-ABF6-3FD0C043E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81FB-5549-4631-9F1E-EAEA79C24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F9EE5-76BC-4093-A941-A7F9589B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64AC6-532F-4F82-B521-E10ADE65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6C0E2-8AE6-4D65-A895-BEFA5895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8BCAB-904F-4486-8F17-E5C17D9D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26B95-634B-4A7A-B1FC-C256A131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78497-9D78-40CF-A170-424ABD43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3B843-6A39-4CA0-B3CB-28000B72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6CB3-C487-477A-905B-2EC28720A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663DB-3FA0-4313-A69E-1A0BFBCB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C5751-D622-41D1-8077-1A728554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6B405-6414-4F29-ACE5-94FD2B7A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9D02D-2431-4CEF-ADE1-85A9ADD0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AF21D-B3B0-456B-B0CB-8EA761CE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2FC0-7B12-4073-A745-27E423E43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56B4-BF3C-43B6-8CE6-B8413B4ED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8C7F-680F-48E5-80D2-FAE77EB18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DF22-B67C-4BB2-82C6-22E700ADC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A685-AF2B-4AEB-9F04-D722B0245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8241-8648-4DD6-8DFD-AE4E75941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BEF6-09AE-4D14-9A13-4707DB4FA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Line 5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5A23-9449-4A2B-8364-AB96DD85A9D9}" type="slidenum"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val 7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D7F5-16A2-40A4-A9F3-19210C912874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未知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b4e8c5"/>
              </a:gs>
              <a:gs pos="50000">
                <a:srgbClr val="5bcd81"/>
              </a:gs>
              <a:gs pos="100000">
                <a:srgbClr val="b4e8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033640" y="263700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166e"/>
                </a:solidFill>
                <a:latin typeface="楷体"/>
                <a:ea typeface="楷体"/>
              </a:rPr>
              <a:t>蓝天草地</a:t>
            </a:r>
            <a:r>
              <a:rPr b="0" lang="zh-CN" sz="4000" spc="-1" strike="noStrike">
                <a:solidFill>
                  <a:srgbClr val="2b166e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2b166e"/>
                </a:solidFill>
                <a:latin typeface="楷体"/>
                <a:ea typeface="楷体"/>
              </a:rPr>
              <a:t>模板完整版免费下载</a:t>
            </a:r>
            <a:endParaRPr b="0" lang="en-US" sz="4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166e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166e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b166e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bcd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66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6666ff"/>
              </a:gs>
              <a:gs pos="50000">
                <a:srgbClr val="37378a"/>
              </a:gs>
              <a:gs pos="100000">
                <a:srgbClr val="66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8" name="Oval 11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66ff">
                  <a:alpha val="0"/>
                </a:srgbClr>
              </a:gs>
              <a:gs pos="100000">
                <a:srgbClr val="414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0" name="Oval 1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6c9bbe"/>
              </a:gs>
              <a:gs pos="50000">
                <a:srgbClr val="ffffff"/>
              </a:gs>
              <a:gs pos="100000">
                <a:srgbClr val="6c9bb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1" name="Oval 14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c9bbe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2" name="Oval 15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c9bbe"/>
              </a:gs>
              <a:gs pos="50000">
                <a:srgbClr val="3a5467"/>
              </a:gs>
              <a:gs pos="100000">
                <a:srgbClr val="6c9bb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3" name="Oval 16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6c9bbe">
                  <a:alpha val="0"/>
                </a:srgbClr>
              </a:gs>
              <a:gs pos="100000">
                <a:srgbClr val="456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44" name="Oval 17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45" name="Group 18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46" name="Oval 19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47" name="Oval 20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48" name="Oval 21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sp>
        <p:nvSpPr>
          <p:cNvPr id="250" name="Oval 2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5bcd81"/>
              </a:gs>
              <a:gs pos="50000">
                <a:srgbClr val="ffffff"/>
              </a:gs>
              <a:gs pos="100000">
                <a:srgbClr val="5bcd8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1" name="Oval 24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a5f3c"/>
              </a:gs>
              <a:gs pos="100000">
                <a:srgbClr val="5bcd81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2" name="Oval 25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5bcd81"/>
              </a:gs>
              <a:gs pos="50000">
                <a:srgbClr val="316f46"/>
              </a:gs>
              <a:gs pos="100000">
                <a:srgbClr val="5bcd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3" name="Oval 26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5bcd81">
                  <a:alpha val="0"/>
                </a:srgbClr>
              </a:gs>
              <a:gs pos="100000">
                <a:srgbClr val="3a8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54" name="Oval 27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55" name="Group 28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56" name="Oval 29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57" name="Oval 30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58" name="Oval 31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59" name="Oval 32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260" name="Group 33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61" name="Oval 34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62" name="Oval 35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63" name="Oval 36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64" name="Oval 37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sp>
        <p:nvSpPr>
          <p:cNvPr id="265" name="Text Box 38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67" name="Text Box 40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未知"/>
          <p:cNvSpPr/>
          <p:nvPr/>
        </p:nvSpPr>
        <p:spPr>
          <a:xfrm>
            <a:off x="1143000" y="19051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5bcd8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095880" y="3595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1" name="Oval 5"/>
          <p:cNvSpPr/>
          <p:nvPr/>
        </p:nvSpPr>
        <p:spPr>
          <a:xfrm rot="20876400">
            <a:off x="3240000" y="487692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171960" y="36576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3" name="Oval 7"/>
          <p:cNvSpPr/>
          <p:nvPr/>
        </p:nvSpPr>
        <p:spPr>
          <a:xfrm>
            <a:off x="3192480" y="366696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4" name="Oval 8"/>
          <p:cNvSpPr/>
          <p:nvPr/>
        </p:nvSpPr>
        <p:spPr>
          <a:xfrm>
            <a:off x="3209760" y="368316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5" name="Oval 9"/>
          <p:cNvSpPr/>
          <p:nvPr/>
        </p:nvSpPr>
        <p:spPr>
          <a:xfrm>
            <a:off x="3301920" y="372744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3589560" y="428472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77" name="Oval 11"/>
          <p:cNvSpPr/>
          <p:nvPr/>
        </p:nvSpPr>
        <p:spPr>
          <a:xfrm rot="20826600">
            <a:off x="1397160" y="426672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1320840" y="3276720"/>
            <a:ext cx="1371240" cy="1441080"/>
            <a:chOff x="1320840" y="3276720"/>
            <a:chExt cx="1371240" cy="1441080"/>
          </a:xfrm>
        </p:grpSpPr>
        <p:sp>
          <p:nvSpPr>
            <p:cNvPr id="279" name="Oval 13"/>
            <p:cNvSpPr/>
            <p:nvPr/>
          </p:nvSpPr>
          <p:spPr>
            <a:xfrm>
              <a:off x="1320840" y="327672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80" name="Oval 14"/>
            <p:cNvSpPr/>
            <p:nvPr/>
          </p:nvSpPr>
          <p:spPr>
            <a:xfrm>
              <a:off x="1338840" y="328500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81" name="Oval 15"/>
            <p:cNvSpPr/>
            <p:nvPr/>
          </p:nvSpPr>
          <p:spPr>
            <a:xfrm>
              <a:off x="1351800" y="329832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82" name="Oval 16"/>
            <p:cNvSpPr/>
            <p:nvPr/>
          </p:nvSpPr>
          <p:spPr>
            <a:xfrm>
              <a:off x="1423440" y="333504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83" name="Text Box 17"/>
            <p:cNvSpPr/>
            <p:nvPr/>
          </p:nvSpPr>
          <p:spPr>
            <a:xfrm>
              <a:off x="1601280" y="3782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sp>
        <p:nvSpPr>
          <p:cNvPr id="284" name="Oval 18"/>
          <p:cNvSpPr/>
          <p:nvPr/>
        </p:nvSpPr>
        <p:spPr>
          <a:xfrm>
            <a:off x="1219320" y="251460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85" name="Oval 19"/>
          <p:cNvSpPr/>
          <p:nvPr/>
        </p:nvSpPr>
        <p:spPr>
          <a:xfrm>
            <a:off x="1295280" y="190800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86" name="Oval 20"/>
          <p:cNvSpPr/>
          <p:nvPr/>
        </p:nvSpPr>
        <p:spPr>
          <a:xfrm>
            <a:off x="1308240" y="191304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87" name="Oval 21"/>
          <p:cNvSpPr/>
          <p:nvPr/>
        </p:nvSpPr>
        <p:spPr>
          <a:xfrm>
            <a:off x="1319040" y="19242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88" name="Oval 22"/>
          <p:cNvSpPr/>
          <p:nvPr/>
        </p:nvSpPr>
        <p:spPr>
          <a:xfrm>
            <a:off x="1373040" y="194940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1492560" y="2257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0" name="Oval 24"/>
          <p:cNvSpPr/>
          <p:nvPr/>
        </p:nvSpPr>
        <p:spPr>
          <a:xfrm>
            <a:off x="248616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1" name="Oval 25"/>
          <p:cNvSpPr/>
          <p:nvPr/>
        </p:nvSpPr>
        <p:spPr>
          <a:xfrm>
            <a:off x="260820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2" name="Oval 26"/>
          <p:cNvSpPr/>
          <p:nvPr/>
        </p:nvSpPr>
        <p:spPr>
          <a:xfrm>
            <a:off x="2617920" y="15271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3" name="Oval 27"/>
          <p:cNvSpPr/>
          <p:nvPr/>
        </p:nvSpPr>
        <p:spPr>
          <a:xfrm>
            <a:off x="2624040" y="1533600"/>
            <a:ext cx="63360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4" name="Oval 28"/>
          <p:cNvSpPr/>
          <p:nvPr/>
        </p:nvSpPr>
        <p:spPr>
          <a:xfrm>
            <a:off x="266076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95" name="Text Box 29"/>
          <p:cNvSpPr/>
          <p:nvPr/>
        </p:nvSpPr>
        <p:spPr>
          <a:xfrm>
            <a:off x="267876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1295280" y="1295280"/>
            <a:ext cx="6049800" cy="5186520"/>
            <a:chOff x="1295280" y="1295280"/>
            <a:chExt cx="6049800" cy="5186520"/>
          </a:xfrm>
        </p:grpSpPr>
        <p:sp>
          <p:nvSpPr>
            <p:cNvPr id="298" name="Oval 4"/>
            <p:cNvSpPr/>
            <p:nvPr/>
          </p:nvSpPr>
          <p:spPr>
            <a:xfrm>
              <a:off x="5194080" y="2157120"/>
              <a:ext cx="749520" cy="209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99" name="Oval 5"/>
            <p:cNvSpPr/>
            <p:nvPr/>
          </p:nvSpPr>
          <p:spPr>
            <a:xfrm>
              <a:off x="3886200" y="3784320"/>
              <a:ext cx="1481040" cy="411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00" name="Oval 6"/>
            <p:cNvSpPr/>
            <p:nvPr/>
          </p:nvSpPr>
          <p:spPr>
            <a:xfrm>
              <a:off x="4952880" y="5817960"/>
              <a:ext cx="2392200" cy="663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01" name="Oval 7"/>
            <p:cNvSpPr/>
            <p:nvPr/>
          </p:nvSpPr>
          <p:spPr>
            <a:xfrm>
              <a:off x="1523880" y="44244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02" name="Rectangle 8"/>
            <p:cNvSpPr/>
            <p:nvPr/>
          </p:nvSpPr>
          <p:spPr>
            <a:xfrm rot="13770000">
              <a:off x="4751280" y="372672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03" name="Rectangle 9"/>
            <p:cNvSpPr/>
            <p:nvPr/>
          </p:nvSpPr>
          <p:spPr>
            <a:xfrm rot="20856000">
              <a:off x="2771280" y="32842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304" name="Group 10"/>
            <p:cNvGrpSpPr/>
            <p:nvPr/>
          </p:nvGrpSpPr>
          <p:grpSpPr>
            <a:xfrm>
              <a:off x="3709800" y="1977840"/>
              <a:ext cx="1695600" cy="1836360"/>
              <a:chOff x="3709800" y="1977840"/>
              <a:chExt cx="1695600" cy="1836360"/>
            </a:xfrm>
          </p:grpSpPr>
          <p:sp>
            <p:nvSpPr>
              <p:cNvPr id="305" name="Rectangle 11"/>
              <p:cNvSpPr/>
              <p:nvPr/>
            </p:nvSpPr>
            <p:spPr>
              <a:xfrm rot="18394200">
                <a:off x="4878720" y="2189160"/>
                <a:ext cx="59364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grpSp>
            <p:nvGrpSpPr>
              <p:cNvPr id="306" name="Group 12"/>
              <p:cNvGrpSpPr/>
              <p:nvPr/>
            </p:nvGrpSpPr>
            <p:grpSpPr>
              <a:xfrm>
                <a:off x="3709800" y="2231640"/>
                <a:ext cx="1609560" cy="1582560"/>
                <a:chOff x="3709800" y="2231640"/>
                <a:chExt cx="1609560" cy="1582560"/>
              </a:xfrm>
            </p:grpSpPr>
            <p:sp>
              <p:nvSpPr>
                <p:cNvPr id="307" name="Oval 13"/>
                <p:cNvSpPr/>
                <p:nvPr/>
              </p:nvSpPr>
              <p:spPr>
                <a:xfrm>
                  <a:off x="3709800" y="2231640"/>
                  <a:ext cx="1609560" cy="158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6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>
                  <a:off x="3893760" y="2257560"/>
                  <a:ext cx="1241640" cy="5972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09" name="Text Box 15"/>
              <p:cNvSpPr/>
              <p:nvPr/>
            </p:nvSpPr>
            <p:spPr>
              <a:xfrm>
                <a:off x="3796560" y="2920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310" name="Group 16"/>
            <p:cNvGrpSpPr/>
            <p:nvPr/>
          </p:nvGrpSpPr>
          <p:grpSpPr>
            <a:xfrm>
              <a:off x="5119560" y="1295280"/>
              <a:ext cx="891720" cy="861840"/>
              <a:chOff x="5119560" y="1295280"/>
              <a:chExt cx="891720" cy="861840"/>
            </a:xfrm>
          </p:grpSpPr>
          <p:grpSp>
            <p:nvGrpSpPr>
              <p:cNvPr id="311" name="Group 17"/>
              <p:cNvGrpSpPr/>
              <p:nvPr/>
            </p:nvGrpSpPr>
            <p:grpSpPr>
              <a:xfrm>
                <a:off x="5119560" y="1295280"/>
                <a:ext cx="871560" cy="861840"/>
                <a:chOff x="5119560" y="1295280"/>
                <a:chExt cx="871560" cy="861840"/>
              </a:xfrm>
            </p:grpSpPr>
            <p:sp>
              <p:nvSpPr>
                <p:cNvPr id="312" name="Oval 18"/>
                <p:cNvSpPr/>
                <p:nvPr/>
              </p:nvSpPr>
              <p:spPr>
                <a:xfrm>
                  <a:off x="5119560" y="12952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cd81"/>
                    </a:gs>
                    <a:gs pos="100000">
                      <a:srgbClr val="295d3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>
                  <a:off x="5218920" y="13093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bcd8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14" name="Text Box 20"/>
              <p:cNvSpPr/>
              <p:nvPr/>
            </p:nvSpPr>
            <p:spPr>
              <a:xfrm>
                <a:off x="5140080" y="16272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315" name="Group 21"/>
            <p:cNvGrpSpPr/>
            <p:nvPr/>
          </p:nvGrpSpPr>
          <p:grpSpPr>
            <a:xfrm>
              <a:off x="1295280" y="2620800"/>
              <a:ext cx="1744560" cy="1790640"/>
              <a:chOff x="1295280" y="2620800"/>
              <a:chExt cx="1744560" cy="1790640"/>
            </a:xfrm>
          </p:grpSpPr>
          <p:grpSp>
            <p:nvGrpSpPr>
              <p:cNvPr id="316" name="Group 22"/>
              <p:cNvGrpSpPr/>
              <p:nvPr/>
            </p:nvGrpSpPr>
            <p:grpSpPr>
              <a:xfrm>
                <a:off x="1295280" y="2620800"/>
                <a:ext cx="1744560" cy="1790640"/>
                <a:chOff x="1295280" y="2620800"/>
                <a:chExt cx="1744560" cy="1790640"/>
              </a:xfrm>
            </p:grpSpPr>
            <p:sp>
              <p:nvSpPr>
                <p:cNvPr id="317" name="Oval 23"/>
                <p:cNvSpPr/>
                <p:nvPr/>
              </p:nvSpPr>
              <p:spPr>
                <a:xfrm>
                  <a:off x="1295280" y="26208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56f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>
                  <a:off x="1494720" y="26503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19" name="Text Box 25"/>
              <p:cNvSpPr/>
              <p:nvPr/>
            </p:nvSpPr>
            <p:spPr>
              <a:xfrm>
                <a:off x="1389600" y="34160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320" name="Group 26"/>
            <p:cNvGrpSpPr/>
            <p:nvPr/>
          </p:nvGrpSpPr>
          <p:grpSpPr>
            <a:xfrm>
              <a:off x="5051160" y="3881160"/>
              <a:ext cx="2013120" cy="1989000"/>
              <a:chOff x="5051160" y="3881160"/>
              <a:chExt cx="2013120" cy="1989000"/>
            </a:xfrm>
          </p:grpSpPr>
          <p:grpSp>
            <p:nvGrpSpPr>
              <p:cNvPr id="321" name="Group 27"/>
              <p:cNvGrpSpPr/>
              <p:nvPr/>
            </p:nvGrpSpPr>
            <p:grpSpPr>
              <a:xfrm>
                <a:off x="5051160" y="3881160"/>
                <a:ext cx="2013120" cy="1989000"/>
                <a:chOff x="5051160" y="3881160"/>
                <a:chExt cx="2013120" cy="1989000"/>
              </a:xfrm>
            </p:grpSpPr>
            <p:sp>
              <p:nvSpPr>
                <p:cNvPr id="322" name="Oval 28"/>
                <p:cNvSpPr/>
                <p:nvPr/>
              </p:nvSpPr>
              <p:spPr>
                <a:xfrm>
                  <a:off x="5051160" y="38811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ff"/>
                    </a:gs>
                    <a:gs pos="100000">
                      <a:srgbClr val="38388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5281200" y="39139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324" name="Text Box 30"/>
              <p:cNvSpPr/>
              <p:nvPr/>
            </p:nvSpPr>
            <p:spPr>
              <a:xfrm>
                <a:off x="5339520" y="47430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27" name="AutoShape 4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333" name="Group 10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34" name="Oval 11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35" name="Oval 12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36" name="Oval 13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37" name="Oval 14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38" name="Oval 15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339" name="Text Box 16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0" name="Text Box 17"/>
            <p:cNvSpPr/>
            <p:nvPr/>
          </p:nvSpPr>
          <p:spPr>
            <a:xfrm>
              <a:off x="1295640" y="2593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341" name="Group 18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42" name="AutoShape 19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3" name="AutoShape 20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4" name="AutoShape 21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5" name="AutoShape 22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6" name="Oval 23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8" name="Oval 25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49" name="Oval 26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0" name="Oval 27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1" name="Text Box 28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2" name="Text Box 29"/>
            <p:cNvSpPr/>
            <p:nvPr/>
          </p:nvSpPr>
          <p:spPr>
            <a:xfrm>
              <a:off x="3657600" y="2593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3" name="AutoShape 30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4" name="AutoShape 31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355" name="Group 32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56" name="AutoShape 33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7" name="AutoShape 34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8" name="AutoShape 35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59" name="AutoShape 36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360" name="Group 37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61" name="Oval 38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62" name="Oval 39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63" name="Oval 40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64" name="Oval 41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65" name="Oval 42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366" name="Text Box 43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67" name="Text Box 44"/>
            <p:cNvSpPr/>
            <p:nvPr/>
          </p:nvSpPr>
          <p:spPr>
            <a:xfrm>
              <a:off x="6019560" y="2593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68" name="AutoShape 45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69" name="AutoShape 46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72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73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374" name="Group 6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75" name="Group 7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76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378" name="Group 10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79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grpSp>
        <p:nvGrpSpPr>
          <p:cNvPr id="381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82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83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84" name="Oval 16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85" name="Oval 17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386" name="Oval 18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387" name="Group 19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388" name="Oval 20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89" name="Oval 21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90" name="Oval 22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91" name="Oval 23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grpSp>
        <p:nvGrpSpPr>
          <p:cNvPr id="392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93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94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396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97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398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sp>
        <p:nvSpPr>
          <p:cNvPr id="399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02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03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404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05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06" name="Oval 38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07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08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409" name="Group 41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10" name="Group 42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11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12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413" name="Group 45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14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grpSp>
        <p:nvGrpSpPr>
          <p:cNvPr id="416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17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18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19" name="Oval 51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20" name="Oval 52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21" name="Oval 53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422" name="Group 54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23" name="Oval 55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24" name="Oval 56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25" name="Oval 57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26" name="Oval 58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grpSp>
        <p:nvGrpSpPr>
          <p:cNvPr id="427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28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29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grpSp>
          <p:nvGrpSpPr>
            <p:cNvPr id="431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32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33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grpSp>
        <p:nvGrpSpPr>
          <p:cNvPr id="434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35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36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37" name="Oval 69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38" name="Oval 70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39" name="Oval 71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grpSp>
          <p:nvGrpSpPr>
            <p:cNvPr id="440" name="Group 72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41" name="Oval 73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42" name="Oval 74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43" name="Oval 75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444" name="Oval 76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</p:grpSp>
      <p:sp>
        <p:nvSpPr>
          <p:cNvPr id="445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46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47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48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49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0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1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52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166e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453" name="Group 85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54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9d6c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55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9d6c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56" name="Text Box 88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9d6c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57" name="Text Box 89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9d6c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cxnSp>
          <p:nvCxnSpPr>
            <p:cNvPr id="458" name="AutoShape 90"/>
            <p:cNvCxnSpPr>
              <a:stCxn id="454" idx="3"/>
              <a:endCxn id="455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3f9d6c"/>
              </a:solidFill>
              <a:miter/>
              <a:tailEnd len="med" type="triangle" w="med"/>
            </a:ln>
          </p:spPr>
        </p:cxnSp>
        <p:cxnSp>
          <p:nvCxnSpPr>
            <p:cNvPr id="459" name="AutoShape 91"/>
            <p:cNvCxnSpPr>
              <a:stCxn id="455" idx="3"/>
              <a:endCxn id="456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3f9d6c"/>
              </a:solidFill>
              <a:miter/>
              <a:tailEnd len="med" type="triangle" w="med"/>
            </a:ln>
          </p:spPr>
        </p:cxnSp>
        <p:cxnSp>
          <p:nvCxnSpPr>
            <p:cNvPr id="460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f9d6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62" name="Group 3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463" name="AutoShape 4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1b8ff"/>
                </a:gs>
                <a:gs pos="100000">
                  <a:srgbClr val="3399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64" name="AutoShape 5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494ff"/>
                </a:gs>
                <a:gs pos="100000">
                  <a:srgbClr val="6666f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65" name="AutoShape 6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3f9d6c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66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solidFill>
              <a:srgbClr val="3f9d6c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67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94ff"/>
                </a:gs>
                <a:gs pos="100000">
                  <a:srgbClr val="6666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468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1b8ff"/>
                </a:gs>
                <a:gs pos="100000">
                  <a:srgbClr val="3399f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Rectangle 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6c9bbe"/>
              </a:gs>
              <a:gs pos="100000">
                <a:srgbClr val="324858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2" name="Rectangle 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5bcd81"/>
              </a:gs>
              <a:gs pos="100000">
                <a:srgbClr val="2a5f3c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4" name="Rectangle 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6" name="Rectangle 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2f2f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79" name="Line 1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0" name="Line 1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1" name="Line 1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pany History</a:t>
            </a:r>
            <a:endParaRPr b="0" lang="en-US" sz="2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838080" y="245916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b166e"/>
                      </a:solidFill>
                    </a:lnR>
                    <a:lnT>
                      <a:noFill/>
                    </a:lnT>
                    <a:lnB w="576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f9d6c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Oval 2"/>
          <p:cNvSpPr/>
          <p:nvPr/>
        </p:nvSpPr>
        <p:spPr>
          <a:xfrm>
            <a:off x="213840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f7f9f2"/>
              </a:gs>
              <a:gs pos="100000">
                <a:srgbClr val="ddddd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89" name="Oval 3"/>
          <p:cNvSpPr/>
          <p:nvPr/>
        </p:nvSpPr>
        <p:spPr>
          <a:xfrm rot="20601600">
            <a:off x="141300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aeaeae"/>
              </a:gs>
              <a:gs pos="50000">
                <a:srgbClr val="808080"/>
              </a:gs>
              <a:gs pos="100000">
                <a:srgbClr val="aeae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0" name="Oval 4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1" name="Arc 5"/>
          <p:cNvSpPr/>
          <p:nvPr/>
        </p:nvSpPr>
        <p:spPr>
          <a:xfrm rot="20601600">
            <a:off x="4125960" y="2079360"/>
            <a:ext cx="2849400" cy="1966680"/>
          </a:xfrm>
          <a:custGeom>
            <a:avLst/>
            <a:gdLst/>
            <a:ahLst/>
            <a:rect l="l" t="t" r="r" b="b"/>
            <a:pathLst>
              <a:path fill="none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</a:path>
              <a:path stroke="0" w="21600" h="29046">
                <a:moveTo>
                  <a:pt x="13190" y="-1"/>
                </a:moveTo>
                <a:cubicBezTo>
                  <a:pt x="18493" y="4089"/>
                  <a:pt x="21600" y="10407"/>
                  <a:pt x="21600" y="17105"/>
                </a:cubicBezTo>
                <a:cubicBezTo>
                  <a:pt x="21600" y="21352"/>
                  <a:pt x="20347" y="25506"/>
                  <a:pt x="17999" y="29046"/>
                </a:cubicBezTo>
                <a:lnTo>
                  <a:pt x="0" y="17105"/>
                </a:lnTo>
                <a:lnTo>
                  <a:pt x="13190" y="-1"/>
                </a:lnTo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100000">
                <a:srgbClr val="9e9eff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2" name="Arc 6"/>
          <p:cNvSpPr/>
          <p:nvPr/>
        </p:nvSpPr>
        <p:spPr>
          <a:xfrm flipH="1" rot="20602200">
            <a:off x="1713600" y="3954600"/>
            <a:ext cx="3281040" cy="1476720"/>
          </a:xfrm>
          <a:custGeom>
            <a:avLst/>
            <a:gdLst/>
            <a:ahLst/>
            <a:rect l="l" t="t" r="r" b="b"/>
            <a:pathLst>
              <a:path fill="none" w="25114" h="21600">
                <a:moveTo>
                  <a:pt x="25114" y="2497"/>
                </a:moveTo>
                <a:cubicBezTo>
                  <a:pt x="23846" y="13386"/>
                  <a:pt x="14622" y="21600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</a:path>
              <a:path stroke="0" w="25114" h="21600">
                <a:moveTo>
                  <a:pt x="25114" y="2497"/>
                </a:moveTo>
                <a:cubicBezTo>
                  <a:pt x="23846" y="13386"/>
                  <a:pt x="14622" y="21600"/>
                  <a:pt x="3659" y="21600"/>
                </a:cubicBezTo>
                <a:cubicBezTo>
                  <a:pt x="2432" y="21600"/>
                  <a:pt x="1208" y="21495"/>
                  <a:pt x="0" y="21287"/>
                </a:cubicBezTo>
                <a:lnTo>
                  <a:pt x="3659" y="0"/>
                </a:lnTo>
                <a:lnTo>
                  <a:pt x="25114" y="2497"/>
                </a:ln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100000">
                <a:srgbClr val="408f5a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3" name="Arc 7"/>
          <p:cNvSpPr/>
          <p:nvPr/>
        </p:nvSpPr>
        <p:spPr>
          <a:xfrm rot="20601600">
            <a:off x="2722680" y="2125440"/>
            <a:ext cx="3228840" cy="1417680"/>
          </a:xfrm>
          <a:custGeom>
            <a:avLst/>
            <a:gdLst/>
            <a:ahLst/>
            <a:rect l="l" t="t" r="r" b="b"/>
            <a:pathLst>
              <a:path fill="none" w="24549" h="21600">
                <a:moveTo>
                  <a:pt x="0" y="2373"/>
                </a:moveTo>
                <a:cubicBezTo>
                  <a:pt x="3046" y="813"/>
                  <a:pt x="6420" y="0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</a:path>
              <a:path stroke="0" w="24549" h="21600">
                <a:moveTo>
                  <a:pt x="0" y="2373"/>
                </a:moveTo>
                <a:cubicBezTo>
                  <a:pt x="3046" y="813"/>
                  <a:pt x="6420" y="0"/>
                  <a:pt x="9843" y="0"/>
                </a:cubicBezTo>
                <a:cubicBezTo>
                  <a:pt x="15299" y="0"/>
                  <a:pt x="20553" y="2064"/>
                  <a:pt x="24549" y="5779"/>
                </a:cubicBezTo>
                <a:lnTo>
                  <a:pt x="9843" y="21600"/>
                </a:lnTo>
                <a:lnTo>
                  <a:pt x="0" y="2373"/>
                </a:lnTo>
                <a:close/>
              </a:path>
            </a:pathLst>
          </a:custGeom>
          <a:gradFill rotWithShape="0">
            <a:gsLst>
              <a:gs pos="0">
                <a:srgbClr val="bebeff"/>
              </a:gs>
              <a:gs pos="100000">
                <a:srgbClr val="6666f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4" name="Arc 8"/>
          <p:cNvSpPr/>
          <p:nvPr/>
        </p:nvSpPr>
        <p:spPr>
          <a:xfrm flipH="1" rot="20602200">
            <a:off x="1370520" y="2719440"/>
            <a:ext cx="2851200" cy="2066400"/>
          </a:xfrm>
          <a:custGeom>
            <a:avLst/>
            <a:gdLst/>
            <a:ahLst/>
            <a:rect l="l" t="t" r="r" b="b"/>
            <a:pathLst>
              <a:path fill="none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</a:path>
              <a:path stroke="0" w="21600" h="30468">
                <a:moveTo>
                  <a:pt x="8291" y="0"/>
                </a:moveTo>
                <a:cubicBezTo>
                  <a:pt x="16349" y="3349"/>
                  <a:pt x="21600" y="11218"/>
                  <a:pt x="21600" y="19945"/>
                </a:cubicBezTo>
                <a:cubicBezTo>
                  <a:pt x="21600" y="23628"/>
                  <a:pt x="20657" y="27251"/>
                  <a:pt x="18863" y="30468"/>
                </a:cubicBezTo>
                <a:lnTo>
                  <a:pt x="0" y="19945"/>
                </a:lnTo>
                <a:lnTo>
                  <a:pt x="8291" y="0"/>
                </a:lnTo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100000">
                <a:srgbClr val="3399ff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5" name="未知"/>
          <p:cNvSpPr/>
          <p:nvPr/>
        </p:nvSpPr>
        <p:spPr>
          <a:xfrm>
            <a:off x="5464080" y="3622680"/>
            <a:ext cx="1754280" cy="1778040"/>
          </a:xfrm>
          <a:custGeom>
            <a:avLst/>
            <a:gdLst/>
            <a:ahLst/>
            <a:rect l="l" t="t" r="r" b="b"/>
            <a:pathLst>
              <a:path w="1105" h="1120">
                <a:moveTo>
                  <a:pt x="9" y="888"/>
                </a:moveTo>
                <a:lnTo>
                  <a:pt x="1105" y="0"/>
                </a:lnTo>
                <a:lnTo>
                  <a:pt x="1081" y="256"/>
                </a:lnTo>
                <a:cubicBezTo>
                  <a:pt x="1014" y="373"/>
                  <a:pt x="882" y="560"/>
                  <a:pt x="705" y="704"/>
                </a:cubicBezTo>
                <a:cubicBezTo>
                  <a:pt x="528" y="848"/>
                  <a:pt x="133" y="1089"/>
                  <a:pt x="17" y="1120"/>
                </a:cubicBezTo>
                <a:cubicBezTo>
                  <a:pt x="0" y="1038"/>
                  <a:pt x="9" y="888"/>
                  <a:pt x="9" y="888"/>
                </a:cubicBezTo>
                <a:close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bcd2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6" name="Arc 10"/>
          <p:cNvSpPr/>
          <p:nvPr/>
        </p:nvSpPr>
        <p:spPr>
          <a:xfrm rot="20539200">
            <a:off x="4508640" y="3011400"/>
            <a:ext cx="2728800" cy="1859040"/>
          </a:xfrm>
          <a:custGeom>
            <a:avLst/>
            <a:gdLst/>
            <a:ahLst/>
            <a:rect l="l" t="t" r="r" b="b"/>
            <a:pathLst>
              <a:path fill="none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</a:path>
              <a:path stroke="0" w="18016" h="21282">
                <a:moveTo>
                  <a:pt x="18016" y="11915"/>
                </a:moveTo>
                <a:cubicBezTo>
                  <a:pt x="14735" y="16875"/>
                  <a:pt x="9554" y="20264"/>
                  <a:pt x="3694" y="21281"/>
                </a:cubicBezTo>
                <a:lnTo>
                  <a:pt x="0" y="0"/>
                </a:lnTo>
                <a:lnTo>
                  <a:pt x="18016" y="11915"/>
                </a:lnTo>
                <a:close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324858"/>
              </a:gs>
            </a:gsLst>
            <a:lin ang="91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4475160" y="3962520"/>
            <a:ext cx="1028880" cy="1473120"/>
          </a:xfrm>
          <a:custGeom>
            <a:avLst/>
            <a:gdLst/>
            <a:ahLst/>
            <a:rect l="l" t="t" r="r" b="b"/>
            <a:pathLst>
              <a:path w="648" h="928">
                <a:moveTo>
                  <a:pt x="648" y="632"/>
                </a:moveTo>
                <a:lnTo>
                  <a:pt x="648" y="928"/>
                </a:lnTo>
                <a:lnTo>
                  <a:pt x="0" y="64"/>
                </a:lnTo>
                <a:lnTo>
                  <a:pt x="96" y="0"/>
                </a:lnTo>
                <a:lnTo>
                  <a:pt x="648" y="632"/>
                </a:lnTo>
                <a:close/>
              </a:path>
            </a:pathLst>
          </a:custGeom>
          <a:gradFill rotWithShape="0">
            <a:gsLst>
              <a:gs pos="0">
                <a:srgbClr val="6c9bbe"/>
              </a:gs>
              <a:gs pos="100000">
                <a:srgbClr val="bcd2e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8" name="Oval 12"/>
          <p:cNvSpPr/>
          <p:nvPr/>
        </p:nvSpPr>
        <p:spPr>
          <a:xfrm rot="20601600">
            <a:off x="293040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1921320" y="3584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3826440" y="23652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1" name="Text Box 15"/>
          <p:cNvSpPr/>
          <p:nvPr/>
        </p:nvSpPr>
        <p:spPr>
          <a:xfrm>
            <a:off x="5655240" y="26701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2" name="Text Box 16"/>
          <p:cNvSpPr/>
          <p:nvPr/>
        </p:nvSpPr>
        <p:spPr>
          <a:xfrm>
            <a:off x="5350320" y="38894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3140640" y="4575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4" name="未知"/>
          <p:cNvSpPr/>
          <p:nvPr/>
        </p:nvSpPr>
        <p:spPr>
          <a:xfrm>
            <a:off x="4394160" y="4178160"/>
            <a:ext cx="863640" cy="1079640"/>
          </a:xfrm>
          <a:custGeom>
            <a:avLst/>
            <a:gdLst/>
            <a:ahLst/>
            <a:rect l="l" t="t" r="r" b="b"/>
            <a:pathLst>
              <a:path w="544" h="680">
                <a:moveTo>
                  <a:pt x="0" y="16"/>
                </a:moveTo>
                <a:lnTo>
                  <a:pt x="256" y="528"/>
                </a:lnTo>
                <a:lnTo>
                  <a:pt x="264" y="680"/>
                </a:lnTo>
                <a:lnTo>
                  <a:pt x="448" y="624"/>
                </a:lnTo>
                <a:lnTo>
                  <a:pt x="544" y="576"/>
                </a:lnTo>
                <a:lnTo>
                  <a:pt x="112" y="0"/>
                </a:lnTo>
                <a:lnTo>
                  <a:pt x="0" y="16"/>
                </a:lnTo>
                <a:close/>
              </a:path>
            </a:pathLst>
          </a:custGeom>
          <a:gradFill rotWithShape="0">
            <a:gsLst>
              <a:gs pos="0">
                <a:srgbClr val="6666ff">
                  <a:alpha val="19215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5" name="Oval 19"/>
          <p:cNvSpPr/>
          <p:nvPr/>
        </p:nvSpPr>
        <p:spPr>
          <a:xfrm rot="20601600">
            <a:off x="3032280" y="3157560"/>
            <a:ext cx="25858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6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b166e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28F83-0072-4607-B4BE-726C004F66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2286000" y="1981080"/>
            <a:ext cx="4724280" cy="685800"/>
            <a:chOff x="2286000" y="1981080"/>
            <a:chExt cx="4724280" cy="685800"/>
          </a:xfrm>
        </p:grpSpPr>
        <p:sp>
          <p:nvSpPr>
            <p:cNvPr id="89" name="AutoShape 4"/>
            <p:cNvSpPr/>
            <p:nvPr/>
          </p:nvSpPr>
          <p:spPr>
            <a:xfrm>
              <a:off x="2666880" y="210024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2286000" y="1981080"/>
              <a:ext cx="685800" cy="685800"/>
            </a:xfrm>
            <a:prstGeom prst="diamond">
              <a:avLst/>
            </a:prstGeom>
            <a:solidFill>
              <a:srgbClr val="33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2895480" y="21556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441880" y="207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93" name="Group 8"/>
          <p:cNvGrpSpPr/>
          <p:nvPr/>
        </p:nvGrpSpPr>
        <p:grpSpPr>
          <a:xfrm>
            <a:off x="2286000" y="2819520"/>
            <a:ext cx="4724280" cy="685800"/>
            <a:chOff x="2286000" y="2819520"/>
            <a:chExt cx="4724280" cy="685800"/>
          </a:xfrm>
        </p:grpSpPr>
        <p:sp>
          <p:nvSpPr>
            <p:cNvPr id="94" name="AutoShape 9"/>
            <p:cNvSpPr/>
            <p:nvPr/>
          </p:nvSpPr>
          <p:spPr>
            <a:xfrm>
              <a:off x="2666880" y="293868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5bcd81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5" name="AutoShape 10"/>
            <p:cNvSpPr/>
            <p:nvPr/>
          </p:nvSpPr>
          <p:spPr>
            <a:xfrm>
              <a:off x="2286000" y="2819520"/>
              <a:ext cx="685800" cy="685800"/>
            </a:xfrm>
            <a:prstGeom prst="diamond">
              <a:avLst/>
            </a:prstGeom>
            <a:solidFill>
              <a:srgbClr val="5bcd8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2895480" y="29941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2441880" y="291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98" name="Group 13"/>
          <p:cNvGrpSpPr/>
          <p:nvPr/>
        </p:nvGrpSpPr>
        <p:grpSpPr>
          <a:xfrm>
            <a:off x="2286000" y="3657600"/>
            <a:ext cx="4724280" cy="685800"/>
            <a:chOff x="2286000" y="3657600"/>
            <a:chExt cx="4724280" cy="685800"/>
          </a:xfrm>
        </p:grpSpPr>
        <p:sp>
          <p:nvSpPr>
            <p:cNvPr id="99" name="AutoShape 14"/>
            <p:cNvSpPr/>
            <p:nvPr/>
          </p:nvSpPr>
          <p:spPr>
            <a:xfrm>
              <a:off x="2666880" y="37767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0" name="AutoShape 15"/>
            <p:cNvSpPr/>
            <p:nvPr/>
          </p:nvSpPr>
          <p:spPr>
            <a:xfrm>
              <a:off x="2286000" y="3657600"/>
              <a:ext cx="685800" cy="685800"/>
            </a:xfrm>
            <a:prstGeom prst="diamond">
              <a:avLst/>
            </a:prstGeom>
            <a:solidFill>
              <a:srgbClr val="6666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2895480" y="38322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2441880" y="375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103" name="Group 18"/>
          <p:cNvGrpSpPr/>
          <p:nvPr/>
        </p:nvGrpSpPr>
        <p:grpSpPr>
          <a:xfrm>
            <a:off x="2286000" y="4572000"/>
            <a:ext cx="4724280" cy="685800"/>
            <a:chOff x="2286000" y="4572000"/>
            <a:chExt cx="4724280" cy="685800"/>
          </a:xfrm>
        </p:grpSpPr>
        <p:sp>
          <p:nvSpPr>
            <p:cNvPr id="104" name="AutoShape 19"/>
            <p:cNvSpPr/>
            <p:nvPr/>
          </p:nvSpPr>
          <p:spPr>
            <a:xfrm>
              <a:off x="2666880" y="4691160"/>
              <a:ext cx="4343400" cy="457200"/>
            </a:xfrm>
            <a:prstGeom prst="roundRect">
              <a:avLst>
                <a:gd name="adj" fmla="val 16667"/>
              </a:avLst>
            </a:prstGeom>
            <a:solidFill>
              <a:srgbClr val="6c9bbe"/>
            </a:soli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5" name="AutoShape 20"/>
            <p:cNvSpPr/>
            <p:nvPr/>
          </p:nvSpPr>
          <p:spPr>
            <a:xfrm>
              <a:off x="2286000" y="4572000"/>
              <a:ext cx="685800" cy="685800"/>
            </a:xfrm>
            <a:prstGeom prst="diamond">
              <a:avLst/>
            </a:prstGeom>
            <a:solidFill>
              <a:srgbClr val="6c9bb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6" name="Text Box 21"/>
            <p:cNvSpPr/>
            <p:nvPr/>
          </p:nvSpPr>
          <p:spPr>
            <a:xfrm>
              <a:off x="2895480" y="47466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07" name="Text Box 22"/>
            <p:cNvSpPr/>
            <p:nvPr/>
          </p:nvSpPr>
          <p:spPr>
            <a:xfrm>
              <a:off x="2441880" y="4670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AutoShape 3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12" name="AutoShape 4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d9dff"/>
              </a:gs>
              <a:gs pos="50000">
                <a:srgbClr val="6666ff"/>
              </a:gs>
              <a:gs pos="100000">
                <a:srgbClr val="9d9d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514" name="Group 6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515" name="Group 7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516" name="Group 8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517" name="Oval 9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99ff"/>
                    </a:gs>
                    <a:gs pos="100000">
                      <a:srgbClr val="2061a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518" name="未知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19" name="Text Box 11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520" name="Oval 12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521" name="Group 13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522" name="Group 14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523" name="Oval 15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3434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525" name="Text Box 17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526" name="Oval 18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527" name="Group 19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28" name="Group 20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29" name="Oval 21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5bcd81"/>
                  </a:gs>
                  <a:gs pos="100000">
                    <a:srgbClr val="2f69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530" name="未知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bcd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531" name="Text Box 23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532" name="Oval 24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grpSp>
        <p:nvGrpSpPr>
          <p:cNvPr id="533" name="Group 25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34" name="Group 26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535" name="Group 27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536" name="Oval 28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6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  <p:sp>
              <p:nvSpPr>
                <p:cNvPr id="537" name="未知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2b166e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538" name="Text Box 30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539" name="Oval 31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5bcd81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2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5bcd81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8840" y="1741320"/>
            <a:ext cx="78246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166e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66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2b166e"/>
                </a:solidFill>
                <a:latin typeface="Arial"/>
                <a:ea typeface="宋体"/>
              </a:rPr>
              <a:t>On the </a:t>
            </a:r>
            <a:r>
              <a:rPr b="1" lang="en-US" sz="2900" spc="-1" strike="noStrike">
                <a:solidFill>
                  <a:srgbClr val="5bcd81"/>
                </a:solidFill>
                <a:latin typeface="Arial"/>
                <a:ea typeface="宋体"/>
              </a:rPr>
              <a:t>[View]</a:t>
            </a:r>
            <a:r>
              <a:rPr b="1" lang="en-US" sz="2900" spc="-1" strike="noStrike">
                <a:solidFill>
                  <a:srgbClr val="2b166e"/>
                </a:solidFill>
                <a:latin typeface="Arial"/>
                <a:ea typeface="宋体"/>
              </a:rPr>
              <a:t> menu, point to </a:t>
            </a:r>
            <a:r>
              <a:rPr b="1" lang="en-US" sz="2900" spc="-1" strike="noStrike">
                <a:solidFill>
                  <a:srgbClr val="5bcd81"/>
                </a:solidFill>
                <a:latin typeface="Arial"/>
                <a:ea typeface="宋体"/>
              </a:rPr>
              <a:t>[Master],</a:t>
            </a:r>
            <a:r>
              <a:rPr b="1" lang="en-US" sz="2900" spc="-1" strike="noStrike">
                <a:solidFill>
                  <a:srgbClr val="2b166e"/>
                </a:solidFill>
                <a:latin typeface="Arial"/>
                <a:ea typeface="宋体"/>
              </a:rPr>
              <a:t> and then click </a:t>
            </a:r>
            <a:r>
              <a:rPr b="1" lang="en-US" sz="2900" spc="-1" strike="noStrike">
                <a:solidFill>
                  <a:srgbClr val="5bcd81"/>
                </a:solidFill>
                <a:latin typeface="Arial"/>
                <a:ea typeface="宋体"/>
              </a:rPr>
              <a:t>[Slide Master]</a:t>
            </a:r>
            <a:r>
              <a:rPr b="1" lang="en-US" sz="2900" spc="-1" strike="noStrike">
                <a:solidFill>
                  <a:srgbClr val="2b166e"/>
                </a:solidFill>
                <a:latin typeface="Arial"/>
                <a:ea typeface="宋体"/>
              </a:rPr>
              <a:t> or </a:t>
            </a:r>
            <a:r>
              <a:rPr b="1" lang="en-US" sz="2900" spc="-1" strike="noStrike">
                <a:solidFill>
                  <a:srgbClr val="5bcd81"/>
                </a:solidFill>
                <a:latin typeface="Arial"/>
                <a:ea typeface="宋体"/>
              </a:rPr>
              <a:t>[Notes Master].</a:t>
            </a:r>
            <a:r>
              <a:rPr b="1" lang="en-US" sz="2900" spc="-1" strike="noStrike">
                <a:solidFill>
                  <a:srgbClr val="2b166e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1" lang="en-US" sz="2900" spc="-1" strike="noStrike">
                <a:solidFill>
                  <a:srgbClr val="2b166e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2b166e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238400" y="355284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4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dbeff"/>
              </a:gs>
              <a:gs pos="100000">
                <a:srgbClr val="33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5" name="AutoShape 7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16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ceff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18" name="Group 10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19" name="Oval 11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2327c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20" name="Oval 12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bbbb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121" name="Oval 13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bcd81"/>
                </a:gs>
                <a:gs pos="100000">
                  <a:srgbClr val="2a5f3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6eed3"/>
                </a:gs>
                <a:gs pos="100000">
                  <a:srgbClr val="5bcd81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5bcd81">
                    <a:alpha val="48235"/>
                  </a:srgbClr>
                </a:gs>
                <a:gs pos="100000">
                  <a:srgbClr val="48a2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5bcd81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  <p:sp>
        <p:nvSpPr>
          <p:cNvPr id="125" name="Text Box 17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810400" y="358128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29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5f5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3" name="Oval 8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4" name="Oval 9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5" name="Oval 1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2323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6" name="Oval 1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bcd81"/>
                </a:gs>
                <a:gs pos="100000">
                  <a:srgbClr val="1d40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7" name="Oval 1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237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8" name="Oval 1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39" name="Oval 1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c9bbe"/>
                </a:gs>
                <a:gs pos="100000">
                  <a:srgbClr val="2535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0" name="Text Box 15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1" name="Text Box 16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2" name="Text Box 17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3" name="Text Box 18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4" name="Text Box 19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b166e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cxnSp>
          <p:nvCxnSpPr>
            <p:cNvPr id="147" name="AutoShape 2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2b166e"/>
              </a:solidFill>
              <a:miter/>
            </a:ln>
          </p:spPr>
        </p:cxnSp>
        <p:sp>
          <p:nvSpPr>
            <p:cNvPr id="148" name="Text Box 2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0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1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2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3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5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6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7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0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  <a:p>
              <a:pPr algn="ctr"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3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5bcd81"/>
                </a:gs>
                <a:gs pos="50000">
                  <a:srgbClr val="2a5f3c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4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5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6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6666ff"/>
                </a:gs>
                <a:gs pos="50000">
                  <a:srgbClr val="2f2f76"/>
                </a:gs>
                <a:gs pos="100000">
                  <a:srgbClr val="66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7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68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1" name="Group 4"/>
            <p:cNvGrpSpPr/>
            <p:nvPr/>
          </p:nvGrpSpPr>
          <p:grpSpPr>
            <a:xfrm>
              <a:off x="3009240" y="2209680"/>
              <a:ext cx="2899800" cy="2706120"/>
              <a:chOff x="3009240" y="2209680"/>
              <a:chExt cx="2899800" cy="2706120"/>
            </a:xfrm>
          </p:grpSpPr>
          <p:sp>
            <p:nvSpPr>
              <p:cNvPr id="172" name="AutoShape 5"/>
              <p:cNvSpPr/>
              <p:nvPr/>
            </p:nvSpPr>
            <p:spPr>
              <a:xfrm flipH="1" rot="16200000">
                <a:off x="2928240" y="3250440"/>
                <a:ext cx="45900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4d9c5"/>
                  </a:gs>
                  <a:gs pos="100000">
                    <a:srgbClr val="3f9d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3" name="AutoShape 6"/>
              <p:cNvSpPr/>
              <p:nvPr/>
            </p:nvSpPr>
            <p:spPr>
              <a:xfrm flipH="1" rot="5400000">
                <a:off x="5530320" y="3199320"/>
                <a:ext cx="459000" cy="29772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4d9c5"/>
                  </a:gs>
                  <a:gs pos="100000">
                    <a:srgbClr val="3f9d6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4" name="AutoShape 7"/>
              <p:cNvSpPr/>
              <p:nvPr/>
            </p:nvSpPr>
            <p:spPr>
              <a:xfrm flipH="1" rot="10800000">
                <a:off x="4241160" y="4609800"/>
                <a:ext cx="44496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4d9c5"/>
                  </a:gs>
                  <a:gs pos="100000">
                    <a:srgbClr val="3f9d6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5" name="Oval 8"/>
              <p:cNvSpPr/>
              <p:nvPr/>
            </p:nvSpPr>
            <p:spPr>
              <a:xfrm>
                <a:off x="3306600" y="2209680"/>
                <a:ext cx="23328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6" name="Oval 9"/>
              <p:cNvSpPr/>
              <p:nvPr/>
            </p:nvSpPr>
            <p:spPr>
              <a:xfrm>
                <a:off x="3439440" y="2344680"/>
                <a:ext cx="206532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7" name="Oval 10"/>
              <p:cNvSpPr/>
              <p:nvPr/>
            </p:nvSpPr>
            <p:spPr>
              <a:xfrm>
                <a:off x="3561120" y="2471040"/>
                <a:ext cx="1822680" cy="187848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50000">
                    <a:srgbClr val="ffffff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8" name="Oval 11"/>
              <p:cNvSpPr/>
              <p:nvPr/>
            </p:nvSpPr>
            <p:spPr>
              <a:xfrm>
                <a:off x="3561120" y="2471040"/>
                <a:ext cx="18226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3681000" y="2594520"/>
                <a:ext cx="1582920" cy="163188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50000">
                    <a:srgbClr val="37378a"/>
                  </a:gs>
                  <a:gs pos="100000">
                    <a:srgbClr val="6666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  <p:sp>
            <p:nvSpPr>
              <p:cNvPr id="180" name="Oval 13"/>
              <p:cNvSpPr/>
              <p:nvPr/>
            </p:nvSpPr>
            <p:spPr>
              <a:xfrm>
                <a:off x="3681000" y="2594520"/>
                <a:ext cx="158292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2b166e"/>
                  </a:solidFill>
                  <a:latin typeface="Verdana"/>
                </a:endParaRPr>
              </a:p>
            </p:txBody>
          </p:sp>
        </p:grpSp>
        <p:sp>
          <p:nvSpPr>
            <p:cNvPr id="181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2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3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4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bcd81"/>
                </a:gs>
                <a:gs pos="50000">
                  <a:srgbClr val="2a5f3c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5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bcd81"/>
                </a:gs>
                <a:gs pos="50000">
                  <a:srgbClr val="2a5f3c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6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bcd81"/>
                </a:gs>
                <a:gs pos="50000">
                  <a:srgbClr val="2a5f3c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7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8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89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90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91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92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93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194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199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0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b166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166e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2b166e"/>
              </a:solidFill>
              <a:latin typeface="Verdana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0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50000">
                  <a:srgbClr val="184776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2f2f76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6c9bbe"/>
                </a:gs>
                <a:gs pos="50000">
                  <a:srgbClr val="324858"/>
                </a:gs>
                <a:gs pos="100000">
                  <a:srgbClr val="6c9b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f9d6c"/>
                </a:gs>
                <a:gs pos="50000">
                  <a:srgbClr val="1d4932"/>
                </a:gs>
                <a:gs pos="100000">
                  <a:srgbClr val="3f9d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f9d6c"/>
                </a:gs>
                <a:gs pos="100000">
                  <a:srgbClr val="1d4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8" name="Rectangle 25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256fb9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19" name="Rectangle 26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50000">
                  <a:srgbClr val="4a4ab9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6c9b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21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9bbe"/>
                </a:gs>
                <a:gs pos="50000">
                  <a:srgbClr val="4e708a"/>
                </a:gs>
                <a:gs pos="100000">
                  <a:srgbClr val="6c9bb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Verdana"/>
              </a:endParaRPr>
            </a:p>
          </p:txBody>
        </p:sp>
        <p:sp>
          <p:nvSpPr>
            <p:cNvPr id="222" name="Rectangle 29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3f9d6c"/>
                </a:gs>
                <a:gs pos="50000">
                  <a:srgbClr val="2e724e"/>
                </a:gs>
                <a:gs pos="100000">
                  <a:srgbClr val="3f9d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5bcd8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399ff"/>
              </a:gs>
              <a:gs pos="100000">
                <a:srgbClr val="71b8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66ff"/>
              </a:gs>
              <a:gs pos="100000">
                <a:srgbClr val="9494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2b166e"/>
              </a:solidFill>
              <a:latin typeface="Verdan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166e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2b166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2:37:5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4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