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A4FC-38C3-4D1F-B280-A985CFA4A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88B5-965C-46EC-B0D6-F6B75A46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1DE0-74C8-45E9-9CD8-A4C339D7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F9B7-3FF4-4795-B157-F91D4DDA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F508-FC69-4478-A67B-63529DA0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22B9-A90D-4807-B6C8-9A7FD381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297-716C-4FCE-94C4-105E4D41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C7D4-BCA4-4B25-91D3-9F1D2145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9DD9-BCCA-443E-AFBE-026C81C4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E87-8AF7-461E-B801-729F0A52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CAE8-57C1-4F7E-A615-6CD1253E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F76C-E5DD-4599-971F-90D3709B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48B1-65E5-4693-839C-C49BAC8E8A9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5B39-9D31-465E-BC28-FDDB5F5721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圆角矩形 6"/>
          <p:cNvSpPr/>
          <p:nvPr/>
        </p:nvSpPr>
        <p:spPr>
          <a:xfrm>
            <a:off x="103320" y="1793880"/>
            <a:ext cx="8937360" cy="4968720"/>
          </a:xfrm>
          <a:prstGeom prst="roundRect">
            <a:avLst>
              <a:gd name="adj" fmla="val 2681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7"/>
          <p:cNvSpPr/>
          <p:nvPr/>
        </p:nvSpPr>
        <p:spPr>
          <a:xfrm>
            <a:off x="0" y="1700280"/>
            <a:ext cx="9144000" cy="515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3"/>
          <a:stretch/>
        </p:blipFill>
        <p:spPr>
          <a:xfrm>
            <a:off x="6372360" y="4352760"/>
            <a:ext cx="2876400" cy="25052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圆角矩形 9"/>
          <p:cNvSpPr/>
          <p:nvPr/>
        </p:nvSpPr>
        <p:spPr>
          <a:xfrm>
            <a:off x="206280" y="189000"/>
            <a:ext cx="8731440" cy="4967280"/>
          </a:xfrm>
          <a:prstGeom prst="roundRect">
            <a:avLst>
              <a:gd name="adj" fmla="val 2681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6" descr=""/>
          <p:cNvPicPr/>
          <p:nvPr/>
        </p:nvPicPr>
        <p:blipFill>
          <a:blip r:embed="rId2"/>
          <a:srcRect l="0" t="0" r="0" b="109"/>
          <a:stretch/>
        </p:blipFill>
        <p:spPr>
          <a:xfrm>
            <a:off x="3867120" y="981000"/>
            <a:ext cx="5070600" cy="4394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6280" y="5300640"/>
            <a:ext cx="7772400" cy="12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280" y="6489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7840" y="152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母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D5F9-2CD2-4FA0-A455-40DA915147E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0:03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41:40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ca07000000000001024140</vt:lpwstr>
  </property>
</Properties>
</file>