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1C0-9F61-4E3F-9996-0A58BE5CE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5F69-8C0E-4CD6-BF05-E6802AE6B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DA9C-9FAB-4E6A-B47C-DBCF837DD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2F25-E1D7-4D2E-A937-7B0AC97E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6145-48B3-4954-9BC0-F6FD2AA0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E903-EF22-45F9-9EDA-7B883A9B2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2B0D-0CE3-4564-AA9C-4B5E44D18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016B-1254-466F-99C4-E0ABF84AB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1A690-B5D1-47FF-B165-8CEE7A44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65AC2-342B-40B3-9457-C8E96F8F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ED8D7-C4BD-4B98-8D80-DA4B77249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0DA-2E21-4901-845A-945C121C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64C1A-5B4F-4CC2-996D-AF2B03F537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audio" Target="file:///tmp/home/.config/libreoffice/4/user/gallery/copy.wav" TargetMode="External"/><Relationship Id="rId9" Type="http://schemas.microsoft.com/office/2007/relationships/media" Target="file:///tmp/home/.config/libreoffice/4/user/gallery/copy.wav" TargetMode="Externa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hyperlink" Target="http://www.eeppt.com/dongtai/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20089515246525_2"/>
          <p:cNvPicPr/>
          <p:nvPr/>
        </p:nvPicPr>
        <p:blipFill>
          <a:blip r:embed="rId1"/>
          <a:srcRect l="5534" t="89421" r="90787" b="5565"/>
          <a:stretch/>
        </p:blipFill>
        <p:spPr>
          <a:xfrm>
            <a:off x="4140360" y="4894200"/>
            <a:ext cx="431640" cy="263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1" descr="20089515246525_2"/>
          <p:cNvPicPr/>
          <p:nvPr/>
        </p:nvPicPr>
        <p:blipFill>
          <a:blip r:embed="rId2"/>
          <a:srcRect l="5534" t="89421" r="90787" b="5565"/>
          <a:stretch/>
        </p:blipFill>
        <p:spPr>
          <a:xfrm>
            <a:off x="4710240" y="4894200"/>
            <a:ext cx="431640" cy="2635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2" descr="20089515246525_2"/>
          <p:cNvPicPr/>
          <p:nvPr/>
        </p:nvPicPr>
        <p:blipFill>
          <a:blip r:embed="rId3"/>
          <a:srcRect l="5534" t="5565" r="90787" b="89421"/>
          <a:stretch/>
        </p:blipFill>
        <p:spPr>
          <a:xfrm>
            <a:off x="4140360" y="919080"/>
            <a:ext cx="431640" cy="235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3" descr="20089515246525_2"/>
          <p:cNvPicPr/>
          <p:nvPr/>
        </p:nvPicPr>
        <p:blipFill>
          <a:blip r:embed="rId4"/>
          <a:srcRect l="5534" t="5565" r="90787" b="89421"/>
          <a:stretch/>
        </p:blipFill>
        <p:spPr>
          <a:xfrm>
            <a:off x="4710240" y="919080"/>
            <a:ext cx="431640" cy="2350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4" descr="20089515246525_2"/>
          <p:cNvPicPr/>
          <p:nvPr/>
        </p:nvPicPr>
        <p:blipFill>
          <a:blip r:embed="rId5"/>
          <a:srcRect l="9229" t="12603" r="9899" b="13092"/>
          <a:stretch/>
        </p:blipFill>
        <p:spPr>
          <a:xfrm>
            <a:off x="684360" y="1119240"/>
            <a:ext cx="7959600" cy="3857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5" descr="20089515246525_2"/>
          <p:cNvPicPr/>
          <p:nvPr/>
        </p:nvPicPr>
        <p:blipFill>
          <a:blip r:embed="rId6"/>
          <a:srcRect l="5534" t="12540" r="90685" b="13945"/>
          <a:stretch/>
        </p:blipFill>
        <p:spPr>
          <a:xfrm>
            <a:off x="4065480" y="1112760"/>
            <a:ext cx="590760" cy="3816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6" descr="20089515246525_2"/>
          <p:cNvPicPr/>
          <p:nvPr/>
        </p:nvPicPr>
        <p:blipFill>
          <a:blip r:embed="rId7"/>
          <a:srcRect l="89602" t="12509" r="6251" b="13976"/>
          <a:stretch/>
        </p:blipFill>
        <p:spPr>
          <a:xfrm>
            <a:off x="4630680" y="1112760"/>
            <a:ext cx="647640" cy="38163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media"/>
          </p:cNvPr>
          <p:cNvPicPr/>
          <p:nvPr>
            <a:audi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-755640" y="6365880"/>
            <a:ext cx="507960" cy="507960"/>
          </a:xfrm>
          <a:prstGeom prst="rect">
            <a:avLst/>
          </a:prstGeom>
          <a:ln w="0">
            <a:noFill/>
          </a:ln>
        </p:spPr>
      </p:pic>
      <p:sp>
        <p:nvSpPr>
          <p:cNvPr id="50" name="矩形 11"/>
          <p:cNvSpPr/>
          <p:nvPr/>
        </p:nvSpPr>
        <p:spPr>
          <a:xfrm>
            <a:off x="805824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6454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244160" y="260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免费动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3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3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3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7.40741E-007 L 0.41736 7.40741E-007 E">
                                      <p:cBhvr>
                                        <p:cTn id="42" dur="8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8000" fill="hold"/>
                                        <p:tgtEl>
                                          <p:spTgt spid="48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41649 0 E">
                                      <p:cBhvr>
                                        <p:cTn id="46" dur="8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8000" fill="hold"/>
                                        <p:tgtEl>
                                          <p:spTgt spid="47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8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41649 0 E">
                                      <p:cBhvr>
                                        <p:cTn id="53" dur="8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11111E-006 L 0.41805 -1.11111E-006 E">
                                      <p:cBhvr>
                                        <p:cTn id="55" dur="8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-0.41649 0 E">
                                      <p:cBhvr>
                                        <p:cTn id="57" dur="8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1.11111E-006 L 0.41805 -1.11111E-006 E">
                                      <p:cBhvr>
                                        <p:cTn id="59" dur="8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20089515246525_2"/>
          <p:cNvPicPr/>
          <p:nvPr/>
        </p:nvPicPr>
        <p:blipFill>
          <a:blip r:embed="rId1"/>
          <a:srcRect l="9196" t="12478" r="10303" b="14007"/>
          <a:stretch/>
        </p:blipFill>
        <p:spPr>
          <a:xfrm>
            <a:off x="615960" y="1104840"/>
            <a:ext cx="7923240" cy="3816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20089515246525_2"/>
          <p:cNvPicPr/>
          <p:nvPr/>
        </p:nvPicPr>
        <p:blipFill>
          <a:blip r:embed="rId2"/>
          <a:srcRect l="5534" t="89421" r="90787" b="5565"/>
          <a:stretch/>
        </p:blipFill>
        <p:spPr>
          <a:xfrm>
            <a:off x="293760" y="4886280"/>
            <a:ext cx="431640" cy="263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20089515246525_2"/>
          <p:cNvPicPr/>
          <p:nvPr/>
        </p:nvPicPr>
        <p:blipFill>
          <a:blip r:embed="rId3"/>
          <a:srcRect l="5534" t="89421" r="90787" b="5565"/>
          <a:stretch/>
        </p:blipFill>
        <p:spPr>
          <a:xfrm>
            <a:off x="658800" y="4883040"/>
            <a:ext cx="431640" cy="263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20089515246525_2"/>
          <p:cNvPicPr/>
          <p:nvPr/>
        </p:nvPicPr>
        <p:blipFill>
          <a:blip r:embed="rId4"/>
          <a:srcRect l="5534" t="5565" r="90787" b="89421"/>
          <a:stretch/>
        </p:blipFill>
        <p:spPr>
          <a:xfrm>
            <a:off x="303120" y="911160"/>
            <a:ext cx="432000" cy="235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20089515246525_2"/>
          <p:cNvPicPr/>
          <p:nvPr/>
        </p:nvPicPr>
        <p:blipFill>
          <a:blip r:embed="rId5"/>
          <a:srcRect l="5534" t="5565" r="90787" b="89421"/>
          <a:stretch/>
        </p:blipFill>
        <p:spPr>
          <a:xfrm>
            <a:off x="615960" y="907920"/>
            <a:ext cx="431640" cy="235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2" descr="20089515246525_2"/>
          <p:cNvPicPr/>
          <p:nvPr/>
        </p:nvPicPr>
        <p:blipFill>
          <a:blip r:embed="rId6"/>
          <a:srcRect l="89417" t="12483" r="6256" b="14564"/>
          <a:stretch/>
        </p:blipFill>
        <p:spPr>
          <a:xfrm>
            <a:off x="687240" y="1104840"/>
            <a:ext cx="374760" cy="3797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20089515246525_2"/>
          <p:cNvPicPr/>
          <p:nvPr/>
        </p:nvPicPr>
        <p:blipFill>
          <a:blip r:embed="rId7"/>
          <a:srcRect l="5534" t="12540" r="91244" b="13945"/>
          <a:stretch/>
        </p:blipFill>
        <p:spPr>
          <a:xfrm>
            <a:off x="250920" y="1106640"/>
            <a:ext cx="503280" cy="38163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82560" y="83664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8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2.5E-006 4.44444E-006 L 0.85364 4.44444E-006 E">
                                      <p:cBhvr>
                                        <p:cTn id="88" dur="8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-2.59259E-006 L 0.85937 -2.59259E-006 E">
                                      <p:cBhvr>
                                        <p:cTn id="90" dur="8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63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38778E-017 1.48148E-006 L 0.85833 1.48148E-006 E">
                                      <p:cBhvr>
                                        <p:cTn id="92" dur="8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94" dur="8000" fill="hold"/>
                                        <p:tgtEl>
                                          <p:spTgt spid="59"/>
                                        </p:tgtEl>
                                      </p:cBhvr>
                                      <p:to x="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9445-82CF-4640-922E-16CC64CC8BFC}" type="slidenum">
              <a:t>3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02:26:4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40:08Z</dcterms:modified>
  <cp:revision>2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