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64F1-DFD9-4B27-B71B-252ACA7B9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81AB-56FA-45EA-A54D-614B80AB1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0964-8DF1-413C-B66E-AF43C51E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4320"/>
            <a:ext cx="264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C386-D16F-4870-A530-5186946A8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42F7-E940-4660-ACF8-95AB4982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A88-A13D-400E-A492-40AA90D33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850F-D9C5-4CBB-B5B2-7A94FA05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ACF6-9BD7-4819-8A3C-60E259BD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621EA-08F2-4F89-BF1D-8F11F78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382-F5A6-4CAF-A4C4-B5F4848A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432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3367-3695-4279-9B10-C36B9D5E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4320"/>
            <a:ext cx="8229600" cy="16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C1E2-9BC5-4C18-93BB-D7974780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147EB-B7FE-4C87-B159-4EB0E776C1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130320" y="628560"/>
            <a:ext cx="9877680" cy="36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-30240" y="4229280"/>
            <a:ext cx="9174240" cy="936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-30240" y="-38160"/>
            <a:ext cx="9212400" cy="1098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430056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郑州，是河南省省会，地处中华腹地，九州通衢，北临黄河，西依嵩山。全市总面积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7446.2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平方公里，人口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735.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万人。现辖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区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市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县。一个国家级新区，两个国家级开发区、一个国家级出口加工区，是中国历史文化名城、中国八大古都之一、中国优秀旅游城市、国家园林城市、国家卫生城市、拥有得天独厚的自然资源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-235080" y="4876920"/>
            <a:ext cx="1447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1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1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7900"/>
                            </p:stCondLst>
                            <p:childTnLst>
                              <p:par>
                                <p:cTn id="18" nodeType="afterEffect" fill="hold" presetClass="entr" presetID="2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17840" cy="5143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-638280" y="1131840"/>
            <a:ext cx="2784600" cy="4014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1060560"/>
            <a:ext cx="9209160" cy="2749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403280" y="915840"/>
            <a:ext cx="1513080" cy="5050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先去黄帝故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100080" y="-44280"/>
            <a:ext cx="9244080" cy="11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100080" y="3797280"/>
            <a:ext cx="9244080" cy="1440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39640" y="4013280"/>
            <a:ext cx="79218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黄帝故里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位于新郑市具茨山附近，中华人文始祖轩辕黄帝在此出生，建都，国家级祭祖大典每年在此举行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2771640" y="1060560"/>
            <a:ext cx="4416480" cy="2736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0" y="1060560"/>
            <a:ext cx="2908440" cy="2736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7237440" y="1060560"/>
            <a:ext cx="1979640" cy="273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2197080" y="1060560"/>
            <a:ext cx="4968720" cy="2736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8"/>
          <a:stretch/>
        </p:blipFill>
        <p:spPr>
          <a:xfrm>
            <a:off x="-9360" y="1060560"/>
            <a:ext cx="9215280" cy="280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9"/>
          <a:stretch/>
        </p:blipFill>
        <p:spPr>
          <a:xfrm>
            <a:off x="6372360" y="1203480"/>
            <a:ext cx="2506680" cy="53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5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5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" dur="5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7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3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7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2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0">
                                  <p:stCondLst>
                                    <p:cond delay="14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484360" y="844560"/>
            <a:ext cx="6696000" cy="3311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12720" y="701640"/>
            <a:ext cx="76320" cy="1727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28720" y="628560"/>
            <a:ext cx="770040" cy="201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69840" y="1060560"/>
            <a:ext cx="9250200" cy="6048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0" y="-485640"/>
            <a:ext cx="9180360" cy="608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3203640" y="915840"/>
            <a:ext cx="5976720" cy="38023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-44280"/>
            <a:ext cx="9144000" cy="11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3182760" y="987480"/>
            <a:ext cx="6005520" cy="37465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516720" y="987480"/>
            <a:ext cx="2705040" cy="397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-501480" y="1060560"/>
            <a:ext cx="372744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3941640"/>
            <a:ext cx="9137520" cy="1224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-212760" y="987480"/>
            <a:ext cx="3940200" cy="2952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0" y="987480"/>
            <a:ext cx="7164360" cy="29527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828720" y="4300560"/>
            <a:ext cx="752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少林寺：“天下第一名刹”，位于登封城西少室山，中国佛教禅宗祖庭，中华武术的发源地和象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path" presetID="64">
                                  <p:stCondLst>
                                    <p:cond delay="1500"/>
                                  </p:stCondLst>
                                  <p:childTnLst>
                                    <p:animMotion origin="layout" path="M 0 -0 L -0.003819 -0.61284 E">
                                      <p:cBhvr>
                                        <p:cTn id="120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7" presetSubtype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7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0">
                                  <p:stCondLst>
                                    <p:cond delay="13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2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915840"/>
            <a:ext cx="5797440" cy="2376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692360" y="3436920"/>
            <a:ext cx="75960" cy="1081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840320" y="3436920"/>
            <a:ext cx="48528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嵩阳书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796000" y="0"/>
            <a:ext cx="3409920" cy="51436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252360" y="0"/>
            <a:ext cx="1440000" cy="442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12600" y="0"/>
            <a:ext cx="9212040" cy="51642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85680" y="1636560"/>
            <a:ext cx="9331200" cy="25927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1779480"/>
            <a:ext cx="7632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郑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曾经承载了一段厚重而辉煌的历史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同样有理由相信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郑州一定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拥有更加美好的明天</a:t>
            </a: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黑体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77080" y="350820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后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324000" y="412920"/>
            <a:ext cx="2447640" cy="583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372360" y="1060560"/>
            <a:ext cx="2592360" cy="6001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68360" y="10605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755640" y="2428920"/>
            <a:ext cx="7867800" cy="952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755640" y="2428920"/>
            <a:ext cx="7867800" cy="952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755640" y="2428920"/>
            <a:ext cx="7867800" cy="952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-461880" y="4516560"/>
            <a:ext cx="14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3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600"/>
                            </p:stCondLst>
                            <p:childTnLst>
                              <p:par>
                                <p:cTn id="1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900"/>
                            </p:stCondLst>
                            <p:childTnLst>
                              <p:par>
                                <p:cTn id="210" nodeType="after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1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2900"/>
                            </p:stCondLst>
                            <p:childTnLst>
                              <p:par>
                                <p:cTn id="219" nodeType="after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900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4400"/>
                            </p:stCondLst>
                            <p:childTnLst>
                              <p:par>
                                <p:cTn id="25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4" dur="250" autoRev="1" fill="hold"/>
                                        <p:tgtEl>
                                          <p:spTgt spid="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4900"/>
                            </p:stCondLst>
                            <p:childTnLst>
                              <p:par>
                                <p:cTn id="256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8AC7-BF75-435D-A9FC-13EDF9FCF5A5}" type="slidenum">
              <a:t>7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30T13:23:0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2:26:15Z</dcterms:modified>
  <cp:revision>1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