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3EC-321B-4697-9EF9-A194950E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803-F213-4235-B36F-5C1D8B35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C05-6AD2-4275-BFD4-3BD9641B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1DC-2063-4A6F-8090-AC495A33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0B6-2D59-4BBC-BD55-8DB28816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A05-2D73-4CCB-A5B7-45746AF3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1DA-FD51-4BD1-9F5D-57E1D229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913-AE47-4EF2-B790-2395278C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EF8-01F3-4BEA-88D1-E471D32F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D54-9AB7-4C2C-80FE-2CF25DEE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451-1967-4994-822B-C18B5C0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398-CE15-4C14-82E9-2410C148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203B-F38A-472E-88B8-EE49B001C723}" type="datetime">
              <a:rPr b="0" lang="zh-CN" sz="1200" spc="-1" strike="noStrike">
                <a:solidFill>
                  <a:srgbClr val="59595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小田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0E61-9BE4-458D-B583-844A11CFF810}" type="slidenum">
              <a:rPr b="0" lang="zh-CN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Administrator\Desktop\新建文件夹\1291350070509.jpg"/>
          <p:cNvPicPr/>
          <p:nvPr/>
        </p:nvPicPr>
        <p:blipFill>
          <a:blip r:embed="rId3"/>
          <a:srcRect l="0" t="0" r="0" b="97335"/>
          <a:stretch/>
        </p:blipFill>
        <p:spPr>
          <a:xfrm>
            <a:off x="0" y="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\12913500705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0" y="5715000"/>
            <a:ext cx="9144000" cy="9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3804840"/>
            <a:ext cx="8353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30864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56880" y="14860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苹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F26-9255-40EC-BC06-FA980E709B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27:01Z</dcterms:modified>
  <cp:revision>2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