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93F-E3AC-4F9F-811C-7BDE9F01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DD5-4034-4C78-8F9B-4B2A41E6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14B-8A74-4AD8-B580-D09B11BA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616-6CC6-477B-85C9-BA3F79D6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400-F8C4-48F7-93DD-07C2BA1B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0D39-4A89-473F-BF43-74FAD0E2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FDE8-15B1-4BC9-9DDC-46E00183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15BB-0A8B-4FDE-A80C-EEEBC2C8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3A3E-AB46-44F2-B6CA-1917580B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5515-6BC6-4169-94E2-2BB1319D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63C3-E3A2-4140-985A-A6A7A1E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2A0-B341-48A5-A365-3E044024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7879-2564-4A7A-99E0-1E361E6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41CC-15A9-4255-A2BA-9F752C6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8F68-DCD3-4951-BE38-324AF1D0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11E7-A687-4DD1-B4BB-F11713A5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C9A4-4BC0-4DB9-BDCF-FE1BE9E9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253-88A4-47A9-9535-93CC7ED1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D3A-4560-408D-A341-AECD76DA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732-377B-49A3-AF93-004FAEEB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3B0-4BF9-4B03-A8E0-768B7D4C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A6D-95F2-4630-8B12-2F84128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7C0-EFC9-4F6B-B428-2EEFADC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A68-E8BD-4FF8-AD85-D5DBFB2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D06C-E244-4E01-B719-0CD54E547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600"/>
              <a:ext cx="673200" cy="672840"/>
              <a:chOff x="6480" y="5340600"/>
              <a:chExt cx="673200" cy="67284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600"/>
                <a:ext cx="673200" cy="672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52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40000" y="5873760"/>
              <a:ext cx="291960" cy="291960"/>
              <a:chOff x="540000" y="5873760"/>
              <a:chExt cx="29196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40000" y="587376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600"/>
              <a:chOff x="131760" y="6039000"/>
              <a:chExt cx="444600" cy="44460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800" y="6470640"/>
              <a:ext cx="368280" cy="368280"/>
              <a:chOff x="247680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80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104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6200"/>
              <a:ext cx="368280" cy="368280"/>
              <a:chOff x="6480" y="442620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620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720" y="451044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920" y="64915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520" y="1927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6000" cy="216000"/>
              <a:chOff x="8693280" y="2521080"/>
              <a:chExt cx="216000" cy="21600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600" y="158760"/>
              <a:ext cx="368280" cy="368280"/>
              <a:chOff x="191160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60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84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3200" cy="673200"/>
              <a:chOff x="6480" y="5340240"/>
              <a:chExt cx="67320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52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40000" y="5873760"/>
              <a:ext cx="291960" cy="291960"/>
              <a:chOff x="540000" y="5873760"/>
              <a:chExt cx="29196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40000" y="587376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600" cy="444600"/>
              <a:chOff x="6151680" y="5734080"/>
              <a:chExt cx="44460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60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800" y="6470640"/>
              <a:ext cx="368280" cy="368280"/>
              <a:chOff x="247680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80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104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72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3200" cy="673200"/>
              <a:chOff x="5492880" y="615960"/>
              <a:chExt cx="67320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2000" y="920880"/>
              <a:ext cx="368280" cy="368280"/>
              <a:chOff x="511200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200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6240" y="10051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92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520" y="1927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6000" cy="215640"/>
              <a:chOff x="8693280" y="2521080"/>
              <a:chExt cx="21600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48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800" y="1225440"/>
              <a:ext cx="520560" cy="520560"/>
              <a:chOff x="1225800" y="1225440"/>
              <a:chExt cx="520560" cy="52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800" y="122544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28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23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AA34-0299-40A4-BF78-E1A50E996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17960" y="220500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泡泡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背景素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C17-1889-4785-B2E1-29B945524F03}" type="slidenum">
              <a:t>2</a:t>
            </a:fld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25:43Z</dcterms:modified>
  <cp:revision>1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