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jpeg" ContentType="image/jpeg"/>
  <Override PartName="/ppt/media/image2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22.png" ContentType="image/png"/>
  <Override PartName="/ppt/media/image59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3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74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38.jpeg" ContentType="image/jpeg"/>
  <Override PartName="/ppt/media/image72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2C9-85DF-4514-A36A-B8D7DB6B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78C-5A05-425E-B453-F4D4B884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691-29E2-49BF-8186-B139DAD4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35F-92A7-4451-A186-70F54D17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24D-882E-44E7-8F1C-C2A2239C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324-463D-448E-B2F4-7533D4EF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929-37DA-4ABB-8CAD-188152D7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E27-449C-427E-A977-2071856E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809-A2E5-41EB-9599-2ACB3AD8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58F-61DA-42DF-9BBF-585990FA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4F0-F451-48F1-8527-2670C265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D07-DC32-4181-A0AB-EEA71CF0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d6ec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6B5F-B493-4C9E-998C-D99E04DCB4DA}" type="slidenum">
              <a:rPr b="0" lang="zh-TW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5.png"/><Relationship Id="rId19" Type="http://schemas.openxmlformats.org/officeDocument/2006/relationships/image" Target="../media/image56.png"/><Relationship Id="rId20" Type="http://schemas.openxmlformats.org/officeDocument/2006/relationships/image" Target="../media/image57.png"/><Relationship Id="rId21" Type="http://schemas.openxmlformats.org/officeDocument/2006/relationships/image" Target="../media/image58.png"/><Relationship Id="rId22" Type="http://schemas.openxmlformats.org/officeDocument/2006/relationships/image" Target="../media/image59.png"/><Relationship Id="rId23" Type="http://schemas.openxmlformats.org/officeDocument/2006/relationships/image" Target="../media/image60.png"/><Relationship Id="rId24" Type="http://schemas.openxmlformats.org/officeDocument/2006/relationships/image" Target="../media/image61.png"/><Relationship Id="rId25" Type="http://schemas.openxmlformats.org/officeDocument/2006/relationships/image" Target="../media/image62.png"/><Relationship Id="rId26" Type="http://schemas.openxmlformats.org/officeDocument/2006/relationships/image" Target="../media/image63.png"/><Relationship Id="rId27" Type="http://schemas.openxmlformats.org/officeDocument/2006/relationships/image" Target="../media/image64.png"/><Relationship Id="rId28" Type="http://schemas.openxmlformats.org/officeDocument/2006/relationships/image" Target="../media/image65.png"/><Relationship Id="rId29" Type="http://schemas.openxmlformats.org/officeDocument/2006/relationships/image" Target="../media/image66.png"/><Relationship Id="rId30" Type="http://schemas.openxmlformats.org/officeDocument/2006/relationships/image" Target="../media/image67.png"/><Relationship Id="rId31" Type="http://schemas.openxmlformats.org/officeDocument/2006/relationships/image" Target="../media/image68.png"/><Relationship Id="rId32" Type="http://schemas.openxmlformats.org/officeDocument/2006/relationships/image" Target="../media/image69.png"/><Relationship Id="rId33" Type="http://schemas.openxmlformats.org/officeDocument/2006/relationships/image" Target="../media/image70.png"/><Relationship Id="rId34" Type="http://schemas.openxmlformats.org/officeDocument/2006/relationships/image" Target="../media/image71.png"/><Relationship Id="rId35" Type="http://schemas.openxmlformats.org/officeDocument/2006/relationships/image" Target="../media/image72.png"/><Relationship Id="rId36" Type="http://schemas.openxmlformats.org/officeDocument/2006/relationships/image" Target="../media/image73.png"/><Relationship Id="rId37" Type="http://schemas.openxmlformats.org/officeDocument/2006/relationships/image" Target="../media/image74.png"/><Relationship Id="rId38" Type="http://schemas.openxmlformats.org/officeDocument/2006/relationships/image" Target="../media/image75.png"/><Relationship Id="rId39" Type="http://schemas.openxmlformats.org/officeDocument/2006/relationships/image" Target="../media/image76.png"/><Relationship Id="rId40" Type="http://schemas.openxmlformats.org/officeDocument/2006/relationships/image" Target="../media/image77.png"/><Relationship Id="rId41" Type="http://schemas.openxmlformats.org/officeDocument/2006/relationships/image" Target="../media/image78.png"/><Relationship Id="rId42" Type="http://schemas.openxmlformats.org/officeDocument/2006/relationships/image" Target="../media/image79.png"/><Relationship Id="rId43" Type="http://schemas.openxmlformats.org/officeDocument/2006/relationships/image" Target="../media/image80.png"/><Relationship Id="rId44" Type="http://schemas.openxmlformats.org/officeDocument/2006/relationships/image" Target="../media/image81.png"/><Relationship Id="rId45" Type="http://schemas.openxmlformats.org/officeDocument/2006/relationships/image" Target="../media/image82.png"/><Relationship Id="rId46" Type="http://schemas.openxmlformats.org/officeDocument/2006/relationships/image" Target="../media/image83.png"/><Relationship Id="rId47" Type="http://schemas.openxmlformats.org/officeDocument/2006/relationships/image" Target="../media/image84.png"/><Relationship Id="rId48" Type="http://schemas.openxmlformats.org/officeDocument/2006/relationships/image" Target="../media/image85.png"/><Relationship Id="rId49" Type="http://schemas.openxmlformats.org/officeDocument/2006/relationships/image" Target="../media/image86.png"/><Relationship Id="rId50" Type="http://schemas.openxmlformats.org/officeDocument/2006/relationships/image" Target="../media/image87.png"/><Relationship Id="rId51" Type="http://schemas.openxmlformats.org/officeDocument/2006/relationships/image" Target="../media/image88.png"/><Relationship Id="rId52" Type="http://schemas.openxmlformats.org/officeDocument/2006/relationships/image" Target="../media/image89.png"/><Relationship Id="rId53" Type="http://schemas.openxmlformats.org/officeDocument/2006/relationships/image" Target="../media/image90.png"/><Relationship Id="rId54" Type="http://schemas.openxmlformats.org/officeDocument/2006/relationships/image" Target="../media/image91.png"/><Relationship Id="rId55" Type="http://schemas.openxmlformats.org/officeDocument/2006/relationships/image" Target="../media/image92.png"/><Relationship Id="rId56" Type="http://schemas.openxmlformats.org/officeDocument/2006/relationships/image" Target="../media/image93.png"/><Relationship Id="rId57" Type="http://schemas.openxmlformats.org/officeDocument/2006/relationships/image" Target="../media/image94.png"/><Relationship Id="rId58" Type="http://schemas.openxmlformats.org/officeDocument/2006/relationships/image" Target="../media/image95.png"/><Relationship Id="rId59" Type="http://schemas.openxmlformats.org/officeDocument/2006/relationships/image" Target="../media/image96.png"/><Relationship Id="rId60" Type="http://schemas.openxmlformats.org/officeDocument/2006/relationships/image" Target="../media/image97.png"/><Relationship Id="rId61" Type="http://schemas.openxmlformats.org/officeDocument/2006/relationships/image" Target="../media/image98.png"/><Relationship Id="rId6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群組 10"/>
          <p:cNvGrpSpPr/>
          <p:nvPr/>
        </p:nvGrpSpPr>
        <p:grpSpPr>
          <a:xfrm>
            <a:off x="34920" y="1341360"/>
            <a:ext cx="7921800" cy="4319640"/>
            <a:chOff x="34920" y="1341360"/>
            <a:chExt cx="7921800" cy="4319640"/>
          </a:xfrm>
        </p:grpSpPr>
        <p:pic>
          <p:nvPicPr>
            <p:cNvPr id="42" name="矩形 9" descr=""/>
            <p:cNvPicPr/>
            <p:nvPr/>
          </p:nvPicPr>
          <p:blipFill>
            <a:blip r:embed="rId1"/>
            <a:stretch/>
          </p:blipFill>
          <p:spPr>
            <a:xfrm>
              <a:off x="34920" y="3899160"/>
              <a:ext cx="7921800" cy="176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圓角矩形圖說文字 2"/>
            <p:cNvGrpSpPr/>
            <p:nvPr/>
          </p:nvGrpSpPr>
          <p:grpSpPr>
            <a:xfrm>
              <a:off x="214920" y="1341360"/>
              <a:ext cx="2275560" cy="1330200"/>
              <a:chOff x="214920" y="1341360"/>
              <a:chExt cx="2275560" cy="1330200"/>
            </a:xfrm>
          </p:grpSpPr>
          <p:pic>
            <p:nvPicPr>
              <p:cNvPr id="44" name="圓角矩形圖說文字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4920" y="1341360"/>
                <a:ext cx="2275560" cy="133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312120" y="1415520"/>
                <a:ext cx="2081520" cy="10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This is an </a:t>
                </a:r>
                <a:br>
                  <a:rPr sz="2000"/>
                </a:br>
                <a:r>
                  <a:rPr b="0" sz="2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example text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" name="圓角矩形圖說文字 4"/>
            <p:cNvGrpSpPr/>
            <p:nvPr/>
          </p:nvGrpSpPr>
          <p:grpSpPr>
            <a:xfrm>
              <a:off x="2678040" y="1587600"/>
              <a:ext cx="2275560" cy="1325160"/>
              <a:chOff x="2678040" y="1587600"/>
              <a:chExt cx="2275560" cy="1325160"/>
            </a:xfrm>
          </p:grpSpPr>
          <p:pic>
            <p:nvPicPr>
              <p:cNvPr id="47" name="圓角矩形圖說文字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78040" y="1587600"/>
                <a:ext cx="2275560" cy="13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2779560" y="1657800"/>
                <a:ext cx="2081520" cy="10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This is an </a:t>
                </a:r>
                <a:br>
                  <a:rPr sz="2000"/>
                </a:br>
                <a:r>
                  <a:rPr b="0" sz="2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example text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" name="圓角矩形圖說文字 5"/>
            <p:cNvGrpSpPr/>
            <p:nvPr/>
          </p:nvGrpSpPr>
          <p:grpSpPr>
            <a:xfrm>
              <a:off x="5148000" y="1885680"/>
              <a:ext cx="2275560" cy="1325160"/>
              <a:chOff x="5148000" y="1885680"/>
              <a:chExt cx="2275560" cy="1325160"/>
            </a:xfrm>
          </p:grpSpPr>
          <p:pic>
            <p:nvPicPr>
              <p:cNvPr id="50" name="圓角矩形圖說文字 5" descr=""/>
              <p:cNvPicPr/>
              <p:nvPr/>
            </p:nvPicPr>
            <p:blipFill>
              <a:blip r:embed="rId4"/>
              <a:stretch/>
            </p:blipFill>
            <p:spPr>
              <a:xfrm>
                <a:off x="5148000" y="1885680"/>
                <a:ext cx="2275560" cy="13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5246640" y="1958400"/>
                <a:ext cx="2081520" cy="10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This is an </a:t>
                </a:r>
                <a:br>
                  <a:rPr sz="2000"/>
                </a:br>
                <a:r>
                  <a:rPr b="0" sz="2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example text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2" name="橢圓 6" descr=""/>
            <p:cNvPicPr/>
            <p:nvPr/>
          </p:nvPicPr>
          <p:blipFill>
            <a:blip r:embed="rId5"/>
            <a:stretch/>
          </p:blipFill>
          <p:spPr>
            <a:xfrm>
              <a:off x="409320" y="2594520"/>
              <a:ext cx="2239560" cy="173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橢圓 7" descr=""/>
            <p:cNvPicPr/>
            <p:nvPr/>
          </p:nvPicPr>
          <p:blipFill>
            <a:blip r:embed="rId6"/>
            <a:stretch/>
          </p:blipFill>
          <p:spPr>
            <a:xfrm>
              <a:off x="2648880" y="2856600"/>
              <a:ext cx="2239560" cy="173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橢圓 8" descr=""/>
            <p:cNvPicPr/>
            <p:nvPr/>
          </p:nvPicPr>
          <p:blipFill>
            <a:blip r:embed="rId7"/>
            <a:stretch/>
          </p:blipFill>
          <p:spPr>
            <a:xfrm>
              <a:off x="5004000" y="3159720"/>
              <a:ext cx="2232360" cy="173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橢圓 10"/>
          <p:cNvSpPr/>
          <p:nvPr/>
        </p:nvSpPr>
        <p:spPr>
          <a:xfrm rot="486000">
            <a:off x="1620360" y="4768920"/>
            <a:ext cx="1657440" cy="14436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橢圓 11"/>
          <p:cNvSpPr/>
          <p:nvPr/>
        </p:nvSpPr>
        <p:spPr>
          <a:xfrm rot="486000">
            <a:off x="3494160" y="5057640"/>
            <a:ext cx="1655640" cy="1429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橢圓 12"/>
          <p:cNvSpPr/>
          <p:nvPr/>
        </p:nvSpPr>
        <p:spPr>
          <a:xfrm rot="486000">
            <a:off x="5436720" y="5400720"/>
            <a:ext cx="1657440" cy="14436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91040" y="26028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数据图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38"/>
          <p:cNvSpPr/>
          <p:nvPr/>
        </p:nvSpPr>
        <p:spPr>
          <a:xfrm>
            <a:off x="5056200" y="2944800"/>
            <a:ext cx="955800" cy="720720"/>
          </a:xfrm>
          <a:prstGeom prst="rightArrow">
            <a:avLst>
              <a:gd name="adj1" fmla="val 41852"/>
              <a:gd name="adj2" fmla="val 64325"/>
            </a:avLst>
          </a:prstGeom>
          <a:gradFill rotWithShape="0">
            <a:gsLst>
              <a:gs pos="0">
                <a:srgbClr val="d9d9d9"/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39"/>
          <p:cNvSpPr/>
          <p:nvPr/>
        </p:nvSpPr>
        <p:spPr>
          <a:xfrm rot="20230800">
            <a:off x="4903920" y="2046240"/>
            <a:ext cx="957240" cy="720720"/>
          </a:xfrm>
          <a:prstGeom prst="rightArrow">
            <a:avLst>
              <a:gd name="adj1" fmla="val 41852"/>
              <a:gd name="adj2" fmla="val 64318"/>
            </a:avLst>
          </a:prstGeom>
          <a:gradFill rotWithShape="0">
            <a:gsLst>
              <a:gs pos="0">
                <a:srgbClr val="d9d9d9"/>
              </a:gs>
              <a:gs pos="100000">
                <a:srgbClr val="000000">
                  <a:alpha val="0"/>
                </a:srgbClr>
              </a:gs>
            </a:gsLst>
            <a:lin ang="12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40"/>
          <p:cNvSpPr/>
          <p:nvPr/>
        </p:nvSpPr>
        <p:spPr>
          <a:xfrm rot="1008000">
            <a:off x="4906800" y="3881160"/>
            <a:ext cx="955800" cy="720720"/>
          </a:xfrm>
          <a:prstGeom prst="rightArrow">
            <a:avLst>
              <a:gd name="adj1" fmla="val 41852"/>
              <a:gd name="adj2" fmla="val 64325"/>
            </a:avLst>
          </a:prstGeom>
          <a:gradFill rotWithShape="0">
            <a:gsLst>
              <a:gs pos="0">
                <a:srgbClr val="d9d9d9"/>
              </a:gs>
              <a:gs pos="100000">
                <a:srgbClr val="000000">
                  <a:alpha val="0"/>
                </a:srgbClr>
              </a:gs>
            </a:gsLst>
            <a:lin ang="97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群組 63"/>
          <p:cNvGrpSpPr/>
          <p:nvPr/>
        </p:nvGrpSpPr>
        <p:grpSpPr>
          <a:xfrm>
            <a:off x="1476360" y="3284640"/>
            <a:ext cx="360360" cy="1366560"/>
            <a:chOff x="1476360" y="3284640"/>
            <a:chExt cx="360360" cy="1366560"/>
          </a:xfrm>
        </p:grpSpPr>
        <p:sp>
          <p:nvSpPr>
            <p:cNvPr id="64" name="Line 41"/>
            <p:cNvSpPr/>
            <p:nvPr/>
          </p:nvSpPr>
          <p:spPr>
            <a:xfrm>
              <a:off x="1476360" y="3284640"/>
              <a:ext cx="360360" cy="0"/>
            </a:xfrm>
            <a:prstGeom prst="line">
              <a:avLst/>
            </a:prstGeom>
            <a:ln w="2844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42"/>
            <p:cNvSpPr/>
            <p:nvPr/>
          </p:nvSpPr>
          <p:spPr>
            <a:xfrm>
              <a:off x="1476360" y="3284640"/>
              <a:ext cx="0" cy="1366560"/>
            </a:xfrm>
            <a:prstGeom prst="line">
              <a:avLst/>
            </a:prstGeom>
            <a:ln w="2844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文字方塊 24"/>
          <p:cNvSpPr/>
          <p:nvPr/>
        </p:nvSpPr>
        <p:spPr>
          <a:xfrm>
            <a:off x="1207800" y="4941720"/>
            <a:ext cx="4204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Calibri"/>
                <a:ea typeface="Arial"/>
              </a:rPr>
              <a:t>Example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Group 98"/>
          <p:cNvGrpSpPr/>
          <p:nvPr/>
        </p:nvGrpSpPr>
        <p:grpSpPr>
          <a:xfrm>
            <a:off x="6084720" y="1197000"/>
            <a:ext cx="1366920" cy="1368360"/>
            <a:chOff x="6084720" y="1197000"/>
            <a:chExt cx="1366920" cy="1368360"/>
          </a:xfrm>
        </p:grpSpPr>
        <p:sp>
          <p:nvSpPr>
            <p:cNvPr id="68" name="Oval 99"/>
            <p:cNvSpPr/>
            <p:nvPr/>
          </p:nvSpPr>
          <p:spPr>
            <a:xfrm>
              <a:off x="6084720" y="1197000"/>
              <a:ext cx="1366920" cy="13683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100"/>
            <p:cNvSpPr/>
            <p:nvPr/>
          </p:nvSpPr>
          <p:spPr>
            <a:xfrm>
              <a:off x="6101280" y="1204560"/>
              <a:ext cx="1334520" cy="1332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101"/>
            <p:cNvSpPr/>
            <p:nvPr/>
          </p:nvSpPr>
          <p:spPr>
            <a:xfrm>
              <a:off x="6114600" y="1216800"/>
              <a:ext cx="1270080" cy="12470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102"/>
            <p:cNvSpPr/>
            <p:nvPr/>
          </p:nvSpPr>
          <p:spPr>
            <a:xfrm>
              <a:off x="6189120" y="1252080"/>
              <a:ext cx="1130040" cy="101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Group 98"/>
          <p:cNvGrpSpPr/>
          <p:nvPr/>
        </p:nvGrpSpPr>
        <p:grpSpPr>
          <a:xfrm>
            <a:off x="6372360" y="2620800"/>
            <a:ext cx="1368360" cy="1368720"/>
            <a:chOff x="6372360" y="2620800"/>
            <a:chExt cx="1368360" cy="1368720"/>
          </a:xfrm>
        </p:grpSpPr>
        <p:sp>
          <p:nvSpPr>
            <p:cNvPr id="73" name="Oval 99"/>
            <p:cNvSpPr/>
            <p:nvPr/>
          </p:nvSpPr>
          <p:spPr>
            <a:xfrm>
              <a:off x="6372360" y="2620800"/>
              <a:ext cx="1368360" cy="13687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100"/>
            <p:cNvSpPr/>
            <p:nvPr/>
          </p:nvSpPr>
          <p:spPr>
            <a:xfrm>
              <a:off x="6388920" y="2628360"/>
              <a:ext cx="1335960" cy="1333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101"/>
            <p:cNvSpPr/>
            <p:nvPr/>
          </p:nvSpPr>
          <p:spPr>
            <a:xfrm>
              <a:off x="6402240" y="2640600"/>
              <a:ext cx="1271520" cy="1247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102"/>
            <p:cNvSpPr/>
            <p:nvPr/>
          </p:nvSpPr>
          <p:spPr>
            <a:xfrm>
              <a:off x="6476760" y="2675880"/>
              <a:ext cx="1131120" cy="101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98"/>
          <p:cNvGrpSpPr/>
          <p:nvPr/>
        </p:nvGrpSpPr>
        <p:grpSpPr>
          <a:xfrm>
            <a:off x="6084720" y="4076640"/>
            <a:ext cx="1366920" cy="1368360"/>
            <a:chOff x="6084720" y="4076640"/>
            <a:chExt cx="1366920" cy="1368360"/>
          </a:xfrm>
        </p:grpSpPr>
        <p:sp>
          <p:nvSpPr>
            <p:cNvPr id="78" name="Oval 99"/>
            <p:cNvSpPr/>
            <p:nvPr/>
          </p:nvSpPr>
          <p:spPr>
            <a:xfrm>
              <a:off x="6084720" y="4076640"/>
              <a:ext cx="1366920" cy="13683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00"/>
            <p:cNvSpPr/>
            <p:nvPr/>
          </p:nvSpPr>
          <p:spPr>
            <a:xfrm>
              <a:off x="6101280" y="4084200"/>
              <a:ext cx="1334520" cy="1332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01"/>
            <p:cNvSpPr/>
            <p:nvPr/>
          </p:nvSpPr>
          <p:spPr>
            <a:xfrm>
              <a:off x="6114600" y="4096440"/>
              <a:ext cx="1270080" cy="12470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02"/>
            <p:cNvSpPr/>
            <p:nvPr/>
          </p:nvSpPr>
          <p:spPr>
            <a:xfrm>
              <a:off x="6189120" y="4131720"/>
              <a:ext cx="1130040" cy="101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群組 62"/>
          <p:cNvGrpSpPr/>
          <p:nvPr/>
        </p:nvGrpSpPr>
        <p:grpSpPr>
          <a:xfrm>
            <a:off x="1906560" y="2460600"/>
            <a:ext cx="2911680" cy="1689120"/>
            <a:chOff x="1906560" y="2460600"/>
            <a:chExt cx="2911680" cy="1689120"/>
          </a:xfrm>
        </p:grpSpPr>
        <p:sp>
          <p:nvSpPr>
            <p:cNvPr id="83" name="AutoShape 21"/>
            <p:cNvSpPr/>
            <p:nvPr/>
          </p:nvSpPr>
          <p:spPr>
            <a:xfrm>
              <a:off x="1906560" y="2460600"/>
              <a:ext cx="2911680" cy="1689120"/>
            </a:xfrm>
            <a:prstGeom prst="roundRect">
              <a:avLst>
                <a:gd name="adj" fmla="val 46847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AutoShape 21"/>
            <p:cNvSpPr/>
            <p:nvPr/>
          </p:nvSpPr>
          <p:spPr>
            <a:xfrm>
              <a:off x="1979280" y="2490480"/>
              <a:ext cx="2737080" cy="1659240"/>
            </a:xfrm>
            <a:prstGeom prst="roundRect">
              <a:avLst>
                <a:gd name="adj" fmla="val 46847"/>
              </a:avLst>
            </a:prstGeom>
            <a:gradFill rotWithShape="0">
              <a:gsLst>
                <a:gs pos="0">
                  <a:srgbClr val="f2f2f2">
                    <a:alpha val="0"/>
                  </a:srgbClr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>
              <a:off x="2484360" y="2490120"/>
              <a:ext cx="1728000" cy="33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矩形 64"/>
          <p:cNvSpPr/>
          <p:nvPr/>
        </p:nvSpPr>
        <p:spPr>
          <a:xfrm>
            <a:off x="2268360" y="2936880"/>
            <a:ext cx="221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  <a:ea typeface="Arial"/>
              </a:rPr>
              <a:t>This is an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Calibri"/>
                <a:ea typeface="Arial"/>
              </a:rPr>
              <a:t>exampl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矩形 65"/>
          <p:cNvSpPr/>
          <p:nvPr/>
        </p:nvSpPr>
        <p:spPr>
          <a:xfrm>
            <a:off x="6261120" y="16606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矩形 66"/>
          <p:cNvSpPr/>
          <p:nvPr/>
        </p:nvSpPr>
        <p:spPr>
          <a:xfrm>
            <a:off x="6227640" y="4613400"/>
            <a:ext cx="10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67"/>
          <p:cNvSpPr/>
          <p:nvPr/>
        </p:nvSpPr>
        <p:spPr>
          <a:xfrm>
            <a:off x="6578640" y="3141720"/>
            <a:ext cx="10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27"/>
          <p:cNvSpPr/>
          <p:nvPr/>
        </p:nvSpPr>
        <p:spPr>
          <a:xfrm>
            <a:off x="1836720" y="260280"/>
            <a:ext cx="26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3600" spc="-1" strike="noStrike">
                <a:solidFill>
                  <a:srgbClr val="ffffff"/>
                </a:solidFill>
                <a:latin typeface="Calibri"/>
                <a:ea typeface="Arial"/>
              </a:rPr>
              <a:t>Example 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向右箭號 2"/>
          <p:cNvGrpSpPr/>
          <p:nvPr/>
        </p:nvGrpSpPr>
        <p:grpSpPr>
          <a:xfrm>
            <a:off x="2567160" y="2457360"/>
            <a:ext cx="1120680" cy="914400"/>
            <a:chOff x="2567160" y="2457360"/>
            <a:chExt cx="1120680" cy="914400"/>
          </a:xfrm>
        </p:grpSpPr>
        <p:pic>
          <p:nvPicPr>
            <p:cNvPr id="92" name="向右箭號 2" descr=""/>
            <p:cNvPicPr/>
            <p:nvPr/>
          </p:nvPicPr>
          <p:blipFill>
            <a:blip r:embed="rId1"/>
            <a:stretch/>
          </p:blipFill>
          <p:spPr>
            <a:xfrm>
              <a:off x="2567160" y="2457360"/>
              <a:ext cx="1120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751480" y="2690640"/>
              <a:ext cx="687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向右箭號 3"/>
          <p:cNvGrpSpPr/>
          <p:nvPr/>
        </p:nvGrpSpPr>
        <p:grpSpPr>
          <a:xfrm>
            <a:off x="5450040" y="2457360"/>
            <a:ext cx="1122120" cy="914400"/>
            <a:chOff x="5450040" y="2457360"/>
            <a:chExt cx="1122120" cy="914400"/>
          </a:xfrm>
        </p:grpSpPr>
        <p:pic>
          <p:nvPicPr>
            <p:cNvPr id="95" name="向右箭號 3" descr=""/>
            <p:cNvPicPr/>
            <p:nvPr/>
          </p:nvPicPr>
          <p:blipFill>
            <a:blip r:embed="rId2"/>
            <a:stretch/>
          </p:blipFill>
          <p:spPr>
            <a:xfrm>
              <a:off x="5450040" y="2457360"/>
              <a:ext cx="1122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632200" y="2690640"/>
              <a:ext cx="685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群組 7"/>
          <p:cNvGrpSpPr/>
          <p:nvPr/>
        </p:nvGrpSpPr>
        <p:grpSpPr>
          <a:xfrm>
            <a:off x="3816360" y="2168640"/>
            <a:ext cx="1440000" cy="1439640"/>
            <a:chOff x="3816360" y="2168640"/>
            <a:chExt cx="1440000" cy="1439640"/>
          </a:xfrm>
        </p:grpSpPr>
        <p:grpSp>
          <p:nvGrpSpPr>
            <p:cNvPr id="98" name="橢圓 8"/>
            <p:cNvGrpSpPr/>
            <p:nvPr/>
          </p:nvGrpSpPr>
          <p:grpSpPr>
            <a:xfrm>
              <a:off x="3816360" y="2168640"/>
              <a:ext cx="1440000" cy="1439640"/>
              <a:chOff x="3816360" y="2168640"/>
              <a:chExt cx="1440000" cy="1439640"/>
            </a:xfrm>
          </p:grpSpPr>
          <p:pic>
            <p:nvPicPr>
              <p:cNvPr id="99" name="橢圓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816360" y="2168640"/>
                <a:ext cx="1440000" cy="143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4105440" y="2445480"/>
                <a:ext cx="86832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rbe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" name="橢圓 9"/>
            <p:cNvSpPr/>
            <p:nvPr/>
          </p:nvSpPr>
          <p:spPr>
            <a:xfrm rot="20547000">
              <a:off x="4170240" y="2388960"/>
              <a:ext cx="369360" cy="244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fbf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群組 10"/>
          <p:cNvGrpSpPr/>
          <p:nvPr/>
        </p:nvGrpSpPr>
        <p:grpSpPr>
          <a:xfrm>
            <a:off x="6624720" y="2168640"/>
            <a:ext cx="1439640" cy="1439640"/>
            <a:chOff x="6624720" y="2168640"/>
            <a:chExt cx="1439640" cy="1439640"/>
          </a:xfrm>
        </p:grpSpPr>
        <p:grpSp>
          <p:nvGrpSpPr>
            <p:cNvPr id="103" name="橢圓 11"/>
            <p:cNvGrpSpPr/>
            <p:nvPr/>
          </p:nvGrpSpPr>
          <p:grpSpPr>
            <a:xfrm>
              <a:off x="6624720" y="2168640"/>
              <a:ext cx="1439640" cy="1439640"/>
              <a:chOff x="6624720" y="2168640"/>
              <a:chExt cx="1439640" cy="1439640"/>
            </a:xfrm>
          </p:grpSpPr>
          <p:pic>
            <p:nvPicPr>
              <p:cNvPr id="104" name="橢圓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168640"/>
                <a:ext cx="1439640" cy="143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6912000" y="2445480"/>
                <a:ext cx="86796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rbe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橢圓 12"/>
            <p:cNvSpPr/>
            <p:nvPr/>
          </p:nvSpPr>
          <p:spPr>
            <a:xfrm rot="20547000">
              <a:off x="6976800" y="2388960"/>
              <a:ext cx="369360" cy="244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fbf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套索 13"/>
          <p:cNvSpPr/>
          <p:nvPr/>
        </p:nvSpPr>
        <p:spPr>
          <a:xfrm>
            <a:off x="900000" y="3645000"/>
            <a:ext cx="1511280" cy="792000"/>
          </a:xfrm>
          <a:custGeom>
            <a:avLst/>
            <a:gdLst>
              <a:gd name="textAreaLeft" fmla="*/ 221040 w 1511280"/>
              <a:gd name="textAreaRight" fmla="*/ 1290240 w 1511280"/>
              <a:gd name="textAreaTop" fmla="*/ 115920 h 792000"/>
              <a:gd name="textAreaBottom" fmla="*/ 676080 h 792000"/>
            </a:gdLst>
            <a:ahLst/>
            <a:rect l="textAreaLeft" t="textAreaTop" r="textAreaRight" b="textAreaBottom"/>
            <a:pathLst>
              <a:path w="1511300" h="792163">
                <a:moveTo>
                  <a:pt x="1668" y="369777"/>
                </a:moveTo>
                <a:lnTo>
                  <a:pt x="1668" y="369777"/>
                </a:lnTo>
                <a:arcTo wR="755650" hR="396082" stAng="-10680117" swAng="10478927"/>
                <a:close/>
              </a:path>
            </a:pathLst>
          </a:custGeom>
          <a:gradFill rotWithShape="0">
            <a:gsLst>
              <a:gs pos="0">
                <a:srgbClr val="bfbfb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套索 14"/>
          <p:cNvSpPr/>
          <p:nvPr/>
        </p:nvSpPr>
        <p:spPr>
          <a:xfrm>
            <a:off x="3780000" y="3645000"/>
            <a:ext cx="1512720" cy="792000"/>
          </a:xfrm>
          <a:custGeom>
            <a:avLst/>
            <a:gdLst>
              <a:gd name="textAreaLeft" fmla="*/ 221400 w 1512720"/>
              <a:gd name="textAreaRight" fmla="*/ 1291320 w 1512720"/>
              <a:gd name="textAreaTop" fmla="*/ 115920 h 792000"/>
              <a:gd name="textAreaBottom" fmla="*/ 676080 h 792000"/>
            </a:gdLst>
            <a:ahLst/>
            <a:rect l="textAreaLeft" t="textAreaTop" r="textAreaRight" b="textAreaBottom"/>
            <a:pathLst>
              <a:path w="1512887" h="792163">
                <a:moveTo>
                  <a:pt x="1673" y="369750"/>
                </a:moveTo>
                <a:lnTo>
                  <a:pt x="1673" y="369750"/>
                </a:lnTo>
                <a:arcTo wR="756444" hR="396082" stAng="-10680115" swAng="10478923"/>
                <a:close/>
              </a:path>
            </a:pathLst>
          </a:custGeom>
          <a:gradFill rotWithShape="0">
            <a:gsLst>
              <a:gs pos="0">
                <a:srgbClr val="bfbfb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套索 15"/>
          <p:cNvSpPr/>
          <p:nvPr/>
        </p:nvSpPr>
        <p:spPr>
          <a:xfrm>
            <a:off x="6588000" y="3645000"/>
            <a:ext cx="1513080" cy="792000"/>
          </a:xfrm>
          <a:custGeom>
            <a:avLst/>
            <a:gdLst>
              <a:gd name="textAreaLeft" fmla="*/ 221400 w 1513080"/>
              <a:gd name="textAreaRight" fmla="*/ 1291680 w 1513080"/>
              <a:gd name="textAreaTop" fmla="*/ 115920 h 792000"/>
              <a:gd name="textAreaBottom" fmla="*/ 676080 h 792000"/>
            </a:gdLst>
            <a:ahLst/>
            <a:rect l="textAreaLeft" t="textAreaTop" r="textAreaRight" b="textAreaBottom"/>
            <a:pathLst>
              <a:path w="1512888" h="792163">
                <a:moveTo>
                  <a:pt x="1673" y="369750"/>
                </a:moveTo>
                <a:lnTo>
                  <a:pt x="1673" y="369750"/>
                </a:lnTo>
                <a:arcTo wR="756444" hR="396082" stAng="-10680115" swAng="10478923"/>
                <a:close/>
              </a:path>
            </a:pathLst>
          </a:custGeom>
          <a:gradFill rotWithShape="0">
            <a:gsLst>
              <a:gs pos="0">
                <a:srgbClr val="bfbfb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群組 6"/>
          <p:cNvGrpSpPr/>
          <p:nvPr/>
        </p:nvGrpSpPr>
        <p:grpSpPr>
          <a:xfrm>
            <a:off x="934920" y="2168640"/>
            <a:ext cx="1441440" cy="1439640"/>
            <a:chOff x="934920" y="2168640"/>
            <a:chExt cx="1441440" cy="1439640"/>
          </a:xfrm>
        </p:grpSpPr>
        <p:grpSp>
          <p:nvGrpSpPr>
            <p:cNvPr id="111" name="橢圓 4"/>
            <p:cNvGrpSpPr/>
            <p:nvPr/>
          </p:nvGrpSpPr>
          <p:grpSpPr>
            <a:xfrm>
              <a:off x="934920" y="2168640"/>
              <a:ext cx="1441440" cy="1439640"/>
              <a:chOff x="934920" y="2168640"/>
              <a:chExt cx="1441440" cy="1439640"/>
            </a:xfrm>
          </p:grpSpPr>
          <p:pic>
            <p:nvPicPr>
              <p:cNvPr id="112" name="橢圓 4" descr=""/>
              <p:cNvPicPr/>
              <p:nvPr/>
            </p:nvPicPr>
            <p:blipFill>
              <a:blip r:embed="rId5"/>
              <a:stretch/>
            </p:blipFill>
            <p:spPr>
              <a:xfrm>
                <a:off x="934920" y="2168640"/>
                <a:ext cx="1441440" cy="143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225080" y="2445480"/>
                <a:ext cx="86688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rbe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橢圓 5"/>
            <p:cNvSpPr/>
            <p:nvPr/>
          </p:nvSpPr>
          <p:spPr>
            <a:xfrm rot="20547000">
              <a:off x="1290960" y="2388960"/>
              <a:ext cx="367200" cy="244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fbf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圓角矩形 19"/>
          <p:cNvGrpSpPr/>
          <p:nvPr/>
        </p:nvGrpSpPr>
        <p:grpSpPr>
          <a:xfrm>
            <a:off x="622440" y="944640"/>
            <a:ext cx="2133360" cy="768240"/>
            <a:chOff x="622440" y="944640"/>
            <a:chExt cx="2133360" cy="768240"/>
          </a:xfrm>
        </p:grpSpPr>
        <p:pic>
          <p:nvPicPr>
            <p:cNvPr id="116" name="圓角矩形 19" descr=""/>
            <p:cNvPicPr/>
            <p:nvPr/>
          </p:nvPicPr>
          <p:blipFill>
            <a:blip r:embed="rId6"/>
            <a:stretch/>
          </p:blipFill>
          <p:spPr>
            <a:xfrm>
              <a:off x="622440" y="944640"/>
              <a:ext cx="21333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15680" y="1013040"/>
              <a:ext cx="195228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rbel"/>
                </a:rPr>
                <a:t>Focu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群組 23"/>
          <p:cNvGrpSpPr/>
          <p:nvPr/>
        </p:nvGrpSpPr>
        <p:grpSpPr>
          <a:xfrm>
            <a:off x="395280" y="3933720"/>
            <a:ext cx="2664000" cy="2590920"/>
            <a:chOff x="395280" y="3933720"/>
            <a:chExt cx="2664000" cy="2590920"/>
          </a:xfrm>
        </p:grpSpPr>
        <p:grpSp>
          <p:nvGrpSpPr>
            <p:cNvPr id="119" name="圓角矩形 16"/>
            <p:cNvGrpSpPr/>
            <p:nvPr/>
          </p:nvGrpSpPr>
          <p:grpSpPr>
            <a:xfrm>
              <a:off x="395280" y="3933720"/>
              <a:ext cx="2664000" cy="2590920"/>
              <a:chOff x="395280" y="3933720"/>
              <a:chExt cx="2664000" cy="2590920"/>
            </a:xfrm>
          </p:grpSpPr>
          <p:pic>
            <p:nvPicPr>
              <p:cNvPr id="120" name="圓角矩形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395280" y="3933720"/>
                <a:ext cx="2664000" cy="259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626760" y="4156200"/>
                <a:ext cx="2204280" cy="21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sz="2000" spc="-1" strike="noStrike">
                    <a:solidFill>
                      <a:srgbClr val="7f7f7f"/>
                    </a:solidFill>
                    <a:latin typeface="Calibri"/>
                    <a:ea typeface="Arial"/>
                  </a:rPr>
                  <a:t>Example text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0" sz="1800" spc="-1" strike="noStrike">
                    <a:solidFill>
                      <a:srgbClr val="7f7f7f"/>
                    </a:solidFill>
                    <a:latin typeface="Calibri"/>
                    <a:ea typeface="Arial"/>
                  </a:rPr>
                  <a:t> </a:t>
                </a:r>
                <a:r>
                  <a:rPr b="0" sz="1800" spc="-1" strike="noStrike">
                    <a:solidFill>
                      <a:srgbClr val="7f7f7f"/>
                    </a:solidFill>
                    <a:latin typeface="Calibri"/>
                    <a:ea typeface="Arial"/>
                  </a:rPr>
                  <a:t>This is an example text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0" sz="1800" spc="-1" strike="noStrike">
                    <a:solidFill>
                      <a:srgbClr val="7f7f7f"/>
                    </a:solidFill>
                    <a:latin typeface="Calibri"/>
                    <a:ea typeface="Arial"/>
                  </a:rPr>
                  <a:t>Go ahead and replace it with your own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橢圓 20"/>
            <p:cNvSpPr/>
            <p:nvPr/>
          </p:nvSpPr>
          <p:spPr>
            <a:xfrm rot="20547000">
              <a:off x="606960" y="4118760"/>
              <a:ext cx="394560" cy="26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fbf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群組 25"/>
          <p:cNvGrpSpPr/>
          <p:nvPr/>
        </p:nvGrpSpPr>
        <p:grpSpPr>
          <a:xfrm>
            <a:off x="6084720" y="3933720"/>
            <a:ext cx="2664000" cy="2590920"/>
            <a:chOff x="6084720" y="3933720"/>
            <a:chExt cx="2664000" cy="2590920"/>
          </a:xfrm>
        </p:grpSpPr>
        <p:grpSp>
          <p:nvGrpSpPr>
            <p:cNvPr id="124" name="圓角矩形 18"/>
            <p:cNvGrpSpPr/>
            <p:nvPr/>
          </p:nvGrpSpPr>
          <p:grpSpPr>
            <a:xfrm>
              <a:off x="6084720" y="3933720"/>
              <a:ext cx="2664000" cy="2590920"/>
              <a:chOff x="6084720" y="3933720"/>
              <a:chExt cx="2664000" cy="2590920"/>
            </a:xfrm>
          </p:grpSpPr>
          <p:pic>
            <p:nvPicPr>
              <p:cNvPr id="125" name="圓角矩形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6084720" y="3933720"/>
                <a:ext cx="2664000" cy="259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6318360" y="4156200"/>
                <a:ext cx="2204280" cy="21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sz="2000" spc="-1" strike="noStrike">
                    <a:solidFill>
                      <a:srgbClr val="7f7f7f"/>
                    </a:solidFill>
                    <a:latin typeface="Calibri"/>
                    <a:ea typeface="Arial"/>
                  </a:rPr>
                  <a:t>Example text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0" sz="1800" spc="-1" strike="noStrike">
                    <a:solidFill>
                      <a:srgbClr val="7f7f7f"/>
                    </a:solidFill>
                    <a:latin typeface="Calibri"/>
                    <a:ea typeface="Arial"/>
                  </a:rPr>
                  <a:t> </a:t>
                </a:r>
                <a:r>
                  <a:rPr b="0" sz="1800" spc="-1" strike="noStrike">
                    <a:solidFill>
                      <a:srgbClr val="7f7f7f"/>
                    </a:solidFill>
                    <a:latin typeface="Calibri"/>
                    <a:ea typeface="Arial"/>
                  </a:rPr>
                  <a:t>This is an example text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0" sz="1800" spc="-1" strike="noStrike">
                    <a:solidFill>
                      <a:srgbClr val="7f7f7f"/>
                    </a:solidFill>
                    <a:latin typeface="Calibri"/>
                    <a:ea typeface="Arial"/>
                  </a:rPr>
                  <a:t>Go ahead and replace it with your own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" name="橢圓 21"/>
            <p:cNvSpPr/>
            <p:nvPr/>
          </p:nvSpPr>
          <p:spPr>
            <a:xfrm rot="20547000">
              <a:off x="6298560" y="4118760"/>
              <a:ext cx="394560" cy="26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fbf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群組 24"/>
          <p:cNvGrpSpPr/>
          <p:nvPr/>
        </p:nvGrpSpPr>
        <p:grpSpPr>
          <a:xfrm>
            <a:off x="3276720" y="3933720"/>
            <a:ext cx="2663640" cy="2590920"/>
            <a:chOff x="3276720" y="3933720"/>
            <a:chExt cx="2663640" cy="2590920"/>
          </a:xfrm>
        </p:grpSpPr>
        <p:grpSp>
          <p:nvGrpSpPr>
            <p:cNvPr id="129" name="圓角矩形 17"/>
            <p:cNvGrpSpPr/>
            <p:nvPr/>
          </p:nvGrpSpPr>
          <p:grpSpPr>
            <a:xfrm>
              <a:off x="3276720" y="3933720"/>
              <a:ext cx="2663640" cy="2590920"/>
              <a:chOff x="3276720" y="3933720"/>
              <a:chExt cx="2663640" cy="2590920"/>
            </a:xfrm>
          </p:grpSpPr>
          <p:pic>
            <p:nvPicPr>
              <p:cNvPr id="130" name="圓角矩形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3276720" y="3933720"/>
                <a:ext cx="2663640" cy="259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3506760" y="4156200"/>
                <a:ext cx="2208600" cy="21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1" sz="2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Example text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0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</a:t>
                </a:r>
                <a:r>
                  <a:rPr b="0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This is an example text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0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Go ahead and replace it with your own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橢圓 22"/>
            <p:cNvSpPr/>
            <p:nvPr/>
          </p:nvSpPr>
          <p:spPr>
            <a:xfrm rot="20547000">
              <a:off x="3486960" y="4119120"/>
              <a:ext cx="395280" cy="26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fbf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文字方塊 24"/>
          <p:cNvSpPr/>
          <p:nvPr/>
        </p:nvSpPr>
        <p:spPr>
          <a:xfrm>
            <a:off x="706320" y="1700280"/>
            <a:ext cx="63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This is an example text.Go ahead and replace it with your own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矩形 27"/>
          <p:cNvSpPr/>
          <p:nvPr/>
        </p:nvSpPr>
        <p:spPr>
          <a:xfrm>
            <a:off x="3569040" y="241200"/>
            <a:ext cx="21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800" spc="-1" strike="noStrike">
                <a:solidFill>
                  <a:srgbClr val="ffffff"/>
                </a:solidFill>
                <a:latin typeface="Calibri"/>
                <a:ea typeface="Arial"/>
              </a:rPr>
              <a:t>Example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字方塊 24"/>
          <p:cNvSpPr/>
          <p:nvPr/>
        </p:nvSpPr>
        <p:spPr>
          <a:xfrm>
            <a:off x="3512880" y="5283360"/>
            <a:ext cx="4204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Calibri"/>
                <a:ea typeface="Arial"/>
              </a:rPr>
              <a:t>Example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文字方塊 24"/>
          <p:cNvSpPr/>
          <p:nvPr/>
        </p:nvSpPr>
        <p:spPr>
          <a:xfrm>
            <a:off x="849960" y="620640"/>
            <a:ext cx="6424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Calibri"/>
                <a:ea typeface="Arial"/>
              </a:rPr>
              <a:t>Example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This is an example text.Go ahead and replace it with your own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群組 25"/>
          <p:cNvGrpSpPr/>
          <p:nvPr/>
        </p:nvGrpSpPr>
        <p:grpSpPr>
          <a:xfrm>
            <a:off x="468360" y="1700280"/>
            <a:ext cx="7704000" cy="3529080"/>
            <a:chOff x="468360" y="1700280"/>
            <a:chExt cx="7704000" cy="3529080"/>
          </a:xfrm>
        </p:grpSpPr>
        <p:pic>
          <p:nvPicPr>
            <p:cNvPr id="138" name="矩形 10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1675440" cy="256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9" name="圓角矩形 14"/>
            <p:cNvGrpSpPr/>
            <p:nvPr/>
          </p:nvGrpSpPr>
          <p:grpSpPr>
            <a:xfrm>
              <a:off x="3479400" y="4554360"/>
              <a:ext cx="4372560" cy="675000"/>
              <a:chOff x="3479400" y="4554360"/>
              <a:chExt cx="4372560" cy="675000"/>
            </a:xfrm>
          </p:grpSpPr>
          <p:pic>
            <p:nvPicPr>
              <p:cNvPr id="140" name="圓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3479400" y="4554360"/>
                <a:ext cx="4372560" cy="67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3570480" y="4655520"/>
                <a:ext cx="419688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28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This is an example text.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" name="群組 63"/>
            <p:cNvGrpSpPr/>
            <p:nvPr/>
          </p:nvGrpSpPr>
          <p:grpSpPr>
            <a:xfrm>
              <a:off x="3001680" y="4115880"/>
              <a:ext cx="541080" cy="814320"/>
              <a:chOff x="3001680" y="4115880"/>
              <a:chExt cx="541080" cy="814320"/>
            </a:xfrm>
          </p:grpSpPr>
          <p:sp>
            <p:nvSpPr>
              <p:cNvPr id="143" name="Line 41"/>
              <p:cNvSpPr/>
              <p:nvPr/>
            </p:nvSpPr>
            <p:spPr>
              <a:xfrm flipV="1">
                <a:off x="3001680" y="4115880"/>
                <a:ext cx="0" cy="814320"/>
              </a:xfrm>
              <a:prstGeom prst="line">
                <a:avLst/>
              </a:prstGeom>
              <a:ln w="2844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42"/>
              <p:cNvSpPr/>
              <p:nvPr/>
            </p:nvSpPr>
            <p:spPr>
              <a:xfrm>
                <a:off x="3001680" y="4930200"/>
                <a:ext cx="541080" cy="0"/>
              </a:xfrm>
              <a:prstGeom prst="line">
                <a:avLst/>
              </a:prstGeom>
              <a:ln w="28440">
                <a:solidFill>
                  <a:srgbClr val="c0c0c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Oval 17"/>
            <p:cNvSpPr/>
            <p:nvPr/>
          </p:nvSpPr>
          <p:spPr>
            <a:xfrm>
              <a:off x="1764720" y="1729440"/>
              <a:ext cx="222840" cy="41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18"/>
            <p:cNvSpPr/>
            <p:nvPr/>
          </p:nvSpPr>
          <p:spPr>
            <a:xfrm>
              <a:off x="1857960" y="1967040"/>
              <a:ext cx="1777680" cy="86040"/>
            </a:xfrm>
            <a:prstGeom prst="roundRect">
              <a:avLst>
                <a:gd name="adj" fmla="val 46153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7" name="矩形 11" descr=""/>
            <p:cNvPicPr/>
            <p:nvPr/>
          </p:nvPicPr>
          <p:blipFill>
            <a:blip r:embed="rId3"/>
            <a:stretch/>
          </p:blipFill>
          <p:spPr>
            <a:xfrm>
              <a:off x="2445120" y="1700280"/>
              <a:ext cx="1806480" cy="25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Oval 17"/>
            <p:cNvSpPr/>
            <p:nvPr/>
          </p:nvSpPr>
          <p:spPr>
            <a:xfrm>
              <a:off x="3774600" y="1729440"/>
              <a:ext cx="222840" cy="41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18"/>
            <p:cNvSpPr/>
            <p:nvPr/>
          </p:nvSpPr>
          <p:spPr>
            <a:xfrm>
              <a:off x="3867840" y="1967040"/>
              <a:ext cx="1779480" cy="86040"/>
            </a:xfrm>
            <a:prstGeom prst="roundRect">
              <a:avLst>
                <a:gd name="adj" fmla="val 46153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0" name="矩形 12" descr=""/>
            <p:cNvPicPr/>
            <p:nvPr/>
          </p:nvPicPr>
          <p:blipFill>
            <a:blip r:embed="rId4"/>
            <a:stretch/>
          </p:blipFill>
          <p:spPr>
            <a:xfrm>
              <a:off x="4487400" y="1700280"/>
              <a:ext cx="1675440" cy="25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7"/>
            <p:cNvSpPr/>
            <p:nvPr/>
          </p:nvSpPr>
          <p:spPr>
            <a:xfrm>
              <a:off x="5862240" y="1729440"/>
              <a:ext cx="222840" cy="41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18"/>
            <p:cNvSpPr/>
            <p:nvPr/>
          </p:nvSpPr>
          <p:spPr>
            <a:xfrm>
              <a:off x="5956200" y="1967040"/>
              <a:ext cx="1777680" cy="86040"/>
            </a:xfrm>
            <a:prstGeom prst="roundRect">
              <a:avLst>
                <a:gd name="adj" fmla="val 46153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矩形 13" descr=""/>
            <p:cNvPicPr/>
            <p:nvPr/>
          </p:nvPicPr>
          <p:blipFill>
            <a:blip r:embed="rId5"/>
            <a:stretch/>
          </p:blipFill>
          <p:spPr>
            <a:xfrm>
              <a:off x="6496920" y="1700280"/>
              <a:ext cx="1675440" cy="25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Oval 23"/>
            <p:cNvSpPr/>
            <p:nvPr/>
          </p:nvSpPr>
          <p:spPr>
            <a:xfrm>
              <a:off x="7717680" y="1717200"/>
              <a:ext cx="189720" cy="59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24"/>
            <p:cNvSpPr/>
            <p:nvPr/>
          </p:nvSpPr>
          <p:spPr>
            <a:xfrm>
              <a:off x="7950600" y="1954800"/>
              <a:ext cx="93600" cy="123120"/>
            </a:xfrm>
            <a:custGeom>
              <a:avLst/>
              <a:gdLst>
                <a:gd name="textAreaLeft" fmla="*/ 12600 w 93600"/>
                <a:gd name="textAreaRight" fmla="*/ 81000 w 93600"/>
                <a:gd name="textAreaTop" fmla="*/ 12600 h 123120"/>
                <a:gd name="textAreaBottom" fmla="*/ 110520 h 123120"/>
              </a:gdLst>
              <a:ahLst/>
              <a:rect l="textAreaLeft" t="textAreaTop" r="textAreaRight" b="textAreaBottom"/>
              <a:pathLst>
                <a:path w="21600" h="28386">
                  <a:moveTo>
                    <a:pt x="9969" y="0"/>
                  </a:moveTo>
                  <a:arcTo wR="9969" hR="9969" stAng="16200000" swAng="-5400000"/>
                  <a:lnTo>
                    <a:pt x="0" y="18417"/>
                  </a:lnTo>
                  <a:arcTo wR="9969" hR="9969" stAng="10800000" swAng="-5400000"/>
                  <a:lnTo>
                    <a:pt x="11631" y="28386"/>
                  </a:lnTo>
                  <a:arcTo wR="9969" hR="9969" stAng="5400000" swAng="-5400000"/>
                  <a:lnTo>
                    <a:pt x="21600" y="9969"/>
                  </a:lnTo>
                  <a:arcTo wR="9969" hR="9969" stAng="0" swAng="-5400000"/>
                  <a:close/>
                </a:path>
              </a:pathLst>
            </a:custGeom>
            <a:gradFill rotWithShape="0">
              <a:gsLst>
                <a:gs pos="0">
                  <a:srgbClr val="7fd13b"/>
                </a:gs>
                <a:gs pos="100000">
                  <a:srgbClr val="3b611b"/>
                </a:gs>
              </a:gsLst>
              <a:lin ang="5400000"/>
            </a:gradFill>
            <a:ln w="9360">
              <a:solidFill>
                <a:srgbClr val="7fd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群組 4"/>
          <p:cNvGrpSpPr/>
          <p:nvPr/>
        </p:nvGrpSpPr>
        <p:grpSpPr>
          <a:xfrm>
            <a:off x="900000" y="1406520"/>
            <a:ext cx="1079640" cy="1081080"/>
            <a:chOff x="900000" y="1406520"/>
            <a:chExt cx="1079640" cy="1081080"/>
          </a:xfrm>
        </p:grpSpPr>
        <p:sp>
          <p:nvSpPr>
            <p:cNvPr id="157" name="圓柱 2"/>
            <p:cNvSpPr/>
            <p:nvPr/>
          </p:nvSpPr>
          <p:spPr>
            <a:xfrm>
              <a:off x="900000" y="1406520"/>
              <a:ext cx="1079640" cy="1081080"/>
            </a:xfrm>
            <a:prstGeom prst="can">
              <a:avLst>
                <a:gd name="adj" fmla="val 21657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7f7f7f"/>
                </a:gs>
              </a:gsLst>
              <a:lin ang="5400000"/>
            </a:gradFill>
            <a:ln w="19080">
              <a:solidFill>
                <a:srgbClr val="5c9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橢圓 3"/>
            <p:cNvSpPr/>
            <p:nvPr/>
          </p:nvSpPr>
          <p:spPr>
            <a:xfrm>
              <a:off x="947520" y="1446120"/>
              <a:ext cx="984600" cy="160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5c9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圓柱 15"/>
          <p:cNvSpPr/>
          <p:nvPr/>
        </p:nvSpPr>
        <p:spPr>
          <a:xfrm>
            <a:off x="900000" y="2558880"/>
            <a:ext cx="1079640" cy="863640"/>
          </a:xfrm>
          <a:prstGeom prst="can">
            <a:avLst>
              <a:gd name="adj" fmla="val 25421"/>
            </a:avLst>
          </a:prstGeom>
          <a:gradFill rotWithShape="0">
            <a:gsLst>
              <a:gs pos="0">
                <a:srgbClr val="262626">
                  <a:alpha val="0"/>
                </a:srgbClr>
              </a:gs>
              <a:gs pos="100000">
                <a:srgbClr val="7f7f7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圓柱 17"/>
          <p:cNvSpPr/>
          <p:nvPr/>
        </p:nvSpPr>
        <p:spPr>
          <a:xfrm rot="18996000">
            <a:off x="2057400" y="3531960"/>
            <a:ext cx="1079640" cy="863640"/>
          </a:xfrm>
          <a:prstGeom prst="can">
            <a:avLst>
              <a:gd name="adj" fmla="val 25421"/>
            </a:avLst>
          </a:prstGeom>
          <a:gradFill rotWithShape="0">
            <a:gsLst>
              <a:gs pos="0">
                <a:srgbClr val="d9d9d9">
                  <a:alpha val="0"/>
                </a:srgbClr>
              </a:gs>
              <a:gs pos="100000">
                <a:srgbClr val="7f7f7f"/>
              </a:gs>
            </a:gsLst>
            <a:lin ang="16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圓柱 18"/>
          <p:cNvSpPr/>
          <p:nvPr/>
        </p:nvSpPr>
        <p:spPr>
          <a:xfrm rot="5400000">
            <a:off x="2771280" y="4503600"/>
            <a:ext cx="1079640" cy="1079640"/>
          </a:xfrm>
          <a:prstGeom prst="can">
            <a:avLst>
              <a:gd name="adj" fmla="val 25421"/>
            </a:avLst>
          </a:prstGeom>
          <a:gradFill rotWithShape="0">
            <a:gsLst>
              <a:gs pos="0">
                <a:srgbClr val="d9d9d9"/>
              </a:gs>
              <a:gs pos="100000">
                <a:srgbClr val="7f7f7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橢圓 20"/>
          <p:cNvSpPr/>
          <p:nvPr/>
        </p:nvSpPr>
        <p:spPr>
          <a:xfrm>
            <a:off x="2340000" y="3206880"/>
            <a:ext cx="1295280" cy="21564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橢圓 21"/>
          <p:cNvSpPr/>
          <p:nvPr/>
        </p:nvSpPr>
        <p:spPr>
          <a:xfrm>
            <a:off x="2987640" y="5727600"/>
            <a:ext cx="1368360" cy="57636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群組 11"/>
          <p:cNvGrpSpPr/>
          <p:nvPr/>
        </p:nvGrpSpPr>
        <p:grpSpPr>
          <a:xfrm>
            <a:off x="2627640" y="4644360"/>
            <a:ext cx="1526040" cy="1526400"/>
            <a:chOff x="2627640" y="4644360"/>
            <a:chExt cx="1526040" cy="1526400"/>
          </a:xfrm>
        </p:grpSpPr>
        <p:sp>
          <p:nvSpPr>
            <p:cNvPr id="165" name="圓柱 12"/>
            <p:cNvSpPr/>
            <p:nvPr/>
          </p:nvSpPr>
          <p:spPr>
            <a:xfrm rot="8249400">
              <a:off x="2850840" y="4866840"/>
              <a:ext cx="1079280" cy="1081080"/>
            </a:xfrm>
            <a:prstGeom prst="can">
              <a:avLst>
                <a:gd name="adj" fmla="val 21657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7f7f7f"/>
                </a:gs>
              </a:gsLst>
              <a:lin ang="5400000"/>
            </a:gradFill>
            <a:ln w="19080">
              <a:solidFill>
                <a:srgbClr val="5c9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橢圓 13"/>
            <p:cNvSpPr/>
            <p:nvPr/>
          </p:nvSpPr>
          <p:spPr>
            <a:xfrm rot="8249400">
              <a:off x="3182760" y="5636880"/>
              <a:ext cx="984240" cy="160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5c9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橢圓 22"/>
          <p:cNvSpPr/>
          <p:nvPr/>
        </p:nvSpPr>
        <p:spPr>
          <a:xfrm>
            <a:off x="3060720" y="4214880"/>
            <a:ext cx="1295280" cy="43164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群組 8"/>
          <p:cNvGrpSpPr/>
          <p:nvPr/>
        </p:nvGrpSpPr>
        <p:grpSpPr>
          <a:xfrm>
            <a:off x="2771280" y="3422520"/>
            <a:ext cx="1079640" cy="1081080"/>
            <a:chOff x="2771280" y="3422520"/>
            <a:chExt cx="1079640" cy="1081080"/>
          </a:xfrm>
        </p:grpSpPr>
        <p:sp>
          <p:nvSpPr>
            <p:cNvPr id="169" name="圓柱 9"/>
            <p:cNvSpPr/>
            <p:nvPr/>
          </p:nvSpPr>
          <p:spPr>
            <a:xfrm rot="5400000">
              <a:off x="2770560" y="3423240"/>
              <a:ext cx="1081080" cy="1079640"/>
            </a:xfrm>
            <a:prstGeom prst="can">
              <a:avLst>
                <a:gd name="adj" fmla="val 21657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7f7f7f"/>
                </a:gs>
              </a:gsLst>
              <a:lin ang="5400000"/>
            </a:gradFill>
            <a:ln w="19080">
              <a:solidFill>
                <a:srgbClr val="5c9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橢圓 10"/>
            <p:cNvSpPr/>
            <p:nvPr/>
          </p:nvSpPr>
          <p:spPr>
            <a:xfrm rot="5400000">
              <a:off x="3230280" y="3882960"/>
              <a:ext cx="986040" cy="160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5c9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圓柱 19"/>
          <p:cNvSpPr/>
          <p:nvPr/>
        </p:nvSpPr>
        <p:spPr>
          <a:xfrm rot="2671200">
            <a:off x="2839680" y="6270480"/>
            <a:ext cx="1079640" cy="863640"/>
          </a:xfrm>
          <a:prstGeom prst="can">
            <a:avLst>
              <a:gd name="adj" fmla="val 25421"/>
            </a:avLst>
          </a:prstGeom>
          <a:gradFill rotWithShape="0">
            <a:gsLst>
              <a:gs pos="0">
                <a:srgbClr val="d9d9d9">
                  <a:alpha val="60000"/>
                </a:srgbClr>
              </a:gs>
              <a:gs pos="100000">
                <a:srgbClr val="262626">
                  <a:alpha val="20000"/>
                </a:srgbClr>
              </a:gs>
            </a:gsLst>
            <a:lin ang="5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圓角矩形 24"/>
          <p:cNvGrpSpPr/>
          <p:nvPr/>
        </p:nvGrpSpPr>
        <p:grpSpPr>
          <a:xfrm>
            <a:off x="4511520" y="1487520"/>
            <a:ext cx="4078440" cy="652320"/>
            <a:chOff x="4511520" y="1487520"/>
            <a:chExt cx="4078440" cy="652320"/>
          </a:xfrm>
        </p:grpSpPr>
        <p:pic>
          <p:nvPicPr>
            <p:cNvPr id="173" name="圓角矩形 24" descr=""/>
            <p:cNvPicPr/>
            <p:nvPr/>
          </p:nvPicPr>
          <p:blipFill>
            <a:blip r:embed="rId1"/>
            <a:stretch/>
          </p:blipFill>
          <p:spPr>
            <a:xfrm>
              <a:off x="4511520" y="1487520"/>
              <a:ext cx="40784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597200" y="1550880"/>
              <a:ext cx="39099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0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This is an example text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圓角矩形 25"/>
          <p:cNvGrpSpPr/>
          <p:nvPr/>
        </p:nvGrpSpPr>
        <p:grpSpPr>
          <a:xfrm>
            <a:off x="4511520" y="2627280"/>
            <a:ext cx="4078440" cy="652320"/>
            <a:chOff x="4511520" y="2627280"/>
            <a:chExt cx="4078440" cy="652320"/>
          </a:xfrm>
        </p:grpSpPr>
        <p:pic>
          <p:nvPicPr>
            <p:cNvPr id="176" name="圓角矩形 25" descr=""/>
            <p:cNvPicPr/>
            <p:nvPr/>
          </p:nvPicPr>
          <p:blipFill>
            <a:blip r:embed="rId2"/>
            <a:stretch/>
          </p:blipFill>
          <p:spPr>
            <a:xfrm>
              <a:off x="4511520" y="2627280"/>
              <a:ext cx="40784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597200" y="2687760"/>
              <a:ext cx="39099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0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This is an example text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圓角矩形 26"/>
          <p:cNvGrpSpPr/>
          <p:nvPr/>
        </p:nvGrpSpPr>
        <p:grpSpPr>
          <a:xfrm>
            <a:off x="4511520" y="3760920"/>
            <a:ext cx="4078440" cy="652320"/>
            <a:chOff x="4511520" y="3760920"/>
            <a:chExt cx="4078440" cy="652320"/>
          </a:xfrm>
        </p:grpSpPr>
        <p:pic>
          <p:nvPicPr>
            <p:cNvPr id="179" name="圓角矩形 26" descr=""/>
            <p:cNvPicPr/>
            <p:nvPr/>
          </p:nvPicPr>
          <p:blipFill>
            <a:blip r:embed="rId3"/>
            <a:stretch/>
          </p:blipFill>
          <p:spPr>
            <a:xfrm>
              <a:off x="4511520" y="3760920"/>
              <a:ext cx="40784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597200" y="3824280"/>
              <a:ext cx="39099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0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This is an example text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圓角矩形 27"/>
          <p:cNvGrpSpPr/>
          <p:nvPr/>
        </p:nvGrpSpPr>
        <p:grpSpPr>
          <a:xfrm>
            <a:off x="4511520" y="4853160"/>
            <a:ext cx="4078440" cy="699840"/>
            <a:chOff x="4511520" y="4853160"/>
            <a:chExt cx="4078440" cy="699840"/>
          </a:xfrm>
        </p:grpSpPr>
        <p:pic>
          <p:nvPicPr>
            <p:cNvPr id="182" name="圓角矩形 27" descr=""/>
            <p:cNvPicPr/>
            <p:nvPr/>
          </p:nvPicPr>
          <p:blipFill>
            <a:blip r:embed="rId4"/>
            <a:stretch/>
          </p:blipFill>
          <p:spPr>
            <a:xfrm>
              <a:off x="4511520" y="4853160"/>
              <a:ext cx="407844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97200" y="4962240"/>
              <a:ext cx="39099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his is an example text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文字方塊 28"/>
          <p:cNvSpPr/>
          <p:nvPr/>
        </p:nvSpPr>
        <p:spPr>
          <a:xfrm>
            <a:off x="763560" y="363852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群組 5"/>
          <p:cNvGrpSpPr/>
          <p:nvPr/>
        </p:nvGrpSpPr>
        <p:grpSpPr>
          <a:xfrm>
            <a:off x="1964160" y="1895400"/>
            <a:ext cx="1527840" cy="1527840"/>
            <a:chOff x="1964160" y="1895400"/>
            <a:chExt cx="1527840" cy="1527840"/>
          </a:xfrm>
        </p:grpSpPr>
        <p:sp>
          <p:nvSpPr>
            <p:cNvPr id="186" name="圓柱 6"/>
            <p:cNvSpPr/>
            <p:nvPr/>
          </p:nvSpPr>
          <p:spPr>
            <a:xfrm rot="2748000">
              <a:off x="2188080" y="2118600"/>
              <a:ext cx="1079640" cy="1081080"/>
            </a:xfrm>
            <a:prstGeom prst="can">
              <a:avLst>
                <a:gd name="adj" fmla="val 21657"/>
              </a:avLst>
            </a:prstGeom>
            <a:gradFill rotWithShape="0">
              <a:gsLst>
                <a:gs pos="0">
                  <a:srgbClr val="262626"/>
                </a:gs>
                <a:gs pos="100000">
                  <a:srgbClr val="7f7f7f"/>
                </a:gs>
              </a:gsLst>
              <a:lin ang="5400000"/>
            </a:gradFill>
            <a:ln w="19080">
              <a:solidFill>
                <a:srgbClr val="5c9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橢圓 7"/>
            <p:cNvSpPr/>
            <p:nvPr/>
          </p:nvSpPr>
          <p:spPr>
            <a:xfrm rot="2748000">
              <a:off x="2531160" y="2281680"/>
              <a:ext cx="984600" cy="160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5c9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88" name="圖案 30"/>
          <p:cNvCxnSpPr/>
          <p:nvPr/>
        </p:nvCxnSpPr>
        <p:spPr>
          <a:xfrm flipH="1" rot="16200000">
            <a:off x="2833560" y="51840"/>
            <a:ext cx="345240" cy="3132720"/>
          </a:xfrm>
          <a:prstGeom prst="bentConnector4">
            <a:avLst>
              <a:gd name="adj1" fmla="val -66597"/>
              <a:gd name="adj2" fmla="val 57866"/>
            </a:avLst>
          </a:prstGeom>
          <a:ln w="25560">
            <a:solidFill>
              <a:srgbClr val="ffffff"/>
            </a:solidFill>
            <a:prstDash val="sysDot"/>
            <a:miter/>
          </a:ln>
        </p:spPr>
      </p:cxnSp>
      <p:cxnSp>
        <p:nvCxnSpPr>
          <p:cNvPr id="189" name="圖案 31"/>
          <p:cNvCxnSpPr/>
          <p:nvPr/>
        </p:nvCxnSpPr>
        <p:spPr>
          <a:xfrm>
            <a:off x="3085920" y="2311200"/>
            <a:ext cx="1486440" cy="61668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prstDash val="sysDot"/>
            <a:miter/>
          </a:ln>
        </p:spPr>
      </p:cxnSp>
      <p:cxnSp>
        <p:nvCxnSpPr>
          <p:cNvPr id="190" name="圖案 31"/>
          <p:cNvCxnSpPr/>
          <p:nvPr/>
        </p:nvCxnSpPr>
        <p:spPr>
          <a:xfrm>
            <a:off x="3851280" y="3962520"/>
            <a:ext cx="721440" cy="102240"/>
          </a:xfrm>
          <a:prstGeom prst="bentConnector3">
            <a:avLst>
              <a:gd name="adj1" fmla="val 49975"/>
            </a:avLst>
          </a:prstGeom>
          <a:ln w="25560">
            <a:solidFill>
              <a:srgbClr val="ffffff"/>
            </a:solidFill>
            <a:prstDash val="sysDot"/>
            <a:miter/>
          </a:ln>
        </p:spPr>
      </p:cxnSp>
      <p:cxnSp>
        <p:nvCxnSpPr>
          <p:cNvPr id="191" name="圖案 31"/>
          <p:cNvCxnSpPr/>
          <p:nvPr/>
        </p:nvCxnSpPr>
        <p:spPr>
          <a:xfrm flipH="1" flipV="1" rot="5400000">
            <a:off x="3862080" y="5066640"/>
            <a:ext cx="577080" cy="843840"/>
          </a:xfrm>
          <a:prstGeom prst="bentConnector4">
            <a:avLst>
              <a:gd name="adj1" fmla="val -39637"/>
              <a:gd name="adj2" fmla="val 76013"/>
            </a:avLst>
          </a:prstGeom>
          <a:ln w="25560">
            <a:solidFill>
              <a:srgbClr val="ffffff"/>
            </a:solidFill>
            <a:prstDash val="sysDot"/>
            <a:miter/>
          </a:ln>
        </p:spPr>
      </p:cxnSp>
      <p:sp>
        <p:nvSpPr>
          <p:cNvPr id="192" name="文字方塊 24"/>
          <p:cNvSpPr/>
          <p:nvPr/>
        </p:nvSpPr>
        <p:spPr>
          <a:xfrm>
            <a:off x="4592520" y="5654520"/>
            <a:ext cx="4204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Calibri"/>
                <a:ea typeface="Arial"/>
              </a:rPr>
              <a:t>Example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64"/>
          <p:cNvSpPr/>
          <p:nvPr/>
        </p:nvSpPr>
        <p:spPr>
          <a:xfrm>
            <a:off x="2556000" y="260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Calibri"/>
                <a:ea typeface="Arial"/>
              </a:rPr>
              <a:t>This is an example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093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图表模板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群組 56"/>
          <p:cNvGrpSpPr/>
          <p:nvPr/>
        </p:nvGrpSpPr>
        <p:grpSpPr>
          <a:xfrm>
            <a:off x="899640" y="2205000"/>
            <a:ext cx="7559640" cy="4248360"/>
            <a:chOff x="899640" y="2205000"/>
            <a:chExt cx="7559640" cy="4248360"/>
          </a:xfrm>
        </p:grpSpPr>
        <p:grpSp>
          <p:nvGrpSpPr>
            <p:cNvPr id="196" name="群組 5"/>
            <p:cNvGrpSpPr/>
            <p:nvPr/>
          </p:nvGrpSpPr>
          <p:grpSpPr>
            <a:xfrm>
              <a:off x="1044000" y="2277000"/>
              <a:ext cx="1367640" cy="1296000"/>
              <a:chOff x="1044000" y="2277000"/>
              <a:chExt cx="1367640" cy="1296000"/>
            </a:xfrm>
          </p:grpSpPr>
          <p:sp>
            <p:nvSpPr>
              <p:cNvPr id="197" name="月亮 2"/>
              <p:cNvSpPr/>
              <p:nvPr/>
            </p:nvSpPr>
            <p:spPr>
              <a:xfrm>
                <a:off x="1044000" y="2381760"/>
                <a:ext cx="416160" cy="1035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51" y="1059"/>
                      <a:pt x="5902" y="5080"/>
                      <a:pt x="5902" y="10800"/>
                    </a:cubicBezTo>
                    <a:cubicBezTo>
                      <a:pt x="5902" y="16520"/>
                      <a:pt x="13751" y="2054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9e9e9"/>
                  </a:gs>
                  <a:gs pos="100000">
                    <a:srgbClr val="b8b8b8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98" name="橢圓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0" y="2277000"/>
                <a:ext cx="1252440" cy="129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套索 4"/>
              <p:cNvSpPr/>
              <p:nvPr/>
            </p:nvSpPr>
            <p:spPr>
              <a:xfrm>
                <a:off x="1425240" y="2381760"/>
                <a:ext cx="693360" cy="518400"/>
              </a:xfrm>
              <a:custGeom>
                <a:avLst/>
                <a:gdLst>
                  <a:gd name="textAreaLeft" fmla="*/ 101520 w 693360"/>
                  <a:gd name="textAreaRight" fmla="*/ 591840 w 693360"/>
                  <a:gd name="textAreaTop" fmla="*/ 75960 h 518400"/>
                  <a:gd name="textAreaBottom" fmla="*/ 442440 h 518400"/>
                </a:gdLst>
                <a:ahLst/>
                <a:rect l="textAreaLeft" t="textAreaTop" r="textAreaRight" b="textAreaBottom"/>
                <a:pathLst>
                  <a:path w="719248" h="577894">
                    <a:moveTo>
                      <a:pt x="709" y="307086"/>
                    </a:moveTo>
                    <a:lnTo>
                      <a:pt x="709" y="307086"/>
                    </a:lnTo>
                    <a:arcTo wR="359624" hR="288947" stAng="10626409" swAng="946712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5294"/>
                    </a:srgbClr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0" name="群組 6"/>
            <p:cNvGrpSpPr/>
            <p:nvPr/>
          </p:nvGrpSpPr>
          <p:grpSpPr>
            <a:xfrm>
              <a:off x="2987640" y="2277000"/>
              <a:ext cx="1367640" cy="1296000"/>
              <a:chOff x="2987640" y="2277000"/>
              <a:chExt cx="1367640" cy="1296000"/>
            </a:xfrm>
          </p:grpSpPr>
          <p:sp>
            <p:nvSpPr>
              <p:cNvPr id="201" name="月亮 7"/>
              <p:cNvSpPr/>
              <p:nvPr/>
            </p:nvSpPr>
            <p:spPr>
              <a:xfrm>
                <a:off x="2987640" y="2381760"/>
                <a:ext cx="415800" cy="1035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51" y="1059"/>
                      <a:pt x="5902" y="5080"/>
                      <a:pt x="5902" y="10800"/>
                    </a:cubicBezTo>
                    <a:cubicBezTo>
                      <a:pt x="5902" y="16520"/>
                      <a:pt x="13751" y="2054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9e9e9"/>
                  </a:gs>
                  <a:gs pos="100000">
                    <a:srgbClr val="b8b8b8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2" name="橢圓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98520" y="2277000"/>
                <a:ext cx="1256760" cy="129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套索 9"/>
              <p:cNvSpPr/>
              <p:nvPr/>
            </p:nvSpPr>
            <p:spPr>
              <a:xfrm>
                <a:off x="3369960" y="2381760"/>
                <a:ext cx="692640" cy="518400"/>
              </a:xfrm>
              <a:custGeom>
                <a:avLst/>
                <a:gdLst>
                  <a:gd name="textAreaLeft" fmla="*/ 101160 w 692640"/>
                  <a:gd name="textAreaRight" fmla="*/ 591480 w 692640"/>
                  <a:gd name="textAreaTop" fmla="*/ 75960 h 518400"/>
                  <a:gd name="textAreaBottom" fmla="*/ 442440 h 518400"/>
                </a:gdLst>
                <a:ahLst/>
                <a:rect l="textAreaLeft" t="textAreaTop" r="textAreaRight" b="textAreaBottom"/>
                <a:pathLst>
                  <a:path w="719249" h="577894">
                    <a:moveTo>
                      <a:pt x="709" y="307086"/>
                    </a:moveTo>
                    <a:lnTo>
                      <a:pt x="709" y="307086"/>
                    </a:lnTo>
                    <a:arcTo wR="359625" hR="288947" stAng="10626410" swAng="9467123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5294"/>
                    </a:srgbClr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群組 10"/>
            <p:cNvGrpSpPr/>
            <p:nvPr/>
          </p:nvGrpSpPr>
          <p:grpSpPr>
            <a:xfrm>
              <a:off x="4932000" y="2277000"/>
              <a:ext cx="1367640" cy="1296000"/>
              <a:chOff x="4932000" y="2277000"/>
              <a:chExt cx="1367640" cy="1296000"/>
            </a:xfrm>
          </p:grpSpPr>
          <p:sp>
            <p:nvSpPr>
              <p:cNvPr id="205" name="月亮 11"/>
              <p:cNvSpPr/>
              <p:nvPr/>
            </p:nvSpPr>
            <p:spPr>
              <a:xfrm>
                <a:off x="4932000" y="2381760"/>
                <a:ext cx="417600" cy="1035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51" y="1059"/>
                      <a:pt x="5902" y="5080"/>
                      <a:pt x="5902" y="10800"/>
                    </a:cubicBezTo>
                    <a:cubicBezTo>
                      <a:pt x="5902" y="16520"/>
                      <a:pt x="13751" y="2054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9e9e9"/>
                  </a:gs>
                  <a:gs pos="100000">
                    <a:srgbClr val="b8b8b8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6" name="橢圓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3240" y="2277000"/>
                <a:ext cx="1256400" cy="129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套索 13"/>
              <p:cNvSpPr/>
              <p:nvPr/>
            </p:nvSpPr>
            <p:spPr>
              <a:xfrm>
                <a:off x="5314320" y="2381760"/>
                <a:ext cx="695880" cy="518400"/>
              </a:xfrm>
              <a:custGeom>
                <a:avLst/>
                <a:gdLst>
                  <a:gd name="textAreaLeft" fmla="*/ 101880 w 695880"/>
                  <a:gd name="textAreaRight" fmla="*/ 594000 w 695880"/>
                  <a:gd name="textAreaTop" fmla="*/ 75960 h 518400"/>
                  <a:gd name="textAreaBottom" fmla="*/ 442440 h 518400"/>
                </a:gdLst>
                <a:ahLst/>
                <a:rect l="textAreaLeft" t="textAreaTop" r="textAreaRight" b="textAreaBottom"/>
                <a:pathLst>
                  <a:path w="719249" h="577894">
                    <a:moveTo>
                      <a:pt x="709" y="307086"/>
                    </a:moveTo>
                    <a:lnTo>
                      <a:pt x="709" y="307086"/>
                    </a:lnTo>
                    <a:arcTo wR="359625" hR="288947" stAng="10626410" swAng="9467123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5294"/>
                    </a:srgbClr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群組 14"/>
            <p:cNvGrpSpPr/>
            <p:nvPr/>
          </p:nvGrpSpPr>
          <p:grpSpPr>
            <a:xfrm>
              <a:off x="6875640" y="2277000"/>
              <a:ext cx="1367640" cy="1296000"/>
              <a:chOff x="6875640" y="2277000"/>
              <a:chExt cx="1367640" cy="1296000"/>
            </a:xfrm>
          </p:grpSpPr>
          <p:sp>
            <p:nvSpPr>
              <p:cNvPr id="209" name="月亮 15"/>
              <p:cNvSpPr/>
              <p:nvPr/>
            </p:nvSpPr>
            <p:spPr>
              <a:xfrm>
                <a:off x="6875640" y="2381760"/>
                <a:ext cx="417240" cy="1035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51" y="1059"/>
                      <a:pt x="5902" y="5080"/>
                      <a:pt x="5902" y="10800"/>
                    </a:cubicBezTo>
                    <a:cubicBezTo>
                      <a:pt x="5902" y="16520"/>
                      <a:pt x="13751" y="2054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9e9e9"/>
                  </a:gs>
                  <a:gs pos="100000">
                    <a:srgbClr val="b8b8b8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0" name="橢圓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6988320" y="2277000"/>
                <a:ext cx="1254960" cy="129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套索 17"/>
              <p:cNvSpPr/>
              <p:nvPr/>
            </p:nvSpPr>
            <p:spPr>
              <a:xfrm>
                <a:off x="7259040" y="2381760"/>
                <a:ext cx="695160" cy="518400"/>
              </a:xfrm>
              <a:custGeom>
                <a:avLst/>
                <a:gdLst>
                  <a:gd name="textAreaLeft" fmla="*/ 101520 w 695160"/>
                  <a:gd name="textAreaRight" fmla="*/ 593640 w 695160"/>
                  <a:gd name="textAreaTop" fmla="*/ 75960 h 518400"/>
                  <a:gd name="textAreaBottom" fmla="*/ 442440 h 518400"/>
                </a:gdLst>
                <a:ahLst/>
                <a:rect l="textAreaLeft" t="textAreaTop" r="textAreaRight" b="textAreaBottom"/>
                <a:pathLst>
                  <a:path w="719248" h="577894">
                    <a:moveTo>
                      <a:pt x="709" y="307086"/>
                    </a:moveTo>
                    <a:lnTo>
                      <a:pt x="709" y="307086"/>
                    </a:lnTo>
                    <a:arcTo wR="359624" hR="288947" stAng="10626409" swAng="946712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5294"/>
                    </a:srgbClr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2" name="群組 20"/>
            <p:cNvGrpSpPr/>
            <p:nvPr/>
          </p:nvGrpSpPr>
          <p:grpSpPr>
            <a:xfrm>
              <a:off x="900000" y="3789000"/>
              <a:ext cx="1655640" cy="1152000"/>
              <a:chOff x="900000" y="3789000"/>
              <a:chExt cx="1655640" cy="1152000"/>
            </a:xfrm>
          </p:grpSpPr>
          <p:sp>
            <p:nvSpPr>
              <p:cNvPr id="213" name="矩形 18"/>
              <p:cNvSpPr/>
              <p:nvPr/>
            </p:nvSpPr>
            <p:spPr>
              <a:xfrm>
                <a:off x="955080" y="3833280"/>
                <a:ext cx="1550880" cy="11077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矩形 19"/>
              <p:cNvGrpSpPr/>
              <p:nvPr/>
            </p:nvGrpSpPr>
            <p:grpSpPr>
              <a:xfrm>
                <a:off x="900000" y="3789000"/>
                <a:ext cx="1655640" cy="538920"/>
                <a:chOff x="900000" y="3789000"/>
                <a:chExt cx="1655640" cy="538920"/>
              </a:xfrm>
            </p:grpSpPr>
            <p:pic>
              <p:nvPicPr>
                <p:cNvPr id="215" name="矩形 1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00000" y="3789000"/>
                  <a:ext cx="1655640" cy="53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6" name=""/>
                <p:cNvSpPr/>
                <p:nvPr/>
              </p:nvSpPr>
              <p:spPr>
                <a:xfrm>
                  <a:off x="955080" y="3833280"/>
                  <a:ext cx="15508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rbel"/>
                    </a:rPr>
                    <a:t>TEX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群組 22"/>
            <p:cNvGrpSpPr/>
            <p:nvPr/>
          </p:nvGrpSpPr>
          <p:grpSpPr>
            <a:xfrm>
              <a:off x="2844000" y="3789000"/>
              <a:ext cx="1655640" cy="1152000"/>
              <a:chOff x="2844000" y="3789000"/>
              <a:chExt cx="1655640" cy="1152000"/>
            </a:xfrm>
          </p:grpSpPr>
          <p:sp>
            <p:nvSpPr>
              <p:cNvPr id="218" name="矩形 23"/>
              <p:cNvSpPr/>
              <p:nvPr/>
            </p:nvSpPr>
            <p:spPr>
              <a:xfrm>
                <a:off x="2899080" y="3833280"/>
                <a:ext cx="1550880" cy="11077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9" name="矩形 24"/>
              <p:cNvGrpSpPr/>
              <p:nvPr/>
            </p:nvGrpSpPr>
            <p:grpSpPr>
              <a:xfrm>
                <a:off x="2844000" y="3789000"/>
                <a:ext cx="1655640" cy="538920"/>
                <a:chOff x="2844000" y="3789000"/>
                <a:chExt cx="1655640" cy="538920"/>
              </a:xfrm>
            </p:grpSpPr>
            <p:pic>
              <p:nvPicPr>
                <p:cNvPr id="220" name="矩形 2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844000" y="3789000"/>
                  <a:ext cx="1655640" cy="53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>
                  <a:off x="2898360" y="3833280"/>
                  <a:ext cx="15508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rbel"/>
                    </a:rPr>
                    <a:t>TEX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群組 25"/>
            <p:cNvGrpSpPr/>
            <p:nvPr/>
          </p:nvGrpSpPr>
          <p:grpSpPr>
            <a:xfrm>
              <a:off x="4787640" y="3789000"/>
              <a:ext cx="1655640" cy="1152000"/>
              <a:chOff x="4787640" y="3789000"/>
              <a:chExt cx="1655640" cy="1152000"/>
            </a:xfrm>
          </p:grpSpPr>
          <p:sp>
            <p:nvSpPr>
              <p:cNvPr id="223" name="矩形 26"/>
              <p:cNvSpPr/>
              <p:nvPr/>
            </p:nvSpPr>
            <p:spPr>
              <a:xfrm>
                <a:off x="4846680" y="3833280"/>
                <a:ext cx="1545480" cy="11077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4" name="矩形 27"/>
              <p:cNvGrpSpPr/>
              <p:nvPr/>
            </p:nvGrpSpPr>
            <p:grpSpPr>
              <a:xfrm>
                <a:off x="4787640" y="3789000"/>
                <a:ext cx="1655640" cy="538920"/>
                <a:chOff x="4787640" y="3789000"/>
                <a:chExt cx="1655640" cy="538920"/>
              </a:xfrm>
            </p:grpSpPr>
            <p:pic>
              <p:nvPicPr>
                <p:cNvPr id="225" name="矩形 2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787640" y="3789000"/>
                  <a:ext cx="1655640" cy="53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6" name=""/>
                <p:cNvSpPr/>
                <p:nvPr/>
              </p:nvSpPr>
              <p:spPr>
                <a:xfrm>
                  <a:off x="4846680" y="3833280"/>
                  <a:ext cx="15454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rbel"/>
                    </a:rPr>
                    <a:t>TEX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群組 28"/>
            <p:cNvGrpSpPr/>
            <p:nvPr/>
          </p:nvGrpSpPr>
          <p:grpSpPr>
            <a:xfrm>
              <a:off x="6731640" y="3789000"/>
              <a:ext cx="1655640" cy="1152000"/>
              <a:chOff x="6731640" y="3789000"/>
              <a:chExt cx="1655640" cy="1152000"/>
            </a:xfrm>
          </p:grpSpPr>
          <p:sp>
            <p:nvSpPr>
              <p:cNvPr id="228" name="矩形 29"/>
              <p:cNvSpPr/>
              <p:nvPr/>
            </p:nvSpPr>
            <p:spPr>
              <a:xfrm>
                <a:off x="6790680" y="3833280"/>
                <a:ext cx="1545480" cy="11077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9" name="矩形 30"/>
              <p:cNvGrpSpPr/>
              <p:nvPr/>
            </p:nvGrpSpPr>
            <p:grpSpPr>
              <a:xfrm>
                <a:off x="6731640" y="3789000"/>
                <a:ext cx="1655640" cy="538920"/>
                <a:chOff x="6731640" y="3789000"/>
                <a:chExt cx="1655640" cy="538920"/>
              </a:xfrm>
            </p:grpSpPr>
            <p:pic>
              <p:nvPicPr>
                <p:cNvPr id="230" name="矩形 3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731640" y="3789000"/>
                  <a:ext cx="1655640" cy="53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"/>
                <p:cNvSpPr/>
                <p:nvPr/>
              </p:nvSpPr>
              <p:spPr>
                <a:xfrm>
                  <a:off x="6789960" y="3833280"/>
                  <a:ext cx="1545480" cy="41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rbel"/>
                    </a:rPr>
                    <a:t>TEX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" name="群組 31"/>
            <p:cNvGrpSpPr/>
            <p:nvPr/>
          </p:nvGrpSpPr>
          <p:grpSpPr>
            <a:xfrm>
              <a:off x="6731640" y="5157360"/>
              <a:ext cx="1655640" cy="1152000"/>
              <a:chOff x="6731640" y="5157360"/>
              <a:chExt cx="1655640" cy="1152000"/>
            </a:xfrm>
          </p:grpSpPr>
          <p:sp>
            <p:nvSpPr>
              <p:cNvPr id="233" name="矩形 32"/>
              <p:cNvSpPr/>
              <p:nvPr/>
            </p:nvSpPr>
            <p:spPr>
              <a:xfrm>
                <a:off x="6790680" y="5198760"/>
                <a:ext cx="1545480" cy="1110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4" name="矩形 33"/>
              <p:cNvGrpSpPr/>
              <p:nvPr/>
            </p:nvGrpSpPr>
            <p:grpSpPr>
              <a:xfrm>
                <a:off x="6731640" y="5157360"/>
                <a:ext cx="1655640" cy="541080"/>
                <a:chOff x="6731640" y="5157360"/>
                <a:chExt cx="1655640" cy="541080"/>
              </a:xfrm>
            </p:grpSpPr>
            <p:pic>
              <p:nvPicPr>
                <p:cNvPr id="235" name="矩形 3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31640" y="5157360"/>
                  <a:ext cx="1655640" cy="54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" name=""/>
                <p:cNvSpPr/>
                <p:nvPr/>
              </p:nvSpPr>
              <p:spPr>
                <a:xfrm>
                  <a:off x="6789960" y="5198400"/>
                  <a:ext cx="154548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rbel"/>
                    </a:rPr>
                    <a:t>TEX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7" name="群組 34"/>
            <p:cNvGrpSpPr/>
            <p:nvPr/>
          </p:nvGrpSpPr>
          <p:grpSpPr>
            <a:xfrm>
              <a:off x="4787640" y="5157360"/>
              <a:ext cx="1655640" cy="1152000"/>
              <a:chOff x="4787640" y="5157360"/>
              <a:chExt cx="1655640" cy="1152000"/>
            </a:xfrm>
          </p:grpSpPr>
          <p:sp>
            <p:nvSpPr>
              <p:cNvPr id="238" name="矩形 35"/>
              <p:cNvSpPr/>
              <p:nvPr/>
            </p:nvSpPr>
            <p:spPr>
              <a:xfrm>
                <a:off x="4846680" y="5198760"/>
                <a:ext cx="1545480" cy="1110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9" name="矩形 36"/>
              <p:cNvGrpSpPr/>
              <p:nvPr/>
            </p:nvGrpSpPr>
            <p:grpSpPr>
              <a:xfrm>
                <a:off x="4787640" y="5157360"/>
                <a:ext cx="1655640" cy="541080"/>
                <a:chOff x="4787640" y="5157360"/>
                <a:chExt cx="1655640" cy="541080"/>
              </a:xfrm>
            </p:grpSpPr>
            <p:pic>
              <p:nvPicPr>
                <p:cNvPr id="240" name="矩形 3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787640" y="5157360"/>
                  <a:ext cx="1655640" cy="54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"/>
                <p:cNvSpPr/>
                <p:nvPr/>
              </p:nvSpPr>
              <p:spPr>
                <a:xfrm>
                  <a:off x="4846680" y="5198400"/>
                  <a:ext cx="154548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rbel"/>
                    </a:rPr>
                    <a:t>TEX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群組 37"/>
            <p:cNvGrpSpPr/>
            <p:nvPr/>
          </p:nvGrpSpPr>
          <p:grpSpPr>
            <a:xfrm>
              <a:off x="2844000" y="5157360"/>
              <a:ext cx="1655640" cy="1152000"/>
              <a:chOff x="2844000" y="5157360"/>
              <a:chExt cx="1655640" cy="1152000"/>
            </a:xfrm>
          </p:grpSpPr>
          <p:sp>
            <p:nvSpPr>
              <p:cNvPr id="243" name="矩形 38"/>
              <p:cNvSpPr/>
              <p:nvPr/>
            </p:nvSpPr>
            <p:spPr>
              <a:xfrm>
                <a:off x="2899080" y="5198760"/>
                <a:ext cx="1550880" cy="1110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4" name="矩形 39"/>
              <p:cNvGrpSpPr/>
              <p:nvPr/>
            </p:nvGrpSpPr>
            <p:grpSpPr>
              <a:xfrm>
                <a:off x="2844000" y="5157360"/>
                <a:ext cx="1655640" cy="541080"/>
                <a:chOff x="2844000" y="5157360"/>
                <a:chExt cx="1655640" cy="541080"/>
              </a:xfrm>
            </p:grpSpPr>
            <p:pic>
              <p:nvPicPr>
                <p:cNvPr id="245" name="矩形 3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844000" y="5157360"/>
                  <a:ext cx="1655640" cy="54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6" name=""/>
                <p:cNvSpPr/>
                <p:nvPr/>
              </p:nvSpPr>
              <p:spPr>
                <a:xfrm>
                  <a:off x="2898360" y="5198400"/>
                  <a:ext cx="155088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rbel"/>
                    </a:rPr>
                    <a:t>TEX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群組 40"/>
            <p:cNvGrpSpPr/>
            <p:nvPr/>
          </p:nvGrpSpPr>
          <p:grpSpPr>
            <a:xfrm>
              <a:off x="900000" y="5157360"/>
              <a:ext cx="1655640" cy="1152000"/>
              <a:chOff x="900000" y="5157360"/>
              <a:chExt cx="1655640" cy="1152000"/>
            </a:xfrm>
          </p:grpSpPr>
          <p:sp>
            <p:nvSpPr>
              <p:cNvPr id="248" name="矩形 41"/>
              <p:cNvSpPr/>
              <p:nvPr/>
            </p:nvSpPr>
            <p:spPr>
              <a:xfrm>
                <a:off x="955080" y="5198760"/>
                <a:ext cx="1550880" cy="1110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9" name="矩形 42"/>
              <p:cNvGrpSpPr/>
              <p:nvPr/>
            </p:nvGrpSpPr>
            <p:grpSpPr>
              <a:xfrm>
                <a:off x="900000" y="5157360"/>
                <a:ext cx="1655640" cy="541080"/>
                <a:chOff x="900000" y="5157360"/>
                <a:chExt cx="1655640" cy="541080"/>
              </a:xfrm>
            </p:grpSpPr>
            <p:pic>
              <p:nvPicPr>
                <p:cNvPr id="250" name="矩形 4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900000" y="5157360"/>
                  <a:ext cx="1655640" cy="54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"/>
                <p:cNvSpPr/>
                <p:nvPr/>
              </p:nvSpPr>
              <p:spPr>
                <a:xfrm>
                  <a:off x="955080" y="5198400"/>
                  <a:ext cx="155088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rbel"/>
                    </a:rPr>
                    <a:t>TEX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" name="直線接點 44"/>
            <p:cNvSpPr/>
            <p:nvPr/>
          </p:nvSpPr>
          <p:spPr>
            <a:xfrm>
              <a:off x="2626920" y="2276280"/>
              <a:ext cx="72720" cy="4177080"/>
            </a:xfrm>
            <a:prstGeom prst="line">
              <a:avLst/>
            </a:prstGeom>
            <a:ln w="22320">
              <a:solidFill>
                <a:srgbClr val="f2f2f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直線接點 45"/>
            <p:cNvSpPr/>
            <p:nvPr/>
          </p:nvSpPr>
          <p:spPr>
            <a:xfrm>
              <a:off x="4572000" y="2205000"/>
              <a:ext cx="71280" cy="4248360"/>
            </a:xfrm>
            <a:prstGeom prst="line">
              <a:avLst/>
            </a:prstGeom>
            <a:ln w="22320">
              <a:solidFill>
                <a:srgbClr val="f2f2f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直線接點 46"/>
            <p:cNvSpPr/>
            <p:nvPr/>
          </p:nvSpPr>
          <p:spPr>
            <a:xfrm>
              <a:off x="6514920" y="2205000"/>
              <a:ext cx="72720" cy="4248360"/>
            </a:xfrm>
            <a:prstGeom prst="line">
              <a:avLst/>
            </a:prstGeom>
            <a:ln w="22320">
              <a:solidFill>
                <a:srgbClr val="f2f2f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直線接點 47"/>
            <p:cNvSpPr/>
            <p:nvPr/>
          </p:nvSpPr>
          <p:spPr>
            <a:xfrm flipH="1">
              <a:off x="899640" y="3645000"/>
              <a:ext cx="7559640" cy="71280"/>
            </a:xfrm>
            <a:prstGeom prst="line">
              <a:avLst/>
            </a:prstGeom>
            <a:ln w="22320">
              <a:solidFill>
                <a:srgbClr val="f2f2f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直線接點 50"/>
            <p:cNvSpPr/>
            <p:nvPr/>
          </p:nvSpPr>
          <p:spPr>
            <a:xfrm flipH="1">
              <a:off x="899640" y="5013360"/>
              <a:ext cx="7559640" cy="71280"/>
            </a:xfrm>
            <a:prstGeom prst="line">
              <a:avLst/>
            </a:prstGeom>
            <a:ln w="22320">
              <a:solidFill>
                <a:srgbClr val="f2f2f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矩形 64"/>
          <p:cNvSpPr/>
          <p:nvPr/>
        </p:nvSpPr>
        <p:spPr>
          <a:xfrm>
            <a:off x="2627280" y="3128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Calibri"/>
                <a:ea typeface="Arial"/>
              </a:rPr>
              <a:t>This is an example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文字方塊 24"/>
          <p:cNvSpPr/>
          <p:nvPr/>
        </p:nvSpPr>
        <p:spPr>
          <a:xfrm>
            <a:off x="920520" y="961920"/>
            <a:ext cx="4204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ffffff"/>
                </a:solidFill>
                <a:latin typeface="Calibri"/>
                <a:ea typeface="Arial"/>
              </a:rPr>
              <a:t>Example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矩形 57"/>
          <p:cNvSpPr/>
          <p:nvPr/>
        </p:nvSpPr>
        <p:spPr>
          <a:xfrm>
            <a:off x="971640" y="4292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矩形 58"/>
          <p:cNvSpPr/>
          <p:nvPr/>
        </p:nvSpPr>
        <p:spPr>
          <a:xfrm>
            <a:off x="2843280" y="4292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矩形 59"/>
          <p:cNvSpPr/>
          <p:nvPr/>
        </p:nvSpPr>
        <p:spPr>
          <a:xfrm>
            <a:off x="4859280" y="4292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矩形 60"/>
          <p:cNvSpPr/>
          <p:nvPr/>
        </p:nvSpPr>
        <p:spPr>
          <a:xfrm>
            <a:off x="6804000" y="4292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矩形 61"/>
          <p:cNvSpPr/>
          <p:nvPr/>
        </p:nvSpPr>
        <p:spPr>
          <a:xfrm>
            <a:off x="6804000" y="56624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矩形 62"/>
          <p:cNvSpPr/>
          <p:nvPr/>
        </p:nvSpPr>
        <p:spPr>
          <a:xfrm>
            <a:off x="4859280" y="5661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矩形 63"/>
          <p:cNvSpPr/>
          <p:nvPr/>
        </p:nvSpPr>
        <p:spPr>
          <a:xfrm>
            <a:off x="2916360" y="5661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矩形 64"/>
          <p:cNvSpPr/>
          <p:nvPr/>
        </p:nvSpPr>
        <p:spPr>
          <a:xfrm>
            <a:off x="1042920" y="5661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1eeff"/>
                </a:solidFill>
                <a:latin typeface="Consolas"/>
              </a:rPr>
              <a:t>使用规范说明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rbe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Corbe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Corbe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orbe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orbe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Corbe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Corbe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orbe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Corbe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AD7-21C5-4E0D-85DE-3456E10A34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圖片 237" descr="wallpaper-4215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1" name="群組 236"/>
          <p:cNvGrpSpPr/>
          <p:nvPr/>
        </p:nvGrpSpPr>
        <p:grpSpPr>
          <a:xfrm>
            <a:off x="6588000" y="3429000"/>
            <a:ext cx="2087640" cy="2952720"/>
            <a:chOff x="6588000" y="3429000"/>
            <a:chExt cx="2087640" cy="2952720"/>
          </a:xfrm>
        </p:grpSpPr>
        <p:sp>
          <p:nvSpPr>
            <p:cNvPr id="272" name="矩形 145"/>
            <p:cNvSpPr/>
            <p:nvPr/>
          </p:nvSpPr>
          <p:spPr>
            <a:xfrm>
              <a:off x="6588000" y="3429000"/>
              <a:ext cx="2087640" cy="2952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30360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630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630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630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630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630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630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3" name="群組 144"/>
            <p:cNvGrpSpPr/>
            <p:nvPr/>
          </p:nvGrpSpPr>
          <p:grpSpPr>
            <a:xfrm>
              <a:off x="6732000" y="3717000"/>
              <a:ext cx="431640" cy="2448720"/>
              <a:chOff x="6732000" y="3717000"/>
              <a:chExt cx="431640" cy="2448720"/>
            </a:xfrm>
          </p:grpSpPr>
          <p:grpSp>
            <p:nvGrpSpPr>
              <p:cNvPr id="274" name="群組 87"/>
              <p:cNvGrpSpPr/>
              <p:nvPr/>
            </p:nvGrpSpPr>
            <p:grpSpPr>
              <a:xfrm>
                <a:off x="6732000" y="3717000"/>
                <a:ext cx="431640" cy="758160"/>
                <a:chOff x="6732000" y="3717000"/>
                <a:chExt cx="431640" cy="758160"/>
              </a:xfrm>
            </p:grpSpPr>
            <p:pic>
              <p:nvPicPr>
                <p:cNvPr id="275" name="群組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42160" y="4173120"/>
                  <a:ext cx="210960" cy="3020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76" name="圓角化同側角落矩形 89"/>
                <p:cNvGrpSpPr/>
                <p:nvPr/>
              </p:nvGrpSpPr>
              <p:grpSpPr>
                <a:xfrm>
                  <a:off x="6808680" y="3864960"/>
                  <a:ext cx="278280" cy="404640"/>
                  <a:chOff x="6808680" y="3864960"/>
                  <a:chExt cx="278280" cy="404640"/>
                </a:xfrm>
              </p:grpSpPr>
              <p:pic>
                <p:nvPicPr>
                  <p:cNvPr id="277" name="圓角化同側角落矩形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08680" y="3864960"/>
                    <a:ext cx="2782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8" name=""/>
                  <p:cNvSpPr/>
                  <p:nvPr/>
                </p:nvSpPr>
                <p:spPr>
                  <a:xfrm>
                    <a:off x="6867360" y="3911400"/>
                    <a:ext cx="168120" cy="27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圓角矩形 90"/>
                <p:cNvGrpSpPr/>
                <p:nvPr/>
              </p:nvGrpSpPr>
              <p:grpSpPr>
                <a:xfrm>
                  <a:off x="6732000" y="3876480"/>
                  <a:ext cx="167760" cy="342000"/>
                  <a:chOff x="6732000" y="3876480"/>
                  <a:chExt cx="167760" cy="342000"/>
                </a:xfrm>
              </p:grpSpPr>
              <p:pic>
                <p:nvPicPr>
                  <p:cNvPr id="280" name="圓角矩形 9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000" y="3876480"/>
                    <a:ext cx="167760" cy="3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1" name=""/>
                  <p:cNvSpPr/>
                  <p:nvPr/>
                </p:nvSpPr>
                <p:spPr>
                  <a:xfrm>
                    <a:off x="6789240" y="3922200"/>
                    <a:ext cx="61560" cy="20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圓角矩形 91"/>
                <p:cNvGrpSpPr/>
                <p:nvPr/>
              </p:nvGrpSpPr>
              <p:grpSpPr>
                <a:xfrm>
                  <a:off x="6995880" y="3876480"/>
                  <a:ext cx="167760" cy="342000"/>
                  <a:chOff x="6995880" y="3876480"/>
                  <a:chExt cx="167760" cy="342000"/>
                </a:xfrm>
              </p:grpSpPr>
              <p:pic>
                <p:nvPicPr>
                  <p:cNvPr id="283" name="圓角矩形 9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95880" y="3876480"/>
                    <a:ext cx="167760" cy="3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4" name=""/>
                  <p:cNvSpPr/>
                  <p:nvPr/>
                </p:nvSpPr>
                <p:spPr>
                  <a:xfrm>
                    <a:off x="7052400" y="3922200"/>
                    <a:ext cx="61560" cy="20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橢圓 92"/>
                <p:cNvGrpSpPr/>
                <p:nvPr/>
              </p:nvGrpSpPr>
              <p:grpSpPr>
                <a:xfrm>
                  <a:off x="6803640" y="3717000"/>
                  <a:ext cx="249480" cy="267840"/>
                  <a:chOff x="6803640" y="3717000"/>
                  <a:chExt cx="249480" cy="267840"/>
                </a:xfrm>
              </p:grpSpPr>
              <p:pic>
                <p:nvPicPr>
                  <p:cNvPr id="286" name="橢圓 9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3640" y="3717000"/>
                    <a:ext cx="249480" cy="26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7" name=""/>
                  <p:cNvSpPr/>
                  <p:nvPr/>
                </p:nvSpPr>
                <p:spPr>
                  <a:xfrm>
                    <a:off x="6900840" y="3776760"/>
                    <a:ext cx="100800" cy="10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8" name="群組 96"/>
              <p:cNvGrpSpPr/>
              <p:nvPr/>
            </p:nvGrpSpPr>
            <p:grpSpPr>
              <a:xfrm>
                <a:off x="6732000" y="4591080"/>
                <a:ext cx="431640" cy="758160"/>
                <a:chOff x="6732000" y="4591080"/>
                <a:chExt cx="431640" cy="758160"/>
              </a:xfrm>
            </p:grpSpPr>
            <p:pic>
              <p:nvPicPr>
                <p:cNvPr id="289" name="群組 1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42160" y="5043600"/>
                  <a:ext cx="210960" cy="3056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90" name="圓角化同側角落矩形 98"/>
                <p:cNvGrpSpPr/>
                <p:nvPr/>
              </p:nvGrpSpPr>
              <p:grpSpPr>
                <a:xfrm>
                  <a:off x="6808680" y="4743720"/>
                  <a:ext cx="278280" cy="396000"/>
                  <a:chOff x="6808680" y="4743720"/>
                  <a:chExt cx="278280" cy="396000"/>
                </a:xfrm>
              </p:grpSpPr>
              <p:pic>
                <p:nvPicPr>
                  <p:cNvPr id="291" name="圓角化同側角落矩形 9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08680" y="4743720"/>
                    <a:ext cx="278280" cy="3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6867360" y="4786200"/>
                    <a:ext cx="16812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圓角矩形 99"/>
                <p:cNvGrpSpPr/>
                <p:nvPr/>
              </p:nvGrpSpPr>
              <p:grpSpPr>
                <a:xfrm>
                  <a:off x="6732000" y="4754880"/>
                  <a:ext cx="167760" cy="333720"/>
                  <a:chOff x="6732000" y="4754880"/>
                  <a:chExt cx="167760" cy="333720"/>
                </a:xfrm>
              </p:grpSpPr>
              <p:pic>
                <p:nvPicPr>
                  <p:cNvPr id="294" name="圓角矩形 9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32000" y="4754880"/>
                    <a:ext cx="167760" cy="3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"/>
                  <p:cNvSpPr/>
                  <p:nvPr/>
                </p:nvSpPr>
                <p:spPr>
                  <a:xfrm>
                    <a:off x="6789240" y="4796640"/>
                    <a:ext cx="61560" cy="20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圓角矩形 100"/>
                <p:cNvGrpSpPr/>
                <p:nvPr/>
              </p:nvGrpSpPr>
              <p:grpSpPr>
                <a:xfrm>
                  <a:off x="6995880" y="4754880"/>
                  <a:ext cx="167760" cy="333720"/>
                  <a:chOff x="6995880" y="4754880"/>
                  <a:chExt cx="167760" cy="333720"/>
                </a:xfrm>
              </p:grpSpPr>
              <p:pic>
                <p:nvPicPr>
                  <p:cNvPr id="297" name="圓角矩形 10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95880" y="4754880"/>
                    <a:ext cx="167760" cy="3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8" name=""/>
                  <p:cNvSpPr/>
                  <p:nvPr/>
                </p:nvSpPr>
                <p:spPr>
                  <a:xfrm>
                    <a:off x="7052400" y="4796640"/>
                    <a:ext cx="61560" cy="20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橢圓 101"/>
                <p:cNvGrpSpPr/>
                <p:nvPr/>
              </p:nvGrpSpPr>
              <p:grpSpPr>
                <a:xfrm>
                  <a:off x="6803640" y="4591080"/>
                  <a:ext cx="249480" cy="271440"/>
                  <a:chOff x="6803640" y="4591080"/>
                  <a:chExt cx="249480" cy="271440"/>
                </a:xfrm>
              </p:grpSpPr>
              <p:pic>
                <p:nvPicPr>
                  <p:cNvPr id="300" name="橢圓 1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03640" y="4591080"/>
                    <a:ext cx="24948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1" name=""/>
                  <p:cNvSpPr/>
                  <p:nvPr/>
                </p:nvSpPr>
                <p:spPr>
                  <a:xfrm>
                    <a:off x="6900840" y="4652280"/>
                    <a:ext cx="100800" cy="10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群組 105"/>
              <p:cNvGrpSpPr/>
              <p:nvPr/>
            </p:nvGrpSpPr>
            <p:grpSpPr>
              <a:xfrm>
                <a:off x="6732000" y="5407560"/>
                <a:ext cx="431640" cy="758160"/>
                <a:chOff x="6732000" y="5407560"/>
                <a:chExt cx="431640" cy="758160"/>
              </a:xfrm>
            </p:grpSpPr>
            <p:pic>
              <p:nvPicPr>
                <p:cNvPr id="303" name="群組 1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42160" y="5863680"/>
                  <a:ext cx="210960" cy="3020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04" name="圓角化同側角落矩形 107"/>
                <p:cNvGrpSpPr/>
                <p:nvPr/>
              </p:nvGrpSpPr>
              <p:grpSpPr>
                <a:xfrm>
                  <a:off x="6808680" y="5561280"/>
                  <a:ext cx="278280" cy="398880"/>
                  <a:chOff x="6808680" y="5561280"/>
                  <a:chExt cx="278280" cy="398880"/>
                </a:xfrm>
              </p:grpSpPr>
              <p:pic>
                <p:nvPicPr>
                  <p:cNvPr id="305" name="圓角化同側角落矩形 10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808680" y="5561280"/>
                    <a:ext cx="278280" cy="3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6" name=""/>
                  <p:cNvSpPr/>
                  <p:nvPr/>
                </p:nvSpPr>
                <p:spPr>
                  <a:xfrm>
                    <a:off x="6867360" y="5603400"/>
                    <a:ext cx="168120" cy="27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圓角矩形 108"/>
                <p:cNvGrpSpPr/>
                <p:nvPr/>
              </p:nvGrpSpPr>
              <p:grpSpPr>
                <a:xfrm>
                  <a:off x="6732000" y="5572800"/>
                  <a:ext cx="167760" cy="336240"/>
                  <a:chOff x="6732000" y="5572800"/>
                  <a:chExt cx="167760" cy="336240"/>
                </a:xfrm>
              </p:grpSpPr>
              <p:pic>
                <p:nvPicPr>
                  <p:cNvPr id="308" name="圓角矩形 10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32000" y="5572800"/>
                    <a:ext cx="16776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9" name=""/>
                  <p:cNvSpPr/>
                  <p:nvPr/>
                </p:nvSpPr>
                <p:spPr>
                  <a:xfrm>
                    <a:off x="6789240" y="5614200"/>
                    <a:ext cx="61560" cy="20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圓角矩形 109"/>
                <p:cNvGrpSpPr/>
                <p:nvPr/>
              </p:nvGrpSpPr>
              <p:grpSpPr>
                <a:xfrm>
                  <a:off x="6995880" y="5572800"/>
                  <a:ext cx="167760" cy="336240"/>
                  <a:chOff x="6995880" y="5572800"/>
                  <a:chExt cx="167760" cy="336240"/>
                </a:xfrm>
              </p:grpSpPr>
              <p:pic>
                <p:nvPicPr>
                  <p:cNvPr id="311" name="圓角矩形 10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995880" y="5572800"/>
                    <a:ext cx="16776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2" name=""/>
                  <p:cNvSpPr/>
                  <p:nvPr/>
                </p:nvSpPr>
                <p:spPr>
                  <a:xfrm>
                    <a:off x="7052400" y="5614200"/>
                    <a:ext cx="61560" cy="20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橢圓 110"/>
                <p:cNvGrpSpPr/>
                <p:nvPr/>
              </p:nvGrpSpPr>
              <p:grpSpPr>
                <a:xfrm>
                  <a:off x="6803640" y="5407560"/>
                  <a:ext cx="249480" cy="273600"/>
                  <a:chOff x="6803640" y="5407560"/>
                  <a:chExt cx="249480" cy="273600"/>
                </a:xfrm>
              </p:grpSpPr>
              <p:pic>
                <p:nvPicPr>
                  <p:cNvPr id="314" name="橢圓 1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03640" y="5407560"/>
                    <a:ext cx="249480" cy="2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5" name=""/>
                  <p:cNvSpPr/>
                  <p:nvPr/>
                </p:nvSpPr>
                <p:spPr>
                  <a:xfrm>
                    <a:off x="6900840" y="5468760"/>
                    <a:ext cx="100800" cy="10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16" name="群組 235"/>
          <p:cNvGrpSpPr/>
          <p:nvPr/>
        </p:nvGrpSpPr>
        <p:grpSpPr>
          <a:xfrm>
            <a:off x="804960" y="1479600"/>
            <a:ext cx="7654680" cy="4498560"/>
            <a:chOff x="804960" y="1479600"/>
            <a:chExt cx="7654680" cy="4498560"/>
          </a:xfrm>
        </p:grpSpPr>
        <p:grpSp>
          <p:nvGrpSpPr>
            <p:cNvPr id="317" name="群組 234"/>
            <p:cNvGrpSpPr/>
            <p:nvPr/>
          </p:nvGrpSpPr>
          <p:grpSpPr>
            <a:xfrm>
              <a:off x="804960" y="1479600"/>
              <a:ext cx="7654680" cy="4498560"/>
              <a:chOff x="804960" y="1479600"/>
              <a:chExt cx="7654680" cy="4498560"/>
            </a:xfrm>
          </p:grpSpPr>
          <p:grpSp>
            <p:nvGrpSpPr>
              <p:cNvPr id="318" name="群組 231"/>
              <p:cNvGrpSpPr/>
              <p:nvPr/>
            </p:nvGrpSpPr>
            <p:grpSpPr>
              <a:xfrm>
                <a:off x="804960" y="1479600"/>
                <a:ext cx="7599600" cy="4498560"/>
                <a:chOff x="804960" y="1479600"/>
                <a:chExt cx="7599600" cy="4498560"/>
              </a:xfrm>
            </p:grpSpPr>
            <p:grpSp>
              <p:nvGrpSpPr>
                <p:cNvPr id="319" name="群組 216"/>
                <p:cNvGrpSpPr/>
                <p:nvPr/>
              </p:nvGrpSpPr>
              <p:grpSpPr>
                <a:xfrm>
                  <a:off x="2780640" y="2693520"/>
                  <a:ext cx="3647880" cy="2086200"/>
                  <a:chOff x="2780640" y="2693520"/>
                  <a:chExt cx="3647880" cy="2086200"/>
                </a:xfrm>
              </p:grpSpPr>
              <p:grpSp>
                <p:nvGrpSpPr>
                  <p:cNvPr id="320" name="群組 183"/>
                  <p:cNvGrpSpPr/>
                  <p:nvPr/>
                </p:nvGrpSpPr>
                <p:grpSpPr>
                  <a:xfrm>
                    <a:off x="3591000" y="2917800"/>
                    <a:ext cx="2837520" cy="1861920"/>
                    <a:chOff x="3591000" y="2917800"/>
                    <a:chExt cx="2837520" cy="1861920"/>
                  </a:xfrm>
                </p:grpSpPr>
                <p:sp>
                  <p:nvSpPr>
                    <p:cNvPr id="321" name="手繪多邊形 184"/>
                    <p:cNvSpPr/>
                    <p:nvPr/>
                  </p:nvSpPr>
                  <p:spPr>
                    <a:xfrm rot="868800">
                      <a:off x="3801960" y="3210840"/>
                      <a:ext cx="2506680" cy="127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60329" h="6381328">
                          <a:moveTo>
                            <a:pt x="6028489" y="0"/>
                          </a:moveTo>
                          <a:lnTo>
                            <a:pt x="9160329" y="0"/>
                          </a:lnTo>
                          <a:lnTo>
                            <a:pt x="3167743" y="6381328"/>
                          </a:lnTo>
                          <a:lnTo>
                            <a:pt x="0" y="6381328"/>
                          </a:lnTo>
                          <a:lnTo>
                            <a:pt x="6028489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19080">
                      <a:solidFill>
                        <a:srgbClr val="5c992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手繪多邊形 185"/>
                    <p:cNvSpPr/>
                    <p:nvPr/>
                  </p:nvSpPr>
                  <p:spPr>
                    <a:xfrm>
                      <a:off x="3591000" y="4138920"/>
                      <a:ext cx="928440" cy="61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8924" h="1872209">
                          <a:moveTo>
                            <a:pt x="3048924" y="677869"/>
                          </a:moveTo>
                          <a:lnTo>
                            <a:pt x="2760892" y="1872209"/>
                          </a:lnTo>
                          <a:lnTo>
                            <a:pt x="0" y="1195651"/>
                          </a:lnTo>
                          <a:lnTo>
                            <a:pt x="312620" y="0"/>
                          </a:lnTo>
                          <a:lnTo>
                            <a:pt x="3048924" y="677869"/>
                          </a:lnTo>
                          <a:close/>
                        </a:path>
                      </a:pathLst>
                    </a:custGeom>
                    <a:solidFill>
                      <a:srgbClr val="a6a6a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群組 183"/>
                  <p:cNvGrpSpPr/>
                  <p:nvPr/>
                </p:nvGrpSpPr>
                <p:grpSpPr>
                  <a:xfrm>
                    <a:off x="2780640" y="2693520"/>
                    <a:ext cx="2837520" cy="1861920"/>
                    <a:chOff x="2780640" y="2693520"/>
                    <a:chExt cx="2837520" cy="1861920"/>
                  </a:xfrm>
                </p:grpSpPr>
                <p:sp>
                  <p:nvSpPr>
                    <p:cNvPr id="324" name="手繪多邊形 200"/>
                    <p:cNvSpPr/>
                    <p:nvPr/>
                  </p:nvSpPr>
                  <p:spPr>
                    <a:xfrm rot="868800">
                      <a:off x="2991600" y="2986560"/>
                      <a:ext cx="2506680" cy="127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60329" h="6381328">
                          <a:moveTo>
                            <a:pt x="6028489" y="0"/>
                          </a:moveTo>
                          <a:lnTo>
                            <a:pt x="9160329" y="0"/>
                          </a:lnTo>
                          <a:lnTo>
                            <a:pt x="3167743" y="6381328"/>
                          </a:lnTo>
                          <a:lnTo>
                            <a:pt x="0" y="6381328"/>
                          </a:lnTo>
                          <a:lnTo>
                            <a:pt x="6028489" y="0"/>
                          </a:lnTo>
                          <a:close/>
                        </a:path>
                      </a:pathLst>
                    </a:custGeom>
                    <a:solidFill>
                      <a:srgbClr val="f2f2f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手繪多邊形 201"/>
                    <p:cNvSpPr/>
                    <p:nvPr/>
                  </p:nvSpPr>
                  <p:spPr>
                    <a:xfrm>
                      <a:off x="2780640" y="3913920"/>
                      <a:ext cx="928440" cy="61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8924" h="1872209">
                          <a:moveTo>
                            <a:pt x="3048924" y="677869"/>
                          </a:moveTo>
                          <a:lnTo>
                            <a:pt x="2760892" y="1872209"/>
                          </a:lnTo>
                          <a:lnTo>
                            <a:pt x="0" y="1195651"/>
                          </a:lnTo>
                          <a:lnTo>
                            <a:pt x="312620" y="0"/>
                          </a:lnTo>
                          <a:lnTo>
                            <a:pt x="3048924" y="677869"/>
                          </a:lnTo>
                          <a:close/>
                        </a:path>
                      </a:pathLst>
                    </a:custGeom>
                    <a:solidFill>
                      <a:srgbClr val="d9d9d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6" name="群組 217"/>
                <p:cNvGrpSpPr/>
                <p:nvPr/>
              </p:nvGrpSpPr>
              <p:grpSpPr>
                <a:xfrm>
                  <a:off x="804960" y="3891600"/>
                  <a:ext cx="3647880" cy="2086560"/>
                  <a:chOff x="804960" y="3891600"/>
                  <a:chExt cx="3647880" cy="2086560"/>
                </a:xfrm>
              </p:grpSpPr>
              <p:grpSp>
                <p:nvGrpSpPr>
                  <p:cNvPr id="327" name="群組 183"/>
                  <p:cNvGrpSpPr/>
                  <p:nvPr/>
                </p:nvGrpSpPr>
                <p:grpSpPr>
                  <a:xfrm>
                    <a:off x="1615320" y="4115880"/>
                    <a:ext cx="2837520" cy="1862280"/>
                    <a:chOff x="1615320" y="4115880"/>
                    <a:chExt cx="2837520" cy="1862280"/>
                  </a:xfrm>
                </p:grpSpPr>
                <p:sp>
                  <p:nvSpPr>
                    <p:cNvPr id="328" name="手繪多邊形 222"/>
                    <p:cNvSpPr/>
                    <p:nvPr/>
                  </p:nvSpPr>
                  <p:spPr>
                    <a:xfrm rot="868800">
                      <a:off x="1826280" y="4408920"/>
                      <a:ext cx="2506680" cy="12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60329" h="6381328">
                          <a:moveTo>
                            <a:pt x="6028489" y="0"/>
                          </a:moveTo>
                          <a:lnTo>
                            <a:pt x="9160329" y="0"/>
                          </a:lnTo>
                          <a:lnTo>
                            <a:pt x="3167743" y="6381328"/>
                          </a:lnTo>
                          <a:lnTo>
                            <a:pt x="0" y="6381328"/>
                          </a:lnTo>
                          <a:lnTo>
                            <a:pt x="6028489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19080">
                      <a:solidFill>
                        <a:srgbClr val="5c992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手繪多邊形 223"/>
                    <p:cNvSpPr/>
                    <p:nvPr/>
                  </p:nvSpPr>
                  <p:spPr>
                    <a:xfrm>
                      <a:off x="1615320" y="5337360"/>
                      <a:ext cx="928440" cy="61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8924" h="1872209">
                          <a:moveTo>
                            <a:pt x="3048924" y="677869"/>
                          </a:moveTo>
                          <a:lnTo>
                            <a:pt x="2760892" y="1872209"/>
                          </a:lnTo>
                          <a:lnTo>
                            <a:pt x="0" y="1195651"/>
                          </a:lnTo>
                          <a:lnTo>
                            <a:pt x="312620" y="0"/>
                          </a:lnTo>
                          <a:lnTo>
                            <a:pt x="3048924" y="677869"/>
                          </a:lnTo>
                          <a:close/>
                        </a:path>
                      </a:pathLst>
                    </a:custGeom>
                    <a:solidFill>
                      <a:srgbClr val="a6a6a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群組 183"/>
                  <p:cNvGrpSpPr/>
                  <p:nvPr/>
                </p:nvGrpSpPr>
                <p:grpSpPr>
                  <a:xfrm>
                    <a:off x="804960" y="3891600"/>
                    <a:ext cx="2837520" cy="1862280"/>
                    <a:chOff x="804960" y="3891600"/>
                    <a:chExt cx="2837520" cy="1862280"/>
                  </a:xfrm>
                </p:grpSpPr>
                <p:sp>
                  <p:nvSpPr>
                    <p:cNvPr id="331" name="手繪多邊形 220"/>
                    <p:cNvSpPr/>
                    <p:nvPr/>
                  </p:nvSpPr>
                  <p:spPr>
                    <a:xfrm rot="868800">
                      <a:off x="1015920" y="4184640"/>
                      <a:ext cx="2506680" cy="12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60329" h="6381328">
                          <a:moveTo>
                            <a:pt x="6028489" y="0"/>
                          </a:moveTo>
                          <a:lnTo>
                            <a:pt x="9160329" y="0"/>
                          </a:lnTo>
                          <a:lnTo>
                            <a:pt x="3167743" y="6381328"/>
                          </a:lnTo>
                          <a:lnTo>
                            <a:pt x="0" y="6381328"/>
                          </a:lnTo>
                          <a:lnTo>
                            <a:pt x="6028489" y="0"/>
                          </a:lnTo>
                          <a:close/>
                        </a:path>
                      </a:pathLst>
                    </a:custGeom>
                    <a:solidFill>
                      <a:srgbClr val="f2f2f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手繪多邊形 221"/>
                    <p:cNvSpPr/>
                    <p:nvPr/>
                  </p:nvSpPr>
                  <p:spPr>
                    <a:xfrm>
                      <a:off x="804960" y="5113080"/>
                      <a:ext cx="928440" cy="61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8924" h="1872209">
                          <a:moveTo>
                            <a:pt x="3048924" y="677869"/>
                          </a:moveTo>
                          <a:lnTo>
                            <a:pt x="2760892" y="1872209"/>
                          </a:lnTo>
                          <a:lnTo>
                            <a:pt x="0" y="1195651"/>
                          </a:lnTo>
                          <a:lnTo>
                            <a:pt x="312620" y="0"/>
                          </a:lnTo>
                          <a:lnTo>
                            <a:pt x="3048924" y="677869"/>
                          </a:lnTo>
                          <a:close/>
                        </a:path>
                      </a:pathLst>
                    </a:custGeom>
                    <a:solidFill>
                      <a:srgbClr val="d9d9d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3" name="群組 224"/>
                <p:cNvGrpSpPr/>
                <p:nvPr/>
              </p:nvGrpSpPr>
              <p:grpSpPr>
                <a:xfrm>
                  <a:off x="4756680" y="1479600"/>
                  <a:ext cx="3647880" cy="2086560"/>
                  <a:chOff x="4756680" y="1479600"/>
                  <a:chExt cx="3647880" cy="2086560"/>
                </a:xfrm>
              </p:grpSpPr>
              <p:grpSp>
                <p:nvGrpSpPr>
                  <p:cNvPr id="334" name="群組 183"/>
                  <p:cNvGrpSpPr/>
                  <p:nvPr/>
                </p:nvGrpSpPr>
                <p:grpSpPr>
                  <a:xfrm>
                    <a:off x="5567040" y="1703880"/>
                    <a:ext cx="2837520" cy="1862280"/>
                    <a:chOff x="5567040" y="1703880"/>
                    <a:chExt cx="2837520" cy="1862280"/>
                  </a:xfrm>
                </p:grpSpPr>
                <p:sp>
                  <p:nvSpPr>
                    <p:cNvPr id="335" name="手繪多邊形 229"/>
                    <p:cNvSpPr/>
                    <p:nvPr/>
                  </p:nvSpPr>
                  <p:spPr>
                    <a:xfrm rot="868800">
                      <a:off x="5778000" y="1996920"/>
                      <a:ext cx="2506680" cy="12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60329" h="6381328">
                          <a:moveTo>
                            <a:pt x="6028489" y="0"/>
                          </a:moveTo>
                          <a:lnTo>
                            <a:pt x="9160329" y="0"/>
                          </a:lnTo>
                          <a:lnTo>
                            <a:pt x="3167743" y="6381328"/>
                          </a:lnTo>
                          <a:lnTo>
                            <a:pt x="0" y="6381328"/>
                          </a:lnTo>
                          <a:lnTo>
                            <a:pt x="6028489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手繪多邊形 230"/>
                    <p:cNvSpPr/>
                    <p:nvPr/>
                  </p:nvSpPr>
                  <p:spPr>
                    <a:xfrm>
                      <a:off x="5567040" y="2925360"/>
                      <a:ext cx="928440" cy="61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8924" h="1872209">
                          <a:moveTo>
                            <a:pt x="3048924" y="677869"/>
                          </a:moveTo>
                          <a:lnTo>
                            <a:pt x="2760892" y="1872209"/>
                          </a:lnTo>
                          <a:lnTo>
                            <a:pt x="0" y="1195651"/>
                          </a:lnTo>
                          <a:lnTo>
                            <a:pt x="312620" y="0"/>
                          </a:lnTo>
                          <a:lnTo>
                            <a:pt x="3048924" y="677869"/>
                          </a:lnTo>
                          <a:close/>
                        </a:path>
                      </a:pathLst>
                    </a:custGeom>
                    <a:solidFill>
                      <a:srgbClr val="a6a6a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群組 183"/>
                  <p:cNvGrpSpPr/>
                  <p:nvPr/>
                </p:nvGrpSpPr>
                <p:grpSpPr>
                  <a:xfrm>
                    <a:off x="4756680" y="1479600"/>
                    <a:ext cx="2837520" cy="1862640"/>
                    <a:chOff x="4756680" y="1479600"/>
                    <a:chExt cx="2837520" cy="1862640"/>
                  </a:xfrm>
                </p:grpSpPr>
                <p:sp>
                  <p:nvSpPr>
                    <p:cNvPr id="338" name="手繪多邊形 227"/>
                    <p:cNvSpPr/>
                    <p:nvPr/>
                  </p:nvSpPr>
                  <p:spPr>
                    <a:xfrm rot="868800">
                      <a:off x="4967640" y="1772640"/>
                      <a:ext cx="2506680" cy="127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60329" h="6381328">
                          <a:moveTo>
                            <a:pt x="6028489" y="0"/>
                          </a:moveTo>
                          <a:lnTo>
                            <a:pt x="9160329" y="0"/>
                          </a:lnTo>
                          <a:lnTo>
                            <a:pt x="3167743" y="6381328"/>
                          </a:lnTo>
                          <a:lnTo>
                            <a:pt x="0" y="6381328"/>
                          </a:lnTo>
                          <a:lnTo>
                            <a:pt x="6028489" y="0"/>
                          </a:lnTo>
                          <a:close/>
                        </a:path>
                      </a:pathLst>
                    </a:custGeom>
                    <a:solidFill>
                      <a:srgbClr val="f2f2f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手繪多邊形 228"/>
                    <p:cNvSpPr/>
                    <p:nvPr/>
                  </p:nvSpPr>
                  <p:spPr>
                    <a:xfrm>
                      <a:off x="4756680" y="2701800"/>
                      <a:ext cx="928440" cy="61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8924" h="1872209">
                          <a:moveTo>
                            <a:pt x="3048924" y="677869"/>
                          </a:moveTo>
                          <a:lnTo>
                            <a:pt x="2760892" y="1872209"/>
                          </a:lnTo>
                          <a:lnTo>
                            <a:pt x="0" y="1195651"/>
                          </a:lnTo>
                          <a:lnTo>
                            <a:pt x="312620" y="0"/>
                          </a:lnTo>
                          <a:lnTo>
                            <a:pt x="3048924" y="677869"/>
                          </a:lnTo>
                          <a:close/>
                        </a:path>
                      </a:pathLst>
                    </a:custGeom>
                    <a:solidFill>
                      <a:srgbClr val="d9d9d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40" name="手繪多邊形 232"/>
              <p:cNvSpPr/>
              <p:nvPr/>
            </p:nvSpPr>
            <p:spPr>
              <a:xfrm>
                <a:off x="7531200" y="1726920"/>
                <a:ext cx="928440" cy="612720"/>
              </a:xfrm>
              <a:custGeom>
                <a:avLst/>
                <a:gdLst/>
                <a:ahLst/>
                <a:rect l="l" t="t" r="r" b="b"/>
                <a:pathLst>
                  <a:path w="3048924" h="1872209">
                    <a:moveTo>
                      <a:pt x="3048924" y="677869"/>
                    </a:moveTo>
                    <a:lnTo>
                      <a:pt x="2760892" y="1872209"/>
                    </a:lnTo>
                    <a:lnTo>
                      <a:pt x="0" y="1195651"/>
                    </a:lnTo>
                    <a:lnTo>
                      <a:pt x="312620" y="0"/>
                    </a:lnTo>
                    <a:lnTo>
                      <a:pt x="3048924" y="67786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手繪多邊形 233"/>
              <p:cNvSpPr/>
              <p:nvPr/>
            </p:nvSpPr>
            <p:spPr>
              <a:xfrm>
                <a:off x="6719760" y="1503360"/>
                <a:ext cx="930240" cy="612720"/>
              </a:xfrm>
              <a:custGeom>
                <a:avLst/>
                <a:gdLst/>
                <a:ahLst/>
                <a:rect l="l" t="t" r="r" b="b"/>
                <a:pathLst>
                  <a:path w="3048924" h="1872209">
                    <a:moveTo>
                      <a:pt x="3048924" y="677869"/>
                    </a:moveTo>
                    <a:lnTo>
                      <a:pt x="2760892" y="1872209"/>
                    </a:lnTo>
                    <a:lnTo>
                      <a:pt x="0" y="1195651"/>
                    </a:lnTo>
                    <a:lnTo>
                      <a:pt x="312620" y="0"/>
                    </a:lnTo>
                    <a:lnTo>
                      <a:pt x="3048924" y="677869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群組 141"/>
              <p:cNvGrpSpPr/>
              <p:nvPr/>
            </p:nvGrpSpPr>
            <p:grpSpPr>
              <a:xfrm>
                <a:off x="1560240" y="4149360"/>
                <a:ext cx="831600" cy="864720"/>
                <a:chOff x="1560240" y="4149360"/>
                <a:chExt cx="831600" cy="864720"/>
              </a:xfrm>
            </p:grpSpPr>
            <p:grpSp>
              <p:nvGrpSpPr>
                <p:cNvPr id="343" name="群組 14"/>
                <p:cNvGrpSpPr/>
                <p:nvPr/>
              </p:nvGrpSpPr>
              <p:grpSpPr>
                <a:xfrm>
                  <a:off x="1560240" y="4149360"/>
                  <a:ext cx="383400" cy="864720"/>
                  <a:chOff x="1560240" y="4149360"/>
                  <a:chExt cx="383400" cy="864720"/>
                </a:xfrm>
              </p:grpSpPr>
              <p:pic>
                <p:nvPicPr>
                  <p:cNvPr id="344" name="群組 1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658520" y="4664880"/>
                    <a:ext cx="1868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45" name="圓角化同側角落矩形 9"/>
                  <p:cNvGrpSpPr/>
                  <p:nvPr/>
                </p:nvGrpSpPr>
                <p:grpSpPr>
                  <a:xfrm>
                    <a:off x="1625760" y="4321080"/>
                    <a:ext cx="252360" cy="441000"/>
                    <a:chOff x="1625760" y="4321080"/>
                    <a:chExt cx="252360" cy="441000"/>
                  </a:xfrm>
                </p:grpSpPr>
                <p:pic>
                  <p:nvPicPr>
                    <p:cNvPr id="346" name="圓角化同側角落矩形 9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625760" y="4321080"/>
                      <a:ext cx="252360" cy="44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1681200" y="4363920"/>
                      <a:ext cx="145440" cy="320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圓角矩形 10"/>
                  <p:cNvGrpSpPr/>
                  <p:nvPr/>
                </p:nvGrpSpPr>
                <p:grpSpPr>
                  <a:xfrm>
                    <a:off x="1560240" y="4332600"/>
                    <a:ext cx="154440" cy="372240"/>
                    <a:chOff x="1560240" y="4332600"/>
                    <a:chExt cx="154440" cy="372240"/>
                  </a:xfrm>
                </p:grpSpPr>
                <p:pic>
                  <p:nvPicPr>
                    <p:cNvPr id="349" name="圓角矩形 10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560240" y="4332600"/>
                      <a:ext cx="154440" cy="37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1613520" y="4376520"/>
                      <a:ext cx="53280" cy="24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圓角矩形 11"/>
                  <p:cNvGrpSpPr/>
                  <p:nvPr/>
                </p:nvGrpSpPr>
                <p:grpSpPr>
                  <a:xfrm>
                    <a:off x="1789200" y="4332600"/>
                    <a:ext cx="154440" cy="372240"/>
                    <a:chOff x="1789200" y="4332600"/>
                    <a:chExt cx="154440" cy="372240"/>
                  </a:xfrm>
                </p:grpSpPr>
                <p:pic>
                  <p:nvPicPr>
                    <p:cNvPr id="352" name="圓角矩形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789200" y="4332600"/>
                      <a:ext cx="154440" cy="37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1841040" y="4376520"/>
                      <a:ext cx="53280" cy="24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橢圓 8"/>
                  <p:cNvGrpSpPr/>
                  <p:nvPr/>
                </p:nvGrpSpPr>
                <p:grpSpPr>
                  <a:xfrm>
                    <a:off x="1616400" y="4149360"/>
                    <a:ext cx="228960" cy="291960"/>
                    <a:chOff x="1616400" y="4149360"/>
                    <a:chExt cx="228960" cy="291960"/>
                  </a:xfrm>
                </p:grpSpPr>
                <p:pic>
                  <p:nvPicPr>
                    <p:cNvPr id="355" name="橢圓 8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616400" y="4149360"/>
                      <a:ext cx="22896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1710360" y="4212000"/>
                      <a:ext cx="87120" cy="11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7" name="群組 15"/>
                <p:cNvGrpSpPr/>
                <p:nvPr/>
              </p:nvGrpSpPr>
              <p:grpSpPr>
                <a:xfrm>
                  <a:off x="2008440" y="4149360"/>
                  <a:ext cx="383400" cy="864720"/>
                  <a:chOff x="2008440" y="4149360"/>
                  <a:chExt cx="383400" cy="864720"/>
                </a:xfrm>
              </p:grpSpPr>
              <p:pic>
                <p:nvPicPr>
                  <p:cNvPr id="358" name="群組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11400" y="4664880"/>
                    <a:ext cx="18216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59" name="圓角化同側角落矩形 17"/>
                  <p:cNvGrpSpPr/>
                  <p:nvPr/>
                </p:nvGrpSpPr>
                <p:grpSpPr>
                  <a:xfrm>
                    <a:off x="2078640" y="4321080"/>
                    <a:ext cx="247680" cy="441000"/>
                    <a:chOff x="2078640" y="4321080"/>
                    <a:chExt cx="247680" cy="441000"/>
                  </a:xfrm>
                </p:grpSpPr>
                <p:pic>
                  <p:nvPicPr>
                    <p:cNvPr id="360" name="圓角化同側角落矩形 17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2078640" y="4321080"/>
                      <a:ext cx="247680" cy="44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2131560" y="4363920"/>
                      <a:ext cx="145440" cy="320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圓角矩形 18"/>
                  <p:cNvGrpSpPr/>
                  <p:nvPr/>
                </p:nvGrpSpPr>
                <p:grpSpPr>
                  <a:xfrm>
                    <a:off x="2008440" y="4332600"/>
                    <a:ext cx="158760" cy="372240"/>
                    <a:chOff x="2008440" y="4332600"/>
                    <a:chExt cx="158760" cy="372240"/>
                  </a:xfrm>
                </p:grpSpPr>
                <p:pic>
                  <p:nvPicPr>
                    <p:cNvPr id="363" name="圓角矩形 1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008440" y="4332600"/>
                      <a:ext cx="158760" cy="37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2063880" y="4376520"/>
                      <a:ext cx="53280" cy="24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圓角矩形 19"/>
                  <p:cNvGrpSpPr/>
                  <p:nvPr/>
                </p:nvGrpSpPr>
                <p:grpSpPr>
                  <a:xfrm>
                    <a:off x="2237760" y="4332600"/>
                    <a:ext cx="154080" cy="372240"/>
                    <a:chOff x="2237760" y="4332600"/>
                    <a:chExt cx="154080" cy="372240"/>
                  </a:xfrm>
                </p:grpSpPr>
                <p:pic>
                  <p:nvPicPr>
                    <p:cNvPr id="366" name="圓角矩形 19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2237760" y="4332600"/>
                      <a:ext cx="154080" cy="37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2291760" y="4376520"/>
                      <a:ext cx="53280" cy="24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橢圓 20"/>
                  <p:cNvGrpSpPr/>
                  <p:nvPr/>
                </p:nvGrpSpPr>
                <p:grpSpPr>
                  <a:xfrm>
                    <a:off x="2069280" y="4149360"/>
                    <a:ext cx="224280" cy="291960"/>
                    <a:chOff x="2069280" y="4149360"/>
                    <a:chExt cx="224280" cy="291960"/>
                  </a:xfrm>
                </p:grpSpPr>
                <p:pic>
                  <p:nvPicPr>
                    <p:cNvPr id="369" name="橢圓 20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069280" y="4149360"/>
                      <a:ext cx="22428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2161080" y="4212000"/>
                      <a:ext cx="87120" cy="117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1" name="群組 142"/>
              <p:cNvGrpSpPr/>
              <p:nvPr/>
            </p:nvGrpSpPr>
            <p:grpSpPr>
              <a:xfrm>
                <a:off x="3449160" y="2853000"/>
                <a:ext cx="1132920" cy="1080000"/>
                <a:chOff x="3449160" y="2853000"/>
                <a:chExt cx="1132920" cy="1080000"/>
              </a:xfrm>
            </p:grpSpPr>
            <p:grpSp>
              <p:nvGrpSpPr>
                <p:cNvPr id="372" name="群組 33"/>
                <p:cNvGrpSpPr/>
                <p:nvPr/>
              </p:nvGrpSpPr>
              <p:grpSpPr>
                <a:xfrm>
                  <a:off x="3826800" y="2971800"/>
                  <a:ext cx="377640" cy="780840"/>
                  <a:chOff x="3826800" y="2971800"/>
                  <a:chExt cx="377640" cy="780840"/>
                </a:xfrm>
              </p:grpSpPr>
              <p:pic>
                <p:nvPicPr>
                  <p:cNvPr id="373" name="群組 13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924720" y="3439080"/>
                    <a:ext cx="181800" cy="3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74" name="圓角化同側角落矩形 35"/>
                  <p:cNvGrpSpPr/>
                  <p:nvPr/>
                </p:nvGrpSpPr>
                <p:grpSpPr>
                  <a:xfrm>
                    <a:off x="3891960" y="3125520"/>
                    <a:ext cx="247320" cy="410400"/>
                    <a:chOff x="3891960" y="3125520"/>
                    <a:chExt cx="247320" cy="410400"/>
                  </a:xfrm>
                </p:grpSpPr>
                <p:pic>
                  <p:nvPicPr>
                    <p:cNvPr id="375" name="圓角化同側角落矩形 3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891960" y="3125520"/>
                      <a:ext cx="247320" cy="41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3945240" y="3168000"/>
                      <a:ext cx="143280" cy="287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圓角矩形 36"/>
                  <p:cNvGrpSpPr/>
                  <p:nvPr/>
                </p:nvGrpSpPr>
                <p:grpSpPr>
                  <a:xfrm>
                    <a:off x="3826800" y="3137040"/>
                    <a:ext cx="153720" cy="347760"/>
                    <a:chOff x="3826800" y="3137040"/>
                    <a:chExt cx="153720" cy="347760"/>
                  </a:xfrm>
                </p:grpSpPr>
                <p:pic>
                  <p:nvPicPr>
                    <p:cNvPr id="378" name="圓角矩形 36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3826800" y="3137040"/>
                      <a:ext cx="15372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3878640" y="3179520"/>
                      <a:ext cx="52200" cy="21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圓角矩形 37"/>
                  <p:cNvGrpSpPr/>
                  <p:nvPr/>
                </p:nvGrpSpPr>
                <p:grpSpPr>
                  <a:xfrm>
                    <a:off x="4050720" y="3137040"/>
                    <a:ext cx="153720" cy="347760"/>
                    <a:chOff x="4050720" y="3137040"/>
                    <a:chExt cx="153720" cy="347760"/>
                  </a:xfrm>
                </p:grpSpPr>
                <p:pic>
                  <p:nvPicPr>
                    <p:cNvPr id="381" name="圓角矩形 37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4050720" y="3137040"/>
                      <a:ext cx="15372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102560" y="3179520"/>
                      <a:ext cx="52200" cy="21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橢圓 38"/>
                  <p:cNvGrpSpPr/>
                  <p:nvPr/>
                </p:nvGrpSpPr>
                <p:grpSpPr>
                  <a:xfrm>
                    <a:off x="3882600" y="2971800"/>
                    <a:ext cx="223920" cy="273600"/>
                    <a:chOff x="3882600" y="2971800"/>
                    <a:chExt cx="223920" cy="273600"/>
                  </a:xfrm>
                </p:grpSpPr>
                <p:pic>
                  <p:nvPicPr>
                    <p:cNvPr id="384" name="橢圓 38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3882600" y="2971800"/>
                      <a:ext cx="223920" cy="2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3973680" y="3030840"/>
                      <a:ext cx="85680" cy="105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6" name="群組 42"/>
                <p:cNvGrpSpPr/>
                <p:nvPr/>
              </p:nvGrpSpPr>
              <p:grpSpPr>
                <a:xfrm>
                  <a:off x="4204440" y="2853000"/>
                  <a:ext cx="377640" cy="779760"/>
                  <a:chOff x="4204440" y="2853000"/>
                  <a:chExt cx="377640" cy="779760"/>
                </a:xfrm>
              </p:grpSpPr>
              <p:pic>
                <p:nvPicPr>
                  <p:cNvPr id="387" name="群組 1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302360" y="3319920"/>
                    <a:ext cx="1818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88" name="圓角化同側角落矩形 44"/>
                  <p:cNvGrpSpPr/>
                  <p:nvPr/>
                </p:nvGrpSpPr>
                <p:grpSpPr>
                  <a:xfrm>
                    <a:off x="4269600" y="3006720"/>
                    <a:ext cx="247320" cy="409680"/>
                    <a:chOff x="4269600" y="3006720"/>
                    <a:chExt cx="247320" cy="409680"/>
                  </a:xfrm>
                </p:grpSpPr>
                <p:pic>
                  <p:nvPicPr>
                    <p:cNvPr id="389" name="圓角化同側角落矩形 44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4269600" y="3006720"/>
                      <a:ext cx="24732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4322520" y="3051720"/>
                      <a:ext cx="143280" cy="286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圓角矩形 45"/>
                  <p:cNvGrpSpPr/>
                  <p:nvPr/>
                </p:nvGrpSpPr>
                <p:grpSpPr>
                  <a:xfrm>
                    <a:off x="4204440" y="3023640"/>
                    <a:ext cx="153720" cy="341640"/>
                    <a:chOff x="4204440" y="3023640"/>
                    <a:chExt cx="153720" cy="341640"/>
                  </a:xfrm>
                </p:grpSpPr>
                <p:pic>
                  <p:nvPicPr>
                    <p:cNvPr id="392" name="圓角矩形 45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4204440" y="3023640"/>
                      <a:ext cx="153720" cy="34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256280" y="3062880"/>
                      <a:ext cx="522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圓角矩形 46"/>
                  <p:cNvGrpSpPr/>
                  <p:nvPr/>
                </p:nvGrpSpPr>
                <p:grpSpPr>
                  <a:xfrm>
                    <a:off x="4428360" y="3023640"/>
                    <a:ext cx="153720" cy="341640"/>
                    <a:chOff x="4428360" y="3023640"/>
                    <a:chExt cx="153720" cy="341640"/>
                  </a:xfrm>
                </p:grpSpPr>
                <p:pic>
                  <p:nvPicPr>
                    <p:cNvPr id="395" name="圓角矩形 46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4428360" y="3023640"/>
                      <a:ext cx="153720" cy="34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4479840" y="3062880"/>
                      <a:ext cx="522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橢圓 47"/>
                  <p:cNvGrpSpPr/>
                  <p:nvPr/>
                </p:nvGrpSpPr>
                <p:grpSpPr>
                  <a:xfrm>
                    <a:off x="4260240" y="2853000"/>
                    <a:ext cx="223920" cy="273240"/>
                    <a:chOff x="4260240" y="2853000"/>
                    <a:chExt cx="223920" cy="273240"/>
                  </a:xfrm>
                </p:grpSpPr>
                <p:pic>
                  <p:nvPicPr>
                    <p:cNvPr id="398" name="橢圓 47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4260240" y="2853000"/>
                      <a:ext cx="223920" cy="27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4351320" y="2914560"/>
                      <a:ext cx="85680" cy="105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0" name="群組 24"/>
                <p:cNvGrpSpPr/>
                <p:nvPr/>
              </p:nvGrpSpPr>
              <p:grpSpPr>
                <a:xfrm>
                  <a:off x="3449160" y="3153240"/>
                  <a:ext cx="377640" cy="779760"/>
                  <a:chOff x="3449160" y="3153240"/>
                  <a:chExt cx="377640" cy="779760"/>
                </a:xfrm>
              </p:grpSpPr>
              <p:pic>
                <p:nvPicPr>
                  <p:cNvPr id="401" name="群組 13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3547080" y="3620160"/>
                    <a:ext cx="1818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402" name="圓角化同側角落矩形 26"/>
                  <p:cNvGrpSpPr/>
                  <p:nvPr/>
                </p:nvGrpSpPr>
                <p:grpSpPr>
                  <a:xfrm>
                    <a:off x="3514320" y="3312360"/>
                    <a:ext cx="247320" cy="404280"/>
                    <a:chOff x="3514320" y="3312360"/>
                    <a:chExt cx="247320" cy="404280"/>
                  </a:xfrm>
                </p:grpSpPr>
                <p:pic>
                  <p:nvPicPr>
                    <p:cNvPr id="403" name="圓角化同側角落矩形 26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3514320" y="3312360"/>
                      <a:ext cx="247320" cy="40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3567600" y="3353040"/>
                      <a:ext cx="143280" cy="286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圓角矩形 27"/>
                  <p:cNvGrpSpPr/>
                  <p:nvPr/>
                </p:nvGrpSpPr>
                <p:grpSpPr>
                  <a:xfrm>
                    <a:off x="3449160" y="3323880"/>
                    <a:ext cx="153720" cy="341640"/>
                    <a:chOff x="3449160" y="3323880"/>
                    <a:chExt cx="153720" cy="341640"/>
                  </a:xfrm>
                </p:grpSpPr>
                <p:pic>
                  <p:nvPicPr>
                    <p:cNvPr id="406" name="圓角矩形 27" descr="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3449160" y="3323880"/>
                      <a:ext cx="153720" cy="34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3501360" y="3364560"/>
                      <a:ext cx="522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圓角矩形 28"/>
                  <p:cNvGrpSpPr/>
                  <p:nvPr/>
                </p:nvGrpSpPr>
                <p:grpSpPr>
                  <a:xfrm>
                    <a:off x="3673080" y="3323880"/>
                    <a:ext cx="153720" cy="341640"/>
                    <a:chOff x="3673080" y="3323880"/>
                    <a:chExt cx="153720" cy="341640"/>
                  </a:xfrm>
                </p:grpSpPr>
                <p:pic>
                  <p:nvPicPr>
                    <p:cNvPr id="409" name="圓角矩形 28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3673080" y="3323880"/>
                      <a:ext cx="153720" cy="34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3724920" y="3364560"/>
                      <a:ext cx="522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橢圓 29"/>
                  <p:cNvGrpSpPr/>
                  <p:nvPr/>
                </p:nvGrpSpPr>
                <p:grpSpPr>
                  <a:xfrm>
                    <a:off x="3504960" y="3153240"/>
                    <a:ext cx="223920" cy="279000"/>
                    <a:chOff x="3504960" y="3153240"/>
                    <a:chExt cx="223920" cy="279000"/>
                  </a:xfrm>
                </p:grpSpPr>
                <p:pic>
                  <p:nvPicPr>
                    <p:cNvPr id="412" name="橢圓 29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3504960" y="3153240"/>
                      <a:ext cx="223920" cy="27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3596400" y="3216600"/>
                      <a:ext cx="85680" cy="105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4" name="群組 143"/>
              <p:cNvGrpSpPr/>
              <p:nvPr/>
            </p:nvGrpSpPr>
            <p:grpSpPr>
              <a:xfrm>
                <a:off x="5262480" y="1556280"/>
                <a:ext cx="1510200" cy="1080360"/>
                <a:chOff x="5262480" y="1556280"/>
                <a:chExt cx="1510200" cy="1080360"/>
              </a:xfrm>
            </p:grpSpPr>
            <p:grpSp>
              <p:nvGrpSpPr>
                <p:cNvPr id="415" name="群組 69"/>
                <p:cNvGrpSpPr/>
                <p:nvPr/>
              </p:nvGrpSpPr>
              <p:grpSpPr>
                <a:xfrm>
                  <a:off x="6378840" y="1556280"/>
                  <a:ext cx="393840" cy="779760"/>
                  <a:chOff x="6378840" y="1556280"/>
                  <a:chExt cx="393840" cy="779760"/>
                </a:xfrm>
              </p:grpSpPr>
              <p:pic>
                <p:nvPicPr>
                  <p:cNvPr id="416" name="群組 1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481800" y="2028600"/>
                    <a:ext cx="187560" cy="30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417" name="圓角化同側角落矩形 71"/>
                  <p:cNvGrpSpPr/>
                  <p:nvPr/>
                </p:nvGrpSpPr>
                <p:grpSpPr>
                  <a:xfrm>
                    <a:off x="6449040" y="1715400"/>
                    <a:ext cx="253080" cy="409680"/>
                    <a:chOff x="6449040" y="1715400"/>
                    <a:chExt cx="253080" cy="409680"/>
                  </a:xfrm>
                </p:grpSpPr>
                <p:pic>
                  <p:nvPicPr>
                    <p:cNvPr id="418" name="圓角化同側角落矩形 71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6449040" y="1715400"/>
                      <a:ext cx="25308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6503760" y="1756800"/>
                      <a:ext cx="149760" cy="285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圓角矩形 72"/>
                  <p:cNvGrpSpPr/>
                  <p:nvPr/>
                </p:nvGrpSpPr>
                <p:grpSpPr>
                  <a:xfrm>
                    <a:off x="6378840" y="1726920"/>
                    <a:ext cx="159480" cy="347040"/>
                    <a:chOff x="6378840" y="1726920"/>
                    <a:chExt cx="159480" cy="347040"/>
                  </a:xfrm>
                </p:grpSpPr>
                <p:pic>
                  <p:nvPicPr>
                    <p:cNvPr id="421" name="圓角矩形 72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6378840" y="1726920"/>
                      <a:ext cx="159480" cy="34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6434280" y="1768320"/>
                      <a:ext cx="54720" cy="21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圓角矩形 73"/>
                  <p:cNvGrpSpPr/>
                  <p:nvPr/>
                </p:nvGrpSpPr>
                <p:grpSpPr>
                  <a:xfrm>
                    <a:off x="6613200" y="1726920"/>
                    <a:ext cx="159480" cy="347040"/>
                    <a:chOff x="6613200" y="1726920"/>
                    <a:chExt cx="159480" cy="347040"/>
                  </a:xfrm>
                </p:grpSpPr>
                <p:pic>
                  <p:nvPicPr>
                    <p:cNvPr id="424" name="圓角矩形 73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6613200" y="1726920"/>
                      <a:ext cx="159480" cy="34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6668640" y="1768320"/>
                      <a:ext cx="54720" cy="21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橢圓 74"/>
                  <p:cNvGrpSpPr/>
                  <p:nvPr/>
                </p:nvGrpSpPr>
                <p:grpSpPr>
                  <a:xfrm>
                    <a:off x="6439680" y="1556280"/>
                    <a:ext cx="229680" cy="279000"/>
                    <a:chOff x="6439680" y="1556280"/>
                    <a:chExt cx="229680" cy="279000"/>
                  </a:xfrm>
                </p:grpSpPr>
                <p:pic>
                  <p:nvPicPr>
                    <p:cNvPr id="427" name="橢圓 74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6439680" y="1556280"/>
                      <a:ext cx="229680" cy="27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6534000" y="1620000"/>
                      <a:ext cx="89640" cy="105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9" name="群組 78"/>
                <p:cNvGrpSpPr/>
                <p:nvPr/>
              </p:nvGrpSpPr>
              <p:grpSpPr>
                <a:xfrm>
                  <a:off x="5985000" y="1556280"/>
                  <a:ext cx="393840" cy="779760"/>
                  <a:chOff x="5985000" y="1556280"/>
                  <a:chExt cx="393840" cy="779760"/>
                </a:xfrm>
              </p:grpSpPr>
              <p:pic>
                <p:nvPicPr>
                  <p:cNvPr id="430" name="群組 13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6084720" y="2028600"/>
                    <a:ext cx="194400" cy="30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431" name="圓角化同側角落矩形 80"/>
                  <p:cNvGrpSpPr/>
                  <p:nvPr/>
                </p:nvGrpSpPr>
                <p:grpSpPr>
                  <a:xfrm>
                    <a:off x="6051240" y="1715400"/>
                    <a:ext cx="261000" cy="409680"/>
                    <a:chOff x="6051240" y="1715400"/>
                    <a:chExt cx="261000" cy="409680"/>
                  </a:xfrm>
                </p:grpSpPr>
                <p:pic>
                  <p:nvPicPr>
                    <p:cNvPr id="432" name="圓角化同側角落矩形 80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6051240" y="1715400"/>
                      <a:ext cx="26100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108480" y="1756800"/>
                      <a:ext cx="151920" cy="285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圓角矩形 81"/>
                  <p:cNvGrpSpPr/>
                  <p:nvPr/>
                </p:nvGrpSpPr>
                <p:grpSpPr>
                  <a:xfrm>
                    <a:off x="5985000" y="1726920"/>
                    <a:ext cx="156600" cy="347040"/>
                    <a:chOff x="5985000" y="1726920"/>
                    <a:chExt cx="156600" cy="347040"/>
                  </a:xfrm>
                </p:grpSpPr>
                <p:pic>
                  <p:nvPicPr>
                    <p:cNvPr id="435" name="圓角矩形 81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5985000" y="1726920"/>
                      <a:ext cx="156600" cy="34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6038280" y="1768320"/>
                      <a:ext cx="55440" cy="21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圓角矩形 82"/>
                  <p:cNvGrpSpPr/>
                  <p:nvPr/>
                </p:nvGrpSpPr>
                <p:grpSpPr>
                  <a:xfrm>
                    <a:off x="6222240" y="1726920"/>
                    <a:ext cx="156600" cy="347040"/>
                    <a:chOff x="6222240" y="1726920"/>
                    <a:chExt cx="156600" cy="347040"/>
                  </a:xfrm>
                </p:grpSpPr>
                <p:pic>
                  <p:nvPicPr>
                    <p:cNvPr id="438" name="圓角矩形 82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6222240" y="1726920"/>
                      <a:ext cx="156600" cy="34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6275520" y="1768320"/>
                      <a:ext cx="55440" cy="21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橢圓 83"/>
                  <p:cNvGrpSpPr/>
                  <p:nvPr/>
                </p:nvGrpSpPr>
                <p:grpSpPr>
                  <a:xfrm>
                    <a:off x="6046560" y="1556280"/>
                    <a:ext cx="232560" cy="279000"/>
                    <a:chOff x="6046560" y="1556280"/>
                    <a:chExt cx="232560" cy="279000"/>
                  </a:xfrm>
                </p:grpSpPr>
                <p:pic>
                  <p:nvPicPr>
                    <p:cNvPr id="441" name="橢圓 83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6046560" y="1556280"/>
                      <a:ext cx="232560" cy="27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6139080" y="1620000"/>
                      <a:ext cx="90720" cy="105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3" name="群組 60"/>
                <p:cNvGrpSpPr/>
                <p:nvPr/>
              </p:nvGrpSpPr>
              <p:grpSpPr>
                <a:xfrm>
                  <a:off x="5656320" y="1855440"/>
                  <a:ext cx="395280" cy="781200"/>
                  <a:chOff x="5656320" y="1855440"/>
                  <a:chExt cx="395280" cy="781200"/>
                </a:xfrm>
              </p:grpSpPr>
              <p:pic>
                <p:nvPicPr>
                  <p:cNvPr id="444" name="群組 13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5759640" y="2325240"/>
                    <a:ext cx="18828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445" name="圓角化同側角落矩形 62"/>
                  <p:cNvGrpSpPr/>
                  <p:nvPr/>
                </p:nvGrpSpPr>
                <p:grpSpPr>
                  <a:xfrm>
                    <a:off x="5726880" y="2013840"/>
                    <a:ext cx="254160" cy="407520"/>
                    <a:chOff x="5726880" y="2013840"/>
                    <a:chExt cx="254160" cy="407520"/>
                  </a:xfrm>
                </p:grpSpPr>
                <p:pic>
                  <p:nvPicPr>
                    <p:cNvPr id="446" name="圓角化同側角落矩形 62" descr=""/>
                    <p:cNvPicPr/>
                    <p:nvPr/>
                  </p:nvPicPr>
                  <p:blipFill>
                    <a:blip r:embed="rId53"/>
                    <a:stretch/>
                  </p:blipFill>
                  <p:spPr>
                    <a:xfrm>
                      <a:off x="5726880" y="2013840"/>
                      <a:ext cx="254160" cy="40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779800" y="2055960"/>
                      <a:ext cx="151200" cy="284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圓角矩形 63"/>
                  <p:cNvGrpSpPr/>
                  <p:nvPr/>
                </p:nvGrpSpPr>
                <p:grpSpPr>
                  <a:xfrm>
                    <a:off x="5656320" y="2025000"/>
                    <a:ext cx="159840" cy="345240"/>
                    <a:chOff x="5656320" y="2025000"/>
                    <a:chExt cx="159840" cy="345240"/>
                  </a:xfrm>
                </p:grpSpPr>
                <p:pic>
                  <p:nvPicPr>
                    <p:cNvPr id="449" name="圓角矩形 63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5656320" y="2025000"/>
                      <a:ext cx="159840" cy="34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5709600" y="2066760"/>
                      <a:ext cx="55080" cy="21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圓角矩形 64"/>
                  <p:cNvGrpSpPr/>
                  <p:nvPr/>
                </p:nvGrpSpPr>
                <p:grpSpPr>
                  <a:xfrm>
                    <a:off x="5891760" y="2025000"/>
                    <a:ext cx="159840" cy="345240"/>
                    <a:chOff x="5891760" y="2025000"/>
                    <a:chExt cx="159840" cy="345240"/>
                  </a:xfrm>
                </p:grpSpPr>
                <p:pic>
                  <p:nvPicPr>
                    <p:cNvPr id="452" name="圓角矩形 64" descr=""/>
                    <p:cNvPicPr/>
                    <p:nvPr/>
                  </p:nvPicPr>
                  <p:blipFill>
                    <a:blip r:embed="rId55"/>
                    <a:stretch/>
                  </p:blipFill>
                  <p:spPr>
                    <a:xfrm>
                      <a:off x="5891760" y="2025000"/>
                      <a:ext cx="159840" cy="34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5945760" y="2066760"/>
                      <a:ext cx="55080" cy="21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橢圓 65"/>
                  <p:cNvGrpSpPr/>
                  <p:nvPr/>
                </p:nvGrpSpPr>
                <p:grpSpPr>
                  <a:xfrm>
                    <a:off x="5717520" y="1855440"/>
                    <a:ext cx="230760" cy="277200"/>
                    <a:chOff x="5717520" y="1855440"/>
                    <a:chExt cx="230760" cy="277200"/>
                  </a:xfrm>
                </p:grpSpPr>
                <p:pic>
                  <p:nvPicPr>
                    <p:cNvPr id="455" name="橢圓 65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5717520" y="1855440"/>
                      <a:ext cx="230760" cy="27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5810040" y="1919160"/>
                      <a:ext cx="90360" cy="105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7" name="群組 51"/>
                <p:cNvGrpSpPr/>
                <p:nvPr/>
              </p:nvGrpSpPr>
              <p:grpSpPr>
                <a:xfrm>
                  <a:off x="5262480" y="1855440"/>
                  <a:ext cx="393840" cy="781200"/>
                  <a:chOff x="5262480" y="1855440"/>
                  <a:chExt cx="393840" cy="781200"/>
                </a:xfrm>
              </p:grpSpPr>
              <p:pic>
                <p:nvPicPr>
                  <p:cNvPr id="458" name="群組 13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5365440" y="2325240"/>
                    <a:ext cx="18756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459" name="圓角化同側角落矩形 53"/>
                  <p:cNvGrpSpPr/>
                  <p:nvPr/>
                </p:nvGrpSpPr>
                <p:grpSpPr>
                  <a:xfrm>
                    <a:off x="5332680" y="2013840"/>
                    <a:ext cx="253080" cy="407520"/>
                    <a:chOff x="5332680" y="2013840"/>
                    <a:chExt cx="253080" cy="407520"/>
                  </a:xfrm>
                </p:grpSpPr>
                <p:pic>
                  <p:nvPicPr>
                    <p:cNvPr id="460" name="圓角化同側角落矩形 53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5332680" y="2013840"/>
                      <a:ext cx="253080" cy="40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5386680" y="2055960"/>
                      <a:ext cx="149760" cy="284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圓角矩形 54"/>
                  <p:cNvGrpSpPr/>
                  <p:nvPr/>
                </p:nvGrpSpPr>
                <p:grpSpPr>
                  <a:xfrm>
                    <a:off x="5262480" y="2025000"/>
                    <a:ext cx="159480" cy="345240"/>
                    <a:chOff x="5262480" y="2025000"/>
                    <a:chExt cx="159480" cy="345240"/>
                  </a:xfrm>
                </p:grpSpPr>
                <p:pic>
                  <p:nvPicPr>
                    <p:cNvPr id="463" name="圓角矩形 54" descr=""/>
                    <p:cNvPicPr/>
                    <p:nvPr/>
                  </p:nvPicPr>
                  <p:blipFill>
                    <a:blip r:embed="rId59"/>
                    <a:stretch/>
                  </p:blipFill>
                  <p:spPr>
                    <a:xfrm>
                      <a:off x="5262480" y="2025000"/>
                      <a:ext cx="159480" cy="34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5317200" y="2066760"/>
                      <a:ext cx="54720" cy="21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圓角矩形 55"/>
                  <p:cNvGrpSpPr/>
                  <p:nvPr/>
                </p:nvGrpSpPr>
                <p:grpSpPr>
                  <a:xfrm>
                    <a:off x="5496840" y="2025000"/>
                    <a:ext cx="159480" cy="345240"/>
                    <a:chOff x="5496840" y="2025000"/>
                    <a:chExt cx="159480" cy="345240"/>
                  </a:xfrm>
                </p:grpSpPr>
                <p:pic>
                  <p:nvPicPr>
                    <p:cNvPr id="466" name="圓角矩形 55" descr="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>
                      <a:off x="5496840" y="2025000"/>
                      <a:ext cx="159480" cy="34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551560" y="2066760"/>
                      <a:ext cx="54720" cy="21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橢圓 56"/>
                  <p:cNvGrpSpPr/>
                  <p:nvPr/>
                </p:nvGrpSpPr>
                <p:grpSpPr>
                  <a:xfrm>
                    <a:off x="5323320" y="1855440"/>
                    <a:ext cx="229680" cy="277200"/>
                    <a:chOff x="5323320" y="1855440"/>
                    <a:chExt cx="229680" cy="277200"/>
                  </a:xfrm>
                </p:grpSpPr>
                <p:pic>
                  <p:nvPicPr>
                    <p:cNvPr id="469" name="橢圓 56" descr=""/>
                    <p:cNvPicPr/>
                    <p:nvPr/>
                  </p:nvPicPr>
                  <p:blipFill>
                    <a:blip r:embed="rId61"/>
                    <a:stretch/>
                  </p:blipFill>
                  <p:spPr>
                    <a:xfrm>
                      <a:off x="5323320" y="1855440"/>
                      <a:ext cx="229680" cy="27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416920" y="1919160"/>
                      <a:ext cx="89640" cy="105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471" name="文字方塊 148"/>
            <p:cNvSpPr/>
            <p:nvPr/>
          </p:nvSpPr>
          <p:spPr>
            <a:xfrm rot="20064600">
              <a:off x="6355800" y="2400840"/>
              <a:ext cx="142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EP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文字方塊 147"/>
            <p:cNvSpPr/>
            <p:nvPr/>
          </p:nvSpPr>
          <p:spPr>
            <a:xfrm rot="20064600">
              <a:off x="4316040" y="3697200"/>
              <a:ext cx="142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EP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文字方塊 146"/>
            <p:cNvSpPr/>
            <p:nvPr/>
          </p:nvSpPr>
          <p:spPr>
            <a:xfrm rot="20064600">
              <a:off x="2427120" y="4849920"/>
              <a:ext cx="142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EP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矩形 64"/>
          <p:cNvSpPr/>
          <p:nvPr/>
        </p:nvSpPr>
        <p:spPr>
          <a:xfrm>
            <a:off x="2627280" y="3128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文字方塊 24"/>
          <p:cNvSpPr/>
          <p:nvPr/>
        </p:nvSpPr>
        <p:spPr>
          <a:xfrm>
            <a:off x="560160" y="1251000"/>
            <a:ext cx="4204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2000" spc="-1" strike="noStrike">
                <a:solidFill>
                  <a:srgbClr val="000000"/>
                </a:solidFill>
                <a:latin typeface="Calibri"/>
                <a:ea typeface="Arial"/>
              </a:rPr>
              <a:t>Example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ample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  <a:ea typeface="Arial"/>
              </a:rPr>
              <a:t>Go ahead and replace it with your own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橢圓 240"/>
          <p:cNvSpPr/>
          <p:nvPr/>
        </p:nvSpPr>
        <p:spPr>
          <a:xfrm>
            <a:off x="1042920" y="4941720"/>
            <a:ext cx="1657440" cy="1429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橢圓 241"/>
          <p:cNvSpPr/>
          <p:nvPr/>
        </p:nvSpPr>
        <p:spPr>
          <a:xfrm>
            <a:off x="3059280" y="3860640"/>
            <a:ext cx="1081080" cy="1447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橢圓 242"/>
          <p:cNvSpPr/>
          <p:nvPr/>
        </p:nvSpPr>
        <p:spPr>
          <a:xfrm>
            <a:off x="3492360" y="3716280"/>
            <a:ext cx="1079640" cy="14436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橢圓 243"/>
          <p:cNvSpPr/>
          <p:nvPr/>
        </p:nvSpPr>
        <p:spPr>
          <a:xfrm>
            <a:off x="3851280" y="3573360"/>
            <a:ext cx="1081080" cy="1429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橢圓 244"/>
          <p:cNvSpPr/>
          <p:nvPr/>
        </p:nvSpPr>
        <p:spPr>
          <a:xfrm>
            <a:off x="4788000" y="2565360"/>
            <a:ext cx="1655640" cy="1429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橢圓 245"/>
          <p:cNvSpPr/>
          <p:nvPr/>
        </p:nvSpPr>
        <p:spPr>
          <a:xfrm>
            <a:off x="5508720" y="2276640"/>
            <a:ext cx="1655640" cy="14436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6a6a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1T12:07:2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22:45Z</dcterms:modified>
  <cp:revision>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