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1.jpeg" ContentType="image/jpeg"/>
  <Override PartName="/ppt/media/chimes.wav" ContentType="audio/x-wav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29.jpeg" ContentType="image/jpeg"/>
  <Override PartName="/ppt/media/image7.gif" ContentType="image/gif"/>
  <Override PartName="/ppt/media/image5.jpeg" ContentType="image/jpeg"/>
  <Override PartName="/ppt/media/image16.png" ContentType="image/png"/>
  <Override PartName="/ppt/media/image13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4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5C1-E9D2-41B2-8B60-D9463A3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617-A884-4AC2-B6A9-CB5F543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82C-837F-4F92-A88F-8860038C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823-1430-4F0F-80C5-8B22DA38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B55-0814-4BE4-9068-227C42E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05B-EBBE-40E1-8FB6-2FE7A005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E25-7511-4AC8-B119-5CECCCA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98-626B-49FB-BEC5-3F9E9C10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5CA-F0E3-487F-A766-A64DC765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AC4-E4CA-43FB-80CB-41F2491C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2CB-2CB2-4090-ACCF-31DB9DE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B65-2C4D-4485-98CC-CDAC267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DCED-B5EF-4761-841F-D2573687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262,14,&#24187;&#28783;&#29255; 14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262,16,&#24187;&#28783;&#29255; 16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11181715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400800" y="622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43680" y="228600"/>
            <a:ext cx="139932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天都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件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58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55640" y="476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假（假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55640" y="1413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假（放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716360" y="476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发（发颤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788000" y="1268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发（头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3429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（照相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4000" y="4221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（相互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276720" y="3429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（应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276720" y="4221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（答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227640" y="335772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似（似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227640" y="4221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似（似的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19280" y="549360"/>
            <a:ext cx="6192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陡峭    铁链    发颤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攀登    鲫鱼    笑呵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山      峰顶     似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发苍苍    仰起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咱们    奋力    小辫子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气    居然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755640" y="549360"/>
            <a:ext cx="408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读课文，思考下面问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1628640"/>
            <a:ext cx="8675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、课文讲了一件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789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、课文是按照什么顺序写这件事情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5373720"/>
            <a:ext cx="7993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5" name="Group 3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96" name="Picture 4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5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6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7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8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9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0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11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Group 12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05" name="Picture 13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4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5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6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17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18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9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20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3" name="Picture 21" descr="mao1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"/>
          <p:cNvSpPr/>
          <p:nvPr/>
        </p:nvSpPr>
        <p:spPr>
          <a:xfrm>
            <a:off x="611280" y="16286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写假日里，我和爸爸去爬（    ），路遇一位（        ），（    ）和（   ）相互（    ），终于（             ）。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6" name="Group 3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117" name="Picture 4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5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6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7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8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9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0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1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Group 12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126" name="Picture 13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14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5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6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8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9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20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4" name="Picture 21" descr="mao1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2"/>
          <p:cNvSpPr/>
          <p:nvPr/>
        </p:nvSpPr>
        <p:spPr>
          <a:xfrm>
            <a:off x="826920" y="1628640"/>
            <a:ext cx="756000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爬山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1413000"/>
            <a:ext cx="7993080" cy="4038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755640" y="2781000"/>
            <a:ext cx="7993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 flipV="1">
            <a:off x="755640" y="4149720"/>
            <a:ext cx="79930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2127240" y="14130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498840" y="14130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4859280" y="14130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165720" y="14130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451640" y="14130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755640" y="2095560"/>
            <a:ext cx="7993080" cy="381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144144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81304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418464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550872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677556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8101080" y="1413000"/>
            <a:ext cx="0" cy="40384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755640" y="3428640"/>
            <a:ext cx="7993080" cy="414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55640" y="4765680"/>
            <a:ext cx="784872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2195640" y="4149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064840" y="141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2474280" y="141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2"/>
          <p:cNvSpPr txBox="1"/>
          <p:nvPr/>
        </p:nvSpPr>
        <p:spPr>
          <a:xfrm>
            <a:off x="2843280" y="33336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3564000" y="1413000"/>
            <a:ext cx="127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826920" y="2781360"/>
            <a:ext cx="12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2401200" y="2781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826920" y="1413000"/>
            <a:ext cx="13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3564000" y="41497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3769560" y="2781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5209560" y="2781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6227640" y="407664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755640" y="4076640"/>
            <a:ext cx="12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311181715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400800" y="622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5360" y="228600"/>
            <a:ext cx="1277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65589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619280" y="549360"/>
            <a:ext cx="6192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陡峭    铁链    发颤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攀登    鲫鱼    笑呵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山      峰顶     似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发苍苍    仰起脸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咱们    奋力    小辫子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气    居然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79640" y="213372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者爬天都峰，为什么要用“爬”而不用“登”或“上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47640" y="184464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者爬天都峰，为什么要用“爬”而不用“登”或“上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-1"/>
          <p:cNvPicPr/>
          <p:nvPr/>
        </p:nvPicPr>
        <p:blipFill>
          <a:blip r:embed="rId1"/>
          <a:stretch/>
        </p:blipFill>
        <p:spPr>
          <a:xfrm>
            <a:off x="611280" y="168120"/>
            <a:ext cx="4619520" cy="642960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6" name="Text Box 3"/>
          <p:cNvSpPr/>
          <p:nvPr/>
        </p:nvSpPr>
        <p:spPr>
          <a:xfrm>
            <a:off x="6308640" y="253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095880" y="181476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站在天都峰脚下抬头望：啊，峰顶这么高，在云彩上面哩！我爬得上去吗？再看笔陡的石级，石级边上的铁链似乎是从天上挂下来的，真叫人发颤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00001843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19160" y="10663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站在天都峰脚下抬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望：啊，峰顶这么高，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彩上面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爬得上去吗？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看看笔陡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dŏu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石级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jí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，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级边上的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tiĕ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ià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似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hū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从天上挂下来的，真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发颤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hà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2-1"/>
          <p:cNvPicPr/>
          <p:nvPr/>
        </p:nvPicPr>
        <p:blipFill>
          <a:blip r:embed="rId1"/>
          <a:srcRect l="2922" t="2520" r="4676" b="3360"/>
          <a:stretch/>
        </p:blipFill>
        <p:spPr>
          <a:xfrm>
            <a:off x="304920" y="380880"/>
            <a:ext cx="2438280" cy="58676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81" name="Group 4"/>
          <p:cNvGrpSpPr/>
          <p:nvPr/>
        </p:nvGrpSpPr>
        <p:grpSpPr>
          <a:xfrm>
            <a:off x="2895480" y="2209680"/>
            <a:ext cx="5638680" cy="609480"/>
            <a:chOff x="2895480" y="2209680"/>
            <a:chExt cx="5638680" cy="609480"/>
          </a:xfrm>
        </p:grpSpPr>
        <p:sp>
          <p:nvSpPr>
            <p:cNvPr id="182" name="Line 5"/>
            <p:cNvSpPr/>
            <p:nvPr/>
          </p:nvSpPr>
          <p:spPr>
            <a:xfrm>
              <a:off x="8001000" y="2209680"/>
              <a:ext cx="533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2895480" y="281916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228600" y="5105520"/>
            <a:ext cx="8610480" cy="1463040"/>
            <a:chOff x="228600" y="5105520"/>
            <a:chExt cx="8610480" cy="1463040"/>
          </a:xfrm>
        </p:grpSpPr>
        <p:sp>
          <p:nvSpPr>
            <p:cNvPr id="185" name="Rectangle 8"/>
            <p:cNvSpPr/>
            <p:nvPr/>
          </p:nvSpPr>
          <p:spPr>
            <a:xfrm>
              <a:off x="228600" y="5867280"/>
              <a:ext cx="861048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2971800" y="5105520"/>
              <a:ext cx="18432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0"/>
          <p:cNvSpPr/>
          <p:nvPr/>
        </p:nvSpPr>
        <p:spPr>
          <a:xfrm>
            <a:off x="4800600" y="464832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4038480" y="3429000"/>
            <a:ext cx="6858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0000184331"/>
          <p:cNvPicPr/>
          <p:nvPr/>
        </p:nvPicPr>
        <p:blipFill>
          <a:blip r:embed="rId1"/>
          <a:stretch/>
        </p:blipFill>
        <p:spPr>
          <a:xfrm>
            <a:off x="0" y="0"/>
            <a:ext cx="446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5364000" y="-446040"/>
            <a:ext cx="3276720" cy="5699520"/>
            <a:chOff x="5364000" y="-446040"/>
            <a:chExt cx="3276720" cy="5699520"/>
          </a:xfrm>
        </p:grpSpPr>
        <p:grpSp>
          <p:nvGrpSpPr>
            <p:cNvPr id="191" name="Group 4"/>
            <p:cNvGrpSpPr/>
            <p:nvPr/>
          </p:nvGrpSpPr>
          <p:grpSpPr>
            <a:xfrm>
              <a:off x="5364000" y="-446040"/>
              <a:ext cx="3276720" cy="5699520"/>
              <a:chOff x="5364000" y="-446040"/>
              <a:chExt cx="3276720" cy="5699520"/>
            </a:xfrm>
          </p:grpSpPr>
          <p:sp>
            <p:nvSpPr>
              <p:cNvPr id="192" name="Oval 5"/>
              <p:cNvSpPr/>
              <p:nvPr/>
            </p:nvSpPr>
            <p:spPr>
              <a:xfrm>
                <a:off x="5364000" y="333360"/>
                <a:ext cx="3276720" cy="41911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"/>
              <p:cNvSpPr/>
              <p:nvPr/>
            </p:nvSpPr>
            <p:spPr>
              <a:xfrm>
                <a:off x="5671800" y="1520640"/>
                <a:ext cx="1003320" cy="19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笔陡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6738840" y="-446040"/>
                <a:ext cx="1003320" cy="56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cc0000"/>
                    </a:solidFill>
                    <a:latin typeface="Times New Roman"/>
                    <a:ea typeface="楷体_GB2312"/>
                  </a:rPr>
                  <a:t>似从天上挂下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8"/>
            <p:cNvSpPr/>
            <p:nvPr/>
          </p:nvSpPr>
          <p:spPr>
            <a:xfrm>
              <a:off x="7637400" y="2031480"/>
              <a:ext cx="100332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"/>
          <p:cNvGrpSpPr/>
          <p:nvPr/>
        </p:nvGrpSpPr>
        <p:grpSpPr>
          <a:xfrm>
            <a:off x="5148360" y="4343400"/>
            <a:ext cx="3671280" cy="2514600"/>
            <a:chOff x="5148360" y="4343400"/>
            <a:chExt cx="3671280" cy="2514600"/>
          </a:xfrm>
        </p:grpSpPr>
        <p:sp>
          <p:nvSpPr>
            <p:cNvPr id="197" name="AutoShape 10"/>
            <p:cNvSpPr/>
            <p:nvPr/>
          </p:nvSpPr>
          <p:spPr>
            <a:xfrm>
              <a:off x="6983640" y="4343400"/>
              <a:ext cx="367200" cy="380880"/>
            </a:xfrm>
            <a:prstGeom prst="downArrow">
              <a:avLst>
                <a:gd name="adj1" fmla="val 50000"/>
                <a:gd name="adj2" fmla="val 259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5148360" y="4800600"/>
              <a:ext cx="3671280" cy="20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陡峭险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高不可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令人生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819160" y="3049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站在天都峰脚下抬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望：啊，峰顶这么高，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彩上面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爬得上去吗？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看看笔陡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dŏu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石级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jí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，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级边上的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tiĕ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链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ià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似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hū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从天上挂下来的，真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发颤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hà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2-1"/>
          <p:cNvPicPr/>
          <p:nvPr/>
        </p:nvPicPr>
        <p:blipFill>
          <a:blip r:embed="rId1"/>
          <a:srcRect l="2922" t="2520" r="4676" b="3360"/>
          <a:stretch/>
        </p:blipFill>
        <p:spPr>
          <a:xfrm>
            <a:off x="0" y="0"/>
            <a:ext cx="2438280" cy="548640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201" name="Group 4"/>
          <p:cNvGrpSpPr/>
          <p:nvPr/>
        </p:nvGrpSpPr>
        <p:grpSpPr>
          <a:xfrm>
            <a:off x="2895480" y="1447920"/>
            <a:ext cx="5638680" cy="609480"/>
            <a:chOff x="2895480" y="1447920"/>
            <a:chExt cx="5638680" cy="609480"/>
          </a:xfrm>
        </p:grpSpPr>
        <p:sp>
          <p:nvSpPr>
            <p:cNvPr id="202" name="Line 5"/>
            <p:cNvSpPr/>
            <p:nvPr/>
          </p:nvSpPr>
          <p:spPr>
            <a:xfrm>
              <a:off x="8001000" y="1447920"/>
              <a:ext cx="533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2895480" y="2057400"/>
              <a:ext cx="3808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7"/>
          <p:cNvGrpSpPr/>
          <p:nvPr/>
        </p:nvGrpSpPr>
        <p:grpSpPr>
          <a:xfrm>
            <a:off x="304920" y="5029200"/>
            <a:ext cx="8610480" cy="1465560"/>
            <a:chOff x="304920" y="5029200"/>
            <a:chExt cx="8610480" cy="1465560"/>
          </a:xfrm>
        </p:grpSpPr>
        <p:sp>
          <p:nvSpPr>
            <p:cNvPr id="205" name="Rectangle 8"/>
            <p:cNvSpPr/>
            <p:nvPr/>
          </p:nvSpPr>
          <p:spPr>
            <a:xfrm>
              <a:off x="304920" y="5791320"/>
              <a:ext cx="861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站在天都峰脚下，我感到（     ）。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3205440" y="5029200"/>
              <a:ext cx="548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天都峰（           ）</a:t>
              </a:r>
              <a:r>
                <a:rPr b="1" lang="en-US" sz="4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0"/>
          <p:cNvSpPr/>
          <p:nvPr/>
        </p:nvSpPr>
        <p:spPr>
          <a:xfrm>
            <a:off x="5821200" y="4952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既高又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759720" y="571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害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800600" y="3789000"/>
            <a:ext cx="1211400" cy="2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3"/>
          <p:cNvGrpSpPr/>
          <p:nvPr/>
        </p:nvGrpSpPr>
        <p:grpSpPr>
          <a:xfrm>
            <a:off x="3429000" y="4495680"/>
            <a:ext cx="838080" cy="152280"/>
            <a:chOff x="3429000" y="4495680"/>
            <a:chExt cx="838080" cy="152280"/>
          </a:xfrm>
        </p:grpSpPr>
        <p:sp>
          <p:nvSpPr>
            <p:cNvPr id="211" name="AutoShape 14"/>
            <p:cNvSpPr/>
            <p:nvPr/>
          </p:nvSpPr>
          <p:spPr>
            <a:xfrm>
              <a:off x="3429000" y="449568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"/>
            <p:cNvSpPr/>
            <p:nvPr/>
          </p:nvSpPr>
          <p:spPr>
            <a:xfrm>
              <a:off x="3962520" y="4495680"/>
              <a:ext cx="304560" cy="152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6"/>
          <p:cNvSpPr/>
          <p:nvPr/>
        </p:nvSpPr>
        <p:spPr>
          <a:xfrm>
            <a:off x="4038480" y="2666880"/>
            <a:ext cx="6858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914400" y="1371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呀爬，我和老爷爷，还有爸爸，终于都爬上了天都峰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进入梦想世界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248520" y="2286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4643280" y="4557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小妹妹来到天都峰脚下，心里怎么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她看到老爷爷，心里又怎么想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后来，她是怎样爬上天都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5724360" y="3360600"/>
            <a:ext cx="277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奋力向峰顶去，一会儿攀着铁链上，一会儿手脚并用向上爬，像小猴子一个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0" y="-2700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7451640" y="2089080"/>
            <a:ext cx="1008000" cy="185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7308720" y="3384720"/>
            <a:ext cx="827280" cy="69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67280" y="3960720"/>
            <a:ext cx="1209960" cy="10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5"/>
          <a:stretch/>
        </p:blipFill>
        <p:spPr>
          <a:xfrm>
            <a:off x="6877080" y="4537080"/>
            <a:ext cx="1209600" cy="10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6"/>
          <a:stretch/>
        </p:blipFill>
        <p:spPr>
          <a:xfrm>
            <a:off x="5724360" y="5113440"/>
            <a:ext cx="1079640" cy="93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7"/>
          <a:stretch/>
        </p:blipFill>
        <p:spPr>
          <a:xfrm>
            <a:off x="6877080" y="5113440"/>
            <a:ext cx="936720" cy="81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"/>
          <p:cNvSpPr/>
          <p:nvPr/>
        </p:nvSpPr>
        <p:spPr>
          <a:xfrm>
            <a:off x="3490920" y="260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发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146560" y="260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奋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6659640" y="260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手脚并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5564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7093080" y="170028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白发苍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029200" y="26028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、老爷爷来到天都峰脚下心里怎么想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、他看到小妹妹，心里又怎么想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、后来，他是怎样爬上天都峰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峰是黄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十二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最险峻的三大奇峰之一，海拔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40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登山石阶大约有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长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609480" y="990720"/>
            <a:ext cx="7925040" cy="11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我奋力向峰顶爬去，一会儿攀着铁链上，一会儿手脚并用向上爬，像小猴子一样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30320" y="329256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81080" y="121932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奋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5548320" y="234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会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7"/>
          <p:cNvGrpSpPr/>
          <p:nvPr/>
        </p:nvGrpSpPr>
        <p:grpSpPr>
          <a:xfrm>
            <a:off x="609480" y="1219320"/>
            <a:ext cx="7924680" cy="1967760"/>
            <a:chOff x="609480" y="1219320"/>
            <a:chExt cx="7924680" cy="1967760"/>
          </a:xfrm>
        </p:grpSpPr>
        <p:sp>
          <p:nvSpPr>
            <p:cNvPr id="242" name="Text Box 8"/>
            <p:cNvSpPr/>
            <p:nvPr/>
          </p:nvSpPr>
          <p:spPr>
            <a:xfrm>
              <a:off x="6858000" y="1219320"/>
              <a:ext cx="1676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一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609480" y="236196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1523880" y="3200400"/>
            <a:ext cx="2590920" cy="152280"/>
            <a:chOff x="1523880" y="3200400"/>
            <a:chExt cx="2590920" cy="152280"/>
          </a:xfrm>
        </p:grpSpPr>
        <p:sp>
          <p:nvSpPr>
            <p:cNvPr id="245" name="AutoShape 11"/>
            <p:cNvSpPr/>
            <p:nvPr/>
          </p:nvSpPr>
          <p:spPr>
            <a:xfrm>
              <a:off x="1523880" y="3200400"/>
              <a:ext cx="15228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2"/>
            <p:cNvSpPr/>
            <p:nvPr/>
          </p:nvSpPr>
          <p:spPr>
            <a:xfrm>
              <a:off x="2133360" y="3200400"/>
              <a:ext cx="15264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3"/>
            <p:cNvSpPr/>
            <p:nvPr/>
          </p:nvSpPr>
          <p:spPr>
            <a:xfrm>
              <a:off x="2743200" y="3200400"/>
              <a:ext cx="15228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4"/>
            <p:cNvSpPr/>
            <p:nvPr/>
          </p:nvSpPr>
          <p:spPr>
            <a:xfrm>
              <a:off x="3429000" y="3200400"/>
              <a:ext cx="15228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5"/>
            <p:cNvSpPr/>
            <p:nvPr/>
          </p:nvSpPr>
          <p:spPr>
            <a:xfrm>
              <a:off x="3962160" y="3200400"/>
              <a:ext cx="15264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914400" y="3124080"/>
            <a:ext cx="6858000" cy="1219320"/>
            <a:chOff x="914400" y="3124080"/>
            <a:chExt cx="6858000" cy="1219320"/>
          </a:xfrm>
        </p:grpSpPr>
        <p:sp>
          <p:nvSpPr>
            <p:cNvPr id="251" name="AutoShape 17"/>
            <p:cNvSpPr/>
            <p:nvPr/>
          </p:nvSpPr>
          <p:spPr>
            <a:xfrm>
              <a:off x="7010280" y="3124080"/>
              <a:ext cx="15264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8"/>
            <p:cNvSpPr/>
            <p:nvPr/>
          </p:nvSpPr>
          <p:spPr>
            <a:xfrm>
              <a:off x="7620120" y="3124080"/>
              <a:ext cx="152280" cy="15228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9"/>
            <p:cNvSpPr/>
            <p:nvPr/>
          </p:nvSpPr>
          <p:spPr>
            <a:xfrm>
              <a:off x="914400" y="4190760"/>
              <a:ext cx="152280" cy="15264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0"/>
            <p:cNvSpPr/>
            <p:nvPr/>
          </p:nvSpPr>
          <p:spPr>
            <a:xfrm>
              <a:off x="1523880" y="4190760"/>
              <a:ext cx="152640" cy="15264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1"/>
            <p:cNvSpPr/>
            <p:nvPr/>
          </p:nvSpPr>
          <p:spPr>
            <a:xfrm>
              <a:off x="2133720" y="4190760"/>
              <a:ext cx="152280" cy="15264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2743200" y="4190760"/>
              <a:ext cx="152280" cy="15264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3276720" y="4190760"/>
              <a:ext cx="152280" cy="152640"/>
            </a:xfrm>
            <a:prstGeom prst="flowChartConnector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783-17AF-4D36-A8E0-9787929D6E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未命名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5288400" y="836640"/>
            <a:ext cx="1277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朋友，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来爬天都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416760" y="1125360"/>
            <a:ext cx="12776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老爷爷，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来爬天都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7101000" y="981000"/>
            <a:ext cx="54612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，咱们一起爬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920" y="620640"/>
            <a:ext cx="324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他们所说的话中为什么都有一个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”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31600" y="3429000"/>
            <a:ext cx="10335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是对对方勇气的称赞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24000" y="2205000"/>
            <a:ext cx="234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你懂得他们包含什么意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332000" y="831960"/>
            <a:ext cx="5184720" cy="13737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妹妹，你也来爬天都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爷爷，您也来爬天都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924360" y="170028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925800" y="836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332000" y="3141720"/>
            <a:ext cx="51847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妹妹，你来爬天都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爷爷，你来爬天都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爷爷说：“对，咱们一起爬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147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爷爷说：“对，咱们一起爬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1471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互相鼓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hinaps_net_06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295280" y="914400"/>
            <a:ext cx="7543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我停下来时，老爷爷对我说：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老爷爷停下来时，我对爷爷说：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6629400" y="1371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1447920" y="2286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76960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523880" y="457200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57150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914400" y="1371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呀爬，我和老爷爷，还有爸爸，终于都爬上了天都峰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进入梦想世界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248520" y="2286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62120" y="4952880"/>
            <a:ext cx="617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24ee"/>
                </a:solidFill>
                <a:latin typeface="Times New Roman"/>
              </a:rPr>
              <a:t>从这个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r>
              <a:rPr b="1" lang="zh-CN" sz="3600" spc="-1" strike="noStrike">
                <a:solidFill>
                  <a:srgbClr val="d624ee"/>
                </a:solidFill>
                <a:latin typeface="Times New Roman"/>
              </a:rPr>
              <a:t>”你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未命名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5"/>
          <p:cNvSpPr/>
          <p:nvPr/>
        </p:nvSpPr>
        <p:spPr>
          <a:xfrm>
            <a:off x="2627280" y="1341360"/>
            <a:ext cx="3168720" cy="338472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，老爷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是看你也要爬天都 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才有勇气向上爬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应该谢谢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156360" y="2997360"/>
            <a:ext cx="25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从他们的话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体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638360" y="404640"/>
            <a:ext cx="54612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谢谢你啦，小朋友。要不是你的勇气鼓舞我，我还下不了决心哩！现在居然爬上来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6084720" y="119700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要互相道谢呢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未命名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"/>
          <p:cNvSpPr/>
          <p:nvPr/>
        </p:nvSpPr>
        <p:spPr>
          <a:xfrm>
            <a:off x="6307920" y="2852640"/>
            <a:ext cx="9118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们这一老一小真有意思，都会从别人身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汲取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力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859280" y="476280"/>
            <a:ext cx="33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从爸爸的话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体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出什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2411280" y="386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6" descr="ji yu bei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836720" y="39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隶书"/>
              </a:rPr>
              <a:t>鲫鱼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8"/>
          <p:cNvSpPr/>
          <p:nvPr/>
        </p:nvSpPr>
        <p:spPr>
          <a:xfrm>
            <a:off x="395280" y="192240"/>
            <a:ext cx="853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峰最险处是鲫鱼背。它是一道长约十几米，宽不过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狭长光滑的石脊，石脊两旁是万丈深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鲫鱼背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83808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们这一老一小真有意思，都会从别人身上汲取力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5651640" y="1827360"/>
            <a:ext cx="720720" cy="77760"/>
            <a:chOff x="5651640" y="1827360"/>
            <a:chExt cx="720720" cy="77760"/>
          </a:xfrm>
        </p:grpSpPr>
        <p:sp>
          <p:nvSpPr>
            <p:cNvPr id="305" name="AutoShape 5"/>
            <p:cNvSpPr/>
            <p:nvPr/>
          </p:nvSpPr>
          <p:spPr>
            <a:xfrm>
              <a:off x="565164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6"/>
            <p:cNvSpPr/>
            <p:nvPr/>
          </p:nvSpPr>
          <p:spPr>
            <a:xfrm>
              <a:off x="584820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"/>
            <p:cNvSpPr/>
            <p:nvPr/>
          </p:nvSpPr>
          <p:spPr>
            <a:xfrm>
              <a:off x="607752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6306840" y="1827360"/>
              <a:ext cx="6552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9"/>
          <p:cNvSpPr/>
          <p:nvPr/>
        </p:nvSpPr>
        <p:spPr>
          <a:xfrm>
            <a:off x="1619280" y="2708280"/>
            <a:ext cx="4875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从爸爸的话中你体会到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908000" y="4365720"/>
            <a:ext cx="5181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人与人相处中，要善于相互学习，相互鼓励，共同进步，不管多大的困难，也能克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5867280" y="2708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619280" y="2852280"/>
            <a:ext cx="5843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一个人只要有决心，有勇气，任何困难都可以克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鲫鱼背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380880" y="380880"/>
            <a:ext cx="8382240" cy="19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我和爷爷沿着山路往回走，一路上遇到了许多游人。有的望着险峻的天都峰退缩了，有的人在曲折的山路上犹豫不前，有的人看到曲折的道路不知该如何前进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宋体"/>
              </a:rPr>
              <a:t>想一想，我和老爷爷会怎样向游人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908000" y="3058560"/>
            <a:ext cx="6983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来到天都峰脚下，我看到天都峰峰（   ）路（    ）时，我心里（    ），有点（     ）。这时看到一位白发苍苍的老爷爷也来爬山了，于是我不再（       ），（     ）向峰顶爬去，（     ）爬上了天都峰顶。老爷爷对我说：“你的勇气（      ）了我，现在（     ）也爬上来了！”我说：“我才是从您的勇气中（     ）到力量的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496360" y="227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700360" y="270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540400" y="2708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担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596360" y="270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发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788000" y="35733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犹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443640" y="3573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奋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76720" y="4076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终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4859280" y="4437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鼓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802800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居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2268360" y="5300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汲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20074803214659"/>
          <p:cNvPicPr/>
          <p:nvPr/>
        </p:nvPicPr>
        <p:blipFill>
          <a:blip r:embed="rId1"/>
          <a:stretch/>
        </p:blipFill>
        <p:spPr>
          <a:xfrm>
            <a:off x="228600" y="1752480"/>
            <a:ext cx="8458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360" y="12459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黄山位于皖（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ǎn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）南，是世界著名的游览胜地。黄山呈东北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西南走向，长约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米，宽约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千米，总面积约为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200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平方千米。秦时称黟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yí)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山，唐天宝六年（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47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）改称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山。据说因轩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xuān)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辕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yuán)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皇帝曾在此采药炼丹，故称“黄山”。黄山集中了我国许多名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的特点，如泰山的雄伟，华山的险峻，衡山的烟云，庐山的飞瀑，娥眉的秀丽，雁荡的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石，丹霞的崖谷，嵩山的锐峰，恒山的浑厚，黄山都兼而有之，所以被誉为“天下第一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山”。明末地理学家、旅行家徐霞客有“五岳归来不看山，黄山归来不看岳”之说。黄山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这一举世奇景，它不仅是山，也是海，是山之海，云之海，松之海，花之海，光之海，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之海，是一片画的海洋。</a:t>
            </a:r>
            <a:br>
              <a:rPr sz="1600"/>
            </a:b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黄山以其无限迷人的风光和形态万千的山峰闻名天下，其风景随季节的不同和山峰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起伏而多姿多彩。其他风景区的风光往往是一览无余，而黄山的风光却是变幻不定，能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激起您丰富的想象力。</a:t>
            </a:r>
            <a:br>
              <a:rPr sz="1600"/>
            </a:b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这里峰峦奇妙，景色万千，有名可数的有大小七十二峰。莲花峰、天都峰、光明顶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黄山三大主峰，其中最高峰莲花峰海拔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873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米。奇松、怪石、云海、温泉被称为“黄山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绝”。</a:t>
            </a:r>
            <a:br>
              <a:rPr sz="1600"/>
            </a:b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黄山不仅是一处风景胜地，又是一个天然的动植物园。有各种动物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550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余种，其国家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保护动物有梅花鹿、白鹤、短尾猴等。这里植被的垂直分布变化明显，从高到低分布着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带、温带、亚热带植物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多种，有著名的黄山毛峰、灵芝、石耳、黄山杜鹃等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203640" y="6555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新魏"/>
              </a:rPr>
              <a:t>天下第一奇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WordArt 8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18954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松2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松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松3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松4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黄山松，以石为母，顽强地扎根于巨岩裂隙。黄山松针叶粗短，苍翠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密，干曲枝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iú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千姿百态。或倚岸挺拔，或独立峰巅，或倒悬绝壁，或冠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如盖，或尖削似剑。有的循崖度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è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，绕石而过；有的穿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xià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穴缝，破石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出。忽悬、忽横、忽卧、忽起，“无树非松，无石不松，无松不奇”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最著名的黄山松有：迎客松（位于玉屏楼的石狮前面），送客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位于玉屏楼的右边），蒲团松（位于莲花溪谷），凤凰松（位于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海），棋盘松（位于平田石桥），接引松（位于始信峰），麒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qí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í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松（位于北海宾馆和清凉台之间），黑虎松（位于北海宾馆和始信峰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间），探海松或叫舞松（位于天都峰的鲫鱼背旁边）──这就是黄山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十大名松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492360" y="1052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新魏"/>
              </a:rPr>
              <a:t>黄山奇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WordArt 8" descr=""/>
          <p:cNvPicPr/>
          <p:nvPr/>
        </p:nvPicPr>
        <p:blipFill>
          <a:blip r:embed="rId5"/>
          <a:stretch/>
        </p:blipFill>
        <p:spPr>
          <a:xfrm>
            <a:off x="324000" y="895320"/>
            <a:ext cx="20412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云1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云2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云4"/>
          <p:cNvPicPr/>
          <p:nvPr/>
        </p:nvPicPr>
        <p:blipFill>
          <a:blip r:embed="rId3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云5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云3"/>
          <p:cNvPicPr/>
          <p:nvPr/>
        </p:nvPicPr>
        <p:blipFill>
          <a:blip r:embed="rId5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3708360" y="1052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新魏"/>
              </a:rPr>
              <a:t>黄山云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55640" y="2491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古黄山云成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黄山是云雾之乡，以峰为体，以云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衣，其瑰丽壮观的“云海”以美、胜、奇、幻享誉古今，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四季皆可观、尤以冬季景最佳。依云海分布方位，全山有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海、南海、西海、北海和天海；而登莲花峰、天都峰、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顶则可尽收诸海于眼底，领略“海到尽头天是岸，山登绝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为峰”之境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WordArt 9" descr=""/>
          <p:cNvPicPr/>
          <p:nvPr/>
        </p:nvPicPr>
        <p:blipFill>
          <a:blip r:embed="rId6"/>
          <a:stretch/>
        </p:blipFill>
        <p:spPr>
          <a:xfrm>
            <a:off x="396720" y="907920"/>
            <a:ext cx="1828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天都峰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都峰位于黄山东部，西对莲花峰，东连钵盂峰，海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8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。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山石级约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公里长，坡度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度以上，最险处近乎于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度。在黄山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峰中，最为雄伟壮丽，故被视为“群仙所都”，而名天都峰。峰顶有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室，可容数十人。室外有巨石，形如醉仙斜卧，仿佛“仙人把洞门”。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有仙桃石，天梯，鲫鱼背等奇景，以及探海松、舞松等奇松。峰壁巨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上，镌有“天上玉屏”、“登峰造极”等题刻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登峰远眺，云山相接；俯视群山，千峰竞秀，巧石献奇。若烟云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起，披霞驭风，如入仙境。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如云成铺海，风帆点点，蔚为大观。 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其中，鲤鱼背是天都峰最险处。它是一道长十几米，宽不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的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长光滑的石脊，石脊两旁是万丈深渊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WordArt 4" descr=""/>
          <p:cNvPicPr/>
          <p:nvPr/>
        </p:nvPicPr>
        <p:blipFill>
          <a:blip r:embed="rId2"/>
          <a:stretch/>
        </p:blipFill>
        <p:spPr>
          <a:xfrm>
            <a:off x="324000" y="804960"/>
            <a:ext cx="1901520" cy="10602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3419640" y="90792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新魏"/>
              </a:rPr>
              <a:t>天都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48000" y="836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黄山景点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黄山，中华民族锦绣河山的象征之一，以其不可抗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魅力倾倒了世人。黄山集万千美景于一身，明代大旅行家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地理学家徐霞客就曾叹曰：“登黄山天下无山，观止矣”。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山风景区面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平方公里，风景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多处，现已开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主要游览景区有：温泉景区、玉屏楼景区、北海景区、西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景区、天海景区、莲花峰景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WordArt 5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0412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8061811130231011"/>
          <p:cNvPicPr/>
          <p:nvPr/>
        </p:nvPicPr>
        <p:blipFill>
          <a:blip r:embed="rId1"/>
          <a:stretch/>
        </p:blipFill>
        <p:spPr>
          <a:xfrm>
            <a:off x="2031840" y="0"/>
            <a:ext cx="508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_131532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56" name="Picture 4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5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8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9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0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1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Group 12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65" name="Picture 13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4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5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16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17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18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19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20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3" name="Picture 21" descr="mao1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2"/>
          <p:cNvSpPr/>
          <p:nvPr/>
        </p:nvSpPr>
        <p:spPr>
          <a:xfrm>
            <a:off x="3635280" y="7254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试    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116000" y="1916280"/>
            <a:ext cx="712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由朗读课文，借助拼音读准字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想一想这篇课文写了一件什么事？按 什么顺序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694520" y="404280"/>
            <a:ext cx="585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ǒu         liàn       chà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笔 陡       铁 链      发 颤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ān          jì           hē h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攀 爬       鲫鱼背    笑 呵 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í          jǐ       b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石 级       石 脊        辫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t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10920" y="2438280"/>
            <a:ext cx="851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45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40Z</dcterms:modified>
  <cp:revision>3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