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6731-6003-4902-A1AB-D5E771CCB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70C5-3F0F-4AE8-A486-9621A347E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25E2-AF49-45B4-BEB8-226C25FCB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E916-B672-4FE7-92D9-249F28F3C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B088-A459-4368-BB3E-9779CF1F7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A376-B543-4F78-A194-13F4F838E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8737-6A1F-4B8A-BAC3-7DB1614CF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0476-7507-432F-BACA-79B900E8D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EDDF-29CB-431F-95DF-500E81C38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9019-B0A2-4E4D-B074-53F66BBD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3EEA-63C2-49F7-9EE6-0D8186AE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D8E7-6BEA-4AC4-8224-F3BDE315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1BF65-0794-46EA-8C21-D88EE0B4D31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928960" y="4786200"/>
            <a:ext cx="5286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071880" y="571500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36360" y="6597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41240" y="47628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清新淡雅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116000" y="260280"/>
            <a:ext cx="44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42A4-5A34-451C-B10F-D58E8DA3DF1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7:40:20Z</dcterms:modified>
  <cp:revision>66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