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BE0-E4FA-4B97-802A-DE328623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404-722D-4DDF-9F6E-297D7C73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A3E-ADD5-4734-8CE9-0AF8C545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2C1-5A4A-4CBB-B029-FD7533C2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237-7C88-4C11-BC5E-EE327304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82B-E483-492C-B2EF-E2B9DD95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1E7-0E58-42CE-A019-EBAD4CF2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2F3-D310-498F-927B-B52FA040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A20-1DD1-4337-8656-8F1D0EBB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2A8-AD13-4839-BBD5-429ABDE2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E1F-8796-4152-8058-5344597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90E-A918-470E-B79A-BF06B530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03CC-1C48-41D0-AB21-9D6280FB504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273B-22CF-4598-B6E7-77F14F4362A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5986440" y="2826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-23400" y="257040"/>
            <a:ext cx="50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免费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8" descr=""/>
          <p:cNvPicPr/>
          <p:nvPr/>
        </p:nvPicPr>
        <p:blipFill>
          <a:blip r:embed="rId1"/>
          <a:srcRect l="0" t="11537" r="0" b="4068"/>
          <a:stretch/>
        </p:blipFill>
        <p:spPr>
          <a:xfrm>
            <a:off x="250920" y="765000"/>
            <a:ext cx="2905200" cy="36738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9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2784240" cy="1767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0" descr=""/>
          <p:cNvPicPr/>
          <p:nvPr/>
        </p:nvPicPr>
        <p:blipFill>
          <a:blip r:embed="rId3"/>
          <a:stretch/>
        </p:blipFill>
        <p:spPr>
          <a:xfrm>
            <a:off x="6300720" y="2886120"/>
            <a:ext cx="2656080" cy="1766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1" descr=""/>
          <p:cNvPicPr/>
          <p:nvPr/>
        </p:nvPicPr>
        <p:blipFill>
          <a:blip r:embed="rId4"/>
          <a:stretch/>
        </p:blipFill>
        <p:spPr>
          <a:xfrm>
            <a:off x="3565440" y="3090960"/>
            <a:ext cx="2206800" cy="3606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7800" y="442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群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5"/>
          <p:cNvSpPr/>
          <p:nvPr/>
        </p:nvSpPr>
        <p:spPr>
          <a:xfrm>
            <a:off x="5986440" y="2826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-23400" y="257040"/>
            <a:ext cx="50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免费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494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E9B-1AB4-4896-B757-4CA427BC55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2:02Z</dcterms:modified>
  <cp:revision>108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