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410-020B-484E-89BB-92FEF5DE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9B2-9F69-451C-9D4A-4D7B2DD5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5E5-709A-406E-97CD-DEDB0EF1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075-6C53-45AD-B5A0-2C6898ED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739-8A88-40B2-AFFB-A3EE0219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3FA4-7C30-45C1-93E4-012A584D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870-DD23-44A0-8111-47E209B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AB1-6C60-4241-8E0D-1DB714F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4845-2C6D-4F8E-B407-BD7B5E50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098-526C-459F-9588-DC37CD74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42E-6A00-4D92-B366-685E1F69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A17-E240-4980-9E1F-D6263651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601F-0C7D-4819-AB7B-014C9C490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284720" y="2349360"/>
            <a:ext cx="2000160" cy="1801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284720" y="5013360"/>
            <a:ext cx="2881080" cy="1238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484360" y="981000"/>
            <a:ext cx="2881440" cy="1457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71640" y="1917720"/>
            <a:ext cx="2882880" cy="1593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869080" y="333360"/>
            <a:ext cx="880920" cy="2509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237440" y="3789360"/>
            <a:ext cx="1703520" cy="252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8360" y="3718080"/>
            <a:ext cx="1533600" cy="2520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7021440" y="260280"/>
            <a:ext cx="1417680" cy="20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268360" y="4654440"/>
            <a:ext cx="1563840" cy="1795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96880" y="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圣诞老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3440" y="117360"/>
            <a:ext cx="2498760" cy="360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2882880" cy="126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8720" y="693720"/>
            <a:ext cx="1200240" cy="12398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468360" y="3070080"/>
            <a:ext cx="2881440" cy="2460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3781440" y="2421000"/>
            <a:ext cx="1398600" cy="179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5581800" y="3933720"/>
            <a:ext cx="2881080" cy="2552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771640" y="6310440"/>
            <a:ext cx="4464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E184-EDD4-4917-917D-3202B1B091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22:59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2:55Z</dcterms:modified>
  <cp:revision>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