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57C-F3BC-421C-A11C-38BDFA67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03B-66A1-456F-9EF2-98910E46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745-27C7-4DC3-AE3D-861B00C0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02D-A48E-4979-977F-142712E8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AD1-1F44-48CE-BEF1-11554103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19A-089D-4E4F-ABB2-1448B00A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030-02B2-4685-8DFE-A927309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08C-823E-4A55-A995-8FA59A1B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AFD-7FE6-444B-A067-503F08B2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770-8345-41E3-B38F-0ECF530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DD8-C407-466A-A7DF-B8DAF12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1AA-9312-446B-A65D-D1CC621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F442-C660-4C41-8D05-E9108C031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69228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0348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5076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6348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6" name="Picture 9" descr="685206967045"/>
          <p:cNvPicPr/>
          <p:nvPr/>
        </p:nvPicPr>
        <p:blipFill>
          <a:blip r:embed="rId1"/>
          <a:stretch/>
        </p:blipFill>
        <p:spPr>
          <a:xfrm>
            <a:off x="1187280" y="1368360"/>
            <a:ext cx="6409080" cy="485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250920" y="33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世界地图引出的发现幻灯片免费下载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魏格纳病床看地图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968120" y="1052640"/>
            <a:ext cx="48135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随着大陆漂移说发现的深入，最初在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病房里坐卧不安的魏格纳，心情也随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之产生了变化。请大家默读课文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  <a:ea typeface="华文行楷"/>
              </a:rPr>
              <a:t>2—4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自然段，找出描写魏格纳发现及其心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情的句子。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突然，他的手指    了下来，    在地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南美洲上巴西的一块突出的部分，眼睛却    住非洲西海岸呈直角凹进的几内亚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356000" y="134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443640" y="1336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停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116000" y="24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盯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796000" y="549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察仔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12400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巴西突出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403280" y="537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非洲几内亚湾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4859280" y="486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003640" y="501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状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684360" y="2852640"/>
            <a:ext cx="7551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瞧！这两个地方的形状竟是这般不可思议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吻合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601200" cy="6872400"/>
            <a:chOff x="0" y="0"/>
            <a:chExt cx="9601200" cy="6872400"/>
          </a:xfrm>
        </p:grpSpPr>
        <p:pic>
          <p:nvPicPr>
            <p:cNvPr id="113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1200" cy="68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0" y="0"/>
              <a:ext cx="9601200" cy="68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4"/>
          <p:cNvSpPr/>
          <p:nvPr/>
        </p:nvSpPr>
        <p:spPr>
          <a:xfrm>
            <a:off x="4200480" y="32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"/>
                <a:ea typeface="楷体_GB2312"/>
              </a:rPr>
              <a:t>几内亚湾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35320" y="3500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 Black"/>
                <a:ea typeface="楷体_GB2312"/>
              </a:rPr>
              <a:t>巴西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258920" y="126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411280" y="3284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995640" y="6308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35600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极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788000" y="26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非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500720" y="134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欧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22764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亚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9636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大洋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567240" y="2131920"/>
            <a:ext cx="5461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 西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6257880" y="306864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印 度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42880" y="2205000"/>
            <a:ext cx="5461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8391600" y="1989000"/>
            <a:ext cx="5461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28472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 冰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然，巴西东海岸的每一个突出部分，都能在非洲西海岸找到形状相似的海湾；同时，巴西的每个海湾，又能在非洲找到相应的突出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1908000" y="2421000"/>
            <a:ext cx="151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924360" y="2421000"/>
            <a:ext cx="14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914480" y="1916280"/>
            <a:ext cx="515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精神大振，仔细端详着美洲和非洲大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形状上的不同点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三：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格纳兴奋极了，将地图上一块块陆地进行了比较，结果发现，从海岸线的相似情形看，地球上所有的大陆块都能够较好地吻合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2916360" y="2276640"/>
            <a:ext cx="14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012040" y="1125360"/>
            <a:ext cx="5392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学到这里，你觉得魏格纳是个怎样的人？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644560" y="1989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仔细观察，认真思考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913760" y="2819520"/>
            <a:ext cx="53128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魏格纳的优秀品质何止于此，请大家朗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读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华文行楷"/>
              </a:rPr>
              <a:t>7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自然段，看看魏格纳还是个怎样的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人？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269960" y="4767120"/>
            <a:ext cx="103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中宋"/>
              </a:rPr>
              <a:t>魏格纳并不是一个轻易改变自己想法的人。</a:t>
            </a:r>
            <a:endParaRPr b="0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从哪里可以看出魏格纳不是一个轻易改变自己想法的人？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6--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373200" y="1700280"/>
            <a:ext cx="18626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著名科学家劝他打消念头，不必为此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枉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费心机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，他还是坚信自己的想法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枉费心机</a:t>
            </a:r>
            <a:r>
              <a:rPr b="1" lang="zh-CN" sz="33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：白白耗费心思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786120" y="4508640"/>
            <a:ext cx="1916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他在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浩如烟海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的资料中寻找大陆漂移证据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浩如烟海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形容文献资料非常丰富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291840" y="5805360"/>
            <a:ext cx="910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他奔赴世界各地进行实地考察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01360" y="3500280"/>
            <a:ext cx="910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在各洲的联系和对比中进行考察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4B8-703E-45A4-BBA7-342959A534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228600" y="1455840"/>
            <a:ext cx="8610480" cy="4852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66760" y="1652760"/>
            <a:ext cx="257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难道仅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仅是巧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合吗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 rot="20004000">
            <a:off x="685080" y="447624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能是巧合吧？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除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1371600" y="5745240"/>
            <a:ext cx="4267080" cy="579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24000" y="4348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地图上的发现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4" name="Group 8"/>
            <p:cNvGrpSpPr/>
            <p:nvPr/>
          </p:nvGrpSpPr>
          <p:grpSpPr>
            <a:xfrm>
              <a:off x="0" y="0"/>
              <a:ext cx="5292720" cy="6815160"/>
              <a:chOff x="0" y="0"/>
              <a:chExt cx="5292720" cy="6815160"/>
            </a:xfrm>
          </p:grpSpPr>
          <p:pic>
            <p:nvPicPr>
              <p:cNvPr id="155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5219640" cy="456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4508640"/>
                <a:ext cx="5292720" cy="230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11" descr=""/>
            <p:cNvPicPr/>
            <p:nvPr/>
          </p:nvPicPr>
          <p:blipFill>
            <a:blip r:embed="rId6"/>
            <a:stretch/>
          </p:blipFill>
          <p:spPr>
            <a:xfrm>
              <a:off x="4389480" y="0"/>
              <a:ext cx="47545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12"/>
          <p:cNvSpPr/>
          <p:nvPr/>
        </p:nvSpPr>
        <p:spPr>
          <a:xfrm>
            <a:off x="250920" y="450864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8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4108c0"/>
                </a:solidFill>
                <a:latin typeface="宋体"/>
              </a:rPr>
              <a:t>魏格纳认为：全球的陆地在</a:t>
            </a:r>
            <a:r>
              <a:rPr b="1" lang="en-US" sz="2800" spc="-1" strike="noStrike">
                <a:solidFill>
                  <a:srgbClr val="4108c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4108c0"/>
                </a:solidFill>
                <a:latin typeface="宋体"/>
              </a:rPr>
              <a:t>亿年前还是彼此相连的一个整体，后来，由于受到力的作用，才不断分离并漂移到现在海陆分布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1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9601200" cy="6872400"/>
            <a:chOff x="0" y="0"/>
            <a:chExt cx="9601200" cy="6872400"/>
          </a:xfrm>
        </p:grpSpPr>
        <p:pic>
          <p:nvPicPr>
            <p:cNvPr id="5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1200" cy="68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0" y="0"/>
              <a:ext cx="9601200" cy="68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4200480" y="32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"/>
                <a:ea typeface="楷体_GB2312"/>
              </a:rPr>
              <a:t>几内亚湾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35320" y="3500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 Black"/>
                <a:ea typeface="楷体_GB2312"/>
              </a:rPr>
              <a:t>巴西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58920" y="126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411280" y="3284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95640" y="6308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35600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极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788000" y="26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非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500720" y="134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欧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22764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亚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59636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大洋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67240" y="2131920"/>
            <a:ext cx="5461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 西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6257880" y="306864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印 度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42880" y="2205000"/>
            <a:ext cx="5461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8391600" y="1989000"/>
            <a:ext cx="5461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428472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 冰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26" descr="map"/>
          <p:cNvPicPr/>
          <p:nvPr/>
        </p:nvPicPr>
        <p:blipFill>
          <a:blip r:embed="rId2"/>
          <a:srcRect l="0" t="4039" r="0" b="3000"/>
          <a:stretch/>
        </p:blipFill>
        <p:spPr>
          <a:xfrm>
            <a:off x="0" y="69228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27"/>
          <p:cNvSpPr/>
          <p:nvPr/>
        </p:nvSpPr>
        <p:spPr>
          <a:xfrm>
            <a:off x="3708360" y="60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世界地图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推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叫中龙的爬行动物，既见于巴西东部，也见于非洲西南部，显然，这些动物当时生活在同一块大陆上，否则，即使是插上翅膀也难以飞渡重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4360" y="249228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龙既见于巴西东部，也见于非洲西南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4360" y="311616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龙插上翅膀也难以飞渡重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11280" y="26114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7164360" y="2755800"/>
            <a:ext cx="297000" cy="792360"/>
          </a:xfrm>
          <a:custGeom>
            <a:avLst/>
            <a:gdLst>
              <a:gd name="textAreaLeft" fmla="*/ 0 w 297000"/>
              <a:gd name="textAreaRight" fmla="*/ 107280 w 297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524720" y="2971800"/>
            <a:ext cx="878040" cy="1368360"/>
          </a:xfrm>
          <a:custGeom>
            <a:avLst/>
            <a:gdLst>
              <a:gd name="textAreaLeft" fmla="*/ 117360 w 878040"/>
              <a:gd name="textAreaRight" fmla="*/ 760680 w 8780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979640" y="3645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些动物当时生活在同一块大陆上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788000" y="4149720"/>
            <a:ext cx="288720" cy="431640"/>
          </a:xfrm>
          <a:prstGeom prst="downArrow">
            <a:avLst>
              <a:gd name="adj1" fmla="val 50000"/>
              <a:gd name="adj2" fmla="val 373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979640" y="4581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南美洲和非洲是连在一起的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4788000" y="501336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258920" y="5445000"/>
            <a:ext cx="63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时，地球上所有的陆地连在一起的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" name="Picture 14" descr="04"/>
          <p:cNvPicPr/>
          <p:nvPr/>
        </p:nvPicPr>
        <p:blipFill>
          <a:blip r:embed="rId1"/>
          <a:stretch/>
        </p:blipFill>
        <p:spPr>
          <a:xfrm>
            <a:off x="2484360" y="5877000"/>
            <a:ext cx="43340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67"/>
          <p:cNvPicPr/>
          <p:nvPr/>
        </p:nvPicPr>
        <p:blipFill>
          <a:blip r:embed="rId1"/>
          <a:stretch/>
        </p:blipFill>
        <p:spPr>
          <a:xfrm>
            <a:off x="0" y="404640"/>
            <a:ext cx="6443640" cy="4834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6588000" y="765000"/>
            <a:ext cx="25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西洋两岸的非洲和南美洲的很多动物有亲缘关系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两岸都有鸵鸟，而鸵鸟不会飞，更不会游，所以无法跨越大西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843280" y="5373720"/>
            <a:ext cx="409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大陆漂移学说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15479" t="0" r="0" b="0"/>
          <a:stretch/>
        </p:blipFill>
        <p:spPr>
          <a:xfrm>
            <a:off x="3276720" y="3141720"/>
            <a:ext cx="5410080" cy="3405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2090" b="3765"/>
          <a:stretch/>
        </p:blipFill>
        <p:spPr>
          <a:xfrm>
            <a:off x="533520" y="6858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53600" y="327672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舌草齿化石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47960" y="594360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一种岩石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发现地点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431200" y="441972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石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地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450864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科学依据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427640" y="404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种叫舌羊齿的植物化石在印度、澳大利亚和非洲的岩层中被发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舌羊齿的“种子”太大，不能随风漂移，另一方面它容易破碎，不可能漂移过海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尽管现在大陆之间呈犬牙交错状，但仍能说明它们在以前曾是连成一片的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情发展的顺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1476360" y="14842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132000" y="14842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953360" y="2349360"/>
            <a:ext cx="529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小结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此后，魏格纳为了进一步寻找有力证据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只身前往格林兰岛考察，在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岁生日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那天不幸遇难。值得欣慰的是他的大陆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漂移说使人类重新认识了地球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18592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测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4192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证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979960" y="1268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引起学界震动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4788000" y="14842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魏格纳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发现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并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考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0" lang="zh-CN" sz="6000" spc="-1" strike="noStrike">
                <a:solidFill>
                  <a:srgbClr val="0000cc"/>
                </a:solidFill>
                <a:latin typeface="Arial"/>
              </a:rPr>
              <a:t>大陆漂移假说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高度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赞扬了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勇于探索大自然奥秘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执著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精神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11280" y="134136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领悟道理：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仔细观察，认真思考，反复论证，是魏格纳获得成功的不可缺少的几个因素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393920" y="1035000"/>
            <a:ext cx="1143000" cy="1008360"/>
            <a:chOff x="1393920" y="1035000"/>
            <a:chExt cx="1143000" cy="1008360"/>
          </a:xfrm>
        </p:grpSpPr>
        <p:sp>
          <p:nvSpPr>
            <p:cNvPr id="194" name="Oval 3"/>
            <p:cNvSpPr/>
            <p:nvPr/>
          </p:nvSpPr>
          <p:spPr>
            <a:xfrm>
              <a:off x="1393920" y="11113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" name="Text Box 4"/>
            <p:cNvSpPr/>
            <p:nvPr/>
          </p:nvSpPr>
          <p:spPr>
            <a:xfrm>
              <a:off x="1470240" y="10350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谧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6" name="Group 5"/>
          <p:cNvGrpSpPr/>
          <p:nvPr/>
        </p:nvGrpSpPr>
        <p:grpSpPr>
          <a:xfrm>
            <a:off x="4005360" y="1127160"/>
            <a:ext cx="1143000" cy="1008360"/>
            <a:chOff x="4005360" y="1127160"/>
            <a:chExt cx="1143000" cy="1008360"/>
          </a:xfrm>
        </p:grpSpPr>
        <p:sp>
          <p:nvSpPr>
            <p:cNvPr id="197" name="Oval 6"/>
            <p:cNvSpPr/>
            <p:nvPr/>
          </p:nvSpPr>
          <p:spPr>
            <a:xfrm>
              <a:off x="4005360" y="12034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4081680" y="11271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振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9" name="Group 8"/>
          <p:cNvGrpSpPr/>
          <p:nvPr/>
        </p:nvGrpSpPr>
        <p:grpSpPr>
          <a:xfrm>
            <a:off x="6524640" y="1127160"/>
            <a:ext cx="1143000" cy="1008360"/>
            <a:chOff x="6524640" y="1127160"/>
            <a:chExt cx="1143000" cy="1008360"/>
          </a:xfrm>
        </p:grpSpPr>
        <p:sp>
          <p:nvSpPr>
            <p:cNvPr id="200" name="Oval 9"/>
            <p:cNvSpPr/>
            <p:nvPr/>
          </p:nvSpPr>
          <p:spPr>
            <a:xfrm>
              <a:off x="6524640" y="12034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6600960" y="11271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枉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684360" y="3143160"/>
            <a:ext cx="1143000" cy="1008360"/>
            <a:chOff x="684360" y="3143160"/>
            <a:chExt cx="1143000" cy="1008360"/>
          </a:xfrm>
        </p:grpSpPr>
        <p:sp>
          <p:nvSpPr>
            <p:cNvPr id="203" name="Oval 12"/>
            <p:cNvSpPr/>
            <p:nvPr/>
          </p:nvSpPr>
          <p:spPr>
            <a:xfrm>
              <a:off x="684360" y="32194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760680" y="31431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浩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5" name="Group 14"/>
          <p:cNvGrpSpPr/>
          <p:nvPr/>
        </p:nvGrpSpPr>
        <p:grpSpPr>
          <a:xfrm>
            <a:off x="2979720" y="3071880"/>
            <a:ext cx="1143000" cy="1008360"/>
            <a:chOff x="2979720" y="3071880"/>
            <a:chExt cx="1143000" cy="1008360"/>
          </a:xfrm>
        </p:grpSpPr>
        <p:sp>
          <p:nvSpPr>
            <p:cNvPr id="206" name="Oval 15"/>
            <p:cNvSpPr/>
            <p:nvPr/>
          </p:nvSpPr>
          <p:spPr>
            <a:xfrm>
              <a:off x="2979720" y="31482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Text Box 16"/>
            <p:cNvSpPr/>
            <p:nvPr/>
          </p:nvSpPr>
          <p:spPr>
            <a:xfrm>
              <a:off x="3056040" y="307188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资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8" name="Group 17"/>
          <p:cNvGrpSpPr/>
          <p:nvPr/>
        </p:nvGrpSpPr>
        <p:grpSpPr>
          <a:xfrm>
            <a:off x="5068800" y="3071880"/>
            <a:ext cx="1143000" cy="1008360"/>
            <a:chOff x="5068800" y="3071880"/>
            <a:chExt cx="1143000" cy="1008360"/>
          </a:xfrm>
        </p:grpSpPr>
        <p:sp>
          <p:nvSpPr>
            <p:cNvPr id="209" name="Oval 18"/>
            <p:cNvSpPr/>
            <p:nvPr/>
          </p:nvSpPr>
          <p:spPr>
            <a:xfrm>
              <a:off x="5068800" y="31482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Text Box 19"/>
            <p:cNvSpPr/>
            <p:nvPr/>
          </p:nvSpPr>
          <p:spPr>
            <a:xfrm>
              <a:off x="5145120" y="307188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召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1" name="Group 20"/>
          <p:cNvGrpSpPr/>
          <p:nvPr/>
        </p:nvGrpSpPr>
        <p:grpSpPr>
          <a:xfrm>
            <a:off x="7227720" y="3002040"/>
            <a:ext cx="1143000" cy="1008360"/>
            <a:chOff x="7227720" y="3002040"/>
            <a:chExt cx="1143000" cy="1008360"/>
          </a:xfrm>
        </p:grpSpPr>
        <p:sp>
          <p:nvSpPr>
            <p:cNvPr id="212" name="Oval 21"/>
            <p:cNvSpPr/>
            <p:nvPr/>
          </p:nvSpPr>
          <p:spPr>
            <a:xfrm>
              <a:off x="7227720" y="307836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7304040" y="300204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源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324000" y="5157720"/>
            <a:ext cx="8516880" cy="1434960"/>
            <a:chOff x="324000" y="5157720"/>
            <a:chExt cx="8516880" cy="1434960"/>
          </a:xfrm>
        </p:grpSpPr>
        <p:pic>
          <p:nvPicPr>
            <p:cNvPr id="215" name="Picture 24" descr="NA00763_"/>
            <p:cNvPicPr/>
            <p:nvPr/>
          </p:nvPicPr>
          <p:blipFill>
            <a:blip r:embed="rId2"/>
            <a:stretch/>
          </p:blipFill>
          <p:spPr>
            <a:xfrm>
              <a:off x="3240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5" descr="NA00763_"/>
            <p:cNvPicPr/>
            <p:nvPr/>
          </p:nvPicPr>
          <p:blipFill>
            <a:blip r:embed="rId3"/>
            <a:stretch/>
          </p:blipFill>
          <p:spPr>
            <a:xfrm>
              <a:off x="141768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6" descr="NA00763_"/>
            <p:cNvPicPr/>
            <p:nvPr/>
          </p:nvPicPr>
          <p:blipFill>
            <a:blip r:embed="rId4"/>
            <a:stretch/>
          </p:blipFill>
          <p:spPr>
            <a:xfrm>
              <a:off x="2565720" y="5157720"/>
              <a:ext cx="333504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7" descr="NA00763_"/>
            <p:cNvPicPr/>
            <p:nvPr/>
          </p:nvPicPr>
          <p:blipFill>
            <a:blip r:embed="rId5"/>
            <a:stretch/>
          </p:blipFill>
          <p:spPr>
            <a:xfrm>
              <a:off x="37134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8" descr="NA00763_"/>
            <p:cNvPicPr/>
            <p:nvPr/>
          </p:nvPicPr>
          <p:blipFill>
            <a:blip r:embed="rId6"/>
            <a:stretch/>
          </p:blipFill>
          <p:spPr>
            <a:xfrm>
              <a:off x="481968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9" descr="NA00763_"/>
            <p:cNvPicPr/>
            <p:nvPr/>
          </p:nvPicPr>
          <p:blipFill>
            <a:blip r:embed="rId7"/>
            <a:stretch/>
          </p:blipFill>
          <p:spPr>
            <a:xfrm>
              <a:off x="550548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WordArt 30" descr=""/>
          <p:cNvPicPr/>
          <p:nvPr/>
        </p:nvPicPr>
        <p:blipFill>
          <a:blip r:embed="rId8"/>
          <a:stretch/>
        </p:blipFill>
        <p:spPr>
          <a:xfrm>
            <a:off x="7302600" y="5084640"/>
            <a:ext cx="1560240" cy="792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1"/>
          <p:cNvSpPr/>
          <p:nvPr/>
        </p:nvSpPr>
        <p:spPr>
          <a:xfrm>
            <a:off x="82692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读一读，记一记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1355760" y="457200"/>
            <a:ext cx="1143000" cy="1008360"/>
            <a:chOff x="1355760" y="457200"/>
            <a:chExt cx="1143000" cy="1008360"/>
          </a:xfrm>
        </p:grpSpPr>
        <p:sp>
          <p:nvSpPr>
            <p:cNvPr id="224" name="Oval 3"/>
            <p:cNvSpPr/>
            <p:nvPr/>
          </p:nvSpPr>
          <p:spPr>
            <a:xfrm>
              <a:off x="1355760" y="5335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5" name="Text Box 4"/>
            <p:cNvSpPr/>
            <p:nvPr/>
          </p:nvSpPr>
          <p:spPr>
            <a:xfrm>
              <a:off x="143208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谧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6" name="Group 5"/>
          <p:cNvGrpSpPr/>
          <p:nvPr/>
        </p:nvGrpSpPr>
        <p:grpSpPr>
          <a:xfrm>
            <a:off x="1050840" y="1600200"/>
            <a:ext cx="1828800" cy="825120"/>
            <a:chOff x="1050840" y="1600200"/>
            <a:chExt cx="1828800" cy="825120"/>
          </a:xfrm>
        </p:grpSpPr>
        <p:sp>
          <p:nvSpPr>
            <p:cNvPr id="227" name="AutoShape 6"/>
            <p:cNvSpPr/>
            <p:nvPr/>
          </p:nvSpPr>
          <p:spPr>
            <a:xfrm>
              <a:off x="127944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105084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静谧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9" name="Group 8"/>
          <p:cNvGrpSpPr/>
          <p:nvPr/>
        </p:nvGrpSpPr>
        <p:grpSpPr>
          <a:xfrm>
            <a:off x="3606840" y="1628640"/>
            <a:ext cx="1828800" cy="825120"/>
            <a:chOff x="3606840" y="1628640"/>
            <a:chExt cx="1828800" cy="825120"/>
          </a:xfrm>
        </p:grpSpPr>
        <p:sp>
          <p:nvSpPr>
            <p:cNvPr id="230" name="AutoShape 9"/>
            <p:cNvSpPr/>
            <p:nvPr/>
          </p:nvSpPr>
          <p:spPr>
            <a:xfrm>
              <a:off x="3835440" y="170496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>
              <a:off x="3606840" y="16286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振奋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2" name="Group 11"/>
          <p:cNvGrpSpPr/>
          <p:nvPr/>
        </p:nvGrpSpPr>
        <p:grpSpPr>
          <a:xfrm>
            <a:off x="6127920" y="1628640"/>
            <a:ext cx="1828800" cy="825120"/>
            <a:chOff x="6127920" y="1628640"/>
            <a:chExt cx="1828800" cy="825120"/>
          </a:xfrm>
        </p:grpSpPr>
        <p:sp>
          <p:nvSpPr>
            <p:cNvPr id="233" name="AutoShape 12"/>
            <p:cNvSpPr/>
            <p:nvPr/>
          </p:nvSpPr>
          <p:spPr>
            <a:xfrm>
              <a:off x="6356520" y="170496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6127920" y="16286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枉费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5" name="Group 14"/>
          <p:cNvGrpSpPr/>
          <p:nvPr/>
        </p:nvGrpSpPr>
        <p:grpSpPr>
          <a:xfrm>
            <a:off x="34920" y="4005360"/>
            <a:ext cx="3203280" cy="825120"/>
            <a:chOff x="34920" y="4005360"/>
            <a:chExt cx="3203280" cy="825120"/>
          </a:xfrm>
        </p:grpSpPr>
        <p:sp>
          <p:nvSpPr>
            <p:cNvPr id="236" name="AutoShape 15"/>
            <p:cNvSpPr/>
            <p:nvPr/>
          </p:nvSpPr>
          <p:spPr>
            <a:xfrm>
              <a:off x="435240" y="4081320"/>
              <a:ext cx="2402280" cy="68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" name="Text Box 16"/>
            <p:cNvSpPr/>
            <p:nvPr/>
          </p:nvSpPr>
          <p:spPr>
            <a:xfrm>
              <a:off x="34920" y="4005360"/>
              <a:ext cx="32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浩如烟海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8" name="Group 17"/>
          <p:cNvGrpSpPr/>
          <p:nvPr/>
        </p:nvGrpSpPr>
        <p:grpSpPr>
          <a:xfrm>
            <a:off x="3174840" y="3933720"/>
            <a:ext cx="1828800" cy="825120"/>
            <a:chOff x="3174840" y="3933720"/>
            <a:chExt cx="1828800" cy="825120"/>
          </a:xfrm>
        </p:grpSpPr>
        <p:sp>
          <p:nvSpPr>
            <p:cNvPr id="239" name="AutoShape 18"/>
            <p:cNvSpPr/>
            <p:nvPr/>
          </p:nvSpPr>
          <p:spPr>
            <a:xfrm>
              <a:off x="3403440" y="401004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0" name="Text Box 19"/>
            <p:cNvSpPr/>
            <p:nvPr/>
          </p:nvSpPr>
          <p:spPr>
            <a:xfrm>
              <a:off x="3174840" y="393372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资料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1" name="Group 20"/>
          <p:cNvGrpSpPr/>
          <p:nvPr/>
        </p:nvGrpSpPr>
        <p:grpSpPr>
          <a:xfrm>
            <a:off x="5048280" y="3933720"/>
            <a:ext cx="1828800" cy="825120"/>
            <a:chOff x="5048280" y="3933720"/>
            <a:chExt cx="1828800" cy="825120"/>
          </a:xfrm>
        </p:grpSpPr>
        <p:sp>
          <p:nvSpPr>
            <p:cNvPr id="242" name="AutoShape 21"/>
            <p:cNvSpPr/>
            <p:nvPr/>
          </p:nvSpPr>
          <p:spPr>
            <a:xfrm>
              <a:off x="5276880" y="401004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3" name="Text Box 22"/>
            <p:cNvSpPr/>
            <p:nvPr/>
          </p:nvSpPr>
          <p:spPr>
            <a:xfrm>
              <a:off x="5048280" y="393372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召开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3967200" y="549360"/>
            <a:ext cx="1143000" cy="1008360"/>
            <a:chOff x="3967200" y="549360"/>
            <a:chExt cx="1143000" cy="1008360"/>
          </a:xfrm>
        </p:grpSpPr>
        <p:sp>
          <p:nvSpPr>
            <p:cNvPr id="245" name="Oval 24"/>
            <p:cNvSpPr/>
            <p:nvPr/>
          </p:nvSpPr>
          <p:spPr>
            <a:xfrm>
              <a:off x="3967200" y="6256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4043520" y="5493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振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7" name="Group 26"/>
          <p:cNvGrpSpPr/>
          <p:nvPr/>
        </p:nvGrpSpPr>
        <p:grpSpPr>
          <a:xfrm>
            <a:off x="6486480" y="549360"/>
            <a:ext cx="1143000" cy="1008360"/>
            <a:chOff x="6486480" y="549360"/>
            <a:chExt cx="1143000" cy="1008360"/>
          </a:xfrm>
        </p:grpSpPr>
        <p:sp>
          <p:nvSpPr>
            <p:cNvPr id="248" name="Oval 27"/>
            <p:cNvSpPr/>
            <p:nvPr/>
          </p:nvSpPr>
          <p:spPr>
            <a:xfrm>
              <a:off x="6486480" y="6256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9" name="Text Box 28"/>
            <p:cNvSpPr/>
            <p:nvPr/>
          </p:nvSpPr>
          <p:spPr>
            <a:xfrm>
              <a:off x="6562800" y="5493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枉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979560" y="2924280"/>
            <a:ext cx="1143000" cy="1008360"/>
            <a:chOff x="979560" y="2924280"/>
            <a:chExt cx="1143000" cy="1008360"/>
          </a:xfrm>
        </p:grpSpPr>
        <p:sp>
          <p:nvSpPr>
            <p:cNvPr id="251" name="Oval 30"/>
            <p:cNvSpPr/>
            <p:nvPr/>
          </p:nvSpPr>
          <p:spPr>
            <a:xfrm>
              <a:off x="979560" y="3000240"/>
              <a:ext cx="1143000" cy="914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2" name="Text Box 31"/>
            <p:cNvSpPr/>
            <p:nvPr/>
          </p:nvSpPr>
          <p:spPr>
            <a:xfrm>
              <a:off x="1055880" y="292428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浩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3" name="Group 32"/>
          <p:cNvGrpSpPr/>
          <p:nvPr/>
        </p:nvGrpSpPr>
        <p:grpSpPr>
          <a:xfrm>
            <a:off x="3535200" y="2852640"/>
            <a:ext cx="1143000" cy="1008360"/>
            <a:chOff x="3535200" y="2852640"/>
            <a:chExt cx="1143000" cy="1008360"/>
          </a:xfrm>
        </p:grpSpPr>
        <p:sp>
          <p:nvSpPr>
            <p:cNvPr id="254" name="Oval 33"/>
            <p:cNvSpPr/>
            <p:nvPr/>
          </p:nvSpPr>
          <p:spPr>
            <a:xfrm>
              <a:off x="3535200" y="292896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" name="Text Box 34"/>
            <p:cNvSpPr/>
            <p:nvPr/>
          </p:nvSpPr>
          <p:spPr>
            <a:xfrm>
              <a:off x="3611520" y="285264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资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6" name="Group 35"/>
          <p:cNvGrpSpPr/>
          <p:nvPr/>
        </p:nvGrpSpPr>
        <p:grpSpPr>
          <a:xfrm>
            <a:off x="5481720" y="2852640"/>
            <a:ext cx="1143000" cy="1008360"/>
            <a:chOff x="5481720" y="2852640"/>
            <a:chExt cx="1143000" cy="1008360"/>
          </a:xfrm>
        </p:grpSpPr>
        <p:sp>
          <p:nvSpPr>
            <p:cNvPr id="257" name="Oval 36"/>
            <p:cNvSpPr/>
            <p:nvPr/>
          </p:nvSpPr>
          <p:spPr>
            <a:xfrm>
              <a:off x="5481720" y="292896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8" name="Text Box 37"/>
            <p:cNvSpPr/>
            <p:nvPr/>
          </p:nvSpPr>
          <p:spPr>
            <a:xfrm>
              <a:off x="5558040" y="285264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召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9" name="Group 38"/>
          <p:cNvGrpSpPr/>
          <p:nvPr/>
        </p:nvGrpSpPr>
        <p:grpSpPr>
          <a:xfrm>
            <a:off x="7236000" y="2782800"/>
            <a:ext cx="1143000" cy="1008360"/>
            <a:chOff x="7236000" y="2782800"/>
            <a:chExt cx="1143000" cy="1008360"/>
          </a:xfrm>
        </p:grpSpPr>
        <p:sp>
          <p:nvSpPr>
            <p:cNvPr id="260" name="Oval 39"/>
            <p:cNvSpPr/>
            <p:nvPr/>
          </p:nvSpPr>
          <p:spPr>
            <a:xfrm>
              <a:off x="7236000" y="28591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1" name="Text Box 40"/>
            <p:cNvSpPr/>
            <p:nvPr/>
          </p:nvSpPr>
          <p:spPr>
            <a:xfrm>
              <a:off x="7312320" y="27828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源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62" name="Group 41"/>
          <p:cNvGrpSpPr/>
          <p:nvPr/>
        </p:nvGrpSpPr>
        <p:grpSpPr>
          <a:xfrm>
            <a:off x="6919920" y="3933720"/>
            <a:ext cx="1828800" cy="825120"/>
            <a:chOff x="6919920" y="3933720"/>
            <a:chExt cx="1828800" cy="825120"/>
          </a:xfrm>
        </p:grpSpPr>
        <p:sp>
          <p:nvSpPr>
            <p:cNvPr id="263" name="AutoShape 42"/>
            <p:cNvSpPr/>
            <p:nvPr/>
          </p:nvSpPr>
          <p:spPr>
            <a:xfrm>
              <a:off x="7148520" y="401004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4" name="Text Box 43"/>
            <p:cNvSpPr/>
            <p:nvPr/>
          </p:nvSpPr>
          <p:spPr>
            <a:xfrm>
              <a:off x="6919920" y="393372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起源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65" name="Group 44"/>
          <p:cNvGrpSpPr/>
          <p:nvPr/>
        </p:nvGrpSpPr>
        <p:grpSpPr>
          <a:xfrm>
            <a:off x="250920" y="5157720"/>
            <a:ext cx="8516880" cy="1434960"/>
            <a:chOff x="250920" y="5157720"/>
            <a:chExt cx="8516880" cy="1434960"/>
          </a:xfrm>
        </p:grpSpPr>
        <p:pic>
          <p:nvPicPr>
            <p:cNvPr id="266" name="Picture 45" descr="NA00763_"/>
            <p:cNvPicPr/>
            <p:nvPr/>
          </p:nvPicPr>
          <p:blipFill>
            <a:blip r:embed="rId2"/>
            <a:stretch/>
          </p:blipFill>
          <p:spPr>
            <a:xfrm>
              <a:off x="25092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6" descr="NA00763_"/>
            <p:cNvPicPr/>
            <p:nvPr/>
          </p:nvPicPr>
          <p:blipFill>
            <a:blip r:embed="rId3"/>
            <a:stretch/>
          </p:blipFill>
          <p:spPr>
            <a:xfrm>
              <a:off x="13446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7" descr="NA00763_"/>
            <p:cNvPicPr/>
            <p:nvPr/>
          </p:nvPicPr>
          <p:blipFill>
            <a:blip r:embed="rId4"/>
            <a:stretch/>
          </p:blipFill>
          <p:spPr>
            <a:xfrm>
              <a:off x="2492640" y="5157720"/>
              <a:ext cx="333504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8" descr="NA00763_"/>
            <p:cNvPicPr/>
            <p:nvPr/>
          </p:nvPicPr>
          <p:blipFill>
            <a:blip r:embed="rId5"/>
            <a:stretch/>
          </p:blipFill>
          <p:spPr>
            <a:xfrm>
              <a:off x="364032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9" descr="NA00763_"/>
            <p:cNvPicPr/>
            <p:nvPr/>
          </p:nvPicPr>
          <p:blipFill>
            <a:blip r:embed="rId6"/>
            <a:stretch/>
          </p:blipFill>
          <p:spPr>
            <a:xfrm>
              <a:off x="47466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50" descr="NA00763_"/>
            <p:cNvPicPr/>
            <p:nvPr/>
          </p:nvPicPr>
          <p:blipFill>
            <a:blip r:embed="rId7"/>
            <a:stretch/>
          </p:blipFill>
          <p:spPr>
            <a:xfrm>
              <a:off x="54324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WordArt 51" descr=""/>
          <p:cNvPicPr/>
          <p:nvPr/>
        </p:nvPicPr>
        <p:blipFill>
          <a:blip r:embed="rId8"/>
          <a:stretch/>
        </p:blipFill>
        <p:spPr>
          <a:xfrm>
            <a:off x="6802560" y="5157720"/>
            <a:ext cx="1555560" cy="792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2"/>
          <p:cNvSpPr/>
          <p:nvPr/>
        </p:nvSpPr>
        <p:spPr>
          <a:xfrm>
            <a:off x="1042920" y="5589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读一读，记一记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03360" y="40428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读词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静谧  资料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召开  起源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由读课文，读准字音，思考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篇课文主要讲了魏格纳的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9280" y="2781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叙述的是德国地球物理学家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魏格纳发现大陆漂移学说的故事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洁白宁静       性格豪放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静谧舒适       坐卧不安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不可思议       精神大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4067280" y="836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443640" y="3429000"/>
            <a:ext cx="30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zhèn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枉费心机  浩如烟海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飞渡重洋  资料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召开   起源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呈直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4067280" y="836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450864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ào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3995640" y="443700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éng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静谧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偶然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豪放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285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7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宁静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195640" y="249228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豪爽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偶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611280" y="3429000"/>
            <a:ext cx="81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坐卧不安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203640" y="328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如坐针毡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偶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崭新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可思议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294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5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96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必然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059280" y="249228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可想而知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陈旧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39640" y="3500280"/>
            <a:ext cx="81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987640" y="5805360"/>
            <a:ext cx="24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1125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格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德国著名的天文学家、气象学家和地球物理学家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他出版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陆的起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四次赴北极的格陵兰岛进行考察，却于第四次考察时不幸遇难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4360" y="5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魏格纳介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ic_114928"/>
          <p:cNvPicPr/>
          <p:nvPr/>
        </p:nvPicPr>
        <p:blipFill>
          <a:blip r:embed="rId2"/>
          <a:srcRect l="12200" t="5395" r="7665" b="5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708360" y="1125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什么是大陆漂移说？从哪一段中可以找到答案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10080" y="2276640"/>
            <a:ext cx="3228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请大家齐读第五自然段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08320" y="3573360"/>
            <a:ext cx="4295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用自己的话来说说什么是大陆漂移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陆漂移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解释地壳运动的一种学说，由德国地球物理学家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年前，地球上的陆地是一块统一的连续体，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泛古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由于地球自西向东转，加上日、月引潮力的作用，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海底扩张说和板块构造理论提出后，大陆漂移说重新被人们所重视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魏格纳对大陆漂移说的奇想是怎么出现的呢，请大家自由朗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稍后完成下面的练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魏格纳在病房的世界地图上先发现（                                      ），接着发现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然后又发现（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803960" y="407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巴西突出部与几内亚湾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527120" y="5043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4581360"/>
            <a:ext cx="84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巴西东海岸突出部与非洲东海岸凹进部分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449960" y="501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所有陆块都能较好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从练习中你知道了魏格纳观察得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081680" y="2492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第二自然段中哪一个词写他观察得很详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细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45880" y="4005360"/>
            <a:ext cx="698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中宋"/>
              </a:rPr>
              <a:t>端详</a:t>
            </a:r>
            <a:endParaRPr b="0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格纳性格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豪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天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好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静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舒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病房里坐卧不安，就像软禁在牢笼中的困兽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47640" y="3789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房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6360" y="4724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格纳性格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227640" y="393372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227640" y="4076640"/>
            <a:ext cx="225720" cy="1081080"/>
          </a:xfrm>
          <a:custGeom>
            <a:avLst/>
            <a:gdLst>
              <a:gd name="textAreaLeft" fmla="*/ 0 w 225720"/>
              <a:gd name="textAreaRight" fmla="*/ 81360 w 225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187280" y="4076640"/>
            <a:ext cx="144720" cy="1057320"/>
          </a:xfrm>
          <a:custGeom>
            <a:avLst/>
            <a:gdLst>
              <a:gd name="textAreaLeft" fmla="*/ 92520 w 144720"/>
              <a:gd name="textAreaRight" fmla="*/ 145080 w 144720"/>
              <a:gd name="textAreaTop" fmla="*/ 27360 h 1057320"/>
              <a:gd name="textAreaBottom" fmla="*/ 102996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732720" y="4365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7812000" y="4581360"/>
            <a:ext cx="432000" cy="1295640"/>
          </a:xfrm>
          <a:custGeom>
            <a:avLst/>
            <a:gdLst>
              <a:gd name="textAreaLeft" fmla="*/ 57600 w 432000"/>
              <a:gd name="textAreaRight" fmla="*/ 374400 w 4320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724360" y="551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坐卧不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301480" y="333360"/>
            <a:ext cx="4813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在发现这些秘密之前魏格纳的是怎样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的？请大家再读第二自然段，找出相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关的句子。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3027240" y="37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仿宋"/>
              </a:rPr>
              <a:t>静谧舒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780080" y="465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豪放、好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20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16:23Z</dcterms:modified>
  <cp:revision>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