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0FE-0513-415D-929F-64B154D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F33-F8A0-436F-B16B-354572C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3C8-2366-4606-A681-21DF027B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0E2-3E2D-42DF-A158-0D0FB29F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5538-D77C-4478-9458-A9A56CDE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7588-A23C-4A09-BA93-2759B65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D901-ECD0-4DF5-8672-53B3BFA1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EDB-374D-45A1-A941-B4E2187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2B04-9A82-4547-9368-1999FDC6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0E53-41D5-4F58-9754-A97A9343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0507-6FBF-4CD1-9D25-2ABA124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78A-FB89-4ACB-A8A6-1C06E066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DA7-EC2D-49F9-810F-6B3FA36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A13-88B6-4D2C-94D4-F89B5D2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38FC-A383-4E41-A1F2-1263256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7E65-E6E6-453B-A8FF-BDA72585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B0A-C88A-4DE0-93B1-A3413B9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137-18DC-45B4-A029-90ED4C9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C5D-BFB5-4D4A-8891-CC16EF3C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045-3A0D-4D04-9BAC-3C021D8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1BD-831B-4E0F-B704-AF1AB6E2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A3A-D106-4B10-96C0-0E0CD99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196-53B7-43BF-A6FA-85FD9B6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DE8-694C-4C65-9711-5C428B1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4F4-DF6F-4921-8AAD-418B9EFEA5B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411D-4EE8-4CDD-8B65-4616C64338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9D2-7962-4961-AE40-2F75ED7A5BC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2DE4-AD91-4E1F-AC35-727BB1A672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307200"/>
            <a:ext cx="660240" cy="55872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022480" y="260280"/>
            <a:ext cx="53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专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S4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S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S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5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7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S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S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S8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S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S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2" descr="S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S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1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11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11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0_Cap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2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S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S3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S3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S3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S3_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template"/>
          <p:cNvPicPr/>
          <p:nvPr/>
        </p:nvPicPr>
        <p:blipFill>
          <a:blip r:embed="rId3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template"/>
          <p:cNvPicPr/>
          <p:nvPr/>
        </p:nvPicPr>
        <p:blipFill>
          <a:blip r:embed="rId2"/>
          <a:srcRect l="92781" t="91856" r="0" b="0"/>
          <a:stretch/>
        </p:blipFill>
        <p:spPr>
          <a:xfrm>
            <a:off x="8483760" y="6299280"/>
            <a:ext cx="660240" cy="5587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0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0:27Z</dcterms:modified>
  <cp:revision>28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