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8E2-45ED-4B2D-8E9A-350C731D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60F-A94C-45DC-81D7-1355A646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B84-DA4D-48CA-9E12-1DA94240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37FB-FE24-4565-9634-4073097E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67B5-D80A-4067-A866-8DE05E69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B7A-6386-46D7-BE45-4E41086A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030-C5D1-4E88-BC89-B2B18F3E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853-8522-4861-85B6-E4FBBE8B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13E-2539-48C1-B988-43676A25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C99-2317-4A8E-B8EB-FE4C154A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7E9-09DE-4876-A150-94E06AEB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2B8-C33C-4673-ABB6-3004083C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8F78-D473-4F52-A27A-3B9949193C5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4748-57C5-4248-B00B-9BB1EB0E84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图片占位符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rmAutofit/>
            </a:bodyPr>
            <a:p>
              <a:pPr marL="343080" indent="-343080" algn="ctr">
                <a:spcBef>
                  <a:spcPts val="1125"/>
                </a:spcBef>
                <a:buClr>
                  <a:srgbClr val="000000"/>
                </a:buClr>
                <a:buSzPct val="25000"/>
                <a:buFont typeface="Arial"/>
                <a:buChar char="•"/>
              </a:pPr>
              <a:r>
                <a:rPr b="0" lang="zh-CN" sz="4500" spc="-1" strike="noStrike">
                  <a:solidFill>
                    <a:srgbClr val="000000"/>
                  </a:solidFill>
                  <a:latin typeface="Calibri"/>
                </a:rPr>
                <a:t>生日动态</a:t>
              </a:r>
              <a:r>
                <a:rPr b="0" lang="zh-CN" sz="4500" spc="-1" strike="noStrike">
                  <a:solidFill>
                    <a:srgbClr val="000000"/>
                  </a:solidFill>
                  <a:latin typeface="Calibri"/>
                </a:rPr>
                <a:t>PPT</a:t>
              </a:r>
              <a:r>
                <a:rPr b="0" lang="zh-CN" sz="4500" spc="-1" strike="noStrike">
                  <a:solidFill>
                    <a:srgbClr val="000000"/>
                  </a:solidFill>
                  <a:latin typeface="Calibri"/>
                </a:rPr>
                <a:t>模板</a:t>
              </a: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" name="图片 7" descr=""/>
          <p:cNvPicPr/>
          <p:nvPr/>
        </p:nvPicPr>
        <p:blipFill>
          <a:blip r:embed="rId2"/>
          <a:stretch/>
        </p:blipFill>
        <p:spPr>
          <a:xfrm>
            <a:off x="1214280" y="4429080"/>
            <a:ext cx="6789960" cy="137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0800" y="6350040"/>
            <a:ext cx="46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占位符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14"/>
          <p:cNvSpPr/>
          <p:nvPr/>
        </p:nvSpPr>
        <p:spPr>
          <a:xfrm>
            <a:off x="0" y="357120"/>
            <a:ext cx="91440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5"/>
          <p:cNvSpPr/>
          <p:nvPr/>
        </p:nvSpPr>
        <p:spPr>
          <a:xfrm>
            <a:off x="-779040" y="455940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6"/>
          <p:cNvSpPr/>
          <p:nvPr/>
        </p:nvSpPr>
        <p:spPr>
          <a:xfrm>
            <a:off x="3721680" y="455940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7"/>
          <p:cNvSpPr/>
          <p:nvPr/>
        </p:nvSpPr>
        <p:spPr>
          <a:xfrm>
            <a:off x="2286000" y="2066760"/>
            <a:ext cx="4929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Way to S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095-A8FF-4DD3-A05D-8F7D082C8E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占位符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1"/>
          <p:cNvSpPr/>
          <p:nvPr/>
        </p:nvSpPr>
        <p:spPr>
          <a:xfrm>
            <a:off x="3214800" y="0"/>
            <a:ext cx="592920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6"/>
          <p:cNvSpPr/>
          <p:nvPr/>
        </p:nvSpPr>
        <p:spPr>
          <a:xfrm>
            <a:off x="142920" y="0"/>
            <a:ext cx="30002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xpan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Way to Show the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Power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V through DVD .PlayerShare PowerPoint in Popular Video Form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 PowerPoint online in Flash Format.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28640" y="214200"/>
            <a:ext cx="271476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14680" y="214200"/>
            <a:ext cx="271476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14680" y="2785680"/>
            <a:ext cx="27147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428640" y="2785680"/>
            <a:ext cx="27147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图片占位符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矩形 7"/>
          <p:cNvSpPr/>
          <p:nvPr/>
        </p:nvSpPr>
        <p:spPr>
          <a:xfrm>
            <a:off x="142920" y="142920"/>
            <a:ext cx="7215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4"/>
          <p:cNvSpPr/>
          <p:nvPr/>
        </p:nvSpPr>
        <p:spPr>
          <a:xfrm>
            <a:off x="-656280" y="24300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 you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9"/>
          <p:cNvSpPr/>
          <p:nvPr/>
        </p:nvSpPr>
        <p:spPr>
          <a:xfrm>
            <a:off x="2844000" y="24300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 you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0"/>
          <p:cNvSpPr/>
          <p:nvPr/>
        </p:nvSpPr>
        <p:spPr>
          <a:xfrm rot="5400000">
            <a:off x="5654160" y="1940040"/>
            <a:ext cx="4572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Way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the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4E7-25B9-49D1-9C25-991A6B1A02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685-4210-4C55-953D-6C669A139D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图片占位符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矩形 7"/>
          <p:cNvSpPr/>
          <p:nvPr/>
        </p:nvSpPr>
        <p:spPr>
          <a:xfrm>
            <a:off x="500040" y="214200"/>
            <a:ext cx="821520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0"/>
          <p:cNvSpPr/>
          <p:nvPr/>
        </p:nvSpPr>
        <p:spPr>
          <a:xfrm>
            <a:off x="500040" y="4214880"/>
            <a:ext cx="564372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Way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Play PowerPo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on TV through DVD .Player Share PowerPoint in Popular Video Forma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Upload PowerPoint online in Flash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42960" y="356760"/>
            <a:ext cx="3929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2920" y="356760"/>
            <a:ext cx="39294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42960" y="2214360"/>
            <a:ext cx="3929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2920" y="2214360"/>
            <a:ext cx="39294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图片占位符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矩形 3"/>
          <p:cNvSpPr/>
          <p:nvPr/>
        </p:nvSpPr>
        <p:spPr>
          <a:xfrm>
            <a:off x="1010880" y="4071960"/>
            <a:ext cx="70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Arial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7650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65894"/>
                </a:solidFill>
                <a:uFillTx/>
                <a:latin typeface="Arial"/>
                <a:hlinkClick r:id="rId3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6:5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36:57Z</dcterms:modified>
  <cp:revision>6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