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7D3-C845-4605-A0C9-B39B4895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EDC-CB4E-434E-B318-E7AA7E4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F69-1338-48E4-A1EE-0C40F7A8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752-CD54-4EE2-A8D7-14FB7538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B5B-D3F9-442F-A40E-64BC0CA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212-F56D-4370-B72E-016CD194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719-7563-4365-8BAE-BBA1BE67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4E9-E403-443F-85A8-0AA2535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659-067E-46B1-9EF8-12733C7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72-9D1C-444F-9741-86BF272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553-CE36-4179-8E62-5385A2D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55A-41ED-46A3-930F-232D83D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6581-9C1A-467B-9F2F-88AFFBC0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1960"/>
            <a:ext cx="7353360" cy="391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666960" y="1343160"/>
            <a:ext cx="914400" cy="4137840"/>
            <a:chOff x="3666960" y="1343160"/>
            <a:chExt cx="914400" cy="4137840"/>
          </a:xfrm>
        </p:grpSpPr>
        <p:grpSp>
          <p:nvGrpSpPr>
            <p:cNvPr id="46" name=""/>
            <p:cNvGrpSpPr/>
            <p:nvPr/>
          </p:nvGrpSpPr>
          <p:grpSpPr>
            <a:xfrm>
              <a:off x="3666960" y="1347120"/>
              <a:ext cx="533520" cy="4133880"/>
              <a:chOff x="3666960" y="1347120"/>
              <a:chExt cx="533520" cy="4133880"/>
            </a:xfrm>
          </p:grpSpPr>
          <p:sp>
            <p:nvSpPr>
              <p:cNvPr id="47" name="Rectangle 5"/>
              <p:cNvSpPr/>
              <p:nvPr/>
            </p:nvSpPr>
            <p:spPr>
              <a:xfrm flipV="1">
                <a:off x="3666960" y="1347120"/>
                <a:ext cx="533520" cy="4129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4"/>
              <p:cNvSpPr/>
              <p:nvPr/>
            </p:nvSpPr>
            <p:spPr>
              <a:xfrm flipH="1" flipV="1">
                <a:off x="3894840" y="1351080"/>
                <a:ext cx="304920" cy="412992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25"/>
            <p:cNvSpPr/>
            <p:nvPr/>
          </p:nvSpPr>
          <p:spPr>
            <a:xfrm flipH="1" flipV="1">
              <a:off x="4200480" y="1343160"/>
              <a:ext cx="380880" cy="41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51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6"/>
            <p:cNvSpPr/>
            <p:nvPr/>
          </p:nvSpPr>
          <p:spPr>
            <a:xfrm flipV="1">
              <a:off x="4581360" y="133920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45" descr="山寺树梢顶"/>
          <p:cNvPicPr/>
          <p:nvPr/>
        </p:nvPicPr>
        <p:blipFill>
          <a:blip r:embed="rId4"/>
          <a:stretch/>
        </p:blipFill>
        <p:spPr>
          <a:xfrm>
            <a:off x="914400" y="1371600"/>
            <a:ext cx="7351560" cy="3914640"/>
          </a:xfrm>
          <a:prstGeom prst="rect">
            <a:avLst/>
          </a:prstGeom>
          <a:ln w="0">
            <a:noFill/>
          </a:ln>
        </p:spPr>
      </p:pic>
      <p:sp>
        <p:nvSpPr>
          <p:cNvPr id="55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0"/>
          <p:cNvSpPr/>
          <p:nvPr/>
        </p:nvSpPr>
        <p:spPr>
          <a:xfrm>
            <a:off x="1752480" y="17524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9320" y="2286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水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41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山寺背景"/>
          <p:cNvPicPr/>
          <p:nvPr/>
        </p:nvPicPr>
        <p:blipFill>
          <a:blip r:embed="rId1"/>
          <a:stretch/>
        </p:blipFill>
        <p:spPr>
          <a:xfrm>
            <a:off x="-336600" y="795240"/>
            <a:ext cx="9798120" cy="521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-1293840" y="914400"/>
            <a:ext cx="1608120" cy="130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山寺树梢顶"/>
          <p:cNvPicPr/>
          <p:nvPr/>
        </p:nvPicPr>
        <p:blipFill>
          <a:blip r:embed="rId3"/>
          <a:stretch/>
        </p:blipFill>
        <p:spPr>
          <a:xfrm>
            <a:off x="-349200" y="792000"/>
            <a:ext cx="9798120" cy="5218200"/>
          </a:xfrm>
          <a:prstGeom prst="rect">
            <a:avLst/>
          </a:prstGeom>
          <a:ln w="0">
            <a:noFill/>
          </a:ln>
        </p:spPr>
      </p:pic>
      <p:sp>
        <p:nvSpPr>
          <p:cNvPr id="72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-455760" y="53341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-303120" y="58467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633920" y="2368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月夜深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群星-禅院钟声.wma" descr=""/>
          <p:cNvPicPr/>
          <p:nvPr/>
        </p:nvPicPr>
        <p:blipFill>
          <a:blip r:embed="rId4"/>
          <a:stretch/>
        </p:blipFill>
        <p:spPr>
          <a:xfrm>
            <a:off x="-358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62485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94" dur="25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10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0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141" dur="20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143" dur="2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145" dur="18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0232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160-3AE4-4CFF-A010-7E86AEB54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2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16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