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2BB-0D0C-4561-813B-C0299DA6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1EF-13B4-428A-95CE-348A840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E233-C020-4A3B-A1A2-AA62EF7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AFB-4D48-449C-81EF-78303943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D5D-2348-409B-AD68-55E2008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EB1-38E7-44CB-80BE-E337D75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4F7-C637-4A7D-A4B3-1623CF57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654-D4C3-449D-A314-B0B6F557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D5E-1AE5-480C-92A1-8C832AE9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AEC-FA9D-4D80-A44C-869A6640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84E-7E3D-4634-95CF-9FC083E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9BC-6AC2-437E-8E3D-87BE34FD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449-B895-424E-A617-A1966128BA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7"/>
          <p:cNvSpPr/>
          <p:nvPr/>
        </p:nvSpPr>
        <p:spPr>
          <a:xfrm>
            <a:off x="395280" y="692280"/>
            <a:ext cx="856944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8"/>
          <p:cNvSpPr/>
          <p:nvPr/>
        </p:nvSpPr>
        <p:spPr>
          <a:xfrm>
            <a:off x="3348000" y="6237360"/>
            <a:ext cx="5616720" cy="0"/>
          </a:xfrm>
          <a:prstGeom prst="line">
            <a:avLst/>
          </a:prstGeom>
          <a:ln w="381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tretch/>
        </p:blipFill>
        <p:spPr>
          <a:xfrm>
            <a:off x="6659640" y="6211800"/>
            <a:ext cx="253800" cy="29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24000" y="6093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117960" y="12682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桃花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395280" y="115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模板使用说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611280" y="1125360"/>
            <a:ext cx="7848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7937640" y="6308640"/>
            <a:ext cx="109836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595008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extBox 1" descr=""/>
          <p:cNvPicPr/>
          <p:nvPr/>
        </p:nvPicPr>
        <p:blipFill>
          <a:blip r:embed="rId1"/>
          <a:stretch/>
        </p:blipFill>
        <p:spPr>
          <a:xfrm>
            <a:off x="1109520" y="2620800"/>
            <a:ext cx="74980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2" descr=""/>
          <p:cNvPicPr/>
          <p:nvPr/>
        </p:nvPicPr>
        <p:blipFill>
          <a:blip r:embed="rId1"/>
          <a:stretch/>
        </p:blipFill>
        <p:spPr>
          <a:xfrm>
            <a:off x="2484360" y="1430280"/>
            <a:ext cx="4248360" cy="12654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547640" y="2565360"/>
            <a:ext cx="64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作者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dygir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5"/>
          <p:cNvSpPr/>
          <p:nvPr/>
        </p:nvSpPr>
        <p:spPr>
          <a:xfrm>
            <a:off x="1547640" y="3068640"/>
            <a:ext cx="60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矩形 6" descr=""/>
          <p:cNvPicPr/>
          <p:nvPr/>
        </p:nvPicPr>
        <p:blipFill>
          <a:blip r:embed="rId2"/>
          <a:stretch/>
        </p:blipFill>
        <p:spPr>
          <a:xfrm>
            <a:off x="1530360" y="3097080"/>
            <a:ext cx="6076800" cy="841680"/>
          </a:xfrm>
          <a:prstGeom prst="rect">
            <a:avLst/>
          </a:prstGeom>
          <a:ln w="0">
            <a:noFill/>
          </a:ln>
        </p:spPr>
      </p:pic>
      <p:sp>
        <p:nvSpPr>
          <p:cNvPr id="175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2:23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40:42Z</dcterms:modified>
  <cp:revision>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