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2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3.gif" ContentType="image/gif"/>
  <Override PartName="/ppt/media/image16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7120-1409-4CC4-A902-B47A5EB7E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2CA4-D5AF-4B15-9AA1-67EBAF50F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96CF-BADB-41FD-80BC-6765FC803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02D6-43CC-4ACE-9BC9-3D40AEBDF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E71E5-8462-48BC-88EA-87BA43042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29A57-3ADC-4E2D-98E7-37F74A30B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0D2DD-ECFC-458B-BB7D-873C3D8A4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07A91-FAE5-4CDC-9742-B1617B10F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707E6-05AA-4BB2-BA6C-741379FEA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E41C6-8FBD-4D81-801A-45BFA09D1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D3E24-7F60-4439-B9E4-A68367E01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B8F8-C32F-46EA-BEF7-7022B1809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2F5D0-B1F3-414C-B4FC-37423AB3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C3D0F-7719-4448-870A-64161972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90E05-B69C-42BA-8316-3F0FC1BE6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0F91E-1138-46F4-84A8-D06128D7E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52A41-2804-49C3-9B75-5ACDF53C0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7F16B-2E08-44A7-B8B8-80075FB3A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DA76A-1DB5-42F3-A1B9-E3A8B213E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624CA-3052-4B4C-B2A2-CB71078B3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710F2-685C-4AA2-988E-C18BACBB4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C4C5B-BE2F-40B4-B8A7-FDEA89165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DD4D-C396-48F5-A006-C62A8D834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31BE5-3631-48AF-86BE-DDA94538E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624A2-7C07-42E4-918A-A6B680F9B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F5333-348C-4499-82C3-21C81D44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640EC-990E-41C1-A316-FBC350AC8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FC87C-F3E2-40A3-B3D1-EFCF2C843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28A51-860B-4E6F-A93D-43C04EE53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C28D7-E623-4B26-B22D-A0C23E3DB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DEA59-D73F-4A1F-BD65-AEBB1C7F4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363CC-0466-45E3-BBA3-CB7BD2C5B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9006E-DEBB-4784-A9F5-B0C90AFA5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4F73-DAD9-47E8-BDEF-AAECD2B8D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21957-C552-4B5C-BA1C-F35C3BEB8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354CF-398D-43E0-B883-959670C53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F261F-91CF-443A-98F7-7B6AE3C02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08CD2-A30C-4130-89A2-49C5CA846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59C85-3ADD-402C-BC67-8BA49419F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D7D1C-7EAB-4ED8-8C11-B50DA448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78188-6A31-4212-AC5F-9BECB4363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77823-71C0-4097-9D31-A8CFC7CF7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52C49-9D3F-4770-9C5F-00DAEB086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F3F1-E223-4461-AAB4-F07B49227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11F4-2123-4782-BE02-A6D46D07C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45F7-815E-436E-BC32-E68EF965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703F-28B8-4C80-8932-9C97E6290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AAD2-39BE-4CAF-B8FB-0087EB09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99432-845C-42DF-85F2-78CF16378A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B667C-EA32-4EAD-A613-1AE450BBA3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7FBB6-6090-4965-936C-525B4D9243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EE915-BAF9-4D7D-A223-18909360ED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69de4a43d1d1ef3a72f05d6b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10"/>
          <p:cNvSpPr/>
          <p:nvPr/>
        </p:nvSpPr>
        <p:spPr>
          <a:xfrm>
            <a:off x="6948360" y="333360"/>
            <a:ext cx="9367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2" descr="getimage_big"/>
          <p:cNvPicPr/>
          <p:nvPr/>
        </p:nvPicPr>
        <p:blipFill>
          <a:blip r:embed="rId2"/>
          <a:srcRect l="0" t="0" r="0" b="7638"/>
          <a:stretch/>
        </p:blipFill>
        <p:spPr>
          <a:xfrm>
            <a:off x="0" y="0"/>
            <a:ext cx="6443640" cy="6885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492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166880" y="333360"/>
            <a:ext cx="1399320" cy="57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汤姆索亚历险记</a:t>
            </a: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课件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7" descr="fc20767d15c71c68324e15c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8"/>
          <p:cNvSpPr/>
          <p:nvPr/>
        </p:nvSpPr>
        <p:spPr>
          <a:xfrm>
            <a:off x="179280" y="3716280"/>
            <a:ext cx="280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历险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9"/>
          <p:cNvSpPr/>
          <p:nvPr/>
        </p:nvSpPr>
        <p:spPr>
          <a:xfrm>
            <a:off x="4426200" y="5157720"/>
            <a:ext cx="158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汤姆和哈克、乔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到杰克逊岛当海盗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0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5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ff"/>
                </a:solidFill>
                <a:latin typeface="Times New Roman"/>
              </a:rPr>
              <a:t>鬼屋寻宝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Rectangle 4"/>
          <p:cNvGrpSpPr/>
          <p:nvPr/>
        </p:nvGrpSpPr>
        <p:grpSpPr>
          <a:xfrm>
            <a:off x="-6480" y="-6480"/>
            <a:ext cx="9229680" cy="6870600"/>
            <a:chOff x="-6480" y="-6480"/>
            <a:chExt cx="9229680" cy="6870600"/>
          </a:xfrm>
        </p:grpSpPr>
        <p:pic>
          <p:nvPicPr>
            <p:cNvPr id="205" name="Rectangle 4" descr="鬼屋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229680" cy="687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0" y="0"/>
              <a:ext cx="92152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Rectangle 6"/>
          <p:cNvGrpSpPr/>
          <p:nvPr/>
        </p:nvGrpSpPr>
        <p:grpSpPr>
          <a:xfrm>
            <a:off x="-79200" y="-6480"/>
            <a:ext cx="9229680" cy="6870600"/>
            <a:chOff x="-79200" y="-6480"/>
            <a:chExt cx="9229680" cy="6870600"/>
          </a:xfrm>
        </p:grpSpPr>
        <p:pic>
          <p:nvPicPr>
            <p:cNvPr id="208" name="Rectangle 6" descr="鬼屋"/>
            <p:cNvPicPr/>
            <p:nvPr/>
          </p:nvPicPr>
          <p:blipFill>
            <a:blip r:embed="rId3"/>
            <a:stretch/>
          </p:blipFill>
          <p:spPr>
            <a:xfrm>
              <a:off x="-79200" y="-6480"/>
              <a:ext cx="9229680" cy="687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-71280" y="0"/>
              <a:ext cx="92152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Rectangle 7"/>
          <p:cNvSpPr/>
          <p:nvPr/>
        </p:nvSpPr>
        <p:spPr>
          <a:xfrm>
            <a:off x="971640" y="981000"/>
            <a:ext cx="280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历险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8"/>
          <p:cNvSpPr/>
          <p:nvPr/>
        </p:nvSpPr>
        <p:spPr>
          <a:xfrm>
            <a:off x="4105440" y="4365720"/>
            <a:ext cx="160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汤姆和哈克到鬼屋寻宝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2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10" descr="2007112914854215_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11"/>
          <p:cNvSpPr/>
          <p:nvPr/>
        </p:nvSpPr>
        <p:spPr>
          <a:xfrm>
            <a:off x="971640" y="981000"/>
            <a:ext cx="280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历险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2"/>
          <p:cNvSpPr/>
          <p:nvPr/>
        </p:nvSpPr>
        <p:spPr>
          <a:xfrm>
            <a:off x="2155320" y="4005360"/>
            <a:ext cx="468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汤姆和贝琪在魔克托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山洞迷路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——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真正的冒险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4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9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900000" y="981000"/>
            <a:ext cx="712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  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讨论</a:t>
            </a: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      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      </a:t>
            </a: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二、汤姆给你留下了怎样的印象？</a:t>
            </a:r>
            <a:endParaRPr b="0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6" name=""/>
          <p:cNvSpPr/>
          <p:nvPr/>
        </p:nvSpPr>
        <p:spPr>
          <a:xfrm>
            <a:off x="34920" y="6237360"/>
            <a:ext cx="33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4" dur="2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Picture 4" descr="qt1"/>
          <p:cNvPicPr/>
          <p:nvPr/>
        </p:nvPicPr>
        <p:blipFill>
          <a:blip r:embed="rId2"/>
          <a:stretch/>
        </p:blipFill>
        <p:spPr>
          <a:xfrm>
            <a:off x="0" y="0"/>
            <a:ext cx="9144000" cy="715968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9"/>
          <p:cNvSpPr/>
          <p:nvPr/>
        </p:nvSpPr>
        <p:spPr>
          <a:xfrm>
            <a:off x="519120" y="1224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1"/>
          <p:cNvSpPr/>
          <p:nvPr/>
        </p:nvSpPr>
        <p:spPr>
          <a:xfrm>
            <a:off x="2935080" y="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汤姆人物形象分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2"/>
          <p:cNvSpPr/>
          <p:nvPr/>
        </p:nvSpPr>
        <p:spPr>
          <a:xfrm>
            <a:off x="179280" y="3108240"/>
            <a:ext cx="2737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天真活泼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聪明淘气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正义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勇敢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敢于探险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追求自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4" dur="2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9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D9D5-580F-4B79-9159-9088EC6FAAE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4" descr="%B1%B3%BE%B0%CB%D8%B2%C4-3"/>
          <p:cNvPicPr/>
          <p:nvPr/>
        </p:nvPicPr>
        <p:blipFill>
          <a:blip r:embed="rId2"/>
          <a:stretch/>
        </p:blipFill>
        <p:spPr>
          <a:xfrm>
            <a:off x="0" y="0"/>
            <a:ext cx="9144000" cy="7567560"/>
          </a:xfrm>
          <a:prstGeom prst="rect">
            <a:avLst/>
          </a:prstGeom>
          <a:ln w="0">
            <a:noFill/>
          </a:ln>
        </p:spPr>
      </p:pic>
      <p:sp>
        <p:nvSpPr>
          <p:cNvPr id="228" name="WordArt 5"/>
          <p:cNvSpPr txBox="1"/>
          <p:nvPr/>
        </p:nvSpPr>
        <p:spPr>
          <a:xfrm>
            <a:off x="826920" y="3213000"/>
            <a:ext cx="2019600" cy="77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新魏"/>
              </a:rPr>
              <a:t>中心思想</a:t>
            </a:r>
            <a:endParaRPr b="0" lang="en-US" sz="40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新魏"/>
              <a:ea typeface="华文新魏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1116000" y="4292640"/>
            <a:ext cx="7416720" cy="28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本文以汤姆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索亚的传奇式历险为线索，表现了汤姆敢于探险，追求自由的性格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Picture 4" descr="19"/>
          <p:cNvPicPr/>
          <p:nvPr/>
        </p:nvPicPr>
        <p:blipFill>
          <a:blip r:embed="rId2"/>
          <a:stretch/>
        </p:blipFill>
        <p:spPr>
          <a:xfrm>
            <a:off x="-190440" y="-142920"/>
            <a:ext cx="9524880" cy="714384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5"/>
          <p:cNvSpPr/>
          <p:nvPr/>
        </p:nvSpPr>
        <p:spPr>
          <a:xfrm>
            <a:off x="0" y="2205000"/>
            <a:ext cx="6912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为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精彩片段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划分层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Picture 4" descr="ffaa22cd368d8d790fb3451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5"/>
          <p:cNvSpPr/>
          <p:nvPr/>
        </p:nvSpPr>
        <p:spPr>
          <a:xfrm>
            <a:off x="684360" y="692280"/>
            <a:ext cx="691200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隶书"/>
                <a:ea typeface="隶书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一、（</a:t>
            </a:r>
            <a:r>
              <a:rPr b="1" lang="en-US" sz="2800" spc="-1" strike="noStrike">
                <a:solidFill>
                  <a:srgbClr val="ffffff"/>
                </a:solidFill>
                <a:latin typeface="隶书"/>
                <a:ea typeface="隶书"/>
              </a:rPr>
              <a:t>1-4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）撒切尔太太和汤姆的姨妈悲痛绝望的心情，和汤姆、贝琪回来后小镇欢乐的情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二、（</a:t>
            </a:r>
            <a:r>
              <a:rPr b="1" lang="en-US" sz="2800" spc="-1" strike="noStrike">
                <a:solidFill>
                  <a:srgbClr val="ffffff"/>
                </a:solidFill>
                <a:latin typeface="隶书"/>
                <a:ea typeface="隶书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）汤姆讲述他和贝琪在洞中的历险经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三、（</a:t>
            </a:r>
            <a:r>
              <a:rPr b="1" lang="en-US" sz="2800" spc="-1" strike="noStrike">
                <a:solidFill>
                  <a:srgbClr val="ffffff"/>
                </a:solidFill>
                <a:latin typeface="隶书"/>
                <a:ea typeface="隶书"/>
              </a:rPr>
              <a:t>6-16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）汤姆看望伙伴哈克和贝琪，从法官口中知道山洞被封，乔埃被困洞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7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Picture 4" descr="187300505a5feb4b84352476"/>
          <p:cNvPicPr/>
          <p:nvPr/>
        </p:nvPicPr>
        <p:blipFill>
          <a:blip r:embed="rId2"/>
          <a:stretch/>
        </p:blipFill>
        <p:spPr>
          <a:xfrm>
            <a:off x="-195120" y="-9360"/>
            <a:ext cx="9534240" cy="687672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10"/>
          <p:cNvSpPr/>
          <p:nvPr/>
        </p:nvSpPr>
        <p:spPr>
          <a:xfrm>
            <a:off x="684360" y="476280"/>
            <a:ext cx="691200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重点句子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汤姆躺在一张沙发上，身边围满了热切的听众。他给他们讲着这次精彩的历险过程，同时还夸张地吹嘘了一番，最后又描述了他怎样离开贝琪去探险，如何在风筝线能达到的情况下顺着那条通道向前探路，如何又去探索第三条通道，直到风筝线不够用了为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804000" y="638172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4"/>
          <p:cNvSpPr/>
          <p:nvPr/>
        </p:nvSpPr>
        <p:spPr>
          <a:xfrm>
            <a:off x="468360" y="2060640"/>
            <a:ext cx="6337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梗概        凶悍            乔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教诲        煞白            嘲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难抑之际            岔路横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衣衫褴褛            滔滔不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欣喜若狂            惊弓之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1619280" y="1125360"/>
            <a:ext cx="23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66"/>
                </a:solidFill>
                <a:latin typeface="Times New Roman"/>
              </a:rPr>
              <a:t>词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Picture 4" descr="%B1%B3%BE%B0%CB%D8%B2%C4-3"/>
          <p:cNvPicPr/>
          <p:nvPr/>
        </p:nvPicPr>
        <p:blipFill>
          <a:blip r:embed="rId2"/>
          <a:stretch/>
        </p:blipFill>
        <p:spPr>
          <a:xfrm>
            <a:off x="0" y="0"/>
            <a:ext cx="9144000" cy="7567560"/>
          </a:xfrm>
          <a:prstGeom prst="rect">
            <a:avLst/>
          </a:prstGeom>
          <a:ln w="0">
            <a:noFill/>
          </a:ln>
        </p:spPr>
      </p:pic>
      <p:sp>
        <p:nvSpPr>
          <p:cNvPr id="246" name="WordArt 5"/>
          <p:cNvSpPr txBox="1"/>
          <p:nvPr/>
        </p:nvSpPr>
        <p:spPr>
          <a:xfrm rot="256800">
            <a:off x="3131640" y="5444640"/>
            <a:ext cx="3098880" cy="419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543558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华文新魏"/>
              </a:rPr>
              <a:t>再见</a:t>
            </a:r>
            <a:endParaRPr b="0" lang="en-US" sz="4000" spc="-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WordArt 3"/>
          <p:cNvSpPr txBox="1"/>
          <p:nvPr/>
        </p:nvSpPr>
        <p:spPr>
          <a:xfrm>
            <a:off x="2627280" y="836640"/>
            <a:ext cx="280980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>
                      <a:alpha val="76000"/>
                    </a:srgbClr>
                  </a:outerShdw>
                </a:effectLst>
                <a:latin typeface="宋体"/>
              </a:rPr>
              <a:t>词语解释：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>
                    <a:alpha val="76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4" name="WordArt 4"/>
          <p:cNvSpPr txBox="1"/>
          <p:nvPr/>
        </p:nvSpPr>
        <p:spPr>
          <a:xfrm>
            <a:off x="609480" y="1905120"/>
            <a:ext cx="282888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6000"/>
                    </a:srgbClr>
                  </a:outerShdw>
                </a:effectLst>
                <a:latin typeface="宋体"/>
              </a:rPr>
              <a:t>萌生：开始发生；产生。</a:t>
            </a:r>
            <a:endParaRPr b="0" lang="en-US" sz="2000" spc="-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6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5" name="WordArt 5"/>
          <p:cNvSpPr txBox="1"/>
          <p:nvPr/>
        </p:nvSpPr>
        <p:spPr>
          <a:xfrm>
            <a:off x="533520" y="2666880"/>
            <a:ext cx="540072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6000"/>
                    </a:srgbClr>
                  </a:outerShdw>
                </a:effectLst>
                <a:latin typeface="宋体"/>
              </a:rPr>
              <a:t>臭味相投：思想作风、兴趣等相同，很合得来。</a:t>
            </a:r>
            <a:endParaRPr b="0" lang="en-US" sz="2000" spc="-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6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6" name="WordArt 6"/>
          <p:cNvSpPr txBox="1"/>
          <p:nvPr/>
        </p:nvSpPr>
        <p:spPr>
          <a:xfrm>
            <a:off x="611280" y="3429000"/>
            <a:ext cx="38574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6000"/>
                    </a:srgbClr>
                  </a:outerShdw>
                </a:effectLst>
                <a:latin typeface="宋体"/>
              </a:rPr>
              <a:t>游手好闲：懒惰成性；不爱劳动。</a:t>
            </a:r>
            <a:endParaRPr b="0" lang="en-US" sz="2000" spc="-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6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7" name="WordArt 7"/>
          <p:cNvSpPr txBox="1"/>
          <p:nvPr/>
        </p:nvSpPr>
        <p:spPr>
          <a:xfrm>
            <a:off x="609480" y="4267080"/>
            <a:ext cx="308628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6000"/>
                    </a:srgbClr>
                  </a:outerShdw>
                </a:effectLst>
                <a:latin typeface="宋体"/>
              </a:rPr>
              <a:t>嫁祸：转移灾祸、罪责等。</a:t>
            </a:r>
            <a:endParaRPr b="0" lang="en-US" sz="2000" spc="-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6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8" name="WordArt 9"/>
          <p:cNvSpPr txBox="1"/>
          <p:nvPr/>
        </p:nvSpPr>
        <p:spPr>
          <a:xfrm>
            <a:off x="539640" y="5084640"/>
            <a:ext cx="488628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6000"/>
                    </a:srgbClr>
                  </a:outerShdw>
                </a:effectLst>
                <a:latin typeface="宋体"/>
              </a:rPr>
              <a:t>无拘无束：不受任何约束，形容自由自在。</a:t>
            </a:r>
            <a:endParaRPr b="0" lang="en-US" sz="2000" spc="-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6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WordArt 2"/>
          <p:cNvSpPr txBox="1"/>
          <p:nvPr/>
        </p:nvSpPr>
        <p:spPr>
          <a:xfrm>
            <a:off x="826920" y="1341360"/>
            <a:ext cx="694404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6000"/>
                    </a:srgbClr>
                  </a:outerShdw>
                </a:effectLst>
                <a:latin typeface="宋体"/>
              </a:rPr>
              <a:t>若无其事：好像没有那回事似的，形容不动声色或漠不关心。</a:t>
            </a:r>
            <a:endParaRPr b="0" lang="en-US" sz="2000" spc="-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6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0" name="WordArt 3"/>
          <p:cNvSpPr txBox="1"/>
          <p:nvPr/>
        </p:nvSpPr>
        <p:spPr>
          <a:xfrm>
            <a:off x="755640" y="2349360"/>
            <a:ext cx="282888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6000"/>
                    </a:srgbClr>
                  </a:outerShdw>
                </a:effectLst>
                <a:latin typeface="宋体"/>
              </a:rPr>
              <a:t>一清二楚：指清清楚楚。</a:t>
            </a:r>
            <a:endParaRPr b="0" lang="en-US" sz="2000" spc="-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6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1" name="WordArt 4"/>
          <p:cNvSpPr txBox="1"/>
          <p:nvPr/>
        </p:nvSpPr>
        <p:spPr>
          <a:xfrm>
            <a:off x="755640" y="3429000"/>
            <a:ext cx="360036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6000"/>
                    </a:srgbClr>
                  </a:outerShdw>
                </a:effectLst>
                <a:latin typeface="宋体"/>
              </a:rPr>
              <a:t>惊弓之鸟：被弓箭吓怕了的鸟。</a:t>
            </a:r>
            <a:endParaRPr b="0" lang="en-US" sz="2000" spc="-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6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2" name="WordArt 7"/>
          <p:cNvSpPr txBox="1"/>
          <p:nvPr/>
        </p:nvSpPr>
        <p:spPr>
          <a:xfrm>
            <a:off x="2124000" y="3933720"/>
            <a:ext cx="514368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6000"/>
                    </a:srgbClr>
                  </a:outerShdw>
                </a:effectLst>
                <a:latin typeface="宋体"/>
              </a:rPr>
              <a:t>比喻经过惊吓的人碰到一点动静就非常害怕。</a:t>
            </a:r>
            <a:endParaRPr b="0" lang="en-US" sz="2000" spc="-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6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WordArt 4"/>
          <p:cNvSpPr txBox="1"/>
          <p:nvPr/>
        </p:nvSpPr>
        <p:spPr>
          <a:xfrm>
            <a:off x="611280" y="1413000"/>
            <a:ext cx="334332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6000"/>
                    </a:srgbClr>
                  </a:outerShdw>
                </a:effectLst>
                <a:latin typeface="宋体"/>
              </a:rPr>
              <a:t>欣喜若狂：欣喜得像发了狂。</a:t>
            </a:r>
            <a:endParaRPr b="0" lang="en-US" sz="2000" spc="-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6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4" name="WordArt 5"/>
          <p:cNvSpPr txBox="1"/>
          <p:nvPr/>
        </p:nvSpPr>
        <p:spPr>
          <a:xfrm>
            <a:off x="611280" y="2205000"/>
            <a:ext cx="360036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6000"/>
                    </a:srgbClr>
                  </a:outerShdw>
                </a:effectLst>
                <a:latin typeface="宋体"/>
              </a:rPr>
              <a:t>浩浩荡荡：形容水势广阔宏达。</a:t>
            </a:r>
            <a:endParaRPr b="0" lang="en-US" sz="2000" spc="-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6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5" name="WordArt 6"/>
          <p:cNvSpPr txBox="1"/>
          <p:nvPr/>
        </p:nvSpPr>
        <p:spPr>
          <a:xfrm>
            <a:off x="684360" y="2997360"/>
            <a:ext cx="38574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6000"/>
                    </a:srgbClr>
                  </a:outerShdw>
                </a:effectLst>
                <a:latin typeface="宋体"/>
              </a:rPr>
              <a:t>十全十美：十分完美，毫无欠缺。</a:t>
            </a:r>
            <a:endParaRPr b="0" lang="en-US" sz="2000" spc="-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6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6" name="WordArt 8"/>
          <p:cNvSpPr txBox="1"/>
          <p:nvPr/>
        </p:nvSpPr>
        <p:spPr>
          <a:xfrm>
            <a:off x="539640" y="3860640"/>
            <a:ext cx="308628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6000"/>
                    </a:srgbClr>
                  </a:outerShdw>
                </a:effectLst>
                <a:latin typeface="宋体"/>
              </a:rPr>
              <a:t>衣衫褴褛：衣服破破烂烂。</a:t>
            </a:r>
            <a:endParaRPr b="0" lang="en-US" sz="2000" spc="-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6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7" name="WordArt 9"/>
          <p:cNvSpPr txBox="1"/>
          <p:nvPr/>
        </p:nvSpPr>
        <p:spPr>
          <a:xfrm>
            <a:off x="611280" y="5013360"/>
            <a:ext cx="41148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6000"/>
                    </a:srgbClr>
                  </a:outerShdw>
                </a:effectLst>
                <a:latin typeface="宋体"/>
              </a:rPr>
              <a:t>滔滔不绝：形容话很多，连续不断。</a:t>
            </a:r>
            <a:endParaRPr b="0" lang="en-US" sz="2000" spc="-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6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9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Picture 4" descr="19"/>
          <p:cNvPicPr/>
          <p:nvPr/>
        </p:nvPicPr>
        <p:blipFill>
          <a:blip r:embed="rId2"/>
          <a:stretch/>
        </p:blipFill>
        <p:spPr>
          <a:xfrm>
            <a:off x="-190440" y="-142920"/>
            <a:ext cx="9524880" cy="714384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6"/>
          <p:cNvSpPr/>
          <p:nvPr/>
        </p:nvSpPr>
        <p:spPr>
          <a:xfrm>
            <a:off x="826920" y="333360"/>
            <a:ext cx="7128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划分层次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一、（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-3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）汤姆和哈克半夜到墓地试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二、（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4-6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）汤姆和哈克、乔奇到杰克逊岛当海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三、（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）汤姆和哈克到鬼屋寻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四、（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8-12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）汤姆和贝琪在魔克托尔山洞迷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真正的冒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五、（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3-14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）汤姆和哈克再次洞中寻宝，找到强盗埋藏的金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7" dur="2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900000" y="981000"/>
            <a:ext cx="712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  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讨论</a:t>
            </a: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      </a:t>
            </a: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一、文中写了汤姆的几次历险经历？哪一次是真正的历险？</a:t>
            </a:r>
            <a:endParaRPr b="0" lang="en-US" sz="40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      </a:t>
            </a: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二、汤姆给你留下了怎样的印象？</a:t>
            </a:r>
            <a:endParaRPr b="0" lang="en-US" sz="40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      </a:t>
            </a: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三、重点词句分析。</a:t>
            </a:r>
            <a:endParaRPr b="0" lang="en-US" sz="40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3" name=""/>
          <p:cNvSpPr/>
          <p:nvPr/>
        </p:nvSpPr>
        <p:spPr>
          <a:xfrm>
            <a:off x="108000" y="6237360"/>
            <a:ext cx="33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5" dur="2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5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826920" y="1484280"/>
            <a:ext cx="712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  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讨论</a:t>
            </a: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      </a:t>
            </a: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一、文中写了汤姆的几次历险经历？哪一次是真正的历险？</a:t>
            </a:r>
            <a:endParaRPr b="0" lang="en-US" sz="40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      </a:t>
            </a:r>
            <a:endParaRPr b="0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1627200" y="0"/>
            <a:ext cx="58896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3" descr="墓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历险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4479840" y="2887560"/>
            <a:ext cx="80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墓地试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6"/>
          <p:cNvSpPr/>
          <p:nvPr/>
        </p:nvSpPr>
        <p:spPr>
          <a:xfrm>
            <a:off x="4273200" y="2852640"/>
            <a:ext cx="4010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汤姆和哈克半夜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墓地试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8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3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0T10:38:15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8-23T04:56:35Z</dcterms:modified>
  <cp:revision>42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