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91D-0E6E-4F27-A959-DBF67A02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040"/>
            <a:ext cx="9623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610-CB90-4B44-A87B-23BA1525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0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0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A50-F14B-46F2-8748-9891F5F3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0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0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0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EC0-EA5F-4255-BE2D-1CFEEDCA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81F-0486-4F78-A3A0-F4E931B4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5D2-39AF-4073-8D8A-213A5445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465-EACE-40F2-AE36-3315CC5B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B33-6C71-416D-BF85-349DC3BC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275-9CDF-443F-8AC5-B18E8F1A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0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4D1-A607-4E7F-87CA-84E1FBF8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0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0A3-FD9A-4920-9777-D171F3ED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040"/>
            <a:ext cx="9623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053-FE50-4548-AB7F-10A83918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522360" indent="52056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04292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565280" indent="-52236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085840" indent="-104292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085840" indent="-104292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085840" indent="-104292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7400"/>
            <a:ext cx="2494080" cy="403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zh-CN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32D6C98-FFDE-48B6-B02B-D7AD8F078100}" type="datetime">
              <a:rPr b="0" lang="zh-CN" sz="14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4360" y="7007400"/>
            <a:ext cx="3386160" cy="403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4400" y="7007400"/>
            <a:ext cx="2494080" cy="403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zh-CN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085D87D-1A26-4821-9BB7-9F093085C26E}" type="slidenum">
              <a:rPr b="0" lang="zh-CN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4598" t="0" r="4598" b="4018"/>
          <a:stretch/>
        </p:blipFill>
        <p:spPr>
          <a:xfrm>
            <a:off x="19080" y="3636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1855800" y="243000"/>
            <a:ext cx="69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方正小标宋_GBK"/>
                <a:ea typeface="方正小标宋_GB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2098800" y="900000"/>
            <a:ext cx="64958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标题 1"/>
          <p:cNvSpPr/>
          <p:nvPr/>
        </p:nvSpPr>
        <p:spPr>
          <a:xfrm>
            <a:off x="2013120" y="1836720"/>
            <a:ext cx="66672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162000" y="5724360"/>
            <a:ext cx="10693440" cy="1368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1314360" y="5845320"/>
            <a:ext cx="3672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418000" y="5845320"/>
            <a:ext cx="4753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" y="7165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4920" y="60847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内容占位符 3" descr=""/>
          <p:cNvPicPr/>
          <p:nvPr/>
        </p:nvPicPr>
        <p:blipFill>
          <a:blip r:embed="rId1"/>
          <a:srcRect l="0" t="0" r="0" b="4659"/>
          <a:stretch/>
        </p:blipFill>
        <p:spPr>
          <a:xfrm>
            <a:off x="5057640" y="-4680"/>
            <a:ext cx="5635800" cy="756612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5057640" y="0"/>
            <a:ext cx="2737080" cy="756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标题 1"/>
          <p:cNvSpPr/>
          <p:nvPr/>
        </p:nvSpPr>
        <p:spPr>
          <a:xfrm>
            <a:off x="235080" y="0"/>
            <a:ext cx="1342800" cy="75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第一届“星源杯”美式普尔</a:t>
            </a:r>
            <a:r>
              <a:rPr b="0" lang="en-US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8</a:t>
            </a:r>
            <a:r>
              <a:rPr b="0" lang="zh-CN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球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标题 1"/>
          <p:cNvSpPr/>
          <p:nvPr/>
        </p:nvSpPr>
        <p:spPr>
          <a:xfrm>
            <a:off x="1025640" y="428760"/>
            <a:ext cx="1251000" cy="67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即将火热开杆</a:t>
            </a:r>
            <a:r>
              <a:rPr b="0" lang="en-US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,</a:t>
            </a:r>
            <a:r>
              <a:rPr b="0" lang="zh-CN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丰厚奖品等你来拿</a:t>
            </a:r>
            <a:r>
              <a:rPr b="0" lang="en-US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标题 1"/>
          <p:cNvSpPr/>
          <p:nvPr/>
        </p:nvSpPr>
        <p:spPr>
          <a:xfrm>
            <a:off x="2178000" y="0"/>
            <a:ext cx="1282680" cy="75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6600" spc="-1" strike="noStrike">
                <a:solidFill>
                  <a:srgbClr val="fe4365"/>
                </a:solidFill>
                <a:latin typeface="华康俪金黑W8(P)"/>
                <a:ea typeface="华康俪金黑W8(P)"/>
              </a:rPr>
              <a:t>亲，你报名了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5091120" y="463680"/>
            <a:ext cx="12193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报名时间：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26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日～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报名联系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郭宝成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内线电话：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36800999-86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基地前台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内线电话：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36800999-8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3863880" y="463680"/>
            <a:ext cx="12193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冠军：证书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800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亚军：证书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500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季军：证书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300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参与奖：进入决赛阶段选手（除前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名）可获优胜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6499080" y="-360"/>
            <a:ext cx="4194360" cy="1244520"/>
            <a:chOff x="6499080" y="-360"/>
            <a:chExt cx="4194360" cy="1244520"/>
          </a:xfrm>
        </p:grpSpPr>
        <p:sp>
          <p:nvSpPr>
            <p:cNvPr id="58" name="Freeform 8"/>
            <p:cNvSpPr/>
            <p:nvPr/>
          </p:nvSpPr>
          <p:spPr>
            <a:xfrm flipV="1">
              <a:off x="6499080" y="-720"/>
              <a:ext cx="419436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 flipV="1">
              <a:off x="6856200" y="156960"/>
              <a:ext cx="3837240" cy="17424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 flipV="1">
              <a:off x="7213320" y="314640"/>
              <a:ext cx="348012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 flipV="1">
              <a:off x="7578720" y="480240"/>
              <a:ext cx="3114720" cy="16596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 flipV="1">
              <a:off x="7935840" y="646200"/>
              <a:ext cx="2757600" cy="14940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 flipV="1">
              <a:off x="8292960" y="812520"/>
              <a:ext cx="2400480" cy="1324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 flipV="1">
              <a:off x="8650080" y="978480"/>
              <a:ext cx="2043360" cy="11592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 flipV="1">
              <a:off x="9007200" y="1135800"/>
              <a:ext cx="1686240" cy="10764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635800" y="7093080"/>
            <a:ext cx="453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560" y="209160"/>
            <a:ext cx="9599760" cy="63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80" y="1400040"/>
            <a:ext cx="10439280" cy="5754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8521560" y="368280"/>
            <a:ext cx="16257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307-3C60-462F-865B-0882568506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内容占位符 3" descr=""/>
          <p:cNvPicPr/>
          <p:nvPr/>
        </p:nvPicPr>
        <p:blipFill>
          <a:blip r:embed="rId1"/>
          <a:srcRect l="0" t="0" r="0" b="4659"/>
          <a:stretch/>
        </p:blipFill>
        <p:spPr>
          <a:xfrm>
            <a:off x="5057640" y="-4680"/>
            <a:ext cx="5635800" cy="7566120"/>
          </a:xfrm>
          <a:prstGeom prst="rect">
            <a:avLst/>
          </a:prstGeom>
          <a:ln w="0">
            <a:noFill/>
          </a:ln>
        </p:spPr>
      </p:pic>
      <p:sp>
        <p:nvSpPr>
          <p:cNvPr id="71" name="矩形 4"/>
          <p:cNvSpPr/>
          <p:nvPr/>
        </p:nvSpPr>
        <p:spPr>
          <a:xfrm>
            <a:off x="5057640" y="0"/>
            <a:ext cx="2737080" cy="756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标题 1"/>
          <p:cNvSpPr/>
          <p:nvPr/>
        </p:nvSpPr>
        <p:spPr>
          <a:xfrm rot="2700000">
            <a:off x="1866600" y="-828360"/>
            <a:ext cx="134316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第一届“星源杯”美式普尔</a:t>
            </a:r>
            <a:r>
              <a:rPr b="0" lang="en-US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8</a:t>
            </a:r>
            <a:r>
              <a:rPr b="0" lang="zh-CN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球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标题 1"/>
          <p:cNvSpPr/>
          <p:nvPr/>
        </p:nvSpPr>
        <p:spPr>
          <a:xfrm rot="2700000">
            <a:off x="2346120" y="-725400"/>
            <a:ext cx="125100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即将火热开杆</a:t>
            </a:r>
            <a:r>
              <a:rPr b="0" lang="en-US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,</a:t>
            </a:r>
            <a:r>
              <a:rPr b="0" lang="zh-CN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丰厚奖品等你来拿</a:t>
            </a:r>
            <a:r>
              <a:rPr b="0" lang="en-US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标题 1"/>
          <p:cNvSpPr/>
          <p:nvPr/>
        </p:nvSpPr>
        <p:spPr>
          <a:xfrm rot="2700000">
            <a:off x="2802960" y="-173880"/>
            <a:ext cx="1282680" cy="75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6600" spc="-1" strike="noStrike">
                <a:solidFill>
                  <a:srgbClr val="fe4365"/>
                </a:solidFill>
                <a:latin typeface="华康俪金黑W8(P)"/>
                <a:ea typeface="华康俪金黑W8(P)"/>
              </a:rPr>
              <a:t>亲，你报名了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 rot="2700000">
            <a:off x="7709040" y="1281240"/>
            <a:ext cx="12189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报名时间：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26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日～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报名联系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郭宝成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内线电话：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36800999-86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基地前台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内线电话：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36800999-8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 rot="2700000">
            <a:off x="6204600" y="1049760"/>
            <a:ext cx="121896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冠军：证书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800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亚军：证书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500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季军：证书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300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参与奖：进入决赛阶段选手（除前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名）可获优胜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-864720" y="-1028160"/>
            <a:ext cx="4011840" cy="2829240"/>
            <a:chOff x="-864720" y="-1028160"/>
            <a:chExt cx="4011840" cy="2829240"/>
          </a:xfrm>
        </p:grpSpPr>
        <p:sp>
          <p:nvSpPr>
            <p:cNvPr id="78" name="Freeform 8"/>
            <p:cNvSpPr/>
            <p:nvPr/>
          </p:nvSpPr>
          <p:spPr>
            <a:xfrm flipH="1" rot="19200000">
              <a:off x="-612360" y="299520"/>
              <a:ext cx="419436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9"/>
            <p:cNvSpPr/>
            <p:nvPr/>
          </p:nvSpPr>
          <p:spPr>
            <a:xfrm flipH="1" rot="19200000">
              <a:off x="-672480" y="293400"/>
              <a:ext cx="383688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0"/>
            <p:cNvSpPr/>
            <p:nvPr/>
          </p:nvSpPr>
          <p:spPr>
            <a:xfrm flipH="1" rot="19200000">
              <a:off x="-731520" y="288000"/>
              <a:ext cx="348012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"/>
            <p:cNvSpPr/>
            <p:nvPr/>
          </p:nvSpPr>
          <p:spPr>
            <a:xfrm flipH="1" rot="19200000">
              <a:off x="-792360" y="285480"/>
              <a:ext cx="3114720" cy="16596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2"/>
            <p:cNvSpPr/>
            <p:nvPr/>
          </p:nvSpPr>
          <p:spPr>
            <a:xfrm flipH="1" rot="19200000">
              <a:off x="-852120" y="288000"/>
              <a:ext cx="2757600" cy="14904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"/>
            <p:cNvSpPr/>
            <p:nvPr/>
          </p:nvSpPr>
          <p:spPr>
            <a:xfrm flipH="1" rot="19200000">
              <a:off x="-910800" y="290880"/>
              <a:ext cx="2400480" cy="13212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4"/>
            <p:cNvSpPr/>
            <p:nvPr/>
          </p:nvSpPr>
          <p:spPr>
            <a:xfrm flipH="1" rot="19200000">
              <a:off x="-970920" y="293040"/>
              <a:ext cx="2043360" cy="11556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 flipH="1" rot="19200000">
              <a:off x="-1027440" y="294480"/>
              <a:ext cx="1686240" cy="10764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251080" y="59421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1:3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6:51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