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7.jpeg" ContentType="image/jpeg"/>
  <Override PartName="/ppt/media/image27.png" ContentType="image/png"/>
  <Override PartName="/ppt/media/image33.jpeg" ContentType="image/jpeg"/>
  <Override PartName="/ppt/media/image30.jpeg" ContentType="image/jpeg"/>
  <Override PartName="/ppt/media/image40.png" ContentType="image/png"/>
  <Override PartName="/ppt/media/image41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49.jpeg" ContentType="image/jpeg"/>
  <Override PartName="/ppt/media/image10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C31-7769-4B3F-B064-3FF8517D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D41-124E-4DF8-8F90-B186E245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DC8-8B7D-472C-9700-841B3A7D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BFD-09EF-4EEF-83CA-8BD9446D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A27-910A-4111-AE3F-C800B0C0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45DD-CD8A-463D-A1CB-273F356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109-1AFF-4F24-8710-EDD6E54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61C-DA89-431E-A15E-FAFB504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5EB-A604-41DB-A458-659EE2D0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C45-4797-4811-A4B7-602FE88E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09A0-464F-45B3-9DCB-5AE59FB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322-B396-4533-93F3-8E64805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EB17-752C-477B-8918-CC002608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9121-A228-4801-9D57-10941E4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8AC-024C-4149-BD27-5F92BDA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962-907C-491C-BD36-E7B055B4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4EC-BEB3-4183-BAF4-FBEA492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516-A68E-425B-B243-7C0837C7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AF4-7B4B-4E87-9EC9-39AAA33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FE9-F2BB-4C2E-9719-B6371FFD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EFB-BA5D-48FD-9FD0-456DBA9D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D67-C3C7-4AB0-B94E-423BF7F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38D-DA3C-4254-8975-0CD57C1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397-64B1-44E0-9584-3A307AC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4AE-08BC-4027-B435-CBBB39E06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ED8-73AC-4D1A-8B16-2E08998170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41.png"/><Relationship Id="rId7" Type="http://schemas.openxmlformats.org/officeDocument/2006/relationships/image" Target="../media/image38.png"/><Relationship Id="rId8" Type="http://schemas.openxmlformats.org/officeDocument/2006/relationships/image" Target="../media/image42.png"/><Relationship Id="rId9" Type="http://schemas.openxmlformats.org/officeDocument/2006/relationships/image" Target="../media/image35.png"/><Relationship Id="rId10" Type="http://schemas.openxmlformats.org/officeDocument/2006/relationships/image" Target="../media/image1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35.pn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-284040"/>
            <a:ext cx="2571840" cy="7340400"/>
            <a:chOff x="0" y="-284040"/>
            <a:chExt cx="2571840" cy="7340400"/>
          </a:xfrm>
        </p:grpSpPr>
        <p:grpSp>
          <p:nvGrpSpPr>
            <p:cNvPr id="83" name="Group 3"/>
            <p:cNvGrpSpPr/>
            <p:nvPr/>
          </p:nvGrpSpPr>
          <p:grpSpPr>
            <a:xfrm>
              <a:off x="913680" y="1094400"/>
              <a:ext cx="1658160" cy="1895400"/>
              <a:chOff x="913680" y="1094400"/>
              <a:chExt cx="1658160" cy="1895400"/>
            </a:xfrm>
          </p:grpSpPr>
          <p:sp>
            <p:nvSpPr>
              <p:cNvPr id="84" name="空心弧 3"/>
              <p:cNvSpPr/>
              <p:nvPr/>
            </p:nvSpPr>
            <p:spPr>
              <a:xfrm>
                <a:off x="913680" y="109440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空心弧 4"/>
              <p:cNvSpPr/>
              <p:nvPr/>
            </p:nvSpPr>
            <p:spPr>
              <a:xfrm flipV="1">
                <a:off x="913680" y="12434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13320" y="2472840"/>
              <a:ext cx="1658160" cy="1895400"/>
              <a:chOff x="13320" y="2472840"/>
              <a:chExt cx="1658160" cy="1895400"/>
            </a:xfrm>
          </p:grpSpPr>
          <p:sp>
            <p:nvSpPr>
              <p:cNvPr id="87" name="空心弧 14"/>
              <p:cNvSpPr/>
              <p:nvPr/>
            </p:nvSpPr>
            <p:spPr>
              <a:xfrm flipH="1">
                <a:off x="13320" y="247284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空心弧 15"/>
              <p:cNvSpPr/>
              <p:nvPr/>
            </p:nvSpPr>
            <p:spPr>
              <a:xfrm flipH="1" flipV="1">
                <a:off x="12960" y="26222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913680" y="3851640"/>
              <a:ext cx="1658160" cy="1895400"/>
              <a:chOff x="913680" y="3851640"/>
              <a:chExt cx="1658160" cy="1895400"/>
            </a:xfrm>
          </p:grpSpPr>
          <p:sp>
            <p:nvSpPr>
              <p:cNvPr id="90" name="空心弧 17"/>
              <p:cNvSpPr/>
              <p:nvPr/>
            </p:nvSpPr>
            <p:spPr>
              <a:xfrm>
                <a:off x="913680" y="3851640"/>
                <a:ext cx="1658160" cy="1746000"/>
              </a:xfrm>
              <a:custGeom>
                <a:avLst/>
                <a:gdLst>
                  <a:gd name="textAreaLeft" fmla="*/ 430200 w 1658160"/>
                  <a:gd name="textAreaRight" fmla="*/ 1658520 w 165816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空心弧 18"/>
              <p:cNvSpPr/>
              <p:nvPr/>
            </p:nvSpPr>
            <p:spPr>
              <a:xfrm flipV="1">
                <a:off x="913680" y="400104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0" y="5230080"/>
              <a:ext cx="1671840" cy="1826280"/>
              <a:chOff x="0" y="5230080"/>
              <a:chExt cx="1671840" cy="1826280"/>
            </a:xfrm>
          </p:grpSpPr>
          <p:sp>
            <p:nvSpPr>
              <p:cNvPr id="93" name="空心弧 20"/>
              <p:cNvSpPr/>
              <p:nvPr/>
            </p:nvSpPr>
            <p:spPr>
              <a:xfrm flipH="1">
                <a:off x="12960" y="5230080"/>
                <a:ext cx="1658520" cy="1746000"/>
              </a:xfrm>
              <a:custGeom>
                <a:avLst/>
                <a:gdLst>
                  <a:gd name="textAreaLeft" fmla="*/ 430200 w 1658520"/>
                  <a:gd name="textAreaRight" fmla="*/ 1658880 w 1658520"/>
                  <a:gd name="textAreaTop" fmla="*/ 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空心弧 21"/>
              <p:cNvSpPr/>
              <p:nvPr/>
            </p:nvSpPr>
            <p:spPr>
              <a:xfrm flipH="1" flipV="1">
                <a:off x="-360" y="5310360"/>
                <a:ext cx="1658520" cy="1746000"/>
              </a:xfrm>
              <a:custGeom>
                <a:avLst/>
                <a:gdLst>
                  <a:gd name="textAreaLeft" fmla="*/ 88920 w 1658520"/>
                  <a:gd name="textAreaRight" fmla="*/ 1658880 w 165852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6">
                    <a:moveTo>
                      <a:pt x="110476" y="564396"/>
                    </a:moveTo>
                    <a:lnTo>
                      <a:pt x="110476" y="564396"/>
                    </a:lnTo>
                    <a:cubicBezTo>
                      <a:pt x="285375" y="218253"/>
                      <a:pt x="640188" y="0"/>
                      <a:pt x="1028009" y="0"/>
                    </a:cubicBezTo>
                    <a:cubicBezTo>
                      <a:pt x="1595762" y="0"/>
                      <a:pt x="2056018" y="460254"/>
                      <a:pt x="2056018" y="1028008"/>
                    </a:cubicBezTo>
                    <a:cubicBezTo>
                      <a:pt x="2056018" y="1032586"/>
                      <a:pt x="2055987" y="1037164"/>
                      <a:pt x="2055926" y="1041742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4"/>
                      <a:pt x="1028009" y="206774"/>
                    </a:cubicBezTo>
                    <a:cubicBezTo>
                      <a:pt x="718194" y="206774"/>
                      <a:pt x="434748" y="381128"/>
                      <a:pt x="295028" y="657648"/>
                    </a:cubicBezTo>
                    <a:lnTo>
                      <a:pt x="110476" y="56439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5"/>
            <p:cNvGrpSpPr/>
            <p:nvPr/>
          </p:nvGrpSpPr>
          <p:grpSpPr>
            <a:xfrm>
              <a:off x="13320" y="-284040"/>
              <a:ext cx="1658160" cy="1895760"/>
              <a:chOff x="13320" y="-284040"/>
              <a:chExt cx="1658160" cy="1895760"/>
            </a:xfrm>
          </p:grpSpPr>
          <p:sp>
            <p:nvSpPr>
              <p:cNvPr id="96" name="空心弧 23"/>
              <p:cNvSpPr/>
              <p:nvPr/>
            </p:nvSpPr>
            <p:spPr>
              <a:xfrm flipH="1">
                <a:off x="13320" y="-284040"/>
                <a:ext cx="1658160" cy="1746000"/>
              </a:xfrm>
              <a:custGeom>
                <a:avLst/>
                <a:gdLst>
                  <a:gd name="textAreaLeft" fmla="*/ 1032840 w 1658160"/>
                  <a:gd name="textAreaRight" fmla="*/ 1658880 w 1658160"/>
                  <a:gd name="textAreaTop" fmla="*/ 42120 h 1746000"/>
                  <a:gd name="textAreaBottom" fmla="*/ 884520 h 174600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空心弧 24"/>
              <p:cNvSpPr/>
              <p:nvPr/>
            </p:nvSpPr>
            <p:spPr>
              <a:xfrm flipH="1" flipV="1">
                <a:off x="12960" y="-133920"/>
                <a:ext cx="1658160" cy="1746000"/>
              </a:xfrm>
              <a:custGeom>
                <a:avLst/>
                <a:gdLst>
                  <a:gd name="textAreaLeft" fmla="*/ 320040 w 1658160"/>
                  <a:gd name="textAreaRight" fmla="*/ 1658520 w 1658160"/>
                  <a:gd name="textAreaTop" fmla="*/ 360 h 1746000"/>
                  <a:gd name="textAreaBottom" fmla="*/ 884880 h 174600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Box 28"/>
          <p:cNvSpPr/>
          <p:nvPr/>
        </p:nvSpPr>
        <p:spPr>
          <a:xfrm>
            <a:off x="1510560" y="1413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1491840" y="4272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759960" y="2892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燕尾形 34"/>
          <p:cNvSpPr/>
          <p:nvPr/>
        </p:nvSpPr>
        <p:spPr>
          <a:xfrm>
            <a:off x="1592280" y="3355920"/>
            <a:ext cx="228600" cy="28728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燕尾形 35"/>
          <p:cNvSpPr/>
          <p:nvPr/>
        </p:nvSpPr>
        <p:spPr>
          <a:xfrm>
            <a:off x="2697120" y="1946160"/>
            <a:ext cx="228600" cy="28728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36"/>
          <p:cNvSpPr/>
          <p:nvPr/>
        </p:nvSpPr>
        <p:spPr>
          <a:xfrm>
            <a:off x="2697120" y="4732200"/>
            <a:ext cx="228600" cy="287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7"/>
          <p:cNvSpPr/>
          <p:nvPr/>
        </p:nvSpPr>
        <p:spPr>
          <a:xfrm>
            <a:off x="3327120" y="170172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案例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8"/>
          <p:cNvSpPr/>
          <p:nvPr/>
        </p:nvSpPr>
        <p:spPr>
          <a:xfrm>
            <a:off x="3476880" y="3038400"/>
            <a:ext cx="29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调研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厦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湾彰化员东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9"/>
          <p:cNvSpPr/>
          <p:nvPr/>
        </p:nvSpPr>
        <p:spPr>
          <a:xfrm>
            <a:off x="3493440" y="4414680"/>
            <a:ext cx="196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案例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战略及运作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作流程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当劳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堡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Administrator\Application Data\Tencent\Users\281097226\QQ\WinTemp\RichOle\PX4B6AF]63FKR0FM4IKV]GN.jpg"/>
          <p:cNvPicPr/>
          <p:nvPr/>
        </p:nvPicPr>
        <p:blipFill>
          <a:blip r:embed="rId1"/>
          <a:stretch/>
        </p:blipFill>
        <p:spPr>
          <a:xfrm>
            <a:off x="7786800" y="5715000"/>
            <a:ext cx="857160" cy="893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0"/>
          <p:cNvSpPr/>
          <p:nvPr/>
        </p:nvSpPr>
        <p:spPr>
          <a:xfrm>
            <a:off x="3579480" y="357120"/>
            <a:ext cx="3150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6c0a"/>
                </a:solidFill>
                <a:latin typeface="隶书"/>
                <a:ea typeface="隶书"/>
              </a:rPr>
              <a:t>销售</a:t>
            </a:r>
            <a:r>
              <a:rPr b="0" lang="en-US" sz="4000" spc="-1" strike="noStrike">
                <a:solidFill>
                  <a:srgbClr val="e46c0a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e46c0a"/>
                </a:solidFill>
                <a:latin typeface="隶书"/>
                <a:ea typeface="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6096240" cy="30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istrator\Application Data\Tencent\Users\281097226\QQ\WinTemp\RichOle\1$RQI21OA2VDO$39W}WZ6Y5.jpg"/>
          <p:cNvPicPr/>
          <p:nvPr/>
        </p:nvPicPr>
        <p:blipFill>
          <a:blip r:embed="rId2"/>
          <a:stretch/>
        </p:blipFill>
        <p:spPr>
          <a:xfrm>
            <a:off x="428760" y="3714840"/>
            <a:ext cx="4643280" cy="298440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2" descr=""/>
          <p:cNvPicPr/>
          <p:nvPr/>
        </p:nvPicPr>
        <p:blipFill>
          <a:blip r:embed="rId3"/>
          <a:stretch/>
        </p:blipFill>
        <p:spPr>
          <a:xfrm>
            <a:off x="2182680" y="3200400"/>
            <a:ext cx="82872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5"/>
          <p:cNvGrpSpPr/>
          <p:nvPr/>
        </p:nvGrpSpPr>
        <p:grpSpPr>
          <a:xfrm>
            <a:off x="4000680" y="357120"/>
            <a:ext cx="3786120" cy="457200"/>
            <a:chOff x="4000680" y="357120"/>
            <a:chExt cx="3786120" cy="457200"/>
          </a:xfrm>
        </p:grpSpPr>
        <p:sp>
          <p:nvSpPr>
            <p:cNvPr id="257" name="圆角矩形 9"/>
            <p:cNvSpPr/>
            <p:nvPr/>
          </p:nvSpPr>
          <p:spPr>
            <a:xfrm>
              <a:off x="4000680" y="35712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4"/>
            <p:cNvSpPr/>
            <p:nvPr/>
          </p:nvSpPr>
          <p:spPr>
            <a:xfrm>
              <a:off x="4357800" y="357120"/>
              <a:ext cx="3429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料加工流程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型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44"/>
          <p:cNvSpPr/>
          <p:nvPr/>
        </p:nvSpPr>
        <p:spPr>
          <a:xfrm flipH="1" flipV="1" rot="14967600">
            <a:off x="4714200" y="3724200"/>
            <a:ext cx="497160" cy="1565640"/>
          </a:xfrm>
          <a:custGeom>
            <a:avLst/>
            <a:gdLst>
              <a:gd name="textAreaLeft" fmla="*/ -360 w 497160"/>
              <a:gd name="textAreaRight" fmla="*/ 497160 w 497160"/>
              <a:gd name="textAreaTop" fmla="*/ -360 h 1565640"/>
              <a:gd name="textAreaBottom" fmla="*/ 1565640 h 1565640"/>
            </a:gdLst>
            <a:ahLst/>
            <a:rect l="textAreaLeft" t="textAreaTop" r="textAreaRight" b="textAreaBottom"/>
            <a:pathLst>
              <a:path w="177" h="1848">
                <a:moveTo>
                  <a:pt x="105" y="1847"/>
                </a:moveTo>
                <a:lnTo>
                  <a:pt x="92" y="1812"/>
                </a:lnTo>
                <a:lnTo>
                  <a:pt x="82" y="1774"/>
                </a:lnTo>
                <a:lnTo>
                  <a:pt x="73" y="1739"/>
                </a:lnTo>
                <a:lnTo>
                  <a:pt x="65" y="1701"/>
                </a:lnTo>
                <a:lnTo>
                  <a:pt x="53" y="1646"/>
                </a:lnTo>
                <a:lnTo>
                  <a:pt x="44" y="1590"/>
                </a:lnTo>
                <a:lnTo>
                  <a:pt x="36" y="1521"/>
                </a:lnTo>
                <a:lnTo>
                  <a:pt x="28" y="1451"/>
                </a:lnTo>
                <a:lnTo>
                  <a:pt x="22" y="1389"/>
                </a:lnTo>
                <a:lnTo>
                  <a:pt x="14" y="1298"/>
                </a:lnTo>
                <a:lnTo>
                  <a:pt x="10" y="1232"/>
                </a:lnTo>
                <a:lnTo>
                  <a:pt x="7" y="1146"/>
                </a:lnTo>
                <a:lnTo>
                  <a:pt x="4" y="1052"/>
                </a:lnTo>
                <a:lnTo>
                  <a:pt x="1" y="951"/>
                </a:lnTo>
                <a:lnTo>
                  <a:pt x="0" y="885"/>
                </a:lnTo>
                <a:lnTo>
                  <a:pt x="5" y="785"/>
                </a:lnTo>
                <a:lnTo>
                  <a:pt x="9" y="701"/>
                </a:lnTo>
                <a:lnTo>
                  <a:pt x="12" y="621"/>
                </a:lnTo>
                <a:lnTo>
                  <a:pt x="21" y="531"/>
                </a:lnTo>
                <a:lnTo>
                  <a:pt x="27" y="486"/>
                </a:lnTo>
                <a:lnTo>
                  <a:pt x="34" y="431"/>
                </a:lnTo>
                <a:lnTo>
                  <a:pt x="43" y="385"/>
                </a:lnTo>
                <a:lnTo>
                  <a:pt x="52" y="337"/>
                </a:lnTo>
                <a:lnTo>
                  <a:pt x="59" y="312"/>
                </a:lnTo>
                <a:lnTo>
                  <a:pt x="5" y="250"/>
                </a:lnTo>
                <a:lnTo>
                  <a:pt x="28" y="219"/>
                </a:lnTo>
                <a:lnTo>
                  <a:pt x="50" y="198"/>
                </a:lnTo>
                <a:lnTo>
                  <a:pt x="79" y="153"/>
                </a:lnTo>
                <a:lnTo>
                  <a:pt x="106" y="104"/>
                </a:lnTo>
                <a:lnTo>
                  <a:pt x="128" y="62"/>
                </a:lnTo>
                <a:lnTo>
                  <a:pt x="153" y="0"/>
                </a:lnTo>
                <a:lnTo>
                  <a:pt x="150" y="83"/>
                </a:lnTo>
                <a:lnTo>
                  <a:pt x="151" y="167"/>
                </a:lnTo>
                <a:lnTo>
                  <a:pt x="156" y="260"/>
                </a:lnTo>
                <a:lnTo>
                  <a:pt x="160" y="347"/>
                </a:lnTo>
                <a:lnTo>
                  <a:pt x="166" y="389"/>
                </a:lnTo>
                <a:lnTo>
                  <a:pt x="176" y="448"/>
                </a:lnTo>
                <a:lnTo>
                  <a:pt x="122" y="382"/>
                </a:lnTo>
                <a:lnTo>
                  <a:pt x="107" y="455"/>
                </a:lnTo>
                <a:lnTo>
                  <a:pt x="95" y="521"/>
                </a:lnTo>
                <a:lnTo>
                  <a:pt x="86" y="601"/>
                </a:lnTo>
                <a:lnTo>
                  <a:pt x="78" y="680"/>
                </a:lnTo>
                <a:lnTo>
                  <a:pt x="71" y="771"/>
                </a:lnTo>
                <a:lnTo>
                  <a:pt x="64" y="858"/>
                </a:lnTo>
                <a:lnTo>
                  <a:pt x="58" y="983"/>
                </a:lnTo>
                <a:lnTo>
                  <a:pt x="55" y="1083"/>
                </a:lnTo>
                <a:lnTo>
                  <a:pt x="57" y="1173"/>
                </a:lnTo>
                <a:lnTo>
                  <a:pt x="57" y="1274"/>
                </a:lnTo>
                <a:lnTo>
                  <a:pt x="57" y="1323"/>
                </a:lnTo>
                <a:lnTo>
                  <a:pt x="59" y="1364"/>
                </a:lnTo>
                <a:lnTo>
                  <a:pt x="62" y="1406"/>
                </a:lnTo>
                <a:lnTo>
                  <a:pt x="63" y="1444"/>
                </a:lnTo>
                <a:lnTo>
                  <a:pt x="64" y="1514"/>
                </a:lnTo>
                <a:lnTo>
                  <a:pt x="68" y="1562"/>
                </a:lnTo>
                <a:lnTo>
                  <a:pt x="71" y="1597"/>
                </a:lnTo>
                <a:lnTo>
                  <a:pt x="76" y="1632"/>
                </a:lnTo>
                <a:lnTo>
                  <a:pt x="79" y="1673"/>
                </a:lnTo>
                <a:lnTo>
                  <a:pt x="84" y="1698"/>
                </a:lnTo>
                <a:lnTo>
                  <a:pt x="86" y="1736"/>
                </a:lnTo>
                <a:lnTo>
                  <a:pt x="94" y="1781"/>
                </a:lnTo>
                <a:lnTo>
                  <a:pt x="98" y="1816"/>
                </a:lnTo>
                <a:lnTo>
                  <a:pt x="105" y="1847"/>
                </a:lnTo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50760" dir="5400000" blurRad="0" rotWithShape="0">
              <a:srgbClr val="ffffff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www.0575360.com/food/yhjpic/maidanglao201051016378.jpg"/>
          <p:cNvPicPr/>
          <p:nvPr/>
        </p:nvPicPr>
        <p:blipFill>
          <a:blip r:embed="rId4"/>
          <a:stretch/>
        </p:blipFill>
        <p:spPr>
          <a:xfrm>
            <a:off x="6072120" y="3143160"/>
            <a:ext cx="2786040" cy="31114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1"/>
          <p:cNvSpPr/>
          <p:nvPr/>
        </p:nvSpPr>
        <p:spPr>
          <a:xfrm>
            <a:off x="6715080" y="1357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需要加工的原材料进行塑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786120" y="500040"/>
            <a:ext cx="3786120" cy="457200"/>
            <a:chOff x="3786120" y="500040"/>
            <a:chExt cx="3786120" cy="457200"/>
          </a:xfrm>
        </p:grpSpPr>
        <p:sp>
          <p:nvSpPr>
            <p:cNvPr id="263" name="圆角矩形 2"/>
            <p:cNvSpPr/>
            <p:nvPr/>
          </p:nvSpPr>
          <p:spPr>
            <a:xfrm>
              <a:off x="3786120" y="50004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4"/>
            <p:cNvSpPr/>
            <p:nvPr/>
          </p:nvSpPr>
          <p:spPr>
            <a:xfrm>
              <a:off x="4000320" y="500040"/>
              <a:ext cx="3571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信息系统支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1714680" y="150012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化点餐系统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de For You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简称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MFY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1928880" y="1928880"/>
            <a:ext cx="60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对所有食品都设置了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定模式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动控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烹制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前端柜台与后端厨房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缝连接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了一起：点餐信息都能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应到厨房流水线，计算机代替了原本的商品制作指示员的角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8"/>
          <p:cNvSpPr/>
          <p:nvPr/>
        </p:nvSpPr>
        <p:spPr>
          <a:xfrm>
            <a:off x="2857680" y="37861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收集到门店过去五周内每一个时段的营业状况，每一家门店会以此为依据，来预测和安排不同时段的员工数量。各个店长根据系统所统计出的每个时段的需要，来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掌握员工数量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857160" y="1214280"/>
            <a:ext cx="7572600" cy="492948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7" descr="PC0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642960"/>
            <a:ext cx="1049040" cy="855720"/>
          </a:xfrm>
          <a:prstGeom prst="rect">
            <a:avLst/>
          </a:prstGeom>
          <a:ln w="0">
            <a:noFill/>
          </a:ln>
        </p:spPr>
      </p:pic>
      <p:sp>
        <p:nvSpPr>
          <p:cNvPr id="270" name="矩形 10"/>
          <p:cNvSpPr/>
          <p:nvPr/>
        </p:nvSpPr>
        <p:spPr>
          <a:xfrm>
            <a:off x="3143160" y="5143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F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员工排班工作系统的综合分析，为销售量和库存量预测提供了重要的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1288800" y="17859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1788480" y="33577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2428920" y="33577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排班工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Administrator\Application Data\Tencent\Users\281097226\QQ\WinTemp\RichOle\PX4B6AF]63FKR0FM4IKV]GN.jpg"/>
          <p:cNvPicPr/>
          <p:nvPr/>
        </p:nvPicPr>
        <p:blipFill>
          <a:blip r:embed="rId3"/>
          <a:stretch/>
        </p:blipFill>
        <p:spPr>
          <a:xfrm>
            <a:off x="2571840" y="5143680"/>
            <a:ext cx="4284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000080" y="428760"/>
            <a:ext cx="3786120" cy="457200"/>
            <a:chOff x="1000080" y="428760"/>
            <a:chExt cx="3786120" cy="457200"/>
          </a:xfrm>
        </p:grpSpPr>
        <p:sp>
          <p:nvSpPr>
            <p:cNvPr id="276" name="圆角矩形 13"/>
            <p:cNvSpPr/>
            <p:nvPr/>
          </p:nvSpPr>
          <p:spPr>
            <a:xfrm>
              <a:off x="1000080" y="42876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4"/>
            <p:cNvSpPr/>
            <p:nvPr/>
          </p:nvSpPr>
          <p:spPr>
            <a:xfrm>
              <a:off x="1071360" y="42876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程技术的选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5" descr="流程图4"/>
          <p:cNvPicPr/>
          <p:nvPr/>
        </p:nvPicPr>
        <p:blipFill>
          <a:blip r:embed="rId1"/>
          <a:stretch/>
        </p:blipFill>
        <p:spPr>
          <a:xfrm>
            <a:off x="214200" y="928800"/>
            <a:ext cx="8477280" cy="2590560"/>
          </a:xfrm>
          <a:prstGeom prst="rect">
            <a:avLst/>
          </a:prstGeom>
          <a:ln w="0">
            <a:noFill/>
          </a:ln>
        </p:spPr>
      </p:pic>
      <p:sp>
        <p:nvSpPr>
          <p:cNvPr id="279" name="内容占位符 2"/>
          <p:cNvSpPr/>
          <p:nvPr/>
        </p:nvSpPr>
        <p:spPr>
          <a:xfrm>
            <a:off x="571680" y="3571920"/>
            <a:ext cx="8143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货型生产，即根据库存进行生产，可以预先生产出标准化的产品，然后在根据顾客需求可以快速地送到顾客手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在运作过程中，为缩短交货期，使用的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O(Assembly to order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概念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订单装配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，因此实际上是混合型生产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运作上，同时属于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生产运作和服务运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类型，采用标准化配料和操作流程来提高生产效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岗位分工方式，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离前台和后台的服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通过有效管理及设备便利，使得流程更顺畅高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0" descr="3DXR_001014"/>
          <p:cNvPicPr/>
          <p:nvPr/>
        </p:nvPicPr>
        <p:blipFill>
          <a:blip r:embed="rId2"/>
          <a:stretch/>
        </p:blipFill>
        <p:spPr>
          <a:xfrm>
            <a:off x="642960" y="1071720"/>
            <a:ext cx="1657440" cy="1035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7"/>
          <p:cNvSpPr/>
          <p:nvPr/>
        </p:nvSpPr>
        <p:spPr>
          <a:xfrm>
            <a:off x="3786120" y="1071720"/>
            <a:ext cx="4929120" cy="221436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003320" y="285768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9"/>
          <p:cNvSpPr/>
          <p:nvPr/>
        </p:nvSpPr>
        <p:spPr>
          <a:xfrm>
            <a:off x="8146440" y="1143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1643040" y="2786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根据案例资料，比较汉堡王或麦当劳快餐厅运作系统的差异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8"/>
          <p:cNvSpPr/>
          <p:nvPr/>
        </p:nvSpPr>
        <p:spPr>
          <a:xfrm>
            <a:off x="714240" y="35002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分析以上差异性与汉堡王或麦当劳快餐厅各自市场竞争策略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0"/>
          <p:cNvSpPr/>
          <p:nvPr/>
        </p:nvSpPr>
        <p:spPr>
          <a:xfrm>
            <a:off x="1071720" y="428616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Calibri"/>
                <a:ea typeface="黑体"/>
              </a:rPr>
              <a:t>运作系统的差异会对两家公司未来的运作管理带来怎样的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5" descr="背靠问号"/>
          <p:cNvPicPr/>
          <p:nvPr/>
        </p:nvPicPr>
        <p:blipFill>
          <a:blip r:embed="rId1"/>
          <a:stretch/>
        </p:blipFill>
        <p:spPr>
          <a:xfrm>
            <a:off x="0" y="214200"/>
            <a:ext cx="1643040" cy="21924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2" descr="bk-logo.png"/>
          <p:cNvPicPr/>
          <p:nvPr/>
        </p:nvPicPr>
        <p:blipFill>
          <a:blip r:embed="rId2"/>
          <a:stretch/>
        </p:blipFill>
        <p:spPr>
          <a:xfrm rot="20356800">
            <a:off x="5590800" y="658800"/>
            <a:ext cx="1008000" cy="10508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4"/>
          <p:cNvSpPr/>
          <p:nvPr/>
        </p:nvSpPr>
        <p:spPr>
          <a:xfrm rot="20356800">
            <a:off x="4299480" y="104940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http://cdn2.haibao.cn/store/snsthumbs/320_320/brand/201132/807BDBBC82C399B281F1CCC44DA686E6D1842AF2.png"/>
          <p:cNvPicPr/>
          <p:nvPr/>
        </p:nvPicPr>
        <p:blipFill>
          <a:blip r:embed="rId3"/>
          <a:stretch/>
        </p:blipFill>
        <p:spPr>
          <a:xfrm rot="20351400">
            <a:off x="3308400" y="807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2259000"/>
            <a:ext cx="9144000" cy="3289320"/>
            <a:chOff x="0" y="2259000"/>
            <a:chExt cx="9144000" cy="3289320"/>
          </a:xfrm>
        </p:grpSpPr>
        <p:sp>
          <p:nvSpPr>
            <p:cNvPr id="292" name="矩形 2"/>
            <p:cNvSpPr/>
            <p:nvPr/>
          </p:nvSpPr>
          <p:spPr>
            <a:xfrm>
              <a:off x="0" y="2643480"/>
              <a:ext cx="9144000" cy="25203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"/>
            <p:cNvSpPr/>
            <p:nvPr/>
          </p:nvSpPr>
          <p:spPr>
            <a:xfrm>
              <a:off x="47160" y="3071520"/>
              <a:ext cx="9096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角三角形 4"/>
            <p:cNvSpPr/>
            <p:nvPr/>
          </p:nvSpPr>
          <p:spPr>
            <a:xfrm flipH="1">
              <a:off x="577800" y="226332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5"/>
            <p:cNvSpPr/>
            <p:nvPr/>
          </p:nvSpPr>
          <p:spPr>
            <a:xfrm rot="5400000">
              <a:off x="586080" y="2643120"/>
              <a:ext cx="3289320" cy="252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6"/>
            <p:cNvSpPr/>
            <p:nvPr/>
          </p:nvSpPr>
          <p:spPr>
            <a:xfrm>
              <a:off x="971280" y="293148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7"/>
            <p:cNvSpPr/>
            <p:nvPr/>
          </p:nvSpPr>
          <p:spPr>
            <a:xfrm>
              <a:off x="971280" y="357948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8"/>
            <p:cNvSpPr/>
            <p:nvPr/>
          </p:nvSpPr>
          <p:spPr>
            <a:xfrm>
              <a:off x="971280" y="422784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9"/>
            <p:cNvSpPr/>
            <p:nvPr/>
          </p:nvSpPr>
          <p:spPr>
            <a:xfrm>
              <a:off x="971280" y="4875840"/>
              <a:ext cx="2520360" cy="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角三角形 10"/>
            <p:cNvSpPr/>
            <p:nvPr/>
          </p:nvSpPr>
          <p:spPr>
            <a:xfrm flipH="1" flipV="1">
              <a:off x="577800" y="516384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角三角形 11"/>
            <p:cNvSpPr/>
            <p:nvPr/>
          </p:nvSpPr>
          <p:spPr>
            <a:xfrm>
              <a:off x="3492000" y="226332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角三角形 12"/>
            <p:cNvSpPr/>
            <p:nvPr/>
          </p:nvSpPr>
          <p:spPr>
            <a:xfrm flipV="1">
              <a:off x="3492000" y="5163840"/>
              <a:ext cx="390600" cy="380160"/>
            </a:xfrm>
            <a:prstGeom prst="rtTriangl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4"/>
            <p:cNvSpPr/>
            <p:nvPr/>
          </p:nvSpPr>
          <p:spPr>
            <a:xfrm>
              <a:off x="1623240" y="2429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产能与品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5"/>
            <p:cNvSpPr/>
            <p:nvPr/>
          </p:nvSpPr>
          <p:spPr>
            <a:xfrm>
              <a:off x="1641600" y="3072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设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6"/>
            <p:cNvSpPr/>
            <p:nvPr/>
          </p:nvSpPr>
          <p:spPr>
            <a:xfrm>
              <a:off x="1641600" y="4358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员工技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8"/>
            <p:cNvSpPr/>
            <p:nvPr/>
          </p:nvSpPr>
          <p:spPr>
            <a:xfrm>
              <a:off x="4783320" y="3214800"/>
              <a:ext cx="34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准化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化产品，种类较多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固定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图片 21" descr="bk-logo.png"/>
          <p:cNvPicPr/>
          <p:nvPr/>
        </p:nvPicPr>
        <p:blipFill>
          <a:blip r:embed="rId1"/>
          <a:stretch/>
        </p:blipFill>
        <p:spPr>
          <a:xfrm rot="20356800">
            <a:off x="2014560" y="76320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istrator\Application Data\Tencent\Users\281097226\QQ\WinTemp\RichOle\PX4B6AF]63FKR0FM4IKV]GN.jpg"/>
          <p:cNvPicPr/>
          <p:nvPr/>
        </p:nvPicPr>
        <p:blipFill>
          <a:blip r:embed="rId2"/>
          <a:stretch/>
        </p:blipFill>
        <p:spPr>
          <a:xfrm rot="20356800">
            <a:off x="585360" y="835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5"/>
          <p:cNvSpPr/>
          <p:nvPr/>
        </p:nvSpPr>
        <p:spPr>
          <a:xfrm rot="20356800">
            <a:off x="799200" y="692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微软雅黑"/>
                <a:ea typeface="微软雅黑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4490280" y="3643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提供儿童乐园及得来速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8"/>
          <p:cNvSpPr/>
          <p:nvPr/>
        </p:nvSpPr>
        <p:spPr>
          <a:xfrm>
            <a:off x="1642320" y="371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备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9"/>
          <p:cNvSpPr/>
          <p:nvPr/>
        </p:nvSpPr>
        <p:spPr>
          <a:xfrm>
            <a:off x="3429000" y="4000680"/>
            <a:ext cx="585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有效应用更多专业自动化设备及信息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0"/>
          <p:cNvSpPr/>
          <p:nvPr/>
        </p:nvSpPr>
        <p:spPr>
          <a:xfrm>
            <a:off x="3000240" y="4429080"/>
            <a:ext cx="614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麦当劳对员工的标准化操作培训更高效并具有成本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3714840" y="1071720"/>
            <a:ext cx="3786120" cy="457200"/>
            <a:chOff x="3714840" y="1071720"/>
            <a:chExt cx="3786120" cy="457200"/>
          </a:xfrm>
        </p:grpSpPr>
        <p:sp>
          <p:nvSpPr>
            <p:cNvPr id="315" name="圆角矩形 32"/>
            <p:cNvSpPr/>
            <p:nvPr/>
          </p:nvSpPr>
          <p:spPr>
            <a:xfrm>
              <a:off x="3714840" y="107172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4"/>
            <p:cNvSpPr/>
            <p:nvPr/>
          </p:nvSpPr>
          <p:spPr>
            <a:xfrm>
              <a:off x="3786120" y="107172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系统差异性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1" descr="bk-logo.png"/>
          <p:cNvPicPr/>
          <p:nvPr/>
        </p:nvPicPr>
        <p:blipFill>
          <a:blip r:embed="rId1"/>
          <a:stretch/>
        </p:blipFill>
        <p:spPr>
          <a:xfrm rot="20356800">
            <a:off x="2014560" y="76320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Documents and Settings\Administrator\Application Data\Tencent\Users\281097226\QQ\WinTemp\RichOle\PX4B6AF]63FKR0FM4IKV]GN.jpg"/>
          <p:cNvPicPr/>
          <p:nvPr/>
        </p:nvPicPr>
        <p:blipFill>
          <a:blip r:embed="rId2"/>
          <a:stretch/>
        </p:blipFill>
        <p:spPr>
          <a:xfrm rot="20356800">
            <a:off x="585360" y="835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 rot="20356800">
            <a:off x="799200" y="692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11" descr=""/>
          <p:cNvPicPr/>
          <p:nvPr/>
        </p:nvPicPr>
        <p:blipFill>
          <a:blip r:embed="rId3"/>
          <a:srcRect l="0" t="0" r="0" b="1675"/>
          <a:stretch/>
        </p:blipFill>
        <p:spPr>
          <a:xfrm>
            <a:off x="428760" y="1428840"/>
            <a:ext cx="20160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6"/>
          <p:cNvGrpSpPr/>
          <p:nvPr/>
        </p:nvGrpSpPr>
        <p:grpSpPr>
          <a:xfrm>
            <a:off x="928800" y="3000240"/>
            <a:ext cx="7543800" cy="1447920"/>
            <a:chOff x="928800" y="3000240"/>
            <a:chExt cx="7543800" cy="1447920"/>
          </a:xfrm>
        </p:grpSpPr>
        <p:sp>
          <p:nvSpPr>
            <p:cNvPr id="322" name="AutoShape 12"/>
            <p:cNvSpPr/>
            <p:nvPr/>
          </p:nvSpPr>
          <p:spPr>
            <a:xfrm>
              <a:off x="1538280" y="3381120"/>
              <a:ext cx="6172200" cy="685800"/>
            </a:xfrm>
            <a:prstGeom prst="rightArrow">
              <a:avLst>
                <a:gd name="adj1" fmla="val 65278"/>
                <a:gd name="adj2" fmla="val 53125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0718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成品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半成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"/>
            <p:cNvSpPr/>
            <p:nvPr/>
          </p:nvSpPr>
          <p:spPr>
            <a:xfrm>
              <a:off x="39006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顾客点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"/>
            <p:cNvSpPr/>
            <p:nvPr/>
          </p:nvSpPr>
          <p:spPr>
            <a:xfrm>
              <a:off x="5729400" y="3000240"/>
              <a:ext cx="1447560" cy="14479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客制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928800" y="3304800"/>
              <a:ext cx="838080" cy="838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Calibri"/>
                  <a:ea typeface="微软雅黑"/>
                </a:rPr>
                <a:t>原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7634520" y="3304800"/>
              <a:ext cx="838080" cy="838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Calibri"/>
                  <a:ea typeface="微软雅黑"/>
                </a:rPr>
                <a:t>交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2"/>
          <p:cNvSpPr/>
          <p:nvPr/>
        </p:nvSpPr>
        <p:spPr>
          <a:xfrm>
            <a:off x="3929040" y="1285920"/>
            <a:ext cx="4572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麦当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产品都是标准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批备货生产，充分备货，产品一致性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快速，便捷，标准化但客户选择较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3"/>
          <p:cNvSpPr/>
          <p:nvPr/>
        </p:nvSpPr>
        <p:spPr>
          <a:xfrm>
            <a:off x="1928880" y="4643280"/>
            <a:ext cx="5357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汉堡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线方式，储存半成品，按客户要求进行后期加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货速度稍慢，汉堡客制化口味独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牺牲一部分客户等待时间来满足客户产品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5"/>
          <p:cNvGrpSpPr/>
          <p:nvPr/>
        </p:nvGrpSpPr>
        <p:grpSpPr>
          <a:xfrm>
            <a:off x="2928960" y="642960"/>
            <a:ext cx="3786120" cy="457200"/>
            <a:chOff x="2928960" y="642960"/>
            <a:chExt cx="3786120" cy="457200"/>
          </a:xfrm>
        </p:grpSpPr>
        <p:sp>
          <p:nvSpPr>
            <p:cNvPr id="331" name="圆角矩形 15"/>
            <p:cNvSpPr/>
            <p:nvPr/>
          </p:nvSpPr>
          <p:spPr>
            <a:xfrm>
              <a:off x="2928960" y="64296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4"/>
            <p:cNvSpPr/>
            <p:nvPr/>
          </p:nvSpPr>
          <p:spPr>
            <a:xfrm>
              <a:off x="3000240" y="64296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流程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928520" y="-213120"/>
            <a:ext cx="6714720" cy="6856920"/>
            <a:chOff x="1928520" y="-213120"/>
            <a:chExt cx="6714720" cy="6856920"/>
          </a:xfrm>
        </p:grpSpPr>
        <p:grpSp>
          <p:nvGrpSpPr>
            <p:cNvPr id="334" name="Group 3"/>
            <p:cNvGrpSpPr/>
            <p:nvPr/>
          </p:nvGrpSpPr>
          <p:grpSpPr>
            <a:xfrm>
              <a:off x="1928520" y="-213120"/>
              <a:ext cx="6714720" cy="6856920"/>
              <a:chOff x="1928520" y="-213120"/>
              <a:chExt cx="6714720" cy="6856920"/>
            </a:xfrm>
          </p:grpSpPr>
          <p:sp>
            <p:nvSpPr>
              <p:cNvPr id="335" name="空心弧 2"/>
              <p:cNvSpPr/>
              <p:nvPr/>
            </p:nvSpPr>
            <p:spPr>
              <a:xfrm flipH="1" flipV="1" rot="5400000">
                <a:off x="5316840" y="1636920"/>
                <a:ext cx="3481920" cy="3169800"/>
              </a:xfrm>
              <a:custGeom>
                <a:avLst/>
                <a:gdLst>
                  <a:gd name="textAreaLeft" fmla="*/ 499680 w 3481920"/>
                  <a:gd name="textAreaRight" fmla="*/ 3000600 w 3481920"/>
                  <a:gd name="textAreaTop" fmla="*/ 0 h 3169800"/>
                  <a:gd name="textAreaBottom" fmla="*/ 994680 h 3169800"/>
                </a:gdLst>
                <a:ahLst/>
                <a:rect l="textAreaLeft" t="textAreaTop" r="textAreaRight" b="textAreaBottom"/>
                <a:pathLst>
                  <a:path w="3482804" h="3169934">
                    <a:moveTo>
                      <a:pt x="499604" y="473810"/>
                    </a:moveTo>
                    <a:lnTo>
                      <a:pt x="499604" y="473810"/>
                    </a:lnTo>
                    <a:cubicBezTo>
                      <a:pt x="826991" y="170714"/>
                      <a:pt x="1274412" y="0"/>
                      <a:pt x="1741402" y="0"/>
                    </a:cubicBezTo>
                    <a:cubicBezTo>
                      <a:pt x="2217151" y="0"/>
                      <a:pt x="2672187" y="177159"/>
                      <a:pt x="3000763" y="490308"/>
                    </a:cubicBezTo>
                    <a:lnTo>
                      <a:pt x="2420315" y="994844"/>
                    </a:lnTo>
                    <a:lnTo>
                      <a:pt x="2420315" y="994843"/>
                    </a:lnTo>
                    <a:cubicBezTo>
                      <a:pt x="2238142" y="847002"/>
                      <a:pt x="1994723" y="764366"/>
                      <a:pt x="1741402" y="764366"/>
                    </a:cubicBezTo>
                    <a:cubicBezTo>
                      <a:pt x="1492972" y="764366"/>
                      <a:pt x="1253872" y="843848"/>
                      <a:pt x="1072736" y="986647"/>
                    </a:cubicBezTo>
                    <a:lnTo>
                      <a:pt x="499604" y="47381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空心弧 28"/>
              <p:cNvSpPr/>
              <p:nvPr/>
            </p:nvSpPr>
            <p:spPr>
              <a:xfrm flipV="1" rot="16200000">
                <a:off x="1772280" y="1623240"/>
                <a:ext cx="3481920" cy="3169800"/>
              </a:xfrm>
              <a:custGeom>
                <a:avLst/>
                <a:gdLst>
                  <a:gd name="textAreaLeft" fmla="*/ 484200 w 3481920"/>
                  <a:gd name="textAreaRight" fmla="*/ 3000240 w 3481920"/>
                  <a:gd name="textAreaTop" fmla="*/ 0 h 3169800"/>
                  <a:gd name="textAreaBottom" fmla="*/ 994680 h 3169800"/>
                </a:gdLst>
                <a:ahLst/>
                <a:rect l="textAreaLeft" t="textAreaTop" r="textAreaRight" b="textAreaBottom"/>
                <a:pathLst>
                  <a:path w="3482804" h="3169934">
                    <a:moveTo>
                      <a:pt x="484373" y="488089"/>
                    </a:moveTo>
                    <a:lnTo>
                      <a:pt x="484373" y="488089"/>
                    </a:lnTo>
                    <a:cubicBezTo>
                      <a:pt x="812804" y="176290"/>
                      <a:pt x="1266824" y="0"/>
                      <a:pt x="1741402" y="0"/>
                    </a:cubicBezTo>
                    <a:cubicBezTo>
                      <a:pt x="2217151" y="0"/>
                      <a:pt x="2672187" y="177159"/>
                      <a:pt x="3000763" y="490308"/>
                    </a:cubicBezTo>
                    <a:lnTo>
                      <a:pt x="2420315" y="994844"/>
                    </a:lnTo>
                    <a:lnTo>
                      <a:pt x="2420315" y="994843"/>
                    </a:lnTo>
                    <a:cubicBezTo>
                      <a:pt x="2238142" y="847002"/>
                      <a:pt x="1994723" y="764366"/>
                      <a:pt x="1741402" y="764366"/>
                    </a:cubicBezTo>
                    <a:cubicBezTo>
                      <a:pt x="1488735" y="764366"/>
                      <a:pt x="1245893" y="846576"/>
                      <a:pt x="1063851" y="993739"/>
                    </a:cubicBezTo>
                    <a:lnTo>
                      <a:pt x="484373" y="488089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空心弧 29"/>
              <p:cNvSpPr/>
              <p:nvPr/>
            </p:nvSpPr>
            <p:spPr>
              <a:xfrm flipH="1" flipV="1">
                <a:off x="3558240" y="-213120"/>
                <a:ext cx="3482640" cy="3169080"/>
              </a:xfrm>
              <a:custGeom>
                <a:avLst/>
                <a:gdLst>
                  <a:gd name="textAreaLeft" fmla="*/ 488520 w 3482640"/>
                  <a:gd name="textAreaRight" fmla="*/ 3000960 w 3482640"/>
                  <a:gd name="textAreaTop" fmla="*/ 0 h 3169080"/>
                  <a:gd name="textAreaBottom" fmla="*/ 994680 h 3169080"/>
                </a:gdLst>
                <a:ahLst/>
                <a:rect l="textAreaLeft" t="textAreaTop" r="textAreaRight" b="textAreaBottom"/>
                <a:pathLst>
                  <a:path w="3482802" h="3169934">
                    <a:moveTo>
                      <a:pt x="488354" y="484322"/>
                    </a:moveTo>
                    <a:lnTo>
                      <a:pt x="488354" y="484322"/>
                    </a:lnTo>
                    <a:cubicBezTo>
                      <a:pt x="816528" y="174816"/>
                      <a:pt x="1268817" y="0"/>
                      <a:pt x="1741401" y="0"/>
                    </a:cubicBezTo>
                    <a:cubicBezTo>
                      <a:pt x="2217150" y="0"/>
                      <a:pt x="2672185" y="177159"/>
                      <a:pt x="3000762" y="490308"/>
                    </a:cubicBezTo>
                    <a:lnTo>
                      <a:pt x="2420314" y="994844"/>
                    </a:lnTo>
                    <a:lnTo>
                      <a:pt x="2420313" y="994844"/>
                    </a:lnTo>
                    <a:cubicBezTo>
                      <a:pt x="2238141" y="847002"/>
                      <a:pt x="1994722" y="764366"/>
                      <a:pt x="1741401" y="764366"/>
                    </a:cubicBezTo>
                    <a:cubicBezTo>
                      <a:pt x="1489849" y="764366"/>
                      <a:pt x="1247989" y="845854"/>
                      <a:pt x="1066177" y="991866"/>
                    </a:cubicBezTo>
                    <a:lnTo>
                      <a:pt x="488354" y="48432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空心弧 30"/>
              <p:cNvSpPr/>
              <p:nvPr/>
            </p:nvSpPr>
            <p:spPr>
              <a:xfrm>
                <a:off x="3535200" y="3474720"/>
                <a:ext cx="3482640" cy="3169080"/>
              </a:xfrm>
              <a:custGeom>
                <a:avLst/>
                <a:gdLst>
                  <a:gd name="textAreaLeft" fmla="*/ 488160 w 3482640"/>
                  <a:gd name="textAreaRight" fmla="*/ 3000600 w 3482640"/>
                  <a:gd name="textAreaTop" fmla="*/ 0 h 3169080"/>
                  <a:gd name="textAreaBottom" fmla="*/ 994680 h 3169080"/>
                </a:gdLst>
                <a:ahLst/>
                <a:rect l="textAreaLeft" t="textAreaTop" r="textAreaRight" b="textAreaBottom"/>
                <a:pathLst>
                  <a:path w="3482802" h="3169934">
                    <a:moveTo>
                      <a:pt x="488354" y="484322"/>
                    </a:moveTo>
                    <a:lnTo>
                      <a:pt x="488354" y="484322"/>
                    </a:lnTo>
                    <a:cubicBezTo>
                      <a:pt x="816528" y="174816"/>
                      <a:pt x="1268817" y="0"/>
                      <a:pt x="1741401" y="0"/>
                    </a:cubicBezTo>
                    <a:cubicBezTo>
                      <a:pt x="2217150" y="0"/>
                      <a:pt x="2672185" y="177159"/>
                      <a:pt x="3000762" y="490308"/>
                    </a:cubicBezTo>
                    <a:lnTo>
                      <a:pt x="2420314" y="994844"/>
                    </a:lnTo>
                    <a:lnTo>
                      <a:pt x="2420313" y="994844"/>
                    </a:lnTo>
                    <a:cubicBezTo>
                      <a:pt x="2238141" y="847002"/>
                      <a:pt x="1994722" y="764366"/>
                      <a:pt x="1741401" y="764366"/>
                    </a:cubicBezTo>
                    <a:cubicBezTo>
                      <a:pt x="1489849" y="764366"/>
                      <a:pt x="1247989" y="845854"/>
                      <a:pt x="1066177" y="991866"/>
                    </a:cubicBezTo>
                    <a:lnTo>
                      <a:pt x="488354" y="48432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矩形 31"/>
              <p:cNvSpPr/>
              <p:nvPr/>
            </p:nvSpPr>
            <p:spPr>
              <a:xfrm rot="19142400">
                <a:off x="3384360" y="2067840"/>
                <a:ext cx="171108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32"/>
              <p:cNvSpPr/>
              <p:nvPr/>
            </p:nvSpPr>
            <p:spPr>
              <a:xfrm>
                <a:off x="4880520" y="22867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地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33"/>
              <p:cNvSpPr/>
              <p:nvPr/>
            </p:nvSpPr>
            <p:spPr>
              <a:xfrm>
                <a:off x="4880520" y="36439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定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34"/>
              <p:cNvSpPr/>
              <p:nvPr/>
            </p:nvSpPr>
            <p:spPr>
              <a:xfrm>
                <a:off x="4344120" y="2871720"/>
                <a:ext cx="7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定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35"/>
              <p:cNvSpPr/>
              <p:nvPr/>
            </p:nvSpPr>
            <p:spPr>
              <a:xfrm>
                <a:off x="5673600" y="28717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市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36"/>
              <p:cNvSpPr/>
              <p:nvPr/>
            </p:nvSpPr>
            <p:spPr>
              <a:xfrm>
                <a:off x="4101840" y="4610520"/>
                <a:ext cx="2684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面向大众 </a:t>
                </a:r>
                <a:r>
                  <a:rPr b="0" lang="en-US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vs </a:t>
                </a: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中高端客户群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37"/>
              <p:cNvSpPr/>
              <p:nvPr/>
            </p:nvSpPr>
            <p:spPr>
              <a:xfrm>
                <a:off x="4000320" y="1358280"/>
                <a:ext cx="252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市场领导者</a:t>
                </a:r>
                <a:r>
                  <a:rPr b="0" lang="en-US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vs</a:t>
                </a:r>
                <a:r>
                  <a:rPr b="0" lang="zh-CN" sz="16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市场跟随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Group 15"/>
              <p:cNvGrpSpPr/>
              <p:nvPr/>
            </p:nvGrpSpPr>
            <p:grpSpPr>
              <a:xfrm>
                <a:off x="5550120" y="1672560"/>
                <a:ext cx="1233720" cy="1113480"/>
                <a:chOff x="5550120" y="1672560"/>
                <a:chExt cx="1233720" cy="1113480"/>
              </a:xfrm>
            </p:grpSpPr>
            <p:pic>
              <p:nvPicPr>
                <p:cNvPr id="347" name="Picture 3" descr=""/>
                <p:cNvPicPr/>
                <p:nvPr/>
              </p:nvPicPr>
              <p:blipFill>
                <a:blip r:embed="rId1"/>
                <a:srcRect l="2775" t="0" r="7215" b="57688"/>
                <a:stretch/>
              </p:blipFill>
              <p:spPr>
                <a:xfrm flipH="1" rot="13318200">
                  <a:off x="5348520" y="221616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8" name="Group 17"/>
                <p:cNvGrpSpPr/>
                <p:nvPr/>
              </p:nvGrpSpPr>
              <p:grpSpPr>
                <a:xfrm>
                  <a:off x="5796720" y="1884960"/>
                  <a:ext cx="774720" cy="683280"/>
                  <a:chOff x="5796720" y="1884960"/>
                  <a:chExt cx="774720" cy="683280"/>
                </a:xfrm>
              </p:grpSpPr>
              <p:pic>
                <p:nvPicPr>
                  <p:cNvPr id="349" name="矩形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720" y="214596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0" name="Text Box 19"/>
                  <p:cNvSpPr/>
                  <p:nvPr/>
                </p:nvSpPr>
                <p:spPr>
                  <a:xfrm rot="13317600">
                    <a:off x="5676480" y="222480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" name="Group 20"/>
              <p:cNvGrpSpPr/>
              <p:nvPr/>
            </p:nvGrpSpPr>
            <p:grpSpPr>
              <a:xfrm>
                <a:off x="3809160" y="1657440"/>
                <a:ext cx="1233720" cy="1113480"/>
                <a:chOff x="3809160" y="1657440"/>
                <a:chExt cx="1233720" cy="1113480"/>
              </a:xfrm>
            </p:grpSpPr>
            <p:pic>
              <p:nvPicPr>
                <p:cNvPr id="352" name="Picture 3" descr=""/>
                <p:cNvPicPr/>
                <p:nvPr/>
              </p:nvPicPr>
              <p:blipFill>
                <a:blip r:embed="rId3"/>
                <a:srcRect l="2775" t="0" r="7215" b="57688"/>
                <a:stretch/>
              </p:blipFill>
              <p:spPr>
                <a:xfrm rot="8281800">
                  <a:off x="3607560" y="220104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3" name="Group 22"/>
                <p:cNvGrpSpPr/>
                <p:nvPr/>
              </p:nvGrpSpPr>
              <p:grpSpPr>
                <a:xfrm>
                  <a:off x="4012920" y="1869840"/>
                  <a:ext cx="784080" cy="687600"/>
                  <a:chOff x="4012920" y="1869840"/>
                  <a:chExt cx="784080" cy="687600"/>
                </a:xfrm>
              </p:grpSpPr>
              <p:pic>
                <p:nvPicPr>
                  <p:cNvPr id="354" name="矩形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8200">
                    <a:off x="4012920" y="2133000"/>
                    <a:ext cx="78408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Text Box 24"/>
                  <p:cNvSpPr/>
                  <p:nvPr/>
                </p:nvSpPr>
                <p:spPr>
                  <a:xfrm rot="8281200">
                    <a:off x="3892680" y="2211840"/>
                    <a:ext cx="102420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Group 25"/>
              <p:cNvGrpSpPr/>
              <p:nvPr/>
            </p:nvGrpSpPr>
            <p:grpSpPr>
              <a:xfrm>
                <a:off x="5573520" y="3616920"/>
                <a:ext cx="1233720" cy="1113480"/>
                <a:chOff x="5573520" y="3616920"/>
                <a:chExt cx="1233720" cy="1113480"/>
              </a:xfrm>
            </p:grpSpPr>
            <p:pic>
              <p:nvPicPr>
                <p:cNvPr id="357" name="Picture 3" descr=""/>
                <p:cNvPicPr/>
                <p:nvPr/>
              </p:nvPicPr>
              <p:blipFill>
                <a:blip r:embed="rId5"/>
                <a:srcRect l="2775" t="0" r="7215" b="57688"/>
                <a:stretch/>
              </p:blipFill>
              <p:spPr>
                <a:xfrm rot="19081800">
                  <a:off x="5372280" y="416052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" name="Group 27"/>
                <p:cNvGrpSpPr/>
                <p:nvPr/>
              </p:nvGrpSpPr>
              <p:grpSpPr>
                <a:xfrm>
                  <a:off x="5822280" y="3832920"/>
                  <a:ext cx="774720" cy="683640"/>
                  <a:chOff x="5822280" y="3832920"/>
                  <a:chExt cx="774720" cy="683640"/>
                </a:xfrm>
              </p:grpSpPr>
              <p:pic>
                <p:nvPicPr>
                  <p:cNvPr id="359" name="矩形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21599400">
                    <a:off x="5822280" y="409356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" name="Text Box 29"/>
                  <p:cNvSpPr/>
                  <p:nvPr/>
                </p:nvSpPr>
                <p:spPr>
                  <a:xfrm rot="19081200">
                    <a:off x="5700600" y="417312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Group 30"/>
              <p:cNvGrpSpPr/>
              <p:nvPr/>
            </p:nvGrpSpPr>
            <p:grpSpPr>
              <a:xfrm>
                <a:off x="3751200" y="3596040"/>
                <a:ext cx="1233720" cy="1113480"/>
                <a:chOff x="3751200" y="3596040"/>
                <a:chExt cx="1233720" cy="1113480"/>
              </a:xfrm>
            </p:grpSpPr>
            <p:pic>
              <p:nvPicPr>
                <p:cNvPr id="362" name="Picture 3" descr=""/>
                <p:cNvPicPr/>
                <p:nvPr/>
              </p:nvPicPr>
              <p:blipFill>
                <a:blip r:embed="rId7"/>
                <a:srcRect l="2775" t="0" r="7215" b="57688"/>
                <a:stretch/>
              </p:blipFill>
              <p:spPr>
                <a:xfrm flipH="1" rot="2518200">
                  <a:off x="3549960" y="4139640"/>
                  <a:ext cx="1636200" cy="25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3" name="Group 32"/>
                <p:cNvGrpSpPr/>
                <p:nvPr/>
              </p:nvGrpSpPr>
              <p:grpSpPr>
                <a:xfrm>
                  <a:off x="3962160" y="3812760"/>
                  <a:ext cx="774720" cy="683280"/>
                  <a:chOff x="3962160" y="3812760"/>
                  <a:chExt cx="774720" cy="683280"/>
                </a:xfrm>
              </p:grpSpPr>
              <p:pic>
                <p:nvPicPr>
                  <p:cNvPr id="364" name="矩形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160" y="4074120"/>
                    <a:ext cx="774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" name="Text Box 34"/>
                  <p:cNvSpPr/>
                  <p:nvPr/>
                </p:nvSpPr>
                <p:spPr>
                  <a:xfrm rot="2518200">
                    <a:off x="3840480" y="4152600"/>
                    <a:ext cx="10180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66" name="TextBox 25"/>
            <p:cNvSpPr/>
            <p:nvPr/>
          </p:nvSpPr>
          <p:spPr>
            <a:xfrm>
              <a:off x="2954880" y="2429640"/>
              <a:ext cx="66708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平价 </a:t>
              </a: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vs </a:t>
              </a: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中偏高</a:t>
              </a: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26"/>
            <p:cNvSpPr/>
            <p:nvPr/>
          </p:nvSpPr>
          <p:spPr>
            <a:xfrm>
              <a:off x="6918840" y="2286720"/>
              <a:ext cx="910440" cy="21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占有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V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利润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1059120" y="1785960"/>
            <a:ext cx="790200" cy="3286080"/>
            <a:chOff x="1059120" y="1785960"/>
            <a:chExt cx="790200" cy="3286080"/>
          </a:xfrm>
        </p:grpSpPr>
        <p:sp>
          <p:nvSpPr>
            <p:cNvPr id="369" name="矩形 52"/>
            <p:cNvSpPr/>
            <p:nvPr/>
          </p:nvSpPr>
          <p:spPr>
            <a:xfrm>
              <a:off x="1285920" y="1785960"/>
              <a:ext cx="556560" cy="32860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53"/>
            <p:cNvSpPr/>
            <p:nvPr/>
          </p:nvSpPr>
          <p:spPr>
            <a:xfrm>
              <a:off x="1059120" y="2214360"/>
              <a:ext cx="79020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及竞争策略对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图片 56" descr="bk-logo.png"/>
          <p:cNvPicPr/>
          <p:nvPr/>
        </p:nvPicPr>
        <p:blipFill>
          <a:blip r:embed="rId9"/>
          <a:stretch/>
        </p:blipFill>
        <p:spPr>
          <a:xfrm rot="20356800">
            <a:off x="2313000" y="877680"/>
            <a:ext cx="642960" cy="669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Documents and Settings\Administrator\Application Data\Tencent\Users\281097226\QQ\WinTemp\RichOle\PX4B6AF]63FKR0FM4IKV]GN.jpg"/>
          <p:cNvPicPr/>
          <p:nvPr/>
        </p:nvPicPr>
        <p:blipFill>
          <a:blip r:embed="rId10"/>
          <a:stretch/>
        </p:blipFill>
        <p:spPr>
          <a:xfrm rot="20356800">
            <a:off x="564840" y="99072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8"/>
          <p:cNvSpPr/>
          <p:nvPr/>
        </p:nvSpPr>
        <p:spPr>
          <a:xfrm rot="20356800">
            <a:off x="941760" y="83484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http://lusongsong.com/upload/173_1.jpg"/>
          <p:cNvPicPr/>
          <p:nvPr/>
        </p:nvPicPr>
        <p:blipFill>
          <a:blip r:embed="rId11"/>
          <a:stretch/>
        </p:blipFill>
        <p:spPr>
          <a:xfrm>
            <a:off x="7358040" y="428760"/>
            <a:ext cx="1204920" cy="1204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928800" y="5091120"/>
            <a:ext cx="77151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4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目标定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造成二者在价格策略及产品策略上的不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堡王产品需满足目标群体的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性化选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择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因此决定了产品的订制需求，相应产品定价较高；麦当劳目标群体广，整体客流量远超汉堡王，相应的其营销策略更侧重于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高速和合理价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椭圆 1"/>
          <p:cNvGrpSpPr/>
          <p:nvPr/>
        </p:nvGrpSpPr>
        <p:grpSpPr>
          <a:xfrm>
            <a:off x="847800" y="3816360"/>
            <a:ext cx="1120680" cy="1103400"/>
            <a:chOff x="847800" y="3816360"/>
            <a:chExt cx="1120680" cy="1103400"/>
          </a:xfrm>
        </p:grpSpPr>
        <p:pic>
          <p:nvPicPr>
            <p:cNvPr id="377" name="椭圆 1" descr=""/>
            <p:cNvPicPr/>
            <p:nvPr/>
          </p:nvPicPr>
          <p:blipFill>
            <a:blip r:embed="rId1"/>
            <a:stretch/>
          </p:blipFill>
          <p:spPr>
            <a:xfrm>
              <a:off x="847800" y="3816360"/>
              <a:ext cx="1120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12680" y="3979800"/>
              <a:ext cx="7938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椭圆 2"/>
          <p:cNvGrpSpPr/>
          <p:nvPr/>
        </p:nvGrpSpPr>
        <p:grpSpPr>
          <a:xfrm>
            <a:off x="2762280" y="1968480"/>
            <a:ext cx="1035000" cy="1023840"/>
            <a:chOff x="2762280" y="1968480"/>
            <a:chExt cx="1035000" cy="1023840"/>
          </a:xfrm>
        </p:grpSpPr>
        <p:pic>
          <p:nvPicPr>
            <p:cNvPr id="380" name="椭圆 2" descr=""/>
            <p:cNvPicPr/>
            <p:nvPr/>
          </p:nvPicPr>
          <p:blipFill>
            <a:blip r:embed="rId2"/>
            <a:stretch/>
          </p:blipFill>
          <p:spPr>
            <a:xfrm>
              <a:off x="2762280" y="1968480"/>
              <a:ext cx="1035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11320" y="211932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矩形 3"/>
          <p:cNvSpPr/>
          <p:nvPr/>
        </p:nvSpPr>
        <p:spPr>
          <a:xfrm>
            <a:off x="7920" y="302904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椭圆 4"/>
          <p:cNvGrpSpPr/>
          <p:nvPr/>
        </p:nvGrpSpPr>
        <p:grpSpPr>
          <a:xfrm>
            <a:off x="2736720" y="1962000"/>
            <a:ext cx="1060560" cy="1043280"/>
            <a:chOff x="2736720" y="1962000"/>
            <a:chExt cx="1060560" cy="1043280"/>
          </a:xfrm>
        </p:grpSpPr>
        <p:pic>
          <p:nvPicPr>
            <p:cNvPr id="384" name="椭圆 4" descr=""/>
            <p:cNvPicPr/>
            <p:nvPr/>
          </p:nvPicPr>
          <p:blipFill>
            <a:blip r:embed="rId3"/>
            <a:stretch/>
          </p:blipFill>
          <p:spPr>
            <a:xfrm>
              <a:off x="2736720" y="1962000"/>
              <a:ext cx="106056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892600" y="2117880"/>
              <a:ext cx="74736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5"/>
          <p:cNvSpPr/>
          <p:nvPr/>
        </p:nvSpPr>
        <p:spPr>
          <a:xfrm flipV="1">
            <a:off x="0" y="3666960"/>
            <a:ext cx="141768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同心圆 6"/>
          <p:cNvSpPr/>
          <p:nvPr/>
        </p:nvSpPr>
        <p:spPr>
          <a:xfrm rot="10800000">
            <a:off x="696600" y="366660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组合 7" descr=""/>
          <p:cNvPicPr/>
          <p:nvPr/>
        </p:nvPicPr>
        <p:blipFill>
          <a:blip r:embed="rId4"/>
          <a:stretch/>
        </p:blipFill>
        <p:spPr>
          <a:xfrm>
            <a:off x="4522680" y="3359160"/>
            <a:ext cx="1433520" cy="1414440"/>
          </a:xfrm>
          <a:prstGeom prst="rect">
            <a:avLst/>
          </a:prstGeom>
          <a:ln w="0">
            <a:noFill/>
          </a:ln>
        </p:spPr>
      </p:pic>
      <p:sp>
        <p:nvSpPr>
          <p:cNvPr id="389" name="矩形 10"/>
          <p:cNvSpPr/>
          <p:nvPr/>
        </p:nvSpPr>
        <p:spPr>
          <a:xfrm>
            <a:off x="17640" y="3365640"/>
            <a:ext cx="5232240" cy="16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椭圆 11"/>
          <p:cNvGrpSpPr/>
          <p:nvPr/>
        </p:nvGrpSpPr>
        <p:grpSpPr>
          <a:xfrm>
            <a:off x="4687920" y="3541680"/>
            <a:ext cx="1079640" cy="1060560"/>
            <a:chOff x="4687920" y="3541680"/>
            <a:chExt cx="1079640" cy="1060560"/>
          </a:xfrm>
        </p:grpSpPr>
        <p:pic>
          <p:nvPicPr>
            <p:cNvPr id="391" name="椭圆 11" descr=""/>
            <p:cNvPicPr/>
            <p:nvPr/>
          </p:nvPicPr>
          <p:blipFill>
            <a:blip r:embed="rId5"/>
            <a:stretch/>
          </p:blipFill>
          <p:spPr>
            <a:xfrm>
              <a:off x="4687920" y="3541680"/>
              <a:ext cx="1079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43440" y="3697200"/>
              <a:ext cx="7635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同心圆 12"/>
          <p:cNvSpPr/>
          <p:nvPr/>
        </p:nvSpPr>
        <p:spPr>
          <a:xfrm>
            <a:off x="2560680" y="178596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4"/>
          <p:cNvSpPr/>
          <p:nvPr/>
        </p:nvSpPr>
        <p:spPr>
          <a:xfrm>
            <a:off x="2169000" y="472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共同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2" descr="放大镜问号"/>
          <p:cNvPicPr/>
          <p:nvPr/>
        </p:nvPicPr>
        <p:blipFill>
          <a:blip r:embed="rId6"/>
          <a:stretch/>
        </p:blipFill>
        <p:spPr>
          <a:xfrm>
            <a:off x="357120" y="357120"/>
            <a:ext cx="1201680" cy="150192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1" descr="bk-logo.png"/>
          <p:cNvPicPr/>
          <p:nvPr/>
        </p:nvPicPr>
        <p:blipFill>
          <a:blip r:embed="rId7"/>
          <a:stretch/>
        </p:blipFill>
        <p:spPr>
          <a:xfrm>
            <a:off x="8215200" y="1214280"/>
            <a:ext cx="642960" cy="669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Documents and Settings\Administrator\Application Data\Tencent\Users\281097226\QQ\WinTemp\RichOle\PX4B6AF]63FKR0FM4IKV]GN.jpg"/>
          <p:cNvPicPr/>
          <p:nvPr/>
        </p:nvPicPr>
        <p:blipFill>
          <a:blip r:embed="rId8"/>
          <a:stretch/>
        </p:blipFill>
        <p:spPr>
          <a:xfrm>
            <a:off x="6858000" y="214200"/>
            <a:ext cx="428760" cy="4460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9"/>
          <p:cNvSpPr/>
          <p:nvPr/>
        </p:nvSpPr>
        <p:spPr>
          <a:xfrm>
            <a:off x="7072200" y="5716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Broadway"/>
                <a:ea typeface="DFPYeaSong-B5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0"/>
          <p:cNvSpPr/>
          <p:nvPr/>
        </p:nvSpPr>
        <p:spPr>
          <a:xfrm>
            <a:off x="1425600" y="5222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整体运作模式基本相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1"/>
          <p:cNvSpPr/>
          <p:nvPr/>
        </p:nvSpPr>
        <p:spPr>
          <a:xfrm>
            <a:off x="884160" y="5651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都有向顾客快速提供低成本食品的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2"/>
          <p:cNvSpPr/>
          <p:nvPr/>
        </p:nvSpPr>
        <p:spPr>
          <a:xfrm>
            <a:off x="4170240" y="1936800"/>
            <a:ext cx="28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了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同的运营流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为企业特定的目标市场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3"/>
          <p:cNvSpPr/>
          <p:nvPr/>
        </p:nvSpPr>
        <p:spPr>
          <a:xfrm>
            <a:off x="5870520" y="257976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艺、产品类别及设备上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存在一定差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4071960" y="1428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同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616752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6"/>
          <p:cNvSpPr/>
          <p:nvPr/>
        </p:nvSpPr>
        <p:spPr>
          <a:xfrm>
            <a:off x="6000840" y="3929040"/>
            <a:ext cx="271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注重标准化及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柔性批量生产提供有限种类的产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高的效率和产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高效快速的服务提供赢得竞争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C:\Documents and Settings\Administrator\Application Data\Tencent\Users\281097226\QQ\WinTemp\RichOle\PX4B6AF]63FKR0FM4IKV]GN.jpg"/>
          <p:cNvPicPr/>
          <p:nvPr/>
        </p:nvPicPr>
        <p:blipFill>
          <a:blip r:embed="rId9"/>
          <a:stretch/>
        </p:blipFill>
        <p:spPr>
          <a:xfrm>
            <a:off x="5429160" y="4929120"/>
            <a:ext cx="428760" cy="4460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5"/>
          <p:cNvGrpSpPr/>
          <p:nvPr/>
        </p:nvGrpSpPr>
        <p:grpSpPr>
          <a:xfrm>
            <a:off x="1714680" y="571680"/>
            <a:ext cx="3786120" cy="457200"/>
            <a:chOff x="1714680" y="571680"/>
            <a:chExt cx="3786120" cy="457200"/>
          </a:xfrm>
        </p:grpSpPr>
        <p:sp>
          <p:nvSpPr>
            <p:cNvPr id="408" name="圆角矩形 30"/>
            <p:cNvSpPr/>
            <p:nvPr/>
          </p:nvSpPr>
          <p:spPr>
            <a:xfrm>
              <a:off x="1714680" y="57168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圆角矩形 4"/>
            <p:cNvSpPr/>
            <p:nvPr/>
          </p:nvSpPr>
          <p:spPr>
            <a:xfrm>
              <a:off x="1785960" y="571680"/>
              <a:ext cx="37148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管理差异性影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图片2"/>
          <p:cNvPicPr/>
          <p:nvPr/>
        </p:nvPicPr>
        <p:blipFill>
          <a:blip r:embed="rId1"/>
          <a:stretch/>
        </p:blipFill>
        <p:spPr>
          <a:xfrm>
            <a:off x="1071720" y="1285920"/>
            <a:ext cx="5857560" cy="38466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1857240" y="257184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741680" y="-1161000"/>
            <a:ext cx="4628160" cy="3219120"/>
            <a:chOff x="-1741680" y="-1161000"/>
            <a:chExt cx="4628160" cy="3219120"/>
          </a:xfrm>
        </p:grpSpPr>
        <p:sp>
          <p:nvSpPr>
            <p:cNvPr id="111" name="矩形 3"/>
            <p:cNvSpPr/>
            <p:nvPr/>
          </p:nvSpPr>
          <p:spPr>
            <a:xfrm rot="19864200">
              <a:off x="-1998720" y="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4"/>
            <p:cNvSpPr/>
            <p:nvPr/>
          </p:nvSpPr>
          <p:spPr>
            <a:xfrm rot="19864200">
              <a:off x="-1705680" y="70884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"/>
            <p:cNvSpPr/>
            <p:nvPr/>
          </p:nvSpPr>
          <p:spPr>
            <a:xfrm rot="19864200">
              <a:off x="-1852920" y="23652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案  例  背  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" descr="C:\Documents and Settings\Administrator\Local Settings\Temp\HZ$D.434.2111\G-013.png"/>
          <p:cNvPicPr/>
          <p:nvPr/>
        </p:nvPicPr>
        <p:blipFill>
          <a:blip r:embed="rId1"/>
          <a:stretch/>
        </p:blipFill>
        <p:spPr>
          <a:xfrm>
            <a:off x="928800" y="1320840"/>
            <a:ext cx="7143480" cy="5108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714680" y="2071800"/>
            <a:ext cx="58575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e46c0a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美国快餐连锁企业，创始于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55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全球快餐连锁领域的冠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在世界上拥有超过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32000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家快餐厅，分布在全球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21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国家和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84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在台湾（台北市）开设第一家餐厅；</a:t>
            </a:r>
            <a:r>
              <a:rPr b="0" lang="en-US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1990</a:t>
            </a: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年在中国大陆（深圳）开设第一家餐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主要售卖汉堡包、薯条、炸鸡、汽水、冰品、沙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6c0a"/>
                </a:solidFill>
                <a:latin typeface="微软雅黑"/>
                <a:ea typeface="微软雅黑"/>
              </a:rPr>
              <a:t>提供柜台式、得来速式和宅急送等三种服务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://img2.duitang.com/uploads/item/201301/27/20130127232615_hmrBn.thumb.600_0.jpeg"/>
          <p:cNvPicPr/>
          <p:nvPr/>
        </p:nvPicPr>
        <p:blipFill>
          <a:blip r:embed="rId2"/>
          <a:stretch/>
        </p:blipFill>
        <p:spPr>
          <a:xfrm>
            <a:off x="7143840" y="928800"/>
            <a:ext cx="1214280" cy="1330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"/>
          <p:cNvSpPr/>
          <p:nvPr/>
        </p:nvSpPr>
        <p:spPr>
          <a:xfrm>
            <a:off x="3231000" y="500040"/>
            <a:ext cx="34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McDonald’s </a:t>
            </a:r>
            <a:r>
              <a:rPr b="1" lang="zh-CN" sz="3600" spc="-1" strike="noStrike">
                <a:solidFill>
                  <a:srgbClr val="e46c0a"/>
                </a:solidFill>
                <a:latin typeface="Calibri"/>
              </a:rPr>
              <a:t>麦当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 rot="1387200">
            <a:off x="750960" y="56764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华文彩云"/>
                <a:ea typeface="华文彩云"/>
              </a:rPr>
              <a:t>I'm lovin' it!</a:t>
            </a:r>
            <a:r>
              <a:rPr b="0" lang="zh-CN" sz="2400" spc="-1" strike="noStrike">
                <a:solidFill>
                  <a:srgbClr val="ffc000"/>
                </a:solidFill>
                <a:latin typeface="华文彩云"/>
                <a:ea typeface="华文彩云"/>
              </a:rPr>
              <a:t>（我就喜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8475480" cy="297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cq.chinanews.com.cn/NewsFile/20101215172500515.jpg"/>
          <p:cNvPicPr/>
          <p:nvPr/>
        </p:nvPicPr>
        <p:blipFill>
          <a:blip r:embed="rId2"/>
          <a:stretch/>
        </p:blipFill>
        <p:spPr>
          <a:xfrm>
            <a:off x="1189080" y="4206960"/>
            <a:ext cx="3267000" cy="45464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appointment.png"/>
          <p:cNvPicPr/>
          <p:nvPr/>
        </p:nvPicPr>
        <p:blipFill>
          <a:blip r:embed="rId3"/>
          <a:srcRect l="0" t="0" r="50015" b="0"/>
          <a:stretch/>
        </p:blipFill>
        <p:spPr>
          <a:xfrm>
            <a:off x="428760" y="4929120"/>
            <a:ext cx="714240" cy="142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714240" y="107208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时间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-2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高峰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1571760" y="171468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以在该时间段内进入餐厅的具体某一客人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128592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85768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点单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21496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等待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2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715080" y="3857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找位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4857840" y="4643280"/>
            <a:ext cx="3929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窗口数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，高峰期全部开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座位数：楼下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楼上共约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40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现场人员：值班经理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前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~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主窗口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McCafe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后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配餐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餐厅卫生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宅急送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7076880" y="808200"/>
            <a:ext cx="1683360" cy="1297080"/>
            <a:chOff x="7076880" y="808200"/>
            <a:chExt cx="1683360" cy="1297080"/>
          </a:xfrm>
        </p:grpSpPr>
        <p:sp>
          <p:nvSpPr>
            <p:cNvPr id="130" name="矩形 26"/>
            <p:cNvSpPr/>
            <p:nvPr/>
          </p:nvSpPr>
          <p:spPr>
            <a:xfrm rot="1799400">
              <a:off x="7118280" y="128808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厦门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M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7"/>
            <p:cNvSpPr/>
            <p:nvPr/>
          </p:nvSpPr>
          <p:spPr>
            <a:xfrm rot="1899000">
              <a:off x="7133040" y="1143000"/>
              <a:ext cx="1454760" cy="627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-1812960" y="-946800"/>
            <a:ext cx="4628160" cy="3219480"/>
            <a:chOff x="-1812960" y="-946800"/>
            <a:chExt cx="4628160" cy="3219480"/>
          </a:xfrm>
        </p:grpSpPr>
        <p:sp>
          <p:nvSpPr>
            <p:cNvPr id="133" name="矩形 18"/>
            <p:cNvSpPr/>
            <p:nvPr/>
          </p:nvSpPr>
          <p:spPr>
            <a:xfrm rot="19864200">
              <a:off x="-2070000" y="2142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 rot="19864200">
              <a:off x="-1776960" y="9234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 rot="19864200">
              <a:off x="-1924200" y="45108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   研   情   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5 -3.68444E-006 L 1.80696E-007 -3.68444E-006 E"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DSC01692"/>
          <p:cNvPicPr/>
          <p:nvPr/>
        </p:nvPicPr>
        <p:blipFill>
          <a:blip r:embed="rId1"/>
          <a:stretch/>
        </p:blipFill>
        <p:spPr>
          <a:xfrm>
            <a:off x="5711760" y="208080"/>
            <a:ext cx="2090880" cy="196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8475840" cy="2976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appointment.png"/>
          <p:cNvPicPr/>
          <p:nvPr/>
        </p:nvPicPr>
        <p:blipFill>
          <a:blip r:embed="rId3"/>
          <a:srcRect l="0" t="0" r="50015" b="0"/>
          <a:stretch/>
        </p:blipFill>
        <p:spPr>
          <a:xfrm>
            <a:off x="428760" y="4929120"/>
            <a:ext cx="71424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1"/>
          <p:cNvSpPr/>
          <p:nvPr/>
        </p:nvSpPr>
        <p:spPr>
          <a:xfrm>
            <a:off x="1571760" y="171468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以在该时间段内进入餐厅的具体某一客人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28592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2857680" y="30002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点单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500800" y="29289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等待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0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6715080" y="3857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找位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4857840" y="4429080"/>
            <a:ext cx="300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窗口数：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开放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座位数：楼下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楼上共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6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46c0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现场人员：值班经理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前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（含外场），后台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进货班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，共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7449840" y="1808280"/>
            <a:ext cx="1683360" cy="1297080"/>
            <a:chOff x="7449840" y="1808280"/>
            <a:chExt cx="1683360" cy="1297080"/>
          </a:xfrm>
        </p:grpSpPr>
        <p:sp>
          <p:nvSpPr>
            <p:cNvPr id="146" name="矩形 23"/>
            <p:cNvSpPr/>
            <p:nvPr/>
          </p:nvSpPr>
          <p:spPr>
            <a:xfrm rot="1799400">
              <a:off x="7491240" y="228816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彰化员东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5"/>
            <p:cNvSpPr/>
            <p:nvPr/>
          </p:nvSpPr>
          <p:spPr>
            <a:xfrm rot="1899000">
              <a:off x="7506000" y="2143080"/>
              <a:ext cx="1454760" cy="627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214200" y="121464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时间：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:30~17:00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非高峰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01691"/>
          <p:cNvPicPr/>
          <p:nvPr/>
        </p:nvPicPr>
        <p:blipFill>
          <a:blip r:embed="rId4"/>
          <a:stretch/>
        </p:blipFill>
        <p:spPr>
          <a:xfrm>
            <a:off x="1133640" y="3780000"/>
            <a:ext cx="3541680" cy="2657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DSC01695"/>
          <p:cNvPicPr/>
          <p:nvPr/>
        </p:nvPicPr>
        <p:blipFill>
          <a:blip r:embed="rId5"/>
          <a:stretch/>
        </p:blipFill>
        <p:spPr>
          <a:xfrm>
            <a:off x="7113600" y="208080"/>
            <a:ext cx="20368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75 -3.68444E-006 L 1.80696E-007 -3.68444E-006 E">
                                      <p:cBhvr>
                                        <p:cTn id="1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4200" y="-212760"/>
            <a:ext cx="1438560" cy="2338560"/>
            <a:chOff x="214200" y="-212760"/>
            <a:chExt cx="1438560" cy="2338560"/>
          </a:xfrm>
        </p:grpSpPr>
        <p:sp>
          <p:nvSpPr>
            <p:cNvPr id="152" name="椭圆 5"/>
            <p:cNvSpPr/>
            <p:nvPr/>
          </p:nvSpPr>
          <p:spPr>
            <a:xfrm>
              <a:off x="214200" y="615600"/>
              <a:ext cx="1438560" cy="1510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6"/>
            <p:cNvSpPr/>
            <p:nvPr/>
          </p:nvSpPr>
          <p:spPr>
            <a:xfrm>
              <a:off x="928080" y="-212760"/>
              <a:ext cx="0" cy="111636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"/>
          <p:cNvGrpSpPr/>
          <p:nvPr/>
        </p:nvGrpSpPr>
        <p:grpSpPr>
          <a:xfrm>
            <a:off x="1714680" y="428760"/>
            <a:ext cx="1285560" cy="1982520"/>
            <a:chOff x="1714680" y="428760"/>
            <a:chExt cx="1285560" cy="1982520"/>
          </a:xfrm>
        </p:grpSpPr>
        <p:sp>
          <p:nvSpPr>
            <p:cNvPr id="155" name="椭圆 16"/>
            <p:cNvSpPr/>
            <p:nvPr/>
          </p:nvSpPr>
          <p:spPr>
            <a:xfrm>
              <a:off x="1714680" y="1131120"/>
              <a:ext cx="128556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餐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7"/>
            <p:cNvSpPr/>
            <p:nvPr/>
          </p:nvSpPr>
          <p:spPr>
            <a:xfrm>
              <a:off x="2352600" y="4287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8"/>
          <p:cNvSpPr/>
          <p:nvPr/>
        </p:nvSpPr>
        <p:spPr>
          <a:xfrm flipH="1">
            <a:off x="925920" y="2286000"/>
            <a:ext cx="454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管理现场、质量控制、分配人员、现金清点结算、突发事件处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 flipH="1">
            <a:off x="2211840" y="2500200"/>
            <a:ext cx="45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录入客户点餐、结算、辅助配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0"/>
          <p:cNvGrpSpPr/>
          <p:nvPr/>
        </p:nvGrpSpPr>
        <p:grpSpPr>
          <a:xfrm>
            <a:off x="3000240" y="285840"/>
            <a:ext cx="1285920" cy="1982520"/>
            <a:chOff x="3000240" y="285840"/>
            <a:chExt cx="1285920" cy="1982520"/>
          </a:xfrm>
        </p:grpSpPr>
        <p:sp>
          <p:nvSpPr>
            <p:cNvPr id="160" name="椭圆 22"/>
            <p:cNvSpPr/>
            <p:nvPr/>
          </p:nvSpPr>
          <p:spPr>
            <a:xfrm>
              <a:off x="3000240" y="988200"/>
              <a:ext cx="128592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餐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23"/>
            <p:cNvSpPr/>
            <p:nvPr/>
          </p:nvSpPr>
          <p:spPr>
            <a:xfrm>
              <a:off x="3638520" y="28584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24"/>
          <p:cNvSpPr/>
          <p:nvPr/>
        </p:nvSpPr>
        <p:spPr>
          <a:xfrm>
            <a:off x="3507840" y="2357280"/>
            <a:ext cx="45468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薯条、饮料、甜点的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4500720" y="642960"/>
            <a:ext cx="1285560" cy="1982880"/>
            <a:chOff x="4500720" y="642960"/>
            <a:chExt cx="1285560" cy="1982880"/>
          </a:xfrm>
        </p:grpSpPr>
        <p:sp>
          <p:nvSpPr>
            <p:cNvPr id="164" name="椭圆 26"/>
            <p:cNvSpPr/>
            <p:nvPr/>
          </p:nvSpPr>
          <p:spPr>
            <a:xfrm>
              <a:off x="4500720" y="1345320"/>
              <a:ext cx="1285560" cy="12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后台人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7"/>
            <p:cNvSpPr/>
            <p:nvPr/>
          </p:nvSpPr>
          <p:spPr>
            <a:xfrm>
              <a:off x="5138640" y="6429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8"/>
          <p:cNvSpPr/>
          <p:nvPr/>
        </p:nvSpPr>
        <p:spPr>
          <a:xfrm>
            <a:off x="5069880" y="2643120"/>
            <a:ext cx="4546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肉饼、鸡翅、派等冷冻食品加工、上架及制作成成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5929200" y="500040"/>
            <a:ext cx="1285920" cy="1982880"/>
            <a:chOff x="5929200" y="500040"/>
            <a:chExt cx="1285920" cy="1982880"/>
          </a:xfrm>
        </p:grpSpPr>
        <p:sp>
          <p:nvSpPr>
            <p:cNvPr id="168" name="椭圆 30"/>
            <p:cNvSpPr/>
            <p:nvPr/>
          </p:nvSpPr>
          <p:spPr>
            <a:xfrm>
              <a:off x="5929200" y="1202400"/>
              <a:ext cx="1285920" cy="12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31"/>
            <p:cNvSpPr/>
            <p:nvPr/>
          </p:nvSpPr>
          <p:spPr>
            <a:xfrm>
              <a:off x="6567480" y="50004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1"/>
          <p:cNvGrpSpPr/>
          <p:nvPr/>
        </p:nvGrpSpPr>
        <p:grpSpPr>
          <a:xfrm>
            <a:off x="7215120" y="428760"/>
            <a:ext cx="1285920" cy="1982520"/>
            <a:chOff x="7215120" y="428760"/>
            <a:chExt cx="1285920" cy="1982520"/>
          </a:xfrm>
        </p:grpSpPr>
        <p:sp>
          <p:nvSpPr>
            <p:cNvPr id="171" name="椭圆 33"/>
            <p:cNvSpPr/>
            <p:nvPr/>
          </p:nvSpPr>
          <p:spPr>
            <a:xfrm>
              <a:off x="7215120" y="1131120"/>
              <a:ext cx="1285920" cy="128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洁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34"/>
            <p:cNvSpPr/>
            <p:nvPr/>
          </p:nvSpPr>
          <p:spPr>
            <a:xfrm>
              <a:off x="7853400" y="428760"/>
              <a:ext cx="0" cy="946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任意多边形 35"/>
          <p:cNvSpPr/>
          <p:nvPr/>
        </p:nvSpPr>
        <p:spPr>
          <a:xfrm>
            <a:off x="0" y="4071960"/>
            <a:ext cx="9239400" cy="2517840"/>
          </a:xfrm>
          <a:custGeom>
            <a:avLst/>
            <a:gdLst>
              <a:gd name="textAreaLeft" fmla="*/ 0 w 9239400"/>
              <a:gd name="textAreaRight" fmla="*/ 9239760 w 9239400"/>
              <a:gd name="textAreaTop" fmla="*/ 0 h 2517840"/>
              <a:gd name="textAreaBottom" fmla="*/ 2518200 h 2517840"/>
            </a:gdLst>
            <a:ahLst/>
            <a:rect l="textAreaLeft" t="textAreaTop" r="textAreaRight" b="textAreaBottom"/>
            <a:pathLst>
              <a:path w="9239001" h="2517569">
                <a:moveTo>
                  <a:pt x="0" y="2458193"/>
                </a:moveTo>
                <a:cubicBezTo>
                  <a:pt x="94013" y="2424546"/>
                  <a:pt x="249381" y="2252353"/>
                  <a:pt x="403760" y="2196935"/>
                </a:cubicBezTo>
                <a:cubicBezTo>
                  <a:pt x="558139" y="2141517"/>
                  <a:pt x="718456" y="2094016"/>
                  <a:pt x="926274" y="2125683"/>
                </a:cubicBezTo>
                <a:cubicBezTo>
                  <a:pt x="1134092" y="2157351"/>
                  <a:pt x="1409204" y="2321626"/>
                  <a:pt x="1650669" y="2386940"/>
                </a:cubicBezTo>
                <a:cubicBezTo>
                  <a:pt x="1892134" y="2452254"/>
                  <a:pt x="2090056" y="2517569"/>
                  <a:pt x="2375064" y="2517569"/>
                </a:cubicBezTo>
                <a:cubicBezTo>
                  <a:pt x="2660072" y="2517569"/>
                  <a:pt x="3000498" y="2470067"/>
                  <a:pt x="3360716" y="2386940"/>
                </a:cubicBezTo>
                <a:cubicBezTo>
                  <a:pt x="3720934" y="2303813"/>
                  <a:pt x="4243448" y="2078182"/>
                  <a:pt x="4536373" y="2018806"/>
                </a:cubicBezTo>
                <a:cubicBezTo>
                  <a:pt x="4829298" y="1959430"/>
                  <a:pt x="4908467" y="1981201"/>
                  <a:pt x="5118264" y="2030681"/>
                </a:cubicBezTo>
                <a:cubicBezTo>
                  <a:pt x="5328061" y="2080161"/>
                  <a:pt x="5525983" y="2242458"/>
                  <a:pt x="5795157" y="2315689"/>
                </a:cubicBezTo>
                <a:cubicBezTo>
                  <a:pt x="6064331" y="2388920"/>
                  <a:pt x="6402778" y="2513611"/>
                  <a:pt x="6733308" y="2470068"/>
                </a:cubicBezTo>
                <a:cubicBezTo>
                  <a:pt x="7063838" y="2426525"/>
                  <a:pt x="7548747" y="2287979"/>
                  <a:pt x="7778337" y="2054431"/>
                </a:cubicBezTo>
                <a:cubicBezTo>
                  <a:pt x="8007927" y="1820883"/>
                  <a:pt x="8021781" y="1316181"/>
                  <a:pt x="8110846" y="1068779"/>
                </a:cubicBezTo>
                <a:cubicBezTo>
                  <a:pt x="8199911" y="821376"/>
                  <a:pt x="8229599" y="714499"/>
                  <a:pt x="8312726" y="570016"/>
                </a:cubicBezTo>
                <a:cubicBezTo>
                  <a:pt x="8395853" y="425533"/>
                  <a:pt x="8443355" y="308759"/>
                  <a:pt x="8609609" y="201881"/>
                </a:cubicBezTo>
                <a:cubicBezTo>
                  <a:pt x="8775863" y="95003"/>
                  <a:pt x="9001494" y="17813"/>
                  <a:pt x="9239001" y="0"/>
                </a:cubicBezTo>
              </a:path>
            </a:pathLst>
          </a:cu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6"/>
          <p:cNvSpPr/>
          <p:nvPr/>
        </p:nvSpPr>
        <p:spPr>
          <a:xfrm>
            <a:off x="6365160" y="4003200"/>
            <a:ext cx="4546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引导顾客、服务顾客、清洁餐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7651080" y="4118040"/>
            <a:ext cx="4546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负责餐厅清洁工作，包括地板、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1"/>
          <p:cNvSpPr/>
          <p:nvPr/>
        </p:nvSpPr>
        <p:spPr>
          <a:xfrm rot="20866200">
            <a:off x="1451880" y="58039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6c0a"/>
                </a:solidFill>
                <a:latin typeface="华文行楷"/>
                <a:ea typeface="华文行楷"/>
              </a:rPr>
              <a:t>员工岗位职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DSC01697"/>
          <p:cNvPicPr/>
          <p:nvPr/>
        </p:nvPicPr>
        <p:blipFill>
          <a:blip r:embed="rId1"/>
          <a:stretch/>
        </p:blipFill>
        <p:spPr>
          <a:xfrm>
            <a:off x="571680" y="2143080"/>
            <a:ext cx="2428560" cy="32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pic>
        <p:nvPicPr>
          <p:cNvPr id="178" name="Picture 7" descr="DSC01698"/>
          <p:cNvPicPr/>
          <p:nvPr/>
        </p:nvPicPr>
        <p:blipFill>
          <a:blip r:embed="rId2"/>
          <a:stretch/>
        </p:blipFill>
        <p:spPr>
          <a:xfrm>
            <a:off x="2643120" y="4429080"/>
            <a:ext cx="3348000" cy="20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179" name="Rectangle 8"/>
          <p:cNvSpPr/>
          <p:nvPr/>
        </p:nvSpPr>
        <p:spPr>
          <a:xfrm>
            <a:off x="3286080" y="714240"/>
            <a:ext cx="5072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排队方式：均为多队多服务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产品交付流程及时间：门店选址及客户群定位、高峰期与非高峰期、门店设备及人员配置、具体点餐产品等因素综合影响点餐流程及客户体验（如以上单客整体点餐时间对比相差约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160s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部分门店未提供儿童游乐设施（如台湾彰化大润发店及火车站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台湾的麦当劳用完餐需自行整理桌面，并进行分类丢弃</a:t>
            </a:r>
            <a:r>
              <a:rPr b="0" lang="en-US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更深的支持型客户服务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9" descr="3DXR_001015 (1)"/>
          <p:cNvPicPr/>
          <p:nvPr/>
        </p:nvPicPr>
        <p:blipFill>
          <a:blip r:embed="rId3"/>
          <a:stretch/>
        </p:blipFill>
        <p:spPr>
          <a:xfrm>
            <a:off x="1000080" y="428760"/>
            <a:ext cx="1041480" cy="1224000"/>
          </a:xfrm>
          <a:prstGeom prst="rect">
            <a:avLst/>
          </a:prstGeom>
          <a:ln w="0">
            <a:noFill/>
          </a:ln>
        </p:spPr>
      </p:pic>
      <p:sp>
        <p:nvSpPr>
          <p:cNvPr id="181" name="矩形 5"/>
          <p:cNvSpPr/>
          <p:nvPr/>
        </p:nvSpPr>
        <p:spPr>
          <a:xfrm>
            <a:off x="2754000" y="285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：客户体验对比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DSC01700"/>
          <p:cNvPicPr/>
          <p:nvPr/>
        </p:nvPicPr>
        <p:blipFill>
          <a:blip r:embed="rId4"/>
          <a:stretch/>
        </p:blipFill>
        <p:spPr>
          <a:xfrm>
            <a:off x="6620040" y="4492800"/>
            <a:ext cx="1341360" cy="3487680"/>
          </a:xfrm>
          <a:prstGeom prst="rect">
            <a:avLst/>
          </a:prstGeom>
          <a:ln w="0">
            <a:noFill/>
          </a:ln>
        </p:spPr>
      </p:pic>
      <p:sp>
        <p:nvSpPr>
          <p:cNvPr id="183" name="矩形 7"/>
          <p:cNvSpPr/>
          <p:nvPr/>
        </p:nvSpPr>
        <p:spPr>
          <a:xfrm>
            <a:off x="3214800" y="785880"/>
            <a:ext cx="5143320" cy="3500280"/>
          </a:xfrm>
          <a:prstGeom prst="rect">
            <a:avLst/>
          </a:prstGeom>
          <a:noFill/>
          <a:ln w="255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57160" y="3000240"/>
            <a:ext cx="72151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增加的人手往往赶不上闲忙时转化的快速，建议特定时间点（高峰期）增加服务的人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立明确的等餐区，目前基本是点餐员要求顾客在一旁等候。可学习星巴克凭单等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品介绍应发生在顾客等候时，而不是在点餐时由点餐员一一介绍，节省时间，避免点餐员出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医生"/>
          <p:cNvPicPr/>
          <p:nvPr/>
        </p:nvPicPr>
        <p:blipFill>
          <a:blip r:embed="rId1"/>
          <a:stretch/>
        </p:blipFill>
        <p:spPr>
          <a:xfrm>
            <a:off x="4071960" y="1500120"/>
            <a:ext cx="82872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285840" y="1857240"/>
            <a:ext cx="8427960" cy="4450680"/>
            <a:chOff x="285840" y="1857240"/>
            <a:chExt cx="8427960" cy="4450680"/>
          </a:xfrm>
        </p:grpSpPr>
        <p:sp>
          <p:nvSpPr>
            <p:cNvPr id="187" name="AutoShape 14"/>
            <p:cNvSpPr/>
            <p:nvPr/>
          </p:nvSpPr>
          <p:spPr>
            <a:xfrm>
              <a:off x="285840" y="1857240"/>
              <a:ext cx="8427960" cy="44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285840" y="2400840"/>
              <a:ext cx="8427960" cy="390672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3906720"/>
                <a:gd name="textAreaBottom" fmla="*/ 3907080 h 3906720"/>
              </a:gdLst>
              <a:ahLst/>
              <a:rect l="textAreaLeft" t="textAreaTop" r="textAreaRight" b="textAreaBottom"/>
              <a:pathLst>
                <a:path w="1186" h="948">
                  <a:moveTo>
                    <a:pt x="1116" y="0"/>
                  </a:moveTo>
                  <a:lnTo>
                    <a:pt x="710" y="0"/>
                  </a:lnTo>
                  <a:lnTo>
                    <a:pt x="708" y="10"/>
                  </a:lnTo>
                  <a:lnTo>
                    <a:pt x="708" y="20"/>
                  </a:lnTo>
                  <a:lnTo>
                    <a:pt x="708" y="28"/>
                  </a:lnTo>
                  <a:lnTo>
                    <a:pt x="710" y="36"/>
                  </a:lnTo>
                  <a:lnTo>
                    <a:pt x="718" y="48"/>
                  </a:lnTo>
                  <a:lnTo>
                    <a:pt x="726" y="58"/>
                  </a:lnTo>
                  <a:lnTo>
                    <a:pt x="740" y="66"/>
                  </a:lnTo>
                  <a:lnTo>
                    <a:pt x="1042" y="66"/>
                  </a:lnTo>
                  <a:lnTo>
                    <a:pt x="1054" y="68"/>
                  </a:lnTo>
                  <a:lnTo>
                    <a:pt x="1066" y="72"/>
                  </a:lnTo>
                  <a:lnTo>
                    <a:pt x="1076" y="78"/>
                  </a:lnTo>
                  <a:lnTo>
                    <a:pt x="1086" y="84"/>
                  </a:lnTo>
                  <a:lnTo>
                    <a:pt x="1092" y="94"/>
                  </a:lnTo>
                  <a:lnTo>
                    <a:pt x="1098" y="104"/>
                  </a:lnTo>
                  <a:lnTo>
                    <a:pt x="1102" y="116"/>
                  </a:lnTo>
                  <a:lnTo>
                    <a:pt x="1104" y="128"/>
                  </a:lnTo>
                  <a:lnTo>
                    <a:pt x="1104" y="820"/>
                  </a:lnTo>
                  <a:lnTo>
                    <a:pt x="1102" y="832"/>
                  </a:lnTo>
                  <a:lnTo>
                    <a:pt x="1098" y="844"/>
                  </a:lnTo>
                  <a:lnTo>
                    <a:pt x="1092" y="854"/>
                  </a:lnTo>
                  <a:lnTo>
                    <a:pt x="1086" y="862"/>
                  </a:lnTo>
                  <a:lnTo>
                    <a:pt x="1076" y="870"/>
                  </a:lnTo>
                  <a:lnTo>
                    <a:pt x="1066" y="876"/>
                  </a:lnTo>
                  <a:lnTo>
                    <a:pt x="1054" y="880"/>
                  </a:lnTo>
                  <a:lnTo>
                    <a:pt x="1042" y="880"/>
                  </a:lnTo>
                  <a:lnTo>
                    <a:pt x="146" y="880"/>
                  </a:lnTo>
                  <a:lnTo>
                    <a:pt x="134" y="880"/>
                  </a:lnTo>
                  <a:lnTo>
                    <a:pt x="122" y="876"/>
                  </a:lnTo>
                  <a:lnTo>
                    <a:pt x="112" y="870"/>
                  </a:lnTo>
                  <a:lnTo>
                    <a:pt x="102" y="862"/>
                  </a:lnTo>
                  <a:lnTo>
                    <a:pt x="94" y="854"/>
                  </a:lnTo>
                  <a:lnTo>
                    <a:pt x="88" y="844"/>
                  </a:lnTo>
                  <a:lnTo>
                    <a:pt x="86" y="832"/>
                  </a:lnTo>
                  <a:lnTo>
                    <a:pt x="84" y="820"/>
                  </a:lnTo>
                  <a:lnTo>
                    <a:pt x="84" y="128"/>
                  </a:lnTo>
                  <a:lnTo>
                    <a:pt x="86" y="116"/>
                  </a:lnTo>
                  <a:lnTo>
                    <a:pt x="88" y="104"/>
                  </a:lnTo>
                  <a:lnTo>
                    <a:pt x="94" y="94"/>
                  </a:lnTo>
                  <a:lnTo>
                    <a:pt x="102" y="84"/>
                  </a:lnTo>
                  <a:lnTo>
                    <a:pt x="112" y="78"/>
                  </a:lnTo>
                  <a:lnTo>
                    <a:pt x="122" y="72"/>
                  </a:lnTo>
                  <a:lnTo>
                    <a:pt x="134" y="68"/>
                  </a:lnTo>
                  <a:lnTo>
                    <a:pt x="146" y="66"/>
                  </a:lnTo>
                  <a:lnTo>
                    <a:pt x="446" y="66"/>
                  </a:lnTo>
                  <a:lnTo>
                    <a:pt x="448" y="64"/>
                  </a:lnTo>
                  <a:lnTo>
                    <a:pt x="456" y="56"/>
                  </a:lnTo>
                  <a:lnTo>
                    <a:pt x="464" y="46"/>
                  </a:lnTo>
                  <a:lnTo>
                    <a:pt x="468" y="38"/>
                  </a:lnTo>
                  <a:lnTo>
                    <a:pt x="472" y="30"/>
                  </a:lnTo>
                  <a:lnTo>
                    <a:pt x="474" y="22"/>
                  </a:lnTo>
                  <a:lnTo>
                    <a:pt x="476" y="14"/>
                  </a:lnTo>
                  <a:lnTo>
                    <a:pt x="474" y="0"/>
                  </a:lnTo>
                  <a:lnTo>
                    <a:pt x="72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2" y="22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876"/>
                  </a:lnTo>
                  <a:lnTo>
                    <a:pt x="2" y="890"/>
                  </a:lnTo>
                  <a:lnTo>
                    <a:pt x="6" y="904"/>
                  </a:lnTo>
                  <a:lnTo>
                    <a:pt x="12" y="916"/>
                  </a:lnTo>
                  <a:lnTo>
                    <a:pt x="22" y="926"/>
                  </a:lnTo>
                  <a:lnTo>
                    <a:pt x="32" y="936"/>
                  </a:lnTo>
                  <a:lnTo>
                    <a:pt x="44" y="942"/>
                  </a:lnTo>
                  <a:lnTo>
                    <a:pt x="58" y="946"/>
                  </a:lnTo>
                  <a:lnTo>
                    <a:pt x="72" y="948"/>
                  </a:lnTo>
                  <a:lnTo>
                    <a:pt x="1116" y="948"/>
                  </a:lnTo>
                  <a:lnTo>
                    <a:pt x="1130" y="946"/>
                  </a:lnTo>
                  <a:lnTo>
                    <a:pt x="1142" y="942"/>
                  </a:lnTo>
                  <a:lnTo>
                    <a:pt x="1156" y="936"/>
                  </a:lnTo>
                  <a:lnTo>
                    <a:pt x="1166" y="926"/>
                  </a:lnTo>
                  <a:lnTo>
                    <a:pt x="1174" y="916"/>
                  </a:lnTo>
                  <a:lnTo>
                    <a:pt x="1180" y="904"/>
                  </a:lnTo>
                  <a:lnTo>
                    <a:pt x="1186" y="890"/>
                  </a:lnTo>
                  <a:lnTo>
                    <a:pt x="1186" y="876"/>
                  </a:lnTo>
                  <a:lnTo>
                    <a:pt x="1186" y="72"/>
                  </a:lnTo>
                  <a:lnTo>
                    <a:pt x="1186" y="58"/>
                  </a:lnTo>
                  <a:lnTo>
                    <a:pt x="1180" y="44"/>
                  </a:lnTo>
                  <a:lnTo>
                    <a:pt x="1174" y="32"/>
                  </a:lnTo>
                  <a:lnTo>
                    <a:pt x="1166" y="22"/>
                  </a:lnTo>
                  <a:lnTo>
                    <a:pt x="1156" y="12"/>
                  </a:lnTo>
                  <a:lnTo>
                    <a:pt x="1142" y="6"/>
                  </a:lnTo>
                  <a:lnTo>
                    <a:pt x="1130" y="2"/>
                  </a:lnTo>
                  <a:lnTo>
                    <a:pt x="1116" y="0"/>
                  </a:lnTo>
                  <a:close/>
                </a:path>
              </a:pathLst>
            </a:cu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1143000" y="1000080"/>
            <a:ext cx="3786120" cy="457200"/>
            <a:chOff x="1143000" y="1000080"/>
            <a:chExt cx="3786120" cy="457200"/>
          </a:xfrm>
        </p:grpSpPr>
        <p:sp>
          <p:nvSpPr>
            <p:cNvPr id="190" name="圆角矩形 18"/>
            <p:cNvSpPr/>
            <p:nvPr/>
          </p:nvSpPr>
          <p:spPr>
            <a:xfrm>
              <a:off x="1143000" y="1000080"/>
              <a:ext cx="3714840" cy="457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圆角矩形 4"/>
            <p:cNvSpPr/>
            <p:nvPr/>
          </p:nvSpPr>
          <p:spPr>
            <a:xfrm>
              <a:off x="1357200" y="1000080"/>
              <a:ext cx="3571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瓶颈及改善建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4" descr="a"/>
          <p:cNvPicPr/>
          <p:nvPr/>
        </p:nvPicPr>
        <p:blipFill>
          <a:blip r:embed="rId2"/>
          <a:stretch/>
        </p:blipFill>
        <p:spPr>
          <a:xfrm>
            <a:off x="5429160" y="857160"/>
            <a:ext cx="122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6643800" y="3714840"/>
            <a:ext cx="2500200" cy="2643120"/>
            <a:chOff x="6643800" y="3714840"/>
            <a:chExt cx="2500200" cy="2643120"/>
          </a:xfrm>
        </p:grpSpPr>
        <p:pic>
          <p:nvPicPr>
            <p:cNvPr id="194" name="Picture 3" descr="D:\001PPT\103燕京公益\pic\MP900439423.JPG"/>
            <p:cNvPicPr/>
            <p:nvPr/>
          </p:nvPicPr>
          <p:blipFill>
            <a:blip r:embed="rId1"/>
            <a:srcRect l="10699" t="10727" r="8824" b="7707"/>
            <a:stretch/>
          </p:blipFill>
          <p:spPr>
            <a:xfrm>
              <a:off x="6643800" y="3714840"/>
              <a:ext cx="250020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55"/>
            <p:cNvSpPr/>
            <p:nvPr/>
          </p:nvSpPr>
          <p:spPr>
            <a:xfrm rot="20866200">
              <a:off x="6771600" y="4220280"/>
              <a:ext cx="21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46c0a"/>
                  </a:solidFill>
                  <a:latin typeface="华文行楷"/>
                  <a:ea typeface="华文行楷"/>
                </a:rPr>
                <a:t>5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46c0a"/>
                  </a:solidFill>
                  <a:latin typeface="华文行楷"/>
                  <a:ea typeface="华文行楷"/>
                </a:rPr>
                <a:t>经营策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-284040" y="428760"/>
            <a:ext cx="8642160" cy="5720760"/>
            <a:chOff x="-284040" y="428760"/>
            <a:chExt cx="8642160" cy="5720760"/>
          </a:xfrm>
        </p:grpSpPr>
        <p:sp>
          <p:nvSpPr>
            <p:cNvPr id="197" name="矩形 30"/>
            <p:cNvSpPr/>
            <p:nvPr/>
          </p:nvSpPr>
          <p:spPr>
            <a:xfrm>
              <a:off x="2001240" y="928440"/>
              <a:ext cx="514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一般在主干道商业中心、大型购物场所、机场车站、高速公路、学校附近等具有针对消费群体客户的地方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商业店面具有较高的投资价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572040" y="428760"/>
              <a:ext cx="384480" cy="5430240"/>
              <a:chOff x="572040" y="428760"/>
              <a:chExt cx="384480" cy="5430240"/>
            </a:xfrm>
          </p:grpSpPr>
          <p:grpSp>
            <p:nvGrpSpPr>
              <p:cNvPr id="199" name="Group 8"/>
              <p:cNvGrpSpPr/>
              <p:nvPr/>
            </p:nvGrpSpPr>
            <p:grpSpPr>
              <a:xfrm>
                <a:off x="572040" y="428760"/>
                <a:ext cx="357840" cy="5428800"/>
                <a:chOff x="572040" y="428760"/>
                <a:chExt cx="357840" cy="5428800"/>
              </a:xfrm>
            </p:grpSpPr>
            <p:sp>
              <p:nvSpPr>
                <p:cNvPr id="200" name="直接连接符 22"/>
                <p:cNvSpPr/>
                <p:nvPr/>
              </p:nvSpPr>
              <p:spPr>
                <a:xfrm>
                  <a:off x="572040" y="428760"/>
                  <a:ext cx="27000" cy="5428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直接连接符 23"/>
                <p:cNvSpPr/>
                <p:nvPr/>
              </p:nvSpPr>
              <p:spPr>
                <a:xfrm>
                  <a:off x="572760" y="149076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直接连接符 24"/>
                <p:cNvSpPr/>
                <p:nvPr/>
              </p:nvSpPr>
              <p:spPr>
                <a:xfrm>
                  <a:off x="572760" y="263340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直接连接符 25"/>
                <p:cNvSpPr/>
                <p:nvPr/>
              </p:nvSpPr>
              <p:spPr>
                <a:xfrm>
                  <a:off x="572760" y="3700440"/>
                  <a:ext cx="3571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直接连接符 34"/>
              <p:cNvSpPr/>
              <p:nvPr/>
            </p:nvSpPr>
            <p:spPr>
              <a:xfrm>
                <a:off x="599400" y="4857480"/>
                <a:ext cx="3571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35"/>
              <p:cNvSpPr/>
              <p:nvPr/>
            </p:nvSpPr>
            <p:spPr>
              <a:xfrm>
                <a:off x="599400" y="5857560"/>
                <a:ext cx="3571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内容占位符 2"/>
            <p:cNvSpPr/>
            <p:nvPr/>
          </p:nvSpPr>
          <p:spPr>
            <a:xfrm>
              <a:off x="73080" y="221436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rocesses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内容占位符 2"/>
            <p:cNvSpPr/>
            <p:nvPr/>
          </p:nvSpPr>
          <p:spPr>
            <a:xfrm>
              <a:off x="-284040" y="107136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lant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内容占位符 2"/>
            <p:cNvSpPr/>
            <p:nvPr/>
          </p:nvSpPr>
          <p:spPr>
            <a:xfrm>
              <a:off x="-212400" y="328608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arts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45"/>
            <p:cNvSpPr/>
            <p:nvPr/>
          </p:nvSpPr>
          <p:spPr>
            <a:xfrm>
              <a:off x="2715840" y="2000160"/>
              <a:ext cx="56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old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：直接把原料烹饪后制作成成品待出售，超过时间会丢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New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：先把原材料制作成半成品储存，待顾客点单后将半成品制作成成品出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6"/>
            <p:cNvSpPr/>
            <p:nvPr/>
          </p:nvSpPr>
          <p:spPr>
            <a:xfrm>
              <a:off x="2215800" y="3214440"/>
              <a:ext cx="457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所有到货食品都可直接使用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供应商必须是行业专家，即产品质量控制或经营管理必须是行业的佼佼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内容占位符 2"/>
            <p:cNvSpPr/>
            <p:nvPr/>
          </p:nvSpPr>
          <p:spPr>
            <a:xfrm>
              <a:off x="-141120" y="4571640"/>
              <a:ext cx="3614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eople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内容占位符 2"/>
            <p:cNvSpPr/>
            <p:nvPr/>
          </p:nvSpPr>
          <p:spPr>
            <a:xfrm>
              <a:off x="929880" y="5500440"/>
              <a:ext cx="24998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Planning and control system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49"/>
            <p:cNvSpPr/>
            <p:nvPr/>
          </p:nvSpPr>
          <p:spPr>
            <a:xfrm>
              <a:off x="2501280" y="4428720"/>
              <a:ext cx="457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招聘方式：公开对外和员工推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餐厅经理的标准：性格外向、善于指挥、表达清楚、精于培训、褒贬有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50"/>
            <p:cNvSpPr/>
            <p:nvPr/>
          </p:nvSpPr>
          <p:spPr>
            <a:xfrm>
              <a:off x="3358440" y="5428800"/>
              <a:ext cx="349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通过准确预测销售量判断储存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根据每小时的销售量预测和单位销售额工作量来确定员工人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-1812960" y="-946800"/>
            <a:ext cx="4628160" cy="3219480"/>
            <a:chOff x="-1812960" y="-946800"/>
            <a:chExt cx="4628160" cy="3219480"/>
          </a:xfrm>
        </p:grpSpPr>
        <p:sp>
          <p:nvSpPr>
            <p:cNvPr id="216" name="矩形 27"/>
            <p:cNvSpPr/>
            <p:nvPr/>
          </p:nvSpPr>
          <p:spPr>
            <a:xfrm rot="19864200">
              <a:off x="-2070000" y="2142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8"/>
            <p:cNvSpPr/>
            <p:nvPr/>
          </p:nvSpPr>
          <p:spPr>
            <a:xfrm rot="19864200">
              <a:off x="-1776960" y="923400"/>
              <a:ext cx="4849200" cy="1879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9"/>
            <p:cNvSpPr/>
            <p:nvPr/>
          </p:nvSpPr>
          <p:spPr>
            <a:xfrm rot="19864200">
              <a:off x="-1924200" y="451080"/>
              <a:ext cx="4849200" cy="417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案   例   分   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500040" y="2286000"/>
            <a:ext cx="8286840" cy="3381840"/>
            <a:chOff x="500040" y="2286000"/>
            <a:chExt cx="8286840" cy="3381840"/>
          </a:xfrm>
        </p:grpSpPr>
        <p:grpSp>
          <p:nvGrpSpPr>
            <p:cNvPr id="220" name="Group 3"/>
            <p:cNvGrpSpPr/>
            <p:nvPr/>
          </p:nvGrpSpPr>
          <p:grpSpPr>
            <a:xfrm>
              <a:off x="500040" y="2286000"/>
              <a:ext cx="8286840" cy="3381840"/>
              <a:chOff x="500040" y="2286000"/>
              <a:chExt cx="8286840" cy="3381840"/>
            </a:xfrm>
          </p:grpSpPr>
          <p:grpSp>
            <p:nvGrpSpPr>
              <p:cNvPr id="221" name="Group 4"/>
              <p:cNvGrpSpPr/>
              <p:nvPr/>
            </p:nvGrpSpPr>
            <p:grpSpPr>
              <a:xfrm>
                <a:off x="500040" y="2751480"/>
                <a:ext cx="1986840" cy="2891520"/>
                <a:chOff x="500040" y="2751480"/>
                <a:chExt cx="1986840" cy="2891520"/>
              </a:xfrm>
            </p:grpSpPr>
            <p:sp>
              <p:nvSpPr>
                <p:cNvPr id="222" name="矩形 2"/>
                <p:cNvSpPr/>
                <p:nvPr/>
              </p:nvSpPr>
              <p:spPr>
                <a:xfrm>
                  <a:off x="500040" y="4126680"/>
                  <a:ext cx="1986840" cy="1516320"/>
                </a:xfrm>
                <a:prstGeom prst="rect">
                  <a:avLst/>
                </a:prstGeom>
                <a:solidFill>
                  <a:srgbClr val="262626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7"/>
                <p:cNvSpPr/>
                <p:nvPr/>
              </p:nvSpPr>
              <p:spPr>
                <a:xfrm>
                  <a:off x="500040" y="2751480"/>
                  <a:ext cx="1986840" cy="127872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684360"/>
                      <a:tab algn="l" pos="1368360"/>
                      <a:tab algn="l" pos="2052720"/>
                      <a:tab algn="l" pos="2736720"/>
                      <a:tab algn="l" pos="3421080"/>
                      <a:tab algn="l" pos="4105440"/>
                      <a:tab algn="l" pos="4789440"/>
                      <a:tab algn="l" pos="5473800"/>
                      <a:tab algn="l" pos="6157800"/>
                      <a:tab algn="l" pos="6842160"/>
                      <a:tab algn="l" pos="7526160"/>
                      <a:tab algn="l" pos="8210520"/>
                      <a:tab algn="l" pos="8894880"/>
                      <a:tab algn="l" pos="9578880"/>
                      <a:tab algn="l" pos="10263240"/>
                      <a:tab algn="l" pos="10947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4" name="Content Placeholder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36120" y="3072240"/>
                  <a:ext cx="834840" cy="46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Text Box 44"/>
                <p:cNvSpPr/>
                <p:nvPr/>
              </p:nvSpPr>
              <p:spPr>
                <a:xfrm>
                  <a:off x="500040" y="4285800"/>
                  <a:ext cx="1928520" cy="9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完整的产品供应网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与优秀的生产商建立密切关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35000"/>
                    </a:lnSpc>
                    <a:buClr>
                      <a:srgbClr val="ffffff"/>
                    </a:buClr>
                    <a:buFont typeface="Wingdings" charset="2"/>
                    <a:buChar char=""/>
                    <a:tabLst>
                      <a:tab algn="l" pos="720720"/>
                      <a:tab algn="l" pos="1441440"/>
                      <a:tab algn="l" pos="2162160"/>
                      <a:tab algn="l" pos="2882880"/>
                      <a:tab algn="l" pos="3603600"/>
                      <a:tab algn="l" pos="4324320"/>
                      <a:tab algn="l" pos="5045040"/>
                      <a:tab algn="l" pos="5765760"/>
                      <a:tab algn="l" pos="6486480"/>
                      <a:tab algn="l" pos="7207200"/>
                      <a:tab algn="l" pos="7927920"/>
                      <a:tab algn="l" pos="8648640"/>
                      <a:tab algn="l" pos="9369360"/>
                      <a:tab algn="l" pos="10090080"/>
                      <a:tab algn="l" pos="108108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严格的质量控制标准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6" name="Picture 7" descr="\\MAGNUM\Projects\Microsoft\Cloud Power FY12\Design\ICONS_PNG\Application.png"/>
                <p:cNvPicPr/>
                <p:nvPr/>
              </p:nvPicPr>
              <p:blipFill>
                <a:blip r:embed="rId2">
                  <a:lum bright="100000"/>
                </a:blip>
                <a:stretch/>
              </p:blipFill>
              <p:spPr>
                <a:xfrm>
                  <a:off x="571320" y="2785680"/>
                  <a:ext cx="928440" cy="123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7" name="Group 10"/>
              <p:cNvGrpSpPr/>
              <p:nvPr/>
            </p:nvGrpSpPr>
            <p:grpSpPr>
              <a:xfrm>
                <a:off x="4643280" y="2751480"/>
                <a:ext cx="1995840" cy="2913120"/>
                <a:chOff x="4643280" y="2751480"/>
                <a:chExt cx="1995840" cy="2913120"/>
              </a:xfrm>
            </p:grpSpPr>
            <p:grpSp>
              <p:nvGrpSpPr>
                <p:cNvPr id="228" name="Group 11"/>
                <p:cNvGrpSpPr/>
                <p:nvPr/>
              </p:nvGrpSpPr>
              <p:grpSpPr>
                <a:xfrm>
                  <a:off x="4643280" y="2751480"/>
                  <a:ext cx="1995840" cy="2913120"/>
                  <a:chOff x="4643280" y="2751480"/>
                  <a:chExt cx="1995840" cy="2913120"/>
                </a:xfrm>
              </p:grpSpPr>
              <p:sp>
                <p:nvSpPr>
                  <p:cNvPr id="229" name="矩形 10"/>
                  <p:cNvSpPr/>
                  <p:nvPr/>
                </p:nvSpPr>
                <p:spPr>
                  <a:xfrm>
                    <a:off x="4651920" y="4126680"/>
                    <a:ext cx="1987200" cy="1537920"/>
                  </a:xfrm>
                  <a:prstGeom prst="rect">
                    <a:avLst/>
                  </a:prstGeom>
                  <a:solidFill>
                    <a:srgbClr val="0d0d0d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Rectangle 17"/>
                  <p:cNvSpPr/>
                  <p:nvPr/>
                </p:nvSpPr>
                <p:spPr>
                  <a:xfrm>
                    <a:off x="4651920" y="2751480"/>
                    <a:ext cx="1987200" cy="127872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Text Box 44"/>
                  <p:cNvSpPr/>
                  <p:nvPr/>
                </p:nvSpPr>
                <p:spPr>
                  <a:xfrm>
                    <a:off x="4643280" y="4142880"/>
                    <a:ext cx="197496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干净、舒适、愉快的用餐环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员工行为规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使店内始终保持“窗明、地洁、桌面净”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32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920" y="3145320"/>
                    <a:ext cx="1158120" cy="4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33" name="Picture 8" descr="cross platform.png"/>
                <p:cNvPicPr/>
                <p:nvPr/>
              </p:nvPicPr>
              <p:blipFill>
                <a:blip r:embed="rId4">
                  <a:lum bright="100000"/>
                </a:blip>
                <a:stretch/>
              </p:blipFill>
              <p:spPr>
                <a:xfrm>
                  <a:off x="4785840" y="3142800"/>
                  <a:ext cx="714960" cy="592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17"/>
              <p:cNvGrpSpPr/>
              <p:nvPr/>
            </p:nvGrpSpPr>
            <p:grpSpPr>
              <a:xfrm>
                <a:off x="6728040" y="2751480"/>
                <a:ext cx="2058840" cy="2913120"/>
                <a:chOff x="6728040" y="2751480"/>
                <a:chExt cx="2058840" cy="2913120"/>
              </a:xfrm>
            </p:grpSpPr>
            <p:grpSp>
              <p:nvGrpSpPr>
                <p:cNvPr id="235" name="Group 18"/>
                <p:cNvGrpSpPr/>
                <p:nvPr/>
              </p:nvGrpSpPr>
              <p:grpSpPr>
                <a:xfrm>
                  <a:off x="6728040" y="2751480"/>
                  <a:ext cx="2058840" cy="2913120"/>
                  <a:chOff x="6728040" y="2751480"/>
                  <a:chExt cx="2058840" cy="2913120"/>
                </a:xfrm>
              </p:grpSpPr>
              <p:sp>
                <p:nvSpPr>
                  <p:cNvPr id="236" name="矩形 17"/>
                  <p:cNvSpPr/>
                  <p:nvPr/>
                </p:nvSpPr>
                <p:spPr>
                  <a:xfrm>
                    <a:off x="6728040" y="4126680"/>
                    <a:ext cx="1987200" cy="1537920"/>
                  </a:xfrm>
                  <a:prstGeom prst="rect">
                    <a:avLst/>
                  </a:prstGeom>
                  <a:solidFill>
                    <a:srgbClr val="0d0d0d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Rectangle 17"/>
                  <p:cNvSpPr/>
                  <p:nvPr/>
                </p:nvSpPr>
                <p:spPr>
                  <a:xfrm>
                    <a:off x="6728040" y="2751480"/>
                    <a:ext cx="1987200" cy="127872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38" name="Content Placeholder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34440" y="3072240"/>
                    <a:ext cx="999720" cy="5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9" name="Text Box 44"/>
                  <p:cNvSpPr/>
                  <p:nvPr/>
                </p:nvSpPr>
                <p:spPr>
                  <a:xfrm>
                    <a:off x="6786360" y="4142880"/>
                    <a:ext cx="200052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高品质的、营养均衡的美味食品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更多选择和更多欢笑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重视商品新价值的开发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0" name="Picture 2" descr="\\MAGNUM\Projects\Microsoft\Cloud Power FY12\Design\Icons\PNGs\Scalable_Elastic_3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28040" y="2795040"/>
                  <a:ext cx="896400" cy="11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Group 24"/>
              <p:cNvGrpSpPr/>
              <p:nvPr/>
            </p:nvGrpSpPr>
            <p:grpSpPr>
              <a:xfrm>
                <a:off x="2571480" y="2286000"/>
                <a:ext cx="5526360" cy="3381840"/>
                <a:chOff x="2571480" y="2286000"/>
                <a:chExt cx="5526360" cy="3381840"/>
              </a:xfrm>
            </p:grpSpPr>
            <p:grpSp>
              <p:nvGrpSpPr>
                <p:cNvPr id="242" name="Group 25"/>
                <p:cNvGrpSpPr/>
                <p:nvPr/>
              </p:nvGrpSpPr>
              <p:grpSpPr>
                <a:xfrm>
                  <a:off x="2571480" y="2286000"/>
                  <a:ext cx="5526360" cy="3381840"/>
                  <a:chOff x="2571480" y="2286000"/>
                  <a:chExt cx="5526360" cy="3381840"/>
                </a:xfrm>
              </p:grpSpPr>
              <p:sp>
                <p:nvSpPr>
                  <p:cNvPr id="243" name="矩形 24"/>
                  <p:cNvSpPr/>
                  <p:nvPr/>
                </p:nvSpPr>
                <p:spPr>
                  <a:xfrm>
                    <a:off x="2575800" y="4161240"/>
                    <a:ext cx="1985760" cy="1506600"/>
                  </a:xfrm>
                  <a:prstGeom prst="rect">
                    <a:avLst/>
                  </a:prstGeom>
                  <a:solidFill>
                    <a:srgbClr val="262626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17"/>
                  <p:cNvSpPr/>
                  <p:nvPr/>
                </p:nvSpPr>
                <p:spPr>
                  <a:xfrm>
                    <a:off x="2571480" y="2777400"/>
                    <a:ext cx="1985760" cy="125280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684360"/>
                        <a:tab algn="l" pos="1368360"/>
                        <a:tab algn="l" pos="2052720"/>
                        <a:tab algn="l" pos="2736720"/>
                        <a:tab algn="l" pos="3421080"/>
                        <a:tab algn="l" pos="4105440"/>
                        <a:tab algn="l" pos="4789440"/>
                        <a:tab algn="l" pos="5473800"/>
                        <a:tab algn="l" pos="6157800"/>
                        <a:tab algn="l" pos="6842160"/>
                        <a:tab algn="l" pos="7526160"/>
                        <a:tab algn="l" pos="8210520"/>
                        <a:tab algn="l" pos="8894880"/>
                        <a:tab algn="l" pos="9578880"/>
                        <a:tab algn="l" pos="10263240"/>
                        <a:tab algn="l" pos="10947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45" name="Content Placeholder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58480" y="2286000"/>
                    <a:ext cx="639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" name="Text Box 44"/>
                  <p:cNvSpPr/>
                  <p:nvPr/>
                </p:nvSpPr>
                <p:spPr>
                  <a:xfrm>
                    <a:off x="2571480" y="4317120"/>
                    <a:ext cx="199908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快捷、友善、可靠的服务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“</a:t>
                    </a:r>
                    <a:r>
                      <a:rPr b="1" lang="zh-CN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永远以顾客为先”的基本原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35000"/>
                      </a:lnSpc>
                      <a:buClr>
                        <a:srgbClr val="ffffff"/>
                      </a:buClr>
                      <a:buFont typeface="Wingdings" charset="2"/>
                      <a:buChar char=""/>
                      <a:tabLst>
                        <a:tab algn="l" pos="720720"/>
                        <a:tab algn="l" pos="1441440"/>
                        <a:tab algn="l" pos="2162160"/>
                        <a:tab algn="l" pos="2882880"/>
                        <a:tab algn="l" pos="3603600"/>
                        <a:tab algn="l" pos="4324320"/>
                        <a:tab algn="l" pos="5045040"/>
                        <a:tab algn="l" pos="5765760"/>
                        <a:tab algn="l" pos="6486480"/>
                        <a:tab algn="l" pos="7207200"/>
                        <a:tab algn="l" pos="7927920"/>
                        <a:tab algn="l" pos="8648640"/>
                        <a:tab algn="l" pos="9369360"/>
                        <a:tab algn="l" pos="10090080"/>
                        <a:tab algn="l" pos="108108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7" name="Picture 10" descr="Private_to_Partner.png"/>
                <p:cNvPicPr/>
                <p:nvPr/>
              </p:nvPicPr>
              <p:blipFill>
                <a:blip r:embed="rId8">
                  <a:lum bright="100000"/>
                </a:blip>
                <a:stretch/>
              </p:blipFill>
              <p:spPr>
                <a:xfrm>
                  <a:off x="2642760" y="2786040"/>
                  <a:ext cx="928440" cy="1495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48" name="Content Placeholder 4" descr=""/>
            <p:cNvPicPr/>
            <p:nvPr/>
          </p:nvPicPr>
          <p:blipFill>
            <a:blip r:embed="rId9"/>
            <a:stretch/>
          </p:blipFill>
          <p:spPr>
            <a:xfrm>
              <a:off x="3602520" y="3145320"/>
              <a:ext cx="828720" cy="46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Picture 9" descr="http://pic.dooland.com/MagzineArticlePic/115467_22_1300257864_69.jpg"/>
          <p:cNvPicPr/>
          <p:nvPr/>
        </p:nvPicPr>
        <p:blipFill>
          <a:blip r:embed="rId10"/>
          <a:stretch/>
        </p:blipFill>
        <p:spPr>
          <a:xfrm rot="20441400">
            <a:off x="1093680" y="474840"/>
            <a:ext cx="1943280" cy="219060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3"/>
          <p:cNvGrpSpPr/>
          <p:nvPr/>
        </p:nvGrpSpPr>
        <p:grpSpPr>
          <a:xfrm>
            <a:off x="2992680" y="609120"/>
            <a:ext cx="4263480" cy="1989360"/>
            <a:chOff x="2992680" y="609120"/>
            <a:chExt cx="4263480" cy="1989360"/>
          </a:xfrm>
        </p:grpSpPr>
        <p:sp>
          <p:nvSpPr>
            <p:cNvPr id="251" name="矩形 29"/>
            <p:cNvSpPr/>
            <p:nvPr/>
          </p:nvSpPr>
          <p:spPr>
            <a:xfrm rot="20641200">
              <a:off x="3597480" y="1104840"/>
              <a:ext cx="3107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QSCV</a:t>
              </a:r>
              <a:r>
                <a:rPr b="0" lang="zh-CN" sz="36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运作管理原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     ——</a:t>
              </a:r>
              <a:r>
                <a:rPr b="0" lang="zh-CN" sz="2400" spc="-1" strike="noStrike">
                  <a:solidFill>
                    <a:srgbClr val="e46c0a"/>
                  </a:solidFill>
                  <a:latin typeface="微软雅黑"/>
                  <a:ea typeface="微软雅黑"/>
                </a:rPr>
                <a:t>提供服务的最高标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6"/>
            <p:cNvSpPr/>
            <p:nvPr/>
          </p:nvSpPr>
          <p:spPr>
            <a:xfrm rot="20712000">
              <a:off x="3045960" y="1123920"/>
              <a:ext cx="4156200" cy="95940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7:33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28:04Z</dcterms:modified>
  <cp:revision>2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