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E6FD-696F-4779-BE38-0B0FB74FB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04D6-D56E-4C40-83AF-BFA5E0029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ED7C-649D-492D-9006-3FA242388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1F87-1443-41DE-A492-F0498466D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3A13-D257-4B13-BA1A-8B540226E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3298-CEB3-4114-9449-780F884A6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694F-37E9-4AF9-A7D7-C3DF399A3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7807-7BF7-4A3F-9460-178039CAB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B0CB-2254-494C-8B26-32B6F941C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80A4-40A5-4095-B5B2-8DE813547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D028-BC4A-483C-A184-F4CFE3B64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71B6-A68F-47B7-A7A5-EDFAD772B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1CFB6-6821-4237-BA85-C451E4B1F38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F168E-A803-4BCC-8700-8CE4B77B515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4080" y="64040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09640" y="227160"/>
            <a:ext cx="323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遥感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背景图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2DFE-763D-4C56-B16B-4314B0EA9CF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5T02:11:59Z</dcterms:modified>
  <cp:revision>4</cp:revision>
  <dc:subject/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