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3C5-68D6-420D-8600-BD7E1A01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6FB-BD9B-4696-A394-8443EAB9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64A-7C59-4AC4-8698-63773306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EDE-F4B7-4A18-A4B6-989CDD4B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152D-0AE3-490F-9EE7-5DF70878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9DF8-E995-4B0C-B2C4-441786FE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C4F5-7554-4941-A862-AC6B1F22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F153-3B78-4D67-9350-88527079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5ED9-2B75-4111-AE3B-76836B6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87D0-29A5-4978-BA76-3EAE658D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F07D-69B2-4410-B382-6C8A6AF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244-B953-4B7E-A106-1EB4AAE8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81E0-9AFC-42EC-9C0B-F6B8A78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1CC5-85CA-4B4B-87FA-5766512C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790C-80DC-43C8-BFE4-3B03C043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A843-9059-4206-9643-49EEBB67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36E6-27FB-447A-B5A3-FC9E61DD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8E4-00DC-4B18-BA40-66F208EE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E6F-5F06-4CD0-BEBC-AFE3094F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838-41CE-4AA9-8989-A89E6D2B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44F-C3DB-4A72-AF54-611C819E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5DB-DB6D-4C4D-9C50-75F953B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724-1323-40A8-BA50-42EECF3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6E3-8A60-43B9-A057-886F2875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8E8C-A18B-40D2-B221-788ACBB0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0099-6A28-4F2C-B0DC-838C121F16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5"/>
          <p:cNvSpPr/>
          <p:nvPr/>
        </p:nvSpPr>
        <p:spPr>
          <a:xfrm>
            <a:off x="900000" y="1052640"/>
            <a:ext cx="4319640" cy="64764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4762800" y="5805360"/>
            <a:ext cx="37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1ppt.com/beijing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072880" y="99216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艺术线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6:41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5:52:26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