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1A9-88C3-4780-85ED-8DBF68F1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D64-98B8-4D94-8C33-ADB73B9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2AF-1A11-4D72-8D07-F691EC90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3A0-E385-4D9B-B498-ACF800FC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7E6B-AE06-44F0-ACBF-BAB423C2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B3AF-A2B0-42A7-A540-08583683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9C5F-1EA1-4898-AD18-4EAB0C05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5090-9904-40BA-818C-FD985F8F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F5BE-4DCC-467A-A689-C8B7D15F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3080" y="2854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3D03-21A1-4141-BEA0-798FFC13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570D-5254-4B3A-BC84-C88435C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C6A-433E-4543-BB3D-0ABCC499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2A18-0635-4A3B-9AEA-D2E10236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AB5B-7BE6-4976-9D22-03C14E81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BF6E-349B-4E06-9062-C23D7A1D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D506-95BD-448F-A7DE-B96D82FB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29E1-E0EC-4EDC-AC75-3C72AF03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EECA-FBC3-4295-89F8-0898102E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405CB-56F3-4B1D-BB62-39DC3F8B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A9B7-F1BC-4FAF-BFC9-BAD7FFD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14059-41D8-4312-9F01-E6F30D86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1244-A4F7-4945-929C-B191B690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E21-B737-48AC-8CE8-BA18ACCF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3080" y="2854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D20E-0CC5-460D-BEF8-531876E5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D83F-640E-481D-9B82-4B2E0C9A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93F5-E871-4F02-B55E-0573E931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709B4-7A6A-446F-AA56-FD98E4F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CDB6-6526-4FD1-83DC-19881F6F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5C4D-71C8-4B90-B017-2960BC67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B942-7CF9-43DA-972F-BD035318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C91-6F6A-4B27-A4DA-5395DA1A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A3C-CB20-452A-9D04-601C6936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3080" y="2854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70C-0E01-4686-A0EE-FCE5BFA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A9D-CCD4-42E7-B98D-9EC4CF90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B2B-3462-49A7-8F79-EBBDB799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8F9-7C20-42D3-85C0-3F6CB80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BB74-E559-489D-8950-8D1D7E78DF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928800"/>
            <a:ext cx="6000840" cy="46080"/>
          </a:xfrm>
          <a:prstGeom prst="rect">
            <a:avLst/>
          </a:prstGeom>
          <a:solidFill>
            <a:srgbClr val="867700"/>
          </a:solidFill>
          <a:ln w="0">
            <a:noFill/>
          </a:ln>
          <a:effectLst>
            <a:outerShdw dist="25455" dir="2700000" blurRad="0" rotWithShape="0">
              <a:srgbClr val="000000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3143160" y="2714760"/>
            <a:ext cx="6000840" cy="814320"/>
          </a:xfrm>
          <a:prstGeom prst="rect">
            <a:avLst/>
          </a:prstGeom>
          <a:solidFill>
            <a:srgbClr val="867700"/>
          </a:solidFill>
          <a:ln w="0">
            <a:noFill/>
          </a:ln>
          <a:effectLst>
            <a:outerShdw dist="50688" dir="7979124" blurRad="0" rotWithShape="0">
              <a:srgbClr val="1e1c11">
                <a:alpha val="2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308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FE65-DB39-4A74-BB4E-2E1142D523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A8EF-CEA2-4FE1-BD49-765F55EC50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标题 1" descr=""/>
          <p:cNvPicPr/>
          <p:nvPr/>
        </p:nvPicPr>
        <p:blipFill>
          <a:blip r:embed="rId1"/>
          <a:stretch/>
        </p:blipFill>
        <p:spPr>
          <a:xfrm>
            <a:off x="3286080" y="2682720"/>
            <a:ext cx="5943600" cy="10242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"/>
          <p:cNvSpPr/>
          <p:nvPr/>
        </p:nvSpPr>
        <p:spPr>
          <a:xfrm>
            <a:off x="2626920" y="19749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文学习精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标题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39484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28400" y="1285560"/>
            <a:ext cx="84294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ito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may want to allocate one slide per competi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strengths relative to competi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akne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weaknesses relative to competi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标题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394840" cy="907920"/>
          </a:xfrm>
          <a:prstGeom prst="rect">
            <a:avLst/>
          </a:prstGeom>
          <a:ln w="0">
            <a:noFill/>
          </a:ln>
        </p:spPr>
      </p:pic>
      <p:pic>
        <p:nvPicPr>
          <p:cNvPr id="131" name="Oval 10" descr=""/>
          <p:cNvPicPr/>
          <p:nvPr/>
        </p:nvPicPr>
        <p:blipFill>
          <a:blip r:embed="rId2"/>
          <a:stretch/>
        </p:blipFill>
        <p:spPr>
          <a:xfrm>
            <a:off x="6742080" y="4273560"/>
            <a:ext cx="1500120" cy="28828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>
            <a:off x="2146320" y="2533680"/>
            <a:ext cx="5207040" cy="257652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eeece1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val 10" descr=""/>
          <p:cNvPicPr/>
          <p:nvPr/>
        </p:nvPicPr>
        <p:blipFill>
          <a:blip r:embed="rId3"/>
          <a:stretch/>
        </p:blipFill>
        <p:spPr>
          <a:xfrm>
            <a:off x="2987640" y="4273560"/>
            <a:ext cx="1492200" cy="2882880"/>
          </a:xfrm>
          <a:prstGeom prst="rect">
            <a:avLst/>
          </a:prstGeom>
          <a:ln w="0">
            <a:noFill/>
          </a:ln>
        </p:spPr>
      </p:pic>
      <p:grpSp>
        <p:nvGrpSpPr>
          <p:cNvPr id="134" name="AutoShape 5"/>
          <p:cNvGrpSpPr/>
          <p:nvPr/>
        </p:nvGrpSpPr>
        <p:grpSpPr>
          <a:xfrm>
            <a:off x="1736640" y="1755720"/>
            <a:ext cx="5559480" cy="689040"/>
            <a:chOff x="1736640" y="1755720"/>
            <a:chExt cx="5559480" cy="689040"/>
          </a:xfrm>
        </p:grpSpPr>
        <p:pic>
          <p:nvPicPr>
            <p:cNvPr id="135" name="AutoShape 5" descr=""/>
            <p:cNvPicPr/>
            <p:nvPr/>
          </p:nvPicPr>
          <p:blipFill>
            <a:blip r:embed="rId4"/>
            <a:stretch/>
          </p:blipFill>
          <p:spPr>
            <a:xfrm>
              <a:off x="1736640" y="1755720"/>
              <a:ext cx="55594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8"/>
            <p:cNvSpPr/>
            <p:nvPr/>
          </p:nvSpPr>
          <p:spPr>
            <a:xfrm>
              <a:off x="1869840" y="1868400"/>
              <a:ext cx="5292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6"/>
          <p:cNvSpPr/>
          <p:nvPr/>
        </p:nvSpPr>
        <p:spPr>
          <a:xfrm>
            <a:off x="3805560" y="31068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val 10" descr=""/>
          <p:cNvPicPr/>
          <p:nvPr/>
        </p:nvPicPr>
        <p:blipFill>
          <a:blip r:embed="rId5"/>
          <a:stretch/>
        </p:blipFill>
        <p:spPr>
          <a:xfrm>
            <a:off x="1163520" y="4273560"/>
            <a:ext cx="1500480" cy="2895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1316160" y="478944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079800" y="478944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val 10" descr=""/>
          <p:cNvPicPr/>
          <p:nvPr/>
        </p:nvPicPr>
        <p:blipFill>
          <a:blip r:embed="rId6"/>
          <a:stretch/>
        </p:blipFill>
        <p:spPr>
          <a:xfrm>
            <a:off x="4883040" y="4273560"/>
            <a:ext cx="1498680" cy="2882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4"/>
          <p:cNvSpPr/>
          <p:nvPr/>
        </p:nvSpPr>
        <p:spPr>
          <a:xfrm>
            <a:off x="5016600" y="478944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6951600" y="478944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标题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394840" cy="907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1066680" y="204804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3386160" y="204804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715000" y="204804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圆角矩形 6" descr=""/>
          <p:cNvPicPr/>
          <p:nvPr/>
        </p:nvPicPr>
        <p:blipFill>
          <a:blip r:embed="rId2"/>
          <a:stretch/>
        </p:blipFill>
        <p:spPr>
          <a:xfrm>
            <a:off x="1017720" y="2840040"/>
            <a:ext cx="2176200" cy="4896000"/>
          </a:xfrm>
          <a:prstGeom prst="rect">
            <a:avLst/>
          </a:prstGeom>
          <a:ln w="0">
            <a:noFill/>
          </a:ln>
        </p:spPr>
      </p:pic>
      <p:pic>
        <p:nvPicPr>
          <p:cNvPr id="149" name="圆角矩形 7" descr=""/>
          <p:cNvPicPr/>
          <p:nvPr/>
        </p:nvPicPr>
        <p:blipFill>
          <a:blip r:embed="rId3"/>
          <a:stretch/>
        </p:blipFill>
        <p:spPr>
          <a:xfrm>
            <a:off x="3376440" y="2840040"/>
            <a:ext cx="2170440" cy="4896000"/>
          </a:xfrm>
          <a:prstGeom prst="rect">
            <a:avLst/>
          </a:prstGeom>
          <a:ln w="0">
            <a:noFill/>
          </a:ln>
        </p:spPr>
      </p:pic>
      <p:pic>
        <p:nvPicPr>
          <p:cNvPr id="150" name="圆角矩形 8" descr=""/>
          <p:cNvPicPr/>
          <p:nvPr/>
        </p:nvPicPr>
        <p:blipFill>
          <a:blip r:embed="rId4"/>
          <a:stretch/>
        </p:blipFill>
        <p:spPr>
          <a:xfrm>
            <a:off x="5662440" y="2840040"/>
            <a:ext cx="2170440" cy="4896000"/>
          </a:xfrm>
          <a:prstGeom prst="rect">
            <a:avLst/>
          </a:prstGeom>
          <a:ln w="0">
            <a:noFill/>
          </a:ln>
        </p:spPr>
      </p:pic>
      <p:sp>
        <p:nvSpPr>
          <p:cNvPr id="151" name="流程图: 摘录 9"/>
          <p:cNvSpPr/>
          <p:nvPr/>
        </p:nvSpPr>
        <p:spPr>
          <a:xfrm rot="5400000">
            <a:off x="3116520" y="4883760"/>
            <a:ext cx="350640" cy="298440"/>
          </a:xfrm>
          <a:prstGeom prst="flowChartExtra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流程图: 摘录 10"/>
          <p:cNvSpPr/>
          <p:nvPr/>
        </p:nvSpPr>
        <p:spPr>
          <a:xfrm rot="5400000">
            <a:off x="5474160" y="4915440"/>
            <a:ext cx="350640" cy="298440"/>
          </a:xfrm>
          <a:prstGeom prst="flowChartExtra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57184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alibri"/>
              </a:rPr>
              <a:t>Add your company slo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标题 3" descr=""/>
          <p:cNvPicPr/>
          <p:nvPr/>
        </p:nvPicPr>
        <p:blipFill>
          <a:blip r:embed="rId1"/>
          <a:stretch/>
        </p:blipFill>
        <p:spPr>
          <a:xfrm>
            <a:off x="3286080" y="2682720"/>
            <a:ext cx="5943600" cy="1024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5:57:02Z</dcterms:modified>
  <cp:revision>0</cp:revision>
  <dc:subject/>
  <dc:title>幻灯片之家 http://www.eeppt.com</dc:title>
</cp:coreProperties>
</file>