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309600" y="2052720"/>
            <a:ext cx="595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有余数的除法、余数和除数的关系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课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692360" y="86508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余数的除法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7" name="Picture 8" descr="6"/>
          <p:cNvPicPr/>
          <p:nvPr/>
        </p:nvPicPr>
        <p:blipFill>
          <a:blip r:embed="rId2"/>
          <a:stretch/>
        </p:blipFill>
        <p:spPr>
          <a:xfrm>
            <a:off x="185760" y="69228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7065360" y="6524640"/>
            <a:ext cx="8557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9999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9999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9999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9999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9999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9999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6453360"/>
            <a:ext cx="50799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4360" y="4448520"/>
            <a:ext cx="66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比较，有什么相同？有什么不同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436760" y="4892400"/>
            <a:ext cx="66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讲解：算式里的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表示剩下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草莓，在算式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称为“余数”，今天我们研究的是“有余数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除法”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4360" y="6066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追问：余数表示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摆一摆，比较感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19120" y="1547640"/>
            <a:ext cx="82296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三）比一比，初步感知有余数除法的意义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2052720" y="39038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÷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盘）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÷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盘）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个）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2" name="组合 1"/>
          <p:cNvGrpSpPr/>
          <p:nvPr/>
        </p:nvGrpSpPr>
        <p:grpSpPr>
          <a:xfrm>
            <a:off x="1547640" y="2205000"/>
            <a:ext cx="4896000" cy="504720"/>
            <a:chOff x="1547640" y="2205000"/>
            <a:chExt cx="4896000" cy="504720"/>
          </a:xfrm>
        </p:grpSpPr>
        <p:sp>
          <p:nvSpPr>
            <p:cNvPr id="143" name="Text Box 17"/>
            <p:cNvSpPr/>
            <p:nvPr/>
          </p:nvSpPr>
          <p:spPr>
            <a:xfrm>
              <a:off x="1547640" y="222876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把下面这些    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摆一盘，摆一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4" name="Picture 24" descr="未标题-8"/>
            <p:cNvPicPr/>
            <p:nvPr/>
          </p:nvPicPr>
          <p:blipFill>
            <a:blip r:embed="rId2"/>
            <a:srcRect l="3391" t="13329" r="83092" b="34908"/>
            <a:stretch/>
          </p:blipFill>
          <p:spPr>
            <a:xfrm>
              <a:off x="2916000" y="2205000"/>
              <a:ext cx="504720" cy="50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25" descr="u6jx01-10"/>
          <p:cNvPicPr/>
          <p:nvPr/>
        </p:nvPicPr>
        <p:blipFill>
          <a:blip r:embed="rId3"/>
          <a:stretch/>
        </p:blipFill>
        <p:spPr>
          <a:xfrm>
            <a:off x="1547640" y="2779560"/>
            <a:ext cx="6193080" cy="1184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6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9999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9999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9999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9999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9999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9999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摆一摆，比较感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19120" y="1547640"/>
            <a:ext cx="82296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四）圈一圈，填一填，及时巩固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708120" y="524700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求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独立完成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490760" y="5698440"/>
            <a:ext cx="61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说一说你是怎么想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754200" y="2340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1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   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地圈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1689120" y="2411280"/>
            <a:ext cx="287280" cy="287640"/>
          </a:xfrm>
          <a:custGeom>
            <a:avLst/>
            <a:gdLst/>
            <a:ahLst/>
            <a:rect l="l" t="t" r="r" b="b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lnTo>
                  <a:pt x="0" y="109753"/>
                </a:lnTo>
                <a:close/>
              </a:path>
            </a:pathLst>
          </a:custGeom>
          <a:solidFill>
            <a:srgbClr val="ff99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4" name="组合 1"/>
          <p:cNvGrpSpPr/>
          <p:nvPr/>
        </p:nvGrpSpPr>
        <p:grpSpPr>
          <a:xfrm>
            <a:off x="1157400" y="2849400"/>
            <a:ext cx="2838240" cy="663840"/>
            <a:chOff x="1157400" y="2849400"/>
            <a:chExt cx="2838240" cy="663840"/>
          </a:xfrm>
        </p:grpSpPr>
        <p:sp>
          <p:nvSpPr>
            <p:cNvPr id="155" name="AutoShape 11"/>
            <p:cNvSpPr/>
            <p:nvPr/>
          </p:nvSpPr>
          <p:spPr>
            <a:xfrm>
              <a:off x="1157400" y="2849400"/>
              <a:ext cx="287280" cy="287280"/>
            </a:xfrm>
            <a:custGeom>
              <a:avLst/>
              <a:gdLst/>
              <a:ahLst/>
              <a:rect l="l" t="t" r="r" b="b"/>
              <a:pathLst>
                <a:path w="287299" h="287337">
                  <a:moveTo>
                    <a:pt x="0" y="109753"/>
                  </a:moveTo>
                  <a:lnTo>
                    <a:pt x="109739" y="109753"/>
                  </a:lnTo>
                  <a:lnTo>
                    <a:pt x="143650" y="0"/>
                  </a:lnTo>
                  <a:lnTo>
                    <a:pt x="177560" y="109753"/>
                  </a:lnTo>
                  <a:lnTo>
                    <a:pt x="287299" y="109753"/>
                  </a:lnTo>
                  <a:lnTo>
                    <a:pt x="198518" y="177583"/>
                  </a:lnTo>
                  <a:lnTo>
                    <a:pt x="232430" y="287336"/>
                  </a:lnTo>
                  <a:lnTo>
                    <a:pt x="143650" y="219504"/>
                  </a:lnTo>
                  <a:lnTo>
                    <a:pt x="54869" y="287336"/>
                  </a:lnTo>
                  <a:lnTo>
                    <a:pt x="88781" y="177583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6" name="AutoShape 18"/>
            <p:cNvSpPr/>
            <p:nvPr/>
          </p:nvSpPr>
          <p:spPr>
            <a:xfrm>
              <a:off x="1476360" y="2849400"/>
              <a:ext cx="287280" cy="287280"/>
            </a:xfrm>
            <a:custGeom>
              <a:avLst/>
              <a:gdLst/>
              <a:ahLst/>
              <a:rect l="l" t="t" r="r" b="b"/>
              <a:pathLst>
                <a:path w="287300" h="287337">
                  <a:moveTo>
                    <a:pt x="0" y="109753"/>
                  </a:moveTo>
                  <a:lnTo>
                    <a:pt x="109739" y="109753"/>
                  </a:lnTo>
                  <a:lnTo>
                    <a:pt x="143650" y="0"/>
                  </a:lnTo>
                  <a:lnTo>
                    <a:pt x="177561" y="109753"/>
                  </a:lnTo>
                  <a:lnTo>
                    <a:pt x="287300" y="109753"/>
                  </a:lnTo>
                  <a:lnTo>
                    <a:pt x="198518" y="177583"/>
                  </a:lnTo>
                  <a:lnTo>
                    <a:pt x="232430" y="287336"/>
                  </a:lnTo>
                  <a:lnTo>
                    <a:pt x="143650" y="219504"/>
                  </a:lnTo>
                  <a:lnTo>
                    <a:pt x="54870" y="287336"/>
                  </a:lnTo>
                  <a:lnTo>
                    <a:pt x="88782" y="177583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7" name="AutoShape 19"/>
            <p:cNvSpPr/>
            <p:nvPr/>
          </p:nvSpPr>
          <p:spPr>
            <a:xfrm>
              <a:off x="1795320" y="2849400"/>
              <a:ext cx="287280" cy="287280"/>
            </a:xfrm>
            <a:custGeom>
              <a:avLst/>
              <a:gdLst/>
              <a:ahLst/>
              <a:rect l="l" t="t" r="r" b="b"/>
              <a:pathLst>
                <a:path w="287299" h="287337">
                  <a:moveTo>
                    <a:pt x="0" y="109753"/>
                  </a:moveTo>
                  <a:lnTo>
                    <a:pt x="109739" y="109753"/>
                  </a:lnTo>
                  <a:lnTo>
                    <a:pt x="143650" y="0"/>
                  </a:lnTo>
                  <a:lnTo>
                    <a:pt x="177560" y="109753"/>
                  </a:lnTo>
                  <a:lnTo>
                    <a:pt x="287299" y="109753"/>
                  </a:lnTo>
                  <a:lnTo>
                    <a:pt x="198518" y="177583"/>
                  </a:lnTo>
                  <a:lnTo>
                    <a:pt x="232430" y="287336"/>
                  </a:lnTo>
                  <a:lnTo>
                    <a:pt x="143650" y="219504"/>
                  </a:lnTo>
                  <a:lnTo>
                    <a:pt x="54869" y="287336"/>
                  </a:lnTo>
                  <a:lnTo>
                    <a:pt x="88781" y="177583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8" name="AutoShape 20"/>
            <p:cNvSpPr/>
            <p:nvPr/>
          </p:nvSpPr>
          <p:spPr>
            <a:xfrm>
              <a:off x="2114640" y="2849400"/>
              <a:ext cx="287280" cy="287280"/>
            </a:xfrm>
            <a:custGeom>
              <a:avLst/>
              <a:gdLst/>
              <a:ahLst/>
              <a:rect l="l" t="t" r="r" b="b"/>
              <a:pathLst>
                <a:path w="287300" h="287337">
                  <a:moveTo>
                    <a:pt x="0" y="109753"/>
                  </a:moveTo>
                  <a:lnTo>
                    <a:pt x="109739" y="109753"/>
                  </a:lnTo>
                  <a:lnTo>
                    <a:pt x="143650" y="0"/>
                  </a:lnTo>
                  <a:lnTo>
                    <a:pt x="177561" y="109753"/>
                  </a:lnTo>
                  <a:lnTo>
                    <a:pt x="287300" y="109753"/>
                  </a:lnTo>
                  <a:lnTo>
                    <a:pt x="198518" y="177583"/>
                  </a:lnTo>
                  <a:lnTo>
                    <a:pt x="232430" y="287336"/>
                  </a:lnTo>
                  <a:lnTo>
                    <a:pt x="143650" y="219504"/>
                  </a:lnTo>
                  <a:lnTo>
                    <a:pt x="54870" y="287336"/>
                  </a:lnTo>
                  <a:lnTo>
                    <a:pt x="88782" y="177583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9" name="AutoShape 21"/>
            <p:cNvSpPr/>
            <p:nvPr/>
          </p:nvSpPr>
          <p:spPr>
            <a:xfrm>
              <a:off x="2432160" y="2849400"/>
              <a:ext cx="288720" cy="287280"/>
            </a:xfrm>
            <a:custGeom>
              <a:avLst/>
              <a:gdLst/>
              <a:ahLst/>
              <a:rect l="l" t="t" r="r" b="b"/>
              <a:pathLst>
                <a:path w="288887" h="287337">
                  <a:moveTo>
                    <a:pt x="0" y="109753"/>
                  </a:moveTo>
                  <a:lnTo>
                    <a:pt x="110346" y="109753"/>
                  </a:lnTo>
                  <a:lnTo>
                    <a:pt x="144444" y="0"/>
                  </a:lnTo>
                  <a:lnTo>
                    <a:pt x="178541" y="109753"/>
                  </a:lnTo>
                  <a:lnTo>
                    <a:pt x="288887" y="109753"/>
                  </a:lnTo>
                  <a:lnTo>
                    <a:pt x="199615" y="177583"/>
                  </a:lnTo>
                  <a:lnTo>
                    <a:pt x="233714" y="287336"/>
                  </a:lnTo>
                  <a:lnTo>
                    <a:pt x="144444" y="219504"/>
                  </a:lnTo>
                  <a:lnTo>
                    <a:pt x="55173" y="287336"/>
                  </a:lnTo>
                  <a:lnTo>
                    <a:pt x="89272" y="177583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0" name="AutoShape 22"/>
            <p:cNvSpPr/>
            <p:nvPr/>
          </p:nvSpPr>
          <p:spPr>
            <a:xfrm>
              <a:off x="2751120" y="2849400"/>
              <a:ext cx="287280" cy="287280"/>
            </a:xfrm>
            <a:custGeom>
              <a:avLst/>
              <a:gdLst/>
              <a:ahLst/>
              <a:rect l="l" t="t" r="r" b="b"/>
              <a:pathLst>
                <a:path w="287299" h="287337">
                  <a:moveTo>
                    <a:pt x="0" y="109753"/>
                  </a:moveTo>
                  <a:lnTo>
                    <a:pt x="109739" y="109753"/>
                  </a:lnTo>
                  <a:lnTo>
                    <a:pt x="143650" y="0"/>
                  </a:lnTo>
                  <a:lnTo>
                    <a:pt x="177560" y="109753"/>
                  </a:lnTo>
                  <a:lnTo>
                    <a:pt x="287299" y="109753"/>
                  </a:lnTo>
                  <a:lnTo>
                    <a:pt x="198518" y="177583"/>
                  </a:lnTo>
                  <a:lnTo>
                    <a:pt x="232430" y="287336"/>
                  </a:lnTo>
                  <a:lnTo>
                    <a:pt x="143650" y="219504"/>
                  </a:lnTo>
                  <a:lnTo>
                    <a:pt x="54869" y="287336"/>
                  </a:lnTo>
                  <a:lnTo>
                    <a:pt x="88781" y="177583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1" name="AutoShape 23"/>
            <p:cNvSpPr/>
            <p:nvPr/>
          </p:nvSpPr>
          <p:spPr>
            <a:xfrm>
              <a:off x="3070080" y="2849400"/>
              <a:ext cx="287280" cy="287280"/>
            </a:xfrm>
            <a:custGeom>
              <a:avLst/>
              <a:gdLst/>
              <a:ahLst/>
              <a:rect l="l" t="t" r="r" b="b"/>
              <a:pathLst>
                <a:path w="287300" h="287337">
                  <a:moveTo>
                    <a:pt x="0" y="109753"/>
                  </a:moveTo>
                  <a:lnTo>
                    <a:pt x="109739" y="109753"/>
                  </a:lnTo>
                  <a:lnTo>
                    <a:pt x="143650" y="0"/>
                  </a:lnTo>
                  <a:lnTo>
                    <a:pt x="177561" y="109753"/>
                  </a:lnTo>
                  <a:lnTo>
                    <a:pt x="287300" y="109753"/>
                  </a:lnTo>
                  <a:lnTo>
                    <a:pt x="198518" y="177583"/>
                  </a:lnTo>
                  <a:lnTo>
                    <a:pt x="232430" y="287336"/>
                  </a:lnTo>
                  <a:lnTo>
                    <a:pt x="143650" y="219504"/>
                  </a:lnTo>
                  <a:lnTo>
                    <a:pt x="54870" y="287336"/>
                  </a:lnTo>
                  <a:lnTo>
                    <a:pt x="88782" y="177583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2" name="AutoShape 24"/>
            <p:cNvSpPr/>
            <p:nvPr/>
          </p:nvSpPr>
          <p:spPr>
            <a:xfrm>
              <a:off x="3708360" y="2849400"/>
              <a:ext cx="287280" cy="287280"/>
            </a:xfrm>
            <a:custGeom>
              <a:avLst/>
              <a:gdLst/>
              <a:ahLst/>
              <a:rect l="l" t="t" r="r" b="b"/>
              <a:pathLst>
                <a:path w="287300" h="287337">
                  <a:moveTo>
                    <a:pt x="0" y="109753"/>
                  </a:moveTo>
                  <a:lnTo>
                    <a:pt x="109739" y="109753"/>
                  </a:lnTo>
                  <a:lnTo>
                    <a:pt x="143650" y="0"/>
                  </a:lnTo>
                  <a:lnTo>
                    <a:pt x="177561" y="109753"/>
                  </a:lnTo>
                  <a:lnTo>
                    <a:pt x="287300" y="109753"/>
                  </a:lnTo>
                  <a:lnTo>
                    <a:pt x="198518" y="177583"/>
                  </a:lnTo>
                  <a:lnTo>
                    <a:pt x="232430" y="287336"/>
                  </a:lnTo>
                  <a:lnTo>
                    <a:pt x="143650" y="219504"/>
                  </a:lnTo>
                  <a:lnTo>
                    <a:pt x="54870" y="287336"/>
                  </a:lnTo>
                  <a:lnTo>
                    <a:pt x="88782" y="177583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3" name="AutoShape 25"/>
            <p:cNvSpPr/>
            <p:nvPr/>
          </p:nvSpPr>
          <p:spPr>
            <a:xfrm>
              <a:off x="3389400" y="2849400"/>
              <a:ext cx="287280" cy="287280"/>
            </a:xfrm>
            <a:custGeom>
              <a:avLst/>
              <a:gdLst/>
              <a:ahLst/>
              <a:rect l="l" t="t" r="r" b="b"/>
              <a:pathLst>
                <a:path w="287299" h="287337">
                  <a:moveTo>
                    <a:pt x="0" y="109753"/>
                  </a:moveTo>
                  <a:lnTo>
                    <a:pt x="109739" y="109753"/>
                  </a:lnTo>
                  <a:lnTo>
                    <a:pt x="143650" y="0"/>
                  </a:lnTo>
                  <a:lnTo>
                    <a:pt x="177560" y="109753"/>
                  </a:lnTo>
                  <a:lnTo>
                    <a:pt x="287299" y="109753"/>
                  </a:lnTo>
                  <a:lnTo>
                    <a:pt x="198518" y="177583"/>
                  </a:lnTo>
                  <a:lnTo>
                    <a:pt x="232430" y="287336"/>
                  </a:lnTo>
                  <a:lnTo>
                    <a:pt x="143650" y="219504"/>
                  </a:lnTo>
                  <a:lnTo>
                    <a:pt x="54869" y="287336"/>
                  </a:lnTo>
                  <a:lnTo>
                    <a:pt x="88781" y="177583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4" name="AutoShape 26"/>
            <p:cNvSpPr/>
            <p:nvPr/>
          </p:nvSpPr>
          <p:spPr>
            <a:xfrm>
              <a:off x="1157400" y="3225960"/>
              <a:ext cx="287280" cy="287280"/>
            </a:xfrm>
            <a:custGeom>
              <a:avLst/>
              <a:gdLst/>
              <a:ahLst/>
              <a:rect l="l" t="t" r="r" b="b"/>
              <a:pathLst>
                <a:path w="287299" h="287338">
                  <a:moveTo>
                    <a:pt x="0" y="109753"/>
                  </a:moveTo>
                  <a:lnTo>
                    <a:pt x="109739" y="109754"/>
                  </a:lnTo>
                  <a:lnTo>
                    <a:pt x="143650" y="0"/>
                  </a:lnTo>
                  <a:lnTo>
                    <a:pt x="177560" y="109754"/>
                  </a:lnTo>
                  <a:lnTo>
                    <a:pt x="287299" y="109753"/>
                  </a:lnTo>
                  <a:lnTo>
                    <a:pt x="198518" y="177584"/>
                  </a:lnTo>
                  <a:lnTo>
                    <a:pt x="232430" y="287337"/>
                  </a:lnTo>
                  <a:lnTo>
                    <a:pt x="143650" y="219505"/>
                  </a:lnTo>
                  <a:lnTo>
                    <a:pt x="54869" y="287337"/>
                  </a:lnTo>
                  <a:lnTo>
                    <a:pt x="88781" y="177584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5" name="AutoShape 27"/>
            <p:cNvSpPr/>
            <p:nvPr/>
          </p:nvSpPr>
          <p:spPr>
            <a:xfrm>
              <a:off x="1476360" y="3225960"/>
              <a:ext cx="287280" cy="287280"/>
            </a:xfrm>
            <a:custGeom>
              <a:avLst/>
              <a:gdLst/>
              <a:ahLst/>
              <a:rect l="l" t="t" r="r" b="b"/>
              <a:pathLst>
                <a:path w="287300" h="287338">
                  <a:moveTo>
                    <a:pt x="0" y="109753"/>
                  </a:moveTo>
                  <a:lnTo>
                    <a:pt x="109739" y="109754"/>
                  </a:lnTo>
                  <a:lnTo>
                    <a:pt x="143650" y="0"/>
                  </a:lnTo>
                  <a:lnTo>
                    <a:pt x="177561" y="109754"/>
                  </a:lnTo>
                  <a:lnTo>
                    <a:pt x="287300" y="109753"/>
                  </a:lnTo>
                  <a:lnTo>
                    <a:pt x="198518" y="177584"/>
                  </a:lnTo>
                  <a:lnTo>
                    <a:pt x="232430" y="287337"/>
                  </a:lnTo>
                  <a:lnTo>
                    <a:pt x="143650" y="219505"/>
                  </a:lnTo>
                  <a:lnTo>
                    <a:pt x="54870" y="287337"/>
                  </a:lnTo>
                  <a:lnTo>
                    <a:pt x="88782" y="177584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6" name="AutoShape 28"/>
            <p:cNvSpPr/>
            <p:nvPr/>
          </p:nvSpPr>
          <p:spPr>
            <a:xfrm>
              <a:off x="1795320" y="3225960"/>
              <a:ext cx="287280" cy="287280"/>
            </a:xfrm>
            <a:custGeom>
              <a:avLst/>
              <a:gdLst/>
              <a:ahLst/>
              <a:rect l="l" t="t" r="r" b="b"/>
              <a:pathLst>
                <a:path w="287299" h="287338">
                  <a:moveTo>
                    <a:pt x="0" y="109753"/>
                  </a:moveTo>
                  <a:lnTo>
                    <a:pt x="109739" y="109754"/>
                  </a:lnTo>
                  <a:lnTo>
                    <a:pt x="143650" y="0"/>
                  </a:lnTo>
                  <a:lnTo>
                    <a:pt x="177560" y="109754"/>
                  </a:lnTo>
                  <a:lnTo>
                    <a:pt x="287299" y="109753"/>
                  </a:lnTo>
                  <a:lnTo>
                    <a:pt x="198518" y="177584"/>
                  </a:lnTo>
                  <a:lnTo>
                    <a:pt x="232430" y="287337"/>
                  </a:lnTo>
                  <a:lnTo>
                    <a:pt x="143650" y="219505"/>
                  </a:lnTo>
                  <a:lnTo>
                    <a:pt x="54869" y="287337"/>
                  </a:lnTo>
                  <a:lnTo>
                    <a:pt x="88781" y="177584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7" name="AutoShape 29"/>
            <p:cNvSpPr/>
            <p:nvPr/>
          </p:nvSpPr>
          <p:spPr>
            <a:xfrm>
              <a:off x="2114640" y="3225960"/>
              <a:ext cx="287280" cy="287280"/>
            </a:xfrm>
            <a:custGeom>
              <a:avLst/>
              <a:gdLst/>
              <a:ahLst/>
              <a:rect l="l" t="t" r="r" b="b"/>
              <a:pathLst>
                <a:path w="287300" h="287338">
                  <a:moveTo>
                    <a:pt x="0" y="109753"/>
                  </a:moveTo>
                  <a:lnTo>
                    <a:pt x="109739" y="109754"/>
                  </a:lnTo>
                  <a:lnTo>
                    <a:pt x="143650" y="0"/>
                  </a:lnTo>
                  <a:lnTo>
                    <a:pt x="177561" y="109754"/>
                  </a:lnTo>
                  <a:lnTo>
                    <a:pt x="287300" y="109753"/>
                  </a:lnTo>
                  <a:lnTo>
                    <a:pt x="198518" y="177584"/>
                  </a:lnTo>
                  <a:lnTo>
                    <a:pt x="232430" y="287337"/>
                  </a:lnTo>
                  <a:lnTo>
                    <a:pt x="143650" y="219505"/>
                  </a:lnTo>
                  <a:lnTo>
                    <a:pt x="54870" y="287337"/>
                  </a:lnTo>
                  <a:lnTo>
                    <a:pt x="88782" y="177584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8" name="AutoShape 30"/>
            <p:cNvSpPr/>
            <p:nvPr/>
          </p:nvSpPr>
          <p:spPr>
            <a:xfrm>
              <a:off x="2432160" y="3225960"/>
              <a:ext cx="288720" cy="287280"/>
            </a:xfrm>
            <a:custGeom>
              <a:avLst/>
              <a:gdLst/>
              <a:ahLst/>
              <a:rect l="l" t="t" r="r" b="b"/>
              <a:pathLst>
                <a:path w="288887" h="287338">
                  <a:moveTo>
                    <a:pt x="0" y="109753"/>
                  </a:moveTo>
                  <a:lnTo>
                    <a:pt x="110346" y="109754"/>
                  </a:lnTo>
                  <a:lnTo>
                    <a:pt x="144444" y="0"/>
                  </a:lnTo>
                  <a:lnTo>
                    <a:pt x="178541" y="109754"/>
                  </a:lnTo>
                  <a:lnTo>
                    <a:pt x="288887" y="109753"/>
                  </a:lnTo>
                  <a:lnTo>
                    <a:pt x="199615" y="177584"/>
                  </a:lnTo>
                  <a:lnTo>
                    <a:pt x="233714" y="287337"/>
                  </a:lnTo>
                  <a:lnTo>
                    <a:pt x="144444" y="219505"/>
                  </a:lnTo>
                  <a:lnTo>
                    <a:pt x="55173" y="287337"/>
                  </a:lnTo>
                  <a:lnTo>
                    <a:pt x="89272" y="177584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9" name="AutoShape 31"/>
            <p:cNvSpPr/>
            <p:nvPr/>
          </p:nvSpPr>
          <p:spPr>
            <a:xfrm>
              <a:off x="2751120" y="3225960"/>
              <a:ext cx="287280" cy="287280"/>
            </a:xfrm>
            <a:custGeom>
              <a:avLst/>
              <a:gdLst/>
              <a:ahLst/>
              <a:rect l="l" t="t" r="r" b="b"/>
              <a:pathLst>
                <a:path w="287299" h="287338">
                  <a:moveTo>
                    <a:pt x="0" y="109753"/>
                  </a:moveTo>
                  <a:lnTo>
                    <a:pt x="109739" y="109754"/>
                  </a:lnTo>
                  <a:lnTo>
                    <a:pt x="143650" y="0"/>
                  </a:lnTo>
                  <a:lnTo>
                    <a:pt x="177560" y="109754"/>
                  </a:lnTo>
                  <a:lnTo>
                    <a:pt x="287299" y="109753"/>
                  </a:lnTo>
                  <a:lnTo>
                    <a:pt x="198518" y="177584"/>
                  </a:lnTo>
                  <a:lnTo>
                    <a:pt x="232430" y="287337"/>
                  </a:lnTo>
                  <a:lnTo>
                    <a:pt x="143650" y="219505"/>
                  </a:lnTo>
                  <a:lnTo>
                    <a:pt x="54869" y="287337"/>
                  </a:lnTo>
                  <a:lnTo>
                    <a:pt x="88781" y="177584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0" name="AutoShape 32"/>
            <p:cNvSpPr/>
            <p:nvPr/>
          </p:nvSpPr>
          <p:spPr>
            <a:xfrm>
              <a:off x="3070080" y="3225960"/>
              <a:ext cx="287280" cy="287280"/>
            </a:xfrm>
            <a:custGeom>
              <a:avLst/>
              <a:gdLst/>
              <a:ahLst/>
              <a:rect l="l" t="t" r="r" b="b"/>
              <a:pathLst>
                <a:path w="287300" h="287338">
                  <a:moveTo>
                    <a:pt x="0" y="109753"/>
                  </a:moveTo>
                  <a:lnTo>
                    <a:pt x="109739" y="109754"/>
                  </a:lnTo>
                  <a:lnTo>
                    <a:pt x="143650" y="0"/>
                  </a:lnTo>
                  <a:lnTo>
                    <a:pt x="177561" y="109754"/>
                  </a:lnTo>
                  <a:lnTo>
                    <a:pt x="287300" y="109753"/>
                  </a:lnTo>
                  <a:lnTo>
                    <a:pt x="198518" y="177584"/>
                  </a:lnTo>
                  <a:lnTo>
                    <a:pt x="232430" y="287337"/>
                  </a:lnTo>
                  <a:lnTo>
                    <a:pt x="143650" y="219505"/>
                  </a:lnTo>
                  <a:lnTo>
                    <a:pt x="54870" y="287337"/>
                  </a:lnTo>
                  <a:lnTo>
                    <a:pt x="88782" y="177584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1" name="AutoShape 33"/>
            <p:cNvSpPr/>
            <p:nvPr/>
          </p:nvSpPr>
          <p:spPr>
            <a:xfrm>
              <a:off x="3389400" y="3225960"/>
              <a:ext cx="287280" cy="287280"/>
            </a:xfrm>
            <a:custGeom>
              <a:avLst/>
              <a:gdLst/>
              <a:ahLst/>
              <a:rect l="l" t="t" r="r" b="b"/>
              <a:pathLst>
                <a:path w="287299" h="287338">
                  <a:moveTo>
                    <a:pt x="0" y="109753"/>
                  </a:moveTo>
                  <a:lnTo>
                    <a:pt x="109739" y="109754"/>
                  </a:lnTo>
                  <a:lnTo>
                    <a:pt x="143650" y="0"/>
                  </a:lnTo>
                  <a:lnTo>
                    <a:pt x="177560" y="109754"/>
                  </a:lnTo>
                  <a:lnTo>
                    <a:pt x="287299" y="109753"/>
                  </a:lnTo>
                  <a:lnTo>
                    <a:pt x="198518" y="177584"/>
                  </a:lnTo>
                  <a:lnTo>
                    <a:pt x="232430" y="287337"/>
                  </a:lnTo>
                  <a:lnTo>
                    <a:pt x="143650" y="219505"/>
                  </a:lnTo>
                  <a:lnTo>
                    <a:pt x="54869" y="287337"/>
                  </a:lnTo>
                  <a:lnTo>
                    <a:pt x="88781" y="177584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72" name="Line 34"/>
          <p:cNvSpPr/>
          <p:nvPr/>
        </p:nvSpPr>
        <p:spPr>
          <a:xfrm>
            <a:off x="4629240" y="2314440"/>
            <a:ext cx="0" cy="2648160"/>
          </a:xfrm>
          <a:prstGeom prst="line">
            <a:avLst/>
          </a:prstGeom>
          <a:ln w="1908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4859280" y="2340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2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  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地圈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Oval 36"/>
          <p:cNvSpPr/>
          <p:nvPr/>
        </p:nvSpPr>
        <p:spPr>
          <a:xfrm>
            <a:off x="5796000" y="2446200"/>
            <a:ext cx="216000" cy="2160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5" name="组合 2"/>
          <p:cNvGrpSpPr/>
          <p:nvPr/>
        </p:nvGrpSpPr>
        <p:grpSpPr>
          <a:xfrm>
            <a:off x="5240160" y="2886120"/>
            <a:ext cx="2860920" cy="590400"/>
            <a:chOff x="5240160" y="2886120"/>
            <a:chExt cx="2860920" cy="590400"/>
          </a:xfrm>
        </p:grpSpPr>
        <p:sp>
          <p:nvSpPr>
            <p:cNvPr id="176" name="Oval 37"/>
            <p:cNvSpPr/>
            <p:nvPr/>
          </p:nvSpPr>
          <p:spPr>
            <a:xfrm>
              <a:off x="5240160" y="288612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7" name="Oval 38"/>
            <p:cNvSpPr/>
            <p:nvPr/>
          </p:nvSpPr>
          <p:spPr>
            <a:xfrm>
              <a:off x="5480640" y="288612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8" name="Oval 39"/>
            <p:cNvSpPr/>
            <p:nvPr/>
          </p:nvSpPr>
          <p:spPr>
            <a:xfrm>
              <a:off x="6202080" y="288612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9" name="Oval 40"/>
            <p:cNvSpPr/>
            <p:nvPr/>
          </p:nvSpPr>
          <p:spPr>
            <a:xfrm>
              <a:off x="5961600" y="288612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0" name="Oval 42"/>
            <p:cNvSpPr/>
            <p:nvPr/>
          </p:nvSpPr>
          <p:spPr>
            <a:xfrm>
              <a:off x="7164000" y="288612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1" name="Oval 43"/>
            <p:cNvSpPr/>
            <p:nvPr/>
          </p:nvSpPr>
          <p:spPr>
            <a:xfrm>
              <a:off x="5721120" y="288612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2" name="Oval 44"/>
            <p:cNvSpPr/>
            <p:nvPr/>
          </p:nvSpPr>
          <p:spPr>
            <a:xfrm>
              <a:off x="7885440" y="288612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3" name="Oval 45"/>
            <p:cNvSpPr/>
            <p:nvPr/>
          </p:nvSpPr>
          <p:spPr>
            <a:xfrm>
              <a:off x="7644960" y="288612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4" name="Oval 46"/>
            <p:cNvSpPr/>
            <p:nvPr/>
          </p:nvSpPr>
          <p:spPr>
            <a:xfrm>
              <a:off x="7404480" y="288612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5" name="Oval 47"/>
            <p:cNvSpPr/>
            <p:nvPr/>
          </p:nvSpPr>
          <p:spPr>
            <a:xfrm>
              <a:off x="6923520" y="288612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6" name="Oval 48"/>
            <p:cNvSpPr/>
            <p:nvPr/>
          </p:nvSpPr>
          <p:spPr>
            <a:xfrm>
              <a:off x="6683040" y="288612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7" name="Oval 49"/>
            <p:cNvSpPr/>
            <p:nvPr/>
          </p:nvSpPr>
          <p:spPr>
            <a:xfrm>
              <a:off x="6442560" y="288612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8" name="Oval 50"/>
            <p:cNvSpPr/>
            <p:nvPr/>
          </p:nvSpPr>
          <p:spPr>
            <a:xfrm>
              <a:off x="5240160" y="326124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9" name="Oval 51"/>
            <p:cNvSpPr/>
            <p:nvPr/>
          </p:nvSpPr>
          <p:spPr>
            <a:xfrm>
              <a:off x="5480640" y="326124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0" name="Oval 52"/>
            <p:cNvSpPr/>
            <p:nvPr/>
          </p:nvSpPr>
          <p:spPr>
            <a:xfrm>
              <a:off x="6202080" y="326124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1" name="Oval 53"/>
            <p:cNvSpPr/>
            <p:nvPr/>
          </p:nvSpPr>
          <p:spPr>
            <a:xfrm>
              <a:off x="5961600" y="326124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2" name="Oval 54"/>
            <p:cNvSpPr/>
            <p:nvPr/>
          </p:nvSpPr>
          <p:spPr>
            <a:xfrm>
              <a:off x="7164000" y="326124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3" name="Oval 55"/>
            <p:cNvSpPr/>
            <p:nvPr/>
          </p:nvSpPr>
          <p:spPr>
            <a:xfrm>
              <a:off x="5721120" y="326124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4" name="Oval 56"/>
            <p:cNvSpPr/>
            <p:nvPr/>
          </p:nvSpPr>
          <p:spPr>
            <a:xfrm>
              <a:off x="7644960" y="326124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5" name="Oval 57"/>
            <p:cNvSpPr/>
            <p:nvPr/>
          </p:nvSpPr>
          <p:spPr>
            <a:xfrm>
              <a:off x="7404480" y="326124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6" name="Oval 58"/>
            <p:cNvSpPr/>
            <p:nvPr/>
          </p:nvSpPr>
          <p:spPr>
            <a:xfrm>
              <a:off x="6923520" y="326124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7" name="Oval 59"/>
            <p:cNvSpPr/>
            <p:nvPr/>
          </p:nvSpPr>
          <p:spPr>
            <a:xfrm>
              <a:off x="6683040" y="326124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8" name="Oval 60"/>
            <p:cNvSpPr/>
            <p:nvPr/>
          </p:nvSpPr>
          <p:spPr>
            <a:xfrm>
              <a:off x="6442560" y="3261240"/>
              <a:ext cx="215640" cy="215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9" name="Text Box 62"/>
          <p:cNvSpPr/>
          <p:nvPr/>
        </p:nvSpPr>
        <p:spPr>
          <a:xfrm>
            <a:off x="1386000" y="34909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圈了（   ）组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剩下（   ）个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Text Box 63"/>
          <p:cNvSpPr/>
          <p:nvPr/>
        </p:nvSpPr>
        <p:spPr>
          <a:xfrm>
            <a:off x="5251320" y="349092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圈了（   ）组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剩下（   ）个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Text Box 64"/>
          <p:cNvSpPr/>
          <p:nvPr/>
        </p:nvSpPr>
        <p:spPr>
          <a:xfrm>
            <a:off x="677880" y="4437000"/>
            <a:ext cx="41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÷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   （组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个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Rectangle 65"/>
          <p:cNvSpPr/>
          <p:nvPr/>
        </p:nvSpPr>
        <p:spPr>
          <a:xfrm>
            <a:off x="1762200" y="449892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Rectangle 66"/>
          <p:cNvSpPr/>
          <p:nvPr/>
        </p:nvSpPr>
        <p:spPr>
          <a:xfrm>
            <a:off x="3471840" y="449892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 Box 67"/>
          <p:cNvSpPr/>
          <p:nvPr/>
        </p:nvSpPr>
        <p:spPr>
          <a:xfrm>
            <a:off x="4714920" y="44370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÷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   （组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个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Rectangle 68"/>
          <p:cNvSpPr/>
          <p:nvPr/>
        </p:nvSpPr>
        <p:spPr>
          <a:xfrm>
            <a:off x="5799240" y="4500720"/>
            <a:ext cx="360360" cy="3618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Rectangle 69"/>
          <p:cNvSpPr/>
          <p:nvPr/>
        </p:nvSpPr>
        <p:spPr>
          <a:xfrm>
            <a:off x="7478640" y="450072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7"/>
          <p:cNvGrpSpPr/>
          <p:nvPr/>
        </p:nvGrpSpPr>
        <p:grpSpPr>
          <a:xfrm>
            <a:off x="5018040" y="5589720"/>
            <a:ext cx="2160720" cy="459720"/>
            <a:chOff x="5018040" y="5589720"/>
            <a:chExt cx="2160720" cy="459720"/>
          </a:xfrm>
        </p:grpSpPr>
        <p:sp>
          <p:nvSpPr>
            <p:cNvPr id="208" name="Text Box 16"/>
            <p:cNvSpPr/>
            <p:nvPr/>
          </p:nvSpPr>
          <p:spPr>
            <a:xfrm>
              <a:off x="5018040" y="5589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余数    除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9" name="Oval 26"/>
            <p:cNvSpPr/>
            <p:nvPr/>
          </p:nvSpPr>
          <p:spPr>
            <a:xfrm>
              <a:off x="5681520" y="5648400"/>
              <a:ext cx="360360" cy="36036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对比观察，理解关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519120" y="1547640"/>
            <a:ext cx="82296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一）初步理解余数与除数的关系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203640" y="220356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根小棒，你能摆几个这样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正方形？请你动手摆一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992400" y="3089880"/>
            <a:ext cx="51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能用除法算式表示你摆的意思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992400" y="361044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如果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根小棒来摆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992400" y="413136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1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根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根呢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92400" y="4651200"/>
            <a:ext cx="47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余数和谁有很密切的关系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是什么关系？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754520" y="556956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9" name="Picture 10" descr=""/>
          <p:cNvPicPr/>
          <p:nvPr/>
        </p:nvPicPr>
        <p:blipFill>
          <a:blip r:embed="rId2"/>
          <a:stretch/>
        </p:blipFill>
        <p:spPr>
          <a:xfrm>
            <a:off x="611280" y="2174760"/>
            <a:ext cx="3306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391240" cy="6296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对比观察，理解关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519120" y="1547640"/>
            <a:ext cx="82296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二）活动思考，加深理解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68360" y="4023360"/>
            <a:ext cx="77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一读，说一说你知道了什么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235160" y="4586400"/>
            <a:ext cx="68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怎么想的？和同伴说一说，也可以摆一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证明自己的想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7" name="组合 1"/>
          <p:cNvGrpSpPr/>
          <p:nvPr/>
        </p:nvGrpSpPr>
        <p:grpSpPr>
          <a:xfrm>
            <a:off x="1238400" y="2400480"/>
            <a:ext cx="7149960" cy="1069560"/>
            <a:chOff x="1238400" y="2400480"/>
            <a:chExt cx="7149960" cy="1069560"/>
          </a:xfrm>
        </p:grpSpPr>
        <p:sp>
          <p:nvSpPr>
            <p:cNvPr id="228" name="Text Box 11"/>
            <p:cNvSpPr/>
            <p:nvPr/>
          </p:nvSpPr>
          <p:spPr>
            <a:xfrm>
              <a:off x="1238400" y="2425680"/>
              <a:ext cx="714996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用一堆小棒摆    。如果有剩余，可能会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剩几根小棒？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29" name="Picture 13" descr="未标题-014"/>
            <p:cNvPicPr/>
            <p:nvPr/>
          </p:nvPicPr>
          <p:blipFill>
            <a:blip r:embed="rId2"/>
            <a:srcRect l="80536" t="51151" r="-37" b="0"/>
            <a:stretch/>
          </p:blipFill>
          <p:spPr>
            <a:xfrm>
              <a:off x="4075200" y="2400480"/>
              <a:ext cx="576000" cy="55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Group 13"/>
          <p:cNvGrpSpPr/>
          <p:nvPr/>
        </p:nvGrpSpPr>
        <p:grpSpPr>
          <a:xfrm>
            <a:off x="1235160" y="5515200"/>
            <a:ext cx="6481800" cy="459720"/>
            <a:chOff x="1235160" y="5515200"/>
            <a:chExt cx="6481800" cy="459720"/>
          </a:xfrm>
        </p:grpSpPr>
        <p:sp>
          <p:nvSpPr>
            <p:cNvPr id="231" name="Rectangle 3"/>
            <p:cNvSpPr/>
            <p:nvPr/>
          </p:nvSpPr>
          <p:spPr>
            <a:xfrm>
              <a:off x="1235160" y="5515200"/>
              <a:ext cx="648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.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如果用这些小棒摆    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32" name="Picture 12" descr=""/>
            <p:cNvPicPr/>
            <p:nvPr/>
          </p:nvPicPr>
          <p:blipFill>
            <a:blip r:embed="rId3"/>
            <a:stretch/>
          </p:blipFill>
          <p:spPr>
            <a:xfrm>
              <a:off x="4510080" y="5562360"/>
              <a:ext cx="338400" cy="38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760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矩形 6"/>
          <p:cNvSpPr/>
          <p:nvPr/>
        </p:nvSpPr>
        <p:spPr>
          <a:xfrm>
            <a:off x="795240" y="2523960"/>
            <a:ext cx="796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观看动画，引出活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118040" y="5936040"/>
            <a:ext cx="47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这些同学在做什么呢？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3" name="Picture 10" descr=""/>
          <p:cNvPicPr/>
          <p:nvPr/>
        </p:nvPicPr>
        <p:blipFill>
          <a:blip r:embed="rId2"/>
          <a:stretch/>
        </p:blipFill>
        <p:spPr>
          <a:xfrm>
            <a:off x="798480" y="1542960"/>
            <a:ext cx="373536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3818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摆一摆，比较感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519120" y="1547640"/>
            <a:ext cx="70772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一）摆一摆，回顾除法意义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71640" y="5058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一读，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763640" y="5490000"/>
            <a:ext cx="58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摆一摆，说一说你是怎样做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763640" y="59234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能把摆的过程用算式表示出来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1" name="组合 1"/>
          <p:cNvGrpSpPr/>
          <p:nvPr/>
        </p:nvGrpSpPr>
        <p:grpSpPr>
          <a:xfrm>
            <a:off x="1763640" y="2205000"/>
            <a:ext cx="4824360" cy="504720"/>
            <a:chOff x="1763640" y="2205000"/>
            <a:chExt cx="4824360" cy="504720"/>
          </a:xfrm>
        </p:grpSpPr>
        <p:sp>
          <p:nvSpPr>
            <p:cNvPr id="92" name="Text Box 12"/>
            <p:cNvSpPr/>
            <p:nvPr/>
          </p:nvSpPr>
          <p:spPr>
            <a:xfrm>
              <a:off x="1763640" y="2233440"/>
              <a:ext cx="48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把下面这些    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摆一盘，摆一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3" name="Picture 20" descr="未标题-8"/>
            <p:cNvPicPr/>
            <p:nvPr/>
          </p:nvPicPr>
          <p:blipFill>
            <a:blip r:embed="rId2"/>
            <a:srcRect l="3391" t="13329" r="83092" b="34908"/>
            <a:stretch/>
          </p:blipFill>
          <p:spPr>
            <a:xfrm>
              <a:off x="3130560" y="2205000"/>
              <a:ext cx="5047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22"/>
          <p:cNvGrpSpPr/>
          <p:nvPr/>
        </p:nvGrpSpPr>
        <p:grpSpPr>
          <a:xfrm>
            <a:off x="1906560" y="2944800"/>
            <a:ext cx="4176720" cy="1779480"/>
            <a:chOff x="1906560" y="2944800"/>
            <a:chExt cx="4176720" cy="1779480"/>
          </a:xfrm>
        </p:grpSpPr>
        <p:pic>
          <p:nvPicPr>
            <p:cNvPr id="95" name="Picture 16" descr="未标题-8"/>
            <p:cNvPicPr/>
            <p:nvPr/>
          </p:nvPicPr>
          <p:blipFill>
            <a:blip r:embed="rId3"/>
            <a:srcRect l="0" t="13329" r="0" b="37133"/>
            <a:stretch/>
          </p:blipFill>
          <p:spPr>
            <a:xfrm>
              <a:off x="1906560" y="2944800"/>
              <a:ext cx="4176720" cy="5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9" descr="未标题-10"/>
            <p:cNvPicPr/>
            <p:nvPr/>
          </p:nvPicPr>
          <p:blipFill>
            <a:blip r:embed="rId4"/>
            <a:srcRect l="0" t="0" r="0" b="2403"/>
            <a:stretch/>
          </p:blipFill>
          <p:spPr>
            <a:xfrm>
              <a:off x="1979640" y="4168800"/>
              <a:ext cx="395928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21" descr="未标题-11"/>
            <p:cNvPicPr/>
            <p:nvPr/>
          </p:nvPicPr>
          <p:blipFill>
            <a:blip r:embed="rId5"/>
            <a:stretch/>
          </p:blipFill>
          <p:spPr>
            <a:xfrm>
              <a:off x="3779640" y="3521160"/>
              <a:ext cx="42408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Rectangle 19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9999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9999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9999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9999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9999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9999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"/>
          <p:cNvPicPr/>
          <p:nvPr/>
        </p:nvPicPr>
        <p:blipFill>
          <a:blip r:embed="rId2"/>
          <a:stretch/>
        </p:blipFill>
        <p:spPr>
          <a:xfrm>
            <a:off x="347760" y="260280"/>
            <a:ext cx="8410320" cy="6286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763640" y="2599920"/>
            <a:ext cx="504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盘）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40834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个算式什么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566720" y="4582440"/>
            <a:ext cx="52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个意思你还在哪看到了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矩形 11"/>
          <p:cNvSpPr/>
          <p:nvPr/>
        </p:nvSpPr>
        <p:spPr>
          <a:xfrm>
            <a:off x="1566720" y="49608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沟通算式、文字、摆的过程之间的对应关系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摆一摆，比较感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519120" y="1547640"/>
            <a:ext cx="70772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一）摆一摆，回顾除法意义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9999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9999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9999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9999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9999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9999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24000" y="481536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观察，你发现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111320" y="5228280"/>
            <a:ext cx="71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现在你还会摆吗？互相说一说你打算怎样做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109520" y="5679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草莓怎么不摆了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109520" y="6091920"/>
            <a:ext cx="71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能把你的想法用算式表示出来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摆一摆，比较感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519120" y="1547640"/>
            <a:ext cx="82296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二）摆一摆，解决新问题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1542960" y="22384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把下面这些    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摆一盘，摆一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7" name="Group 26"/>
          <p:cNvGrpSpPr/>
          <p:nvPr/>
        </p:nvGrpSpPr>
        <p:grpSpPr>
          <a:xfrm>
            <a:off x="1692360" y="2852640"/>
            <a:ext cx="4680000" cy="1779480"/>
            <a:chOff x="1692360" y="2852640"/>
            <a:chExt cx="4680000" cy="1779480"/>
          </a:xfrm>
        </p:grpSpPr>
        <p:pic>
          <p:nvPicPr>
            <p:cNvPr id="118" name="Picture 20" descr="未标题-12"/>
            <p:cNvPicPr/>
            <p:nvPr/>
          </p:nvPicPr>
          <p:blipFill>
            <a:blip r:embed="rId2"/>
            <a:stretch/>
          </p:blipFill>
          <p:spPr>
            <a:xfrm>
              <a:off x="1692360" y="2852640"/>
              <a:ext cx="4680000" cy="10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3" descr="未标题-10"/>
            <p:cNvPicPr/>
            <p:nvPr/>
          </p:nvPicPr>
          <p:blipFill>
            <a:blip r:embed="rId3"/>
            <a:srcRect l="0" t="0" r="0" b="2403"/>
            <a:stretch/>
          </p:blipFill>
          <p:spPr>
            <a:xfrm>
              <a:off x="1763640" y="4076640"/>
              <a:ext cx="3959280" cy="55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Picture 27" descr="未标题-8"/>
          <p:cNvPicPr/>
          <p:nvPr/>
        </p:nvPicPr>
        <p:blipFill>
          <a:blip r:embed="rId4"/>
          <a:srcRect l="3391" t="13329" r="83092" b="34908"/>
          <a:stretch/>
        </p:blipFill>
        <p:spPr>
          <a:xfrm>
            <a:off x="2916360" y="220500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376200" y="285840"/>
            <a:ext cx="83916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985680" y="421200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个算式什么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矩形 11"/>
          <p:cNvSpPr/>
          <p:nvPr/>
        </p:nvSpPr>
        <p:spPr>
          <a:xfrm>
            <a:off x="1763640" y="51991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沟通算式、文字、摆的过程之间的对应关系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5" name="组合 12"/>
          <p:cNvGrpSpPr/>
          <p:nvPr/>
        </p:nvGrpSpPr>
        <p:grpSpPr>
          <a:xfrm>
            <a:off x="1030320" y="2566080"/>
            <a:ext cx="6335640" cy="679680"/>
            <a:chOff x="1030320" y="2566080"/>
            <a:chExt cx="6335640" cy="679680"/>
          </a:xfrm>
        </p:grpSpPr>
        <p:sp>
          <p:nvSpPr>
            <p:cNvPr id="126" name="Rectangle 3"/>
            <p:cNvSpPr/>
            <p:nvPr/>
          </p:nvSpPr>
          <p:spPr>
            <a:xfrm>
              <a:off x="1030320" y="2567160"/>
              <a:ext cx="63356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（盘）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（个）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7" name="Rectangle 3"/>
            <p:cNvSpPr/>
            <p:nvPr/>
          </p:nvSpPr>
          <p:spPr>
            <a:xfrm>
              <a:off x="3695040" y="2566080"/>
              <a:ext cx="25200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8" name="Rectangle 3"/>
          <p:cNvSpPr/>
          <p:nvPr/>
        </p:nvSpPr>
        <p:spPr>
          <a:xfrm>
            <a:off x="1763640" y="4775760"/>
            <a:ext cx="59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个意思你还在哪看到了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摆一摆，比较感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519120" y="1547640"/>
            <a:ext cx="82296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二）摆一摆，解决新问题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23:58Z</dcterms:modified>
  <cp:revision>339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