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EBC-BCE9-4637-8701-EE43A819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562-AA78-428B-92B4-125175EA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EFF-1162-45D2-B538-2ECAF3A6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7DB1-FC09-438E-93F0-7C1744E1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A65-1F07-4C08-9B59-10235692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4F4-F91D-409B-96A6-3DEA2285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326-C0F1-469E-95B4-7650292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900-6A1B-4E3B-B770-409C33E5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E6E-9913-4265-A65C-71B60F19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D10-47AF-47AA-AAC7-123E46BC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81A-BE99-4F9D-9E35-2B59D59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7ED-857E-4639-86C1-51238ACA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7BA9-22B0-4A61-B3B0-38597E225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7500960" y="1214280"/>
            <a:ext cx="5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行楷繁体"/>
                <a:ea typeface="方正行楷繁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4760" y="3333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中国酒文化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8072280" y="3371760"/>
            <a:ext cx="3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逍遥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91040" y="628956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97F-86F4-4C54-93A3-338E5ABED3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5:37Z</dcterms:modified>
  <cp:revision>3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