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7CA-E407-49BB-AEBA-A98D522C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E40-5A2F-4E6A-8FD2-A05D0C3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8F0-EF91-4060-98EB-1098309A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0B1-6A63-47A2-B6F0-92C8C122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0497-A67F-47EB-AF90-60F969F0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FEC5-8438-41CF-BF97-B981A11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F628-295A-4FCD-AD02-4C41228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57C-4603-4313-99A8-9F2225F5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7214-6BFD-4E70-A214-B88D56F7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289-4B42-4666-8E1A-EC85C11E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4597-1B11-4391-AC74-3786C18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89D-80EB-4532-A05B-5D7A64F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0BEE-652C-40D8-8051-7F6C172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E7B-EFBA-4413-8855-39B9F0E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2E3B-DA31-40AC-8956-8B3D62F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DD60-AED4-4F97-B4A3-974BF255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F5E-7B20-4C79-A67B-1534C4EA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E13-B322-4D9F-B230-5E4987F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EA3-A593-4146-B7DB-EE5E10BC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269-7FB0-45AA-AC7B-BE15690B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FCC-8320-4F0C-A3EA-543F1C74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310-F65D-4424-A426-1F8062A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CAA-6810-4905-B137-93189D2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F42-5E30-49A2-B5A6-204C330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360"/>
            <a:ext cx="9144000" cy="981000"/>
            <a:chOff x="0" y="-360"/>
            <a:chExt cx="9144000" cy="981000"/>
          </a:xfrm>
        </p:grpSpPr>
        <p:pic>
          <p:nvPicPr>
            <p:cNvPr id="1" name="Picture 3" descr="0142"/>
            <p:cNvPicPr/>
            <p:nvPr/>
          </p:nvPicPr>
          <p:blipFill>
            <a:blip r:embed="rId2"/>
            <a:stretch/>
          </p:blipFill>
          <p:spPr>
            <a:xfrm rot="10800000">
              <a:off x="0" y="-360"/>
              <a:ext cx="91440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142"/>
            <p:cNvPicPr/>
            <p:nvPr/>
          </p:nvPicPr>
          <p:blipFill>
            <a:blip r:embed="rId3"/>
            <a:stretch/>
          </p:blipFill>
          <p:spPr>
            <a:xfrm>
              <a:off x="0" y="917640"/>
              <a:ext cx="9144000" cy="6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AB6-1512-46CE-8A67-5461ED58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966960" y="1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23"/>
          <p:cNvPicPr/>
          <p:nvPr/>
        </p:nvPicPr>
        <p:blipFill>
          <a:blip r:embed="rId4"/>
          <a:stretch/>
        </p:blipFill>
        <p:spPr>
          <a:xfrm>
            <a:off x="163440" y="165240"/>
            <a:ext cx="577800" cy="536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0142"/>
          <p:cNvPicPr/>
          <p:nvPr/>
        </p:nvPicPr>
        <p:blipFill>
          <a:blip r:embed="rId3"/>
          <a:stretch/>
        </p:blipFill>
        <p:spPr>
          <a:xfrm>
            <a:off x="0" y="5457960"/>
            <a:ext cx="914400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0143"/>
          <p:cNvPicPr/>
          <p:nvPr/>
        </p:nvPicPr>
        <p:blipFill>
          <a:blip r:embed="rId4"/>
          <a:stretch/>
        </p:blipFill>
        <p:spPr>
          <a:xfrm>
            <a:off x="4168800" y="115920"/>
            <a:ext cx="4975200" cy="589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23"/>
          <p:cNvPicPr/>
          <p:nvPr/>
        </p:nvPicPr>
        <p:blipFill>
          <a:blip r:embed="rId5"/>
          <a:stretch/>
        </p:blipFill>
        <p:spPr>
          <a:xfrm>
            <a:off x="7740720" y="260280"/>
            <a:ext cx="1150920" cy="107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C6E5-654A-4FDA-B798-2DFFB65C7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655308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35480" y="249228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中石油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4581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0F6-0274-4A51-829B-AC2BAE0077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rdArt 4" descr=""/>
          <p:cNvPicPr/>
          <p:nvPr/>
        </p:nvPicPr>
        <p:blipFill>
          <a:blip r:embed="rId1"/>
          <a:stretch/>
        </p:blipFill>
        <p:spPr>
          <a:xfrm>
            <a:off x="2152800" y="2146320"/>
            <a:ext cx="4802040" cy="1773360"/>
          </a:xfrm>
          <a:prstGeom prst="rect">
            <a:avLst/>
          </a:prstGeom>
          <a:ln w="0">
            <a:noFill/>
          </a:ln>
        </p:spPr>
      </p:pic>
      <p:sp>
        <p:nvSpPr>
          <p:cNvPr id="99" name="矩形 3"/>
          <p:cNvSpPr/>
          <p:nvPr/>
        </p:nvSpPr>
        <p:spPr>
          <a:xfrm>
            <a:off x="5364000" y="54936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1:58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0:37Z</dcterms:modified>
  <cp:revision>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