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7E1-5311-4EF0-AEE5-EE13F6BD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2AD-643A-45C2-BA20-743CB98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C2F-8EFF-4BF2-9248-FD91B684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277-8013-4CE5-A328-14959AE9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D95-48CE-4194-BE52-51B3332D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A32-9515-449E-AA7C-0275A743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7E7-309E-4A79-AD62-4839BBE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FCF-09DC-440F-AF1C-A15FD11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F8C-0D1E-44D2-BB1A-875B3DA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F1-B633-4181-AFCF-93A1234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B36-ADBA-4026-B931-8E1F994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D25-8575-491C-A7BF-DA5EAA4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045-2C73-4EE2-B1CF-423C2DBDA0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99A-247F-44DD-BFA0-9E64307299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4259880" y="6505560"/>
            <a:ext cx="107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浪微博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敌的面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2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df3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-19080" y="3706920"/>
            <a:ext cx="9182160" cy="3062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-19080" y="3789360"/>
            <a:ext cx="9177480" cy="3095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400" y="4343400"/>
            <a:ext cx="8929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安全生产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完整版在线下载</a:t>
            </a:r>
            <a:endParaRPr b="1" lang="en-US" sz="4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0" y="1952640"/>
            <a:ext cx="680400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标题 1"/>
          <p:cNvSpPr/>
          <p:nvPr/>
        </p:nvSpPr>
        <p:spPr>
          <a:xfrm>
            <a:off x="144360" y="1952640"/>
            <a:ext cx="64436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法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公司安全生产管理各项工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459640" y="1952640"/>
            <a:ext cx="62712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508720" y="1389240"/>
            <a:ext cx="1201680" cy="112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yesight"/>
          <p:cNvPicPr/>
          <p:nvPr/>
        </p:nvPicPr>
        <p:blipFill>
          <a:blip r:embed="rId2"/>
          <a:srcRect l="29449" t="0" r="0" b="0"/>
          <a:stretch/>
        </p:blipFill>
        <p:spPr>
          <a:xfrm>
            <a:off x="6877080" y="1952640"/>
            <a:ext cx="1519200" cy="1692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579-653A-4A64-9DBB-2554DF83BC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1892160" y="5877000"/>
            <a:ext cx="37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安全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2413080" y="2276640"/>
            <a:ext cx="675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3840" y="1917720"/>
            <a:ext cx="202392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E2B-451E-4305-BB9F-F2657ACFB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d8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6A5-6A6C-46BA-846B-C9A64820B9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​​ 27"/>
          <p:cNvSpPr/>
          <p:nvPr/>
        </p:nvSpPr>
        <p:spPr>
          <a:xfrm>
            <a:off x="1476360" y="1643040"/>
            <a:ext cx="6264360" cy="2376360"/>
          </a:xfrm>
          <a:prstGeom prst="rect">
            <a:avLst/>
          </a:prstGeom>
          <a:solidFill>
            <a:srgbClr val="f2f2f2"/>
          </a:solidFill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​​ 6"/>
          <p:cNvSpPr/>
          <p:nvPr/>
        </p:nvSpPr>
        <p:spPr>
          <a:xfrm>
            <a:off x="0" y="48830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7"/>
          <p:cNvSpPr/>
          <p:nvPr/>
        </p:nvSpPr>
        <p:spPr>
          <a:xfrm>
            <a:off x="263520" y="4867200"/>
            <a:ext cx="873000" cy="14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​​ 9"/>
          <p:cNvSpPr/>
          <p:nvPr/>
        </p:nvSpPr>
        <p:spPr>
          <a:xfrm>
            <a:off x="250920" y="4832280"/>
            <a:ext cx="144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​​ 10"/>
          <p:cNvSpPr/>
          <p:nvPr/>
        </p:nvSpPr>
        <p:spPr>
          <a:xfrm>
            <a:off x="2022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​​ 11"/>
          <p:cNvSpPr/>
          <p:nvPr/>
        </p:nvSpPr>
        <p:spPr>
          <a:xfrm>
            <a:off x="113652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​​ 12"/>
          <p:cNvSpPr/>
          <p:nvPr/>
        </p:nvSpPr>
        <p:spPr>
          <a:xfrm>
            <a:off x="2895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​​ 13"/>
          <p:cNvSpPr/>
          <p:nvPr/>
        </p:nvSpPr>
        <p:spPr>
          <a:xfrm>
            <a:off x="376884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​​ 14"/>
          <p:cNvSpPr/>
          <p:nvPr/>
        </p:nvSpPr>
        <p:spPr>
          <a:xfrm>
            <a:off x="464184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4723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1357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237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3110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3983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606680" y="2325600"/>
            <a:ext cx="61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本公司安全生产工作负组织领导和综合监督管理领导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​​ 14"/>
          <p:cNvSpPr/>
          <p:nvPr/>
        </p:nvSpPr>
        <p:spPr>
          <a:xfrm>
            <a:off x="552780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486324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​​ 14"/>
          <p:cNvSpPr/>
          <p:nvPr/>
        </p:nvSpPr>
        <p:spPr>
          <a:xfrm>
            <a:off x="641340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74920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​​ 14"/>
          <p:cNvSpPr/>
          <p:nvPr/>
        </p:nvSpPr>
        <p:spPr>
          <a:xfrm>
            <a:off x="729756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66333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​​ 14"/>
          <p:cNvSpPr/>
          <p:nvPr/>
        </p:nvSpPr>
        <p:spPr>
          <a:xfrm>
            <a:off x="818352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75189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​​ 14"/>
          <p:cNvSpPr/>
          <p:nvPr/>
        </p:nvSpPr>
        <p:spPr>
          <a:xfrm>
            <a:off x="9069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8404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2D9-4524-4609-8681-6B3463076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2081520" y="587700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其他分管领导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771640" y="765000"/>
            <a:ext cx="64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9280" y="1611360"/>
            <a:ext cx="2457720" cy="33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A6A-9319-4F45-9235-9B0552EB74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0"/>
          <p:cNvSpPr/>
          <p:nvPr/>
        </p:nvSpPr>
        <p:spPr>
          <a:xfrm>
            <a:off x="1322280" y="2795760"/>
            <a:ext cx="649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对各自分管工作范围内的安全生产工作负直接领导责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42F-94A7-4DAC-92F4-6E22EE4C0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3086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DE1-A579-4B12-BC4E-810085D28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r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A83-9F61-4D9A-BC99-7047E0FBAC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-19080" y="3706920"/>
            <a:ext cx="9182160" cy="3062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-19080" y="3789360"/>
            <a:ext cx="9177480" cy="3095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400" y="4343040"/>
            <a:ext cx="89298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微软雅黑"/>
              </a:rPr>
              <a:t>谢  谢</a:t>
            </a:r>
            <a:endParaRPr b="1" lang="en-US" sz="12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EB6-5403-471D-A587-7B27B7C824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9"/>
          <p:cNvSpPr/>
          <p:nvPr/>
        </p:nvSpPr>
        <p:spPr>
          <a:xfrm>
            <a:off x="431640" y="590220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董事长、总裁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5352840" y="1484280"/>
            <a:ext cx="9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二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三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四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五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六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7" descr=""/>
          <p:cNvPicPr/>
          <p:nvPr/>
        </p:nvPicPr>
        <p:blipFill>
          <a:blip r:embed="rId1"/>
          <a:stretch/>
        </p:blipFill>
        <p:spPr>
          <a:xfrm>
            <a:off x="285840" y="1797120"/>
            <a:ext cx="2857320" cy="27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D99-A444-47AB-A592-91F5666FE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4"/>
          <p:cNvGrpSpPr/>
          <p:nvPr/>
        </p:nvGrpSpPr>
        <p:grpSpPr>
          <a:xfrm>
            <a:off x="395280" y="2370240"/>
            <a:ext cx="3889440" cy="2325600"/>
            <a:chOff x="395280" y="2370240"/>
            <a:chExt cx="3889440" cy="2325600"/>
          </a:xfrm>
        </p:grpSpPr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442240"/>
              <a:ext cx="2442600" cy="22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3"/>
            <p:cNvSpPr/>
            <p:nvPr/>
          </p:nvSpPr>
          <p:spPr>
            <a:xfrm>
              <a:off x="2268000" y="2370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5"/>
            <p:cNvSpPr/>
            <p:nvPr/>
          </p:nvSpPr>
          <p:spPr>
            <a:xfrm>
              <a:off x="2628000" y="2802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6"/>
            <p:cNvSpPr/>
            <p:nvPr/>
          </p:nvSpPr>
          <p:spPr>
            <a:xfrm>
              <a:off x="2772360" y="338436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8"/>
          <p:cNvSpPr/>
          <p:nvPr/>
        </p:nvSpPr>
        <p:spPr>
          <a:xfrm>
            <a:off x="2879640" y="1628640"/>
            <a:ext cx="61214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安全生产管理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864-F8EF-4FBE-B5D9-61EE290ED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879640" y="1628640"/>
            <a:ext cx="6121440" cy="64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01480" y="2708280"/>
            <a:ext cx="2926080" cy="2612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31E-4D70-4317-ABFD-04B6BF8F1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805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集团安全生产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</a:rPr>
              <a:t>十大职责</a:t>
            </a:r>
            <a:endParaRPr b="1" lang="en-US" sz="44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24120" y="1052280"/>
            <a:ext cx="554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</a:rPr>
              <a:t>xxxxxxxxxxxxxxxxxxxxxxxxxxxxxxxxxxx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317808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76A-85D5-4BB8-9C2D-1805683F2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295200" y="2421000"/>
            <a:ext cx="866952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5820" t="3695" r="5823" b="0"/>
          <a:stretch/>
        </p:blipFill>
        <p:spPr>
          <a:xfrm>
            <a:off x="250920" y="1339920"/>
            <a:ext cx="8669160" cy="247644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295200" y="2421000"/>
            <a:ext cx="8669520" cy="82512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0000"/>
                </a:solidFill>
                <a:latin typeface="微软雅黑"/>
                <a:ea typeface="微软雅黑"/>
              </a:rPr>
              <a:t>依法履行安全生产监督职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433-B1B4-44BA-9CB8-5EF5D01AD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773360"/>
            <a:ext cx="8669520" cy="255744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978-0658-4B7F-808D-645B07DF3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2360" y="1643040"/>
            <a:ext cx="8612280" cy="2556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E10-F8CE-41C6-91EA-A900FA9BE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833480" cy="18334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2009520" y="580536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董事长总经理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03640" y="1123920"/>
            <a:ext cx="629928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</a:rPr>
              <a:t>XXXXXXXXXXXXXXXXXXXXX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928-8BE4-42AC-B06E-66FB7F5A4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3:3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