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CAD5-5061-4DC7-A98C-7189B53B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5FC2-8040-4CB2-AD98-0D84882B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D561-5956-4C19-8353-40EE7183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226-4DD3-4AE9-B126-0CC3AE25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CDB7-59A7-4553-BCB1-1049CA95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6A80-ADA5-4B23-B267-D11637F9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E7FF-CFDA-4F80-A86D-0DCEABF1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5090-104D-44AD-9D0D-8B7F5C8A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D6A-9337-4C23-9BBB-43F8CF12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3F0-88DB-43EA-B780-BD542610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F9D0-B10A-4A1B-AD53-8F06790D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09B7-8031-4752-A6A9-59844DE0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2884-15EE-4DA7-BB33-1C48D9F96E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072040" y="1015920"/>
            <a:ext cx="528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6840" y="50846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爱心标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"/>
          <p:cNvSpPr/>
          <p:nvPr/>
        </p:nvSpPr>
        <p:spPr>
          <a:xfrm>
            <a:off x="5904360" y="500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"/>
          <p:cNvSpPr/>
          <p:nvPr/>
        </p:nvSpPr>
        <p:spPr>
          <a:xfrm>
            <a:off x="9259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39978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72126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2831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585504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5936760" y="690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9"/>
          <p:cNvSpPr/>
          <p:nvPr/>
        </p:nvSpPr>
        <p:spPr>
          <a:xfrm>
            <a:off x="40708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5855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20689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623736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586512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26406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211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58550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2120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579384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1857240" y="3786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32119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299772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57837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5426640" y="564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7C5C-7990-41E4-BACA-1501D8BE9C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6008040" y="642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2928960" y="4572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41407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56408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5936760" y="642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3926520" y="564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24976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9266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21405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8720" y="63817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7:38:27Z</dcterms:modified>
  <cp:revision>4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