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BF2C6-9318-47E3-A855-36F93BB3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09AF0-656F-4451-869D-6952C392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4D636-9BA3-499F-B32B-363C1AC1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B8336-280B-4263-B9F9-6E35247A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0352-0BFA-42DB-ACBD-D3C1A3F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B0D8-6E48-49EA-888D-BC5FF888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59DA-6656-4AB3-97B5-63494C61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E3A57-9D64-4B6F-A5FB-53E3997D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4721F-5524-4051-809C-C9E9FB45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76D3-AEA6-4FA2-A468-206FF3F4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5DCAB-7539-47C9-9E16-F56AB3D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42294-3E43-4F9D-9AEF-46FE8724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AD525-7211-4713-92BF-75BD8D9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0C177-AEE1-47E9-A735-C086CD4D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E2605-5479-46CE-B5D4-58C9F786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B245F-7237-4D8C-95B4-3E431F52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D7653-E778-4320-B431-1BE7550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A0B2E-AE79-4D87-94A1-017DDFC7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87DD7-8B4A-443D-B5AF-09CD7446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7105F-19F9-4A17-BCD5-E5B69CB2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F765A-5BEF-4DEF-8589-918D2E69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A2A8A-11B4-4129-BE85-B19C03E7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07323-4608-454E-95C3-27074E3A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7B4F3-3574-4563-9A24-4686DDAB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09F8D-657A-471A-BAA8-DB7BDAC1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D4DF0-9159-4C78-AD9C-4BC47107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E9160-A29E-492E-A2E9-09100864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E2D37-EEAA-47DA-B76F-AB194D0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ECF38-304B-475A-AAC3-8B0CA74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A4E76-FF17-4F3E-A1CE-F049931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E2D-EDE3-4B19-900D-9F8CD2A4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D24B8-6076-4FD6-9C4C-06B80957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A711E-735E-47C9-8917-734EEC0D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F8604-F1EB-491E-B5CD-A68B8309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3EA2B-77AC-42E7-9187-253BA259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5CE52-96DD-4226-A3D0-B234B03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65569-4D1C-4334-BB79-09B33E66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22DA3-3C6F-45A3-B17C-828DA1A0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DADB1-E8DF-4425-89EC-C92FFA63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C83F6-30FE-45EA-8DBE-53636E9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220C7-DAAC-4DA6-8160-CEAC8605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3A8-45ED-4D80-A0D0-B41C3805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0AFBA-6F98-460C-ACCD-1322B1E3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C6ED1-4A1A-472A-BD3E-4ACAA6D6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6676C-15D0-4FCA-8DA0-DE075C6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762FD-B7B0-43F4-875E-441450E1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3C18D-5EF4-4382-AF4D-D8D4C31A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36998-B02B-432E-81E8-28818BFD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9DFCD-68C5-4B6F-AB74-ED779E62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6B9BB-0CB0-4044-92D8-661CB291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B58A1-E2A9-41F4-946F-55DA737D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A506A-688C-4CAE-8F34-C30DCC5F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8BE-F029-44C7-9B58-85230C22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1526C-A733-4F38-8429-12BD766E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AC8B6-905A-40E2-AC31-49CAB605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7F819-EDF2-4918-9280-1C44C97C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3D58C-F70B-4FCA-91CA-5FB68272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9C140-D72F-4ACF-BE4D-E43C27F4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C8F5F-50C9-4241-950A-6194AE20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AAE94-0B74-42CB-B809-9B3494B9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F6852-F054-4165-BD7B-8CC9BE9D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4BAE8-B3E4-48B0-B0BD-735DA561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94757-288D-4D76-9813-36FBF0F3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E88-AAD7-4F7E-B1C8-BD4A1617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692CC-25B6-45AC-ACAD-46B292AD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2D404-4445-4E85-85F6-3D653023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3F009-DF1B-4FEE-8009-5DE81A16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065B0-EC01-4F20-89FC-38DB4FE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7CD09-C596-459A-B97B-D0C568A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7646C-A63E-450B-9753-582909C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69D0F-3DD8-4902-8942-751864DA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D1AA5-C0E6-4A4B-8BC2-FC21EB77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7E92C-A34E-4481-AA4E-9C292DED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311-44AC-49F6-972C-712E23B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E11-5DA5-430D-81A6-066263AB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236-41F2-432F-8113-3BF99E3F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F49-548B-410E-9B00-8616CC5A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E83-3F62-4C02-8407-3FF19A81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50A-2E3B-407C-9A63-D24C4321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BA0-B143-4D22-8F5E-5EEFD6E9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D4E-11C1-43B9-A3DD-ED00AB0A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E6AA-B050-49B1-ACF7-5E064F2C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4121-7D75-4671-AB06-80692D2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FEE1-AF00-4C17-9FFC-FAE009AD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BB1E-4D40-4340-A934-79ED99EC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C36A-DFA7-4D64-B22B-C7733108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E3F5-1088-4ABE-96EC-3292B210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F2B6-C50C-4AD4-89A4-5B13FBA2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B1E5-7CC2-4A74-80BA-9C6A97A8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18A5-D902-4DE3-BACC-3825BA65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5DA5-6F42-43E2-B7DB-ECA5FCC3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9046-D094-470A-AF66-E718141C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D7A8-21B4-44BA-8CB4-B4F0141D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2761-68DE-4E7F-B1C6-E158FEFB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34DB-776A-42B1-9BE7-A96F9D93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88BC-B4F9-489B-B038-D50C0474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CBAD-077E-4136-8097-731BA058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7659-8A23-43F4-86DB-5B6E2F01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A129-40CC-48D9-9CF5-5772086B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C423-BA23-49A4-BEAC-EC2986A0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1801-424E-4CBA-AB30-B35968D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D5A0-3E38-4E3E-92BB-BDDB0822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8694-0B5A-4E8A-8810-DF50FAB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18738-9CDD-4B9F-95A0-B0059EEB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1B212-FE21-4050-8A36-8441508C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048A-4014-4A47-A26D-621C2AAE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E85A-DF93-4C2C-BC88-FB7440A6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4508-C9EE-43D8-B36A-FAAA2C5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366F-EBD7-4529-8DD5-BEBF9EF9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4673-3DF3-4CF3-ACDC-206264B5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01CB-04B0-4857-BBD6-2F36F36F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2905-E514-415D-A4FB-ED38BCD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8EAEB-F953-48B0-8F0C-A2CB210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B817-4CCE-419B-B605-6DB2842D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98AA5-5671-484C-BEA7-C47CDB1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F567-3929-411A-BED6-65DA3B5D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40DA3-80D9-4041-8B5C-7F055A78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EFE4-1C56-46BB-964E-AF1201AC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B833-F43E-4B39-80BE-1D1AB655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9F865-76B2-4B54-96D9-5912817A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6202F-CD76-473F-8479-DE8464E8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D1742-9849-4C59-BE28-E8E65162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0B878-ABF5-49C7-AA93-92422238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DCA9-853E-47D2-8175-768AC16F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D8B3-B115-475C-916E-C3521C67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6A97C-C3F5-4838-8372-FAE2A26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21319-5558-4D91-82D9-0323845C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A978-6453-4DC3-8D89-26F1E7B8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7338D-0643-4AE5-9BE5-4E883453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CBAAA-59AC-42B9-B6A1-F450A08A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A5CED-7CF6-4B97-A424-8E66A501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9B0F8-AA44-4503-87B8-56F197FC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77354-2565-4D1B-B676-91A30517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691D5-6D5E-40E0-8A07-27629DD4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79C1E-98B2-4F60-86EA-EC1B3266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98914-D667-4CA8-849F-4C62BA65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CCE58-21D4-4495-AE8D-8C2DA894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56CF-790A-4CF6-A32F-8F31A9A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296F-235E-4D50-8D2E-5660DD0C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25D59-3C09-4F25-AF69-9D7CBAE5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CEC02-EC70-4CFC-869D-4E77588D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75E90-EF15-413E-9F3C-41EB2B5D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78D73-83B3-4001-A405-7580C0C2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365B-37DD-4494-A0C3-0E70F8F6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87240" y="685800"/>
            <a:ext cx="7769520" cy="5486400"/>
          </a:xfrm>
          <a:prstGeom prst="rect">
            <a:avLst/>
          </a:prstGeom>
          <a:solidFill>
            <a:srgbClr val="fcee9d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14400" y="914400"/>
            <a:ext cx="7313760" cy="50277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kindergarten_diploma"/>
          <p:cNvPicPr/>
          <p:nvPr/>
        </p:nvPicPr>
        <p:blipFill>
          <a:blip r:embed="rId2"/>
          <a:stretch/>
        </p:blipFill>
        <p:spPr>
          <a:xfrm>
            <a:off x="4680" y="42840"/>
            <a:ext cx="9134640" cy="677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7BEE-7F73-4F20-B0D1-FFA3FF1D4FD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B6AA-D769-4C46-8AFF-0DEB844AD2E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34B3-AD70-41FD-8C86-CC3375F8C9F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4BF-1A65-4C96-8CCC-9EB9443E09D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9AB-8B62-4196-BCB2-026BA02E88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5315-5E99-4E1E-A9A1-2606E1BD62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7240" y="685800"/>
            <a:ext cx="7769520" cy="5486400"/>
          </a:xfrm>
          <a:prstGeom prst="rect">
            <a:avLst/>
          </a:prstGeom>
          <a:solidFill>
            <a:srgbClr val="fcee9d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14400" y="914400"/>
            <a:ext cx="7313760" cy="5027760"/>
          </a:xfrm>
          <a:prstGeom prst="rect">
            <a:avLst/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kindergarten_diploma"/>
          <p:cNvPicPr/>
          <p:nvPr/>
        </p:nvPicPr>
        <p:blipFill>
          <a:blip r:embed="rId2"/>
          <a:stretch/>
        </p:blipFill>
        <p:spPr>
          <a:xfrm>
            <a:off x="4680" y="42840"/>
            <a:ext cx="9134640" cy="6772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ADD9-6142-48D9-8E8E-ACD8C988BC2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38D1-FE7A-44EA-939B-7A64684BE25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F204-B1CC-46D2-A963-38E21CF6A42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A61E-EABA-4045-8FD7-B52E9454DDD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6D9D-F2CB-439E-B6E4-3F621D7B15F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31D-0DA7-4062-9952-0BBCB76CEA7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5"/>
          <p:cNvSpPr/>
          <p:nvPr/>
        </p:nvSpPr>
        <p:spPr>
          <a:xfrm>
            <a:off x="2987640" y="-19080"/>
            <a:ext cx="76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940040" y="64072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14560" y="12700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边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EFC7D-E399-4A07-81EC-1393C431EB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6:55:0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19:02Z</dcterms:modified>
  <cp:revision>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101130471033</vt:lpwstr>
  </property>
</Properties>
</file>