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362-7E65-4C0F-A4C1-B4242549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694-FFE7-4139-8D6C-2412D152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1ED-2527-416E-8AD5-345AF023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D3E-6073-4B78-9C90-B6B668BE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95B-A367-4F02-9FD2-E655F37D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091-8FE9-4745-BCB2-6531AF3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3C0-C932-4DFE-B5A9-06B7223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9CA-68AD-435E-803A-847D7670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079-672C-4038-8895-1E87F41F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52E-9DDC-40D0-9ADE-A561CF3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46B-ECD6-4F66-8D1C-EC1C4DE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33E-9CE3-4F3A-B069-62A72DC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227B-7FD7-40A2-8099-8428E410E79F}" type="slidenum">
              <a:rPr b="0" lang="zh-CN" sz="4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5080" y="2130120"/>
            <a:ext cx="4894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13280" y="36385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05240" y="18921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比赛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93920" y="1701720"/>
            <a:ext cx="74260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10080"/>
            <a:ext cx="564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8D1-9EB6-4A7D-9C59-3F971BAC55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ckslash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301680" y="559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5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07:02:2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