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80374-F77D-45C8-951D-9E955FFAC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7D5B5-24B4-44D3-812C-08DD7FD01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522BF-1E50-4627-9C88-A89FF7684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48F55-3140-433B-B874-2F7C91CA7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A1A8B-8946-40B3-82F1-52424AB65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2E9F3-6D82-44C4-A69B-9F2B0181F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27A99-9F9E-4DCA-97A2-DA512E2B4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6CABC-97F7-459C-B5D4-BF55B706C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420F7-78B7-47F9-843C-4A59B42DF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63CA3-8794-4F4D-BB34-51D62355A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1EB6B-47BF-4823-8E41-EE1E6F416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AE686-D5D2-4AF4-9EEC-20B521090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055F8-39FC-40E6-8844-6E7A5B632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7BDBD-50B6-4690-98DA-41DCB9B2B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6AE00-0A35-472E-A02A-186EC938C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77D09-61BF-4C14-A52C-19ED1C04D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03E8C-871E-4BFB-BFF9-5F119F97E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4D263-D301-4314-9A01-8A9C5A3DF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0D4AA-7168-4305-BA50-2867A0BD6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FE6C4-8FC1-4E13-863A-B295F6765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C7A20-3099-4DBF-A250-6822FE1A0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52B31-1269-45F5-BBBE-45720B88E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E6594-72F7-4A8D-BB03-14F4E200B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21A5A-C607-4106-9ACF-6E73E1A21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2A0AD-DE6D-4DF4-9604-E30F45ABA31C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5ACDD-4118-4F44-88F3-D1F837E995D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E1BC7-041A-4FF6-8B2C-CA6EA99E2029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80673-5A73-4AF9-8207-64B5750B510C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sucai/" TargetMode="External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2600" y="-810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905200" y="6472080"/>
            <a:ext cx="433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素材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eeppt.com/sucai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494080" y="-8100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饼形图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8673E-1324-4EFF-A500-93BD90AFF00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1T06:19:16Z</dcterms:modified>
  <cp:revision>4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