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F22-A7E9-4990-A3CA-1CE5A857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9CF-27FA-4635-965B-186BD88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81A-D596-4DD7-9AFD-AEE76B6B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139-1EF2-4558-9A89-77D7AB52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1A4-91B6-4066-ACC2-212D0EA1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08D-F9C5-44DA-B040-C8D3A213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E1B-B46A-49F2-AABF-496BD6BB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501-08EA-4793-85B1-69675AC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B02-510B-441F-A7AA-E437605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FCE-3BEB-4C64-9F57-123258C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847-F9DE-406A-8143-042DD07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A8A-0A3C-4DBB-9BFE-E662647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3765-BDFE-4F90-8C61-3F1D29FD715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560-99AE-472C-8D82-7B84FCC124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-2.png"/>
          <p:cNvPicPr/>
          <p:nvPr/>
        </p:nvPicPr>
        <p:blipFill>
          <a:blip r:embed="rId1"/>
          <a:stretch/>
        </p:blipFill>
        <p:spPr>
          <a:xfrm>
            <a:off x="54000" y="-93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8537400" y="539640"/>
            <a:ext cx="432000" cy="889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空心弧 2"/>
          <p:cNvSpPr/>
          <p:nvPr/>
        </p:nvSpPr>
        <p:spPr>
          <a:xfrm flipH="1">
            <a:off x="1871640" y="2013120"/>
            <a:ext cx="4967280" cy="4968720"/>
          </a:xfrm>
          <a:prstGeom prst="blockArc">
            <a:avLst>
              <a:gd name="adj1" fmla="val 14773980"/>
              <a:gd name="adj2" fmla="val 6826020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空心弧 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20583987"/>
              <a:gd name="adj2" fmla="val 1016013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饼形 4"/>
          <p:cNvSpPr/>
          <p:nvPr/>
        </p:nvSpPr>
        <p:spPr>
          <a:xfrm>
            <a:off x="3454560" y="3597120"/>
            <a:ext cx="1800000" cy="180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空心弧 6"/>
          <p:cNvSpPr/>
          <p:nvPr/>
        </p:nvSpPr>
        <p:spPr>
          <a:xfrm>
            <a:off x="1871640" y="2013120"/>
            <a:ext cx="4967280" cy="4968720"/>
          </a:xfrm>
          <a:prstGeom prst="blockArc">
            <a:avLst>
              <a:gd name="adj1" fmla="val 17701956"/>
              <a:gd name="adj2" fmla="val 3898044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空心弧 7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20584592"/>
              <a:gd name="adj2" fmla="val 1015408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空心弧 8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19502848"/>
              <a:gd name="adj2" fmla="val 2097152"/>
              <a:gd name="adj3" fmla="val 1873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空心弧 9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9508684"/>
              <a:gd name="adj2" fmla="val 2091316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空心弧 10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8422064"/>
              <a:gd name="adj2" fmla="val 3177936"/>
              <a:gd name="adj3" fmla="val 188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空心弧 11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7349555"/>
              <a:gd name="adj2" fmla="val 4250445"/>
              <a:gd name="adj3" fmla="val 1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空心弧 12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6262870"/>
              <a:gd name="adj2" fmla="val 5337130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空心弧 1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5179897"/>
              <a:gd name="adj2" fmla="val 6420103"/>
              <a:gd name="adj3" fmla="val 18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空心弧 14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4101612"/>
              <a:gd name="adj2" fmla="val 7498388"/>
              <a:gd name="adj3" fmla="val 1870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空心弧 15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3021930"/>
              <a:gd name="adj2" fmla="val 8578070"/>
              <a:gd name="adj3" fmla="val 1874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6"/>
          <p:cNvSpPr/>
          <p:nvPr/>
        </p:nvSpPr>
        <p:spPr>
          <a:xfrm rot="19320000">
            <a:off x="1950840" y="269388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6"/>
          <p:cNvSpPr/>
          <p:nvPr/>
        </p:nvSpPr>
        <p:spPr>
          <a:xfrm rot="3600000">
            <a:off x="4997520" y="32194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6"/>
          <p:cNvSpPr/>
          <p:nvPr/>
        </p:nvSpPr>
        <p:spPr>
          <a:xfrm>
            <a:off x="3784680" y="3778200"/>
            <a:ext cx="11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5486400" y="25704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饼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50"/>
          <p:cNvGrpSpPr/>
          <p:nvPr/>
        </p:nvGrpSpPr>
        <p:grpSpPr>
          <a:xfrm>
            <a:off x="3481560" y="1571760"/>
            <a:ext cx="671400" cy="1330200"/>
            <a:chOff x="3481560" y="1571760"/>
            <a:chExt cx="671400" cy="1330200"/>
          </a:xfrm>
        </p:grpSpPr>
        <p:sp>
          <p:nvSpPr>
            <p:cNvPr id="61" name="椭圆 47"/>
            <p:cNvSpPr/>
            <p:nvPr/>
          </p:nvSpPr>
          <p:spPr>
            <a:xfrm>
              <a:off x="4027680" y="277668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49"/>
            <p:cNvSpPr/>
            <p:nvPr/>
          </p:nvSpPr>
          <p:spPr>
            <a:xfrm>
              <a:off x="3481560" y="1571760"/>
              <a:ext cx="595440" cy="1204920"/>
            </a:xfrm>
            <a:prstGeom prst="pie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46"/>
          <p:cNvSpPr/>
          <p:nvPr/>
        </p:nvSpPr>
        <p:spPr>
          <a:xfrm>
            <a:off x="1698480" y="1427040"/>
            <a:ext cx="180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55"/>
          <p:cNvGrpSpPr/>
          <p:nvPr/>
        </p:nvGrpSpPr>
        <p:grpSpPr>
          <a:xfrm>
            <a:off x="5780160" y="3308400"/>
            <a:ext cx="1270080" cy="482400"/>
            <a:chOff x="5780160" y="3308400"/>
            <a:chExt cx="1270080" cy="482400"/>
          </a:xfrm>
        </p:grpSpPr>
        <p:sp>
          <p:nvSpPr>
            <p:cNvPr id="65" name="椭圆 53"/>
            <p:cNvSpPr/>
            <p:nvPr/>
          </p:nvSpPr>
          <p:spPr>
            <a:xfrm flipH="1">
              <a:off x="5780160" y="36655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54"/>
            <p:cNvSpPr/>
            <p:nvPr/>
          </p:nvSpPr>
          <p:spPr>
            <a:xfrm flipH="1">
              <a:off x="5898960" y="3308400"/>
              <a:ext cx="1151280" cy="395280"/>
            </a:xfrm>
            <a:prstGeom prst="pie">
              <a:avLst/>
            </a:prstGeom>
            <a:noFill/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146"/>
          <p:cNvSpPr/>
          <p:nvPr/>
        </p:nvSpPr>
        <p:spPr>
          <a:xfrm>
            <a:off x="7024680" y="3151080"/>
            <a:ext cx="15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8"/>
          <p:cNvSpPr/>
          <p:nvPr/>
        </p:nvSpPr>
        <p:spPr>
          <a:xfrm>
            <a:off x="792000" y="5194440"/>
            <a:ext cx="7560000" cy="0"/>
          </a:xfrm>
          <a:prstGeom prst="line">
            <a:avLst/>
          </a:prstGeom>
          <a:ln cap="rnd"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6"/>
          <p:cNvSpPr/>
          <p:nvPr/>
        </p:nvSpPr>
        <p:spPr>
          <a:xfrm>
            <a:off x="757080" y="5230800"/>
            <a:ext cx="46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6"/>
          <p:cNvSpPr/>
          <p:nvPr/>
        </p:nvSpPr>
        <p:spPr>
          <a:xfrm>
            <a:off x="757080" y="48531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360" y="6251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39760" y="65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半圆饼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1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"/>
          <p:cNvSpPr/>
          <p:nvPr/>
        </p:nvSpPr>
        <p:spPr>
          <a:xfrm>
            <a:off x="8513640" y="539640"/>
            <a:ext cx="432000" cy="88920"/>
          </a:xfrm>
          <a:prstGeom prst="rect">
            <a:avLst/>
          </a:prstGeom>
          <a:solidFill>
            <a:srgbClr val="fffff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空心弧 2"/>
          <p:cNvSpPr/>
          <p:nvPr/>
        </p:nvSpPr>
        <p:spPr>
          <a:xfrm flipH="1">
            <a:off x="1871640" y="2013120"/>
            <a:ext cx="4967280" cy="4968720"/>
          </a:xfrm>
          <a:prstGeom prst="blockArc">
            <a:avLst>
              <a:gd name="adj1" fmla="val 14773980"/>
              <a:gd name="adj2" fmla="val 6826020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空心弧 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20583987"/>
              <a:gd name="adj2" fmla="val 1016013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饼形 4"/>
          <p:cNvSpPr/>
          <p:nvPr/>
        </p:nvSpPr>
        <p:spPr>
          <a:xfrm>
            <a:off x="3454560" y="3597120"/>
            <a:ext cx="1800000" cy="180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空心弧 6"/>
          <p:cNvSpPr/>
          <p:nvPr/>
        </p:nvSpPr>
        <p:spPr>
          <a:xfrm>
            <a:off x="1871640" y="2013120"/>
            <a:ext cx="4967280" cy="4968720"/>
          </a:xfrm>
          <a:prstGeom prst="blockArc">
            <a:avLst>
              <a:gd name="adj1" fmla="val 17701956"/>
              <a:gd name="adj2" fmla="val 3898044"/>
              <a:gd name="adj3" fmla="val 1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空心弧 7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20584592"/>
              <a:gd name="adj2" fmla="val 1015408"/>
              <a:gd name="adj3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空心弧 8"/>
          <p:cNvSpPr/>
          <p:nvPr/>
        </p:nvSpPr>
        <p:spPr>
          <a:xfrm>
            <a:off x="2681280" y="2822400"/>
            <a:ext cx="3348000" cy="3348360"/>
          </a:xfrm>
          <a:prstGeom prst="blockArc">
            <a:avLst>
              <a:gd name="adj1" fmla="val 19502848"/>
              <a:gd name="adj2" fmla="val 2097152"/>
              <a:gd name="adj3" fmla="val 1873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空心弧 9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9508684"/>
              <a:gd name="adj2" fmla="val 2091316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空心弧 10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8422064"/>
              <a:gd name="adj2" fmla="val 3177936"/>
              <a:gd name="adj3" fmla="val 188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空心弧 11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7349555"/>
              <a:gd name="adj2" fmla="val 4250445"/>
              <a:gd name="adj3" fmla="val 1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空心弧 12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6262870"/>
              <a:gd name="adj2" fmla="val 5337130"/>
              <a:gd name="adj3" fmla="val 18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空心弧 13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5179897"/>
              <a:gd name="adj2" fmla="val 6420103"/>
              <a:gd name="adj3" fmla="val 18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空心弧 14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4101612"/>
              <a:gd name="adj2" fmla="val 7498388"/>
              <a:gd name="adj3" fmla="val 1870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空心弧 15"/>
          <p:cNvSpPr/>
          <p:nvPr/>
        </p:nvSpPr>
        <p:spPr>
          <a:xfrm flipH="1">
            <a:off x="2681280" y="2822400"/>
            <a:ext cx="3348000" cy="3348360"/>
          </a:xfrm>
          <a:prstGeom prst="blockArc">
            <a:avLst>
              <a:gd name="adj1" fmla="val 13021930"/>
              <a:gd name="adj2" fmla="val 8578070"/>
              <a:gd name="adj3" fmla="val 1874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6"/>
          <p:cNvSpPr/>
          <p:nvPr/>
        </p:nvSpPr>
        <p:spPr>
          <a:xfrm rot="19320000">
            <a:off x="1950840" y="269388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6"/>
          <p:cNvSpPr/>
          <p:nvPr/>
        </p:nvSpPr>
        <p:spPr>
          <a:xfrm rot="3600000">
            <a:off x="4997520" y="32194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6"/>
          <p:cNvSpPr/>
          <p:nvPr/>
        </p:nvSpPr>
        <p:spPr>
          <a:xfrm>
            <a:off x="3784680" y="3778200"/>
            <a:ext cx="11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5486400" y="25704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细珊瑚简体"/>
                <a:ea typeface="方正细珊瑚简体"/>
              </a:rPr>
              <a:t>饼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50"/>
          <p:cNvGrpSpPr/>
          <p:nvPr/>
        </p:nvGrpSpPr>
        <p:grpSpPr>
          <a:xfrm>
            <a:off x="3481560" y="1571760"/>
            <a:ext cx="671400" cy="1330200"/>
            <a:chOff x="3481560" y="1571760"/>
            <a:chExt cx="671400" cy="1330200"/>
          </a:xfrm>
        </p:grpSpPr>
        <p:sp>
          <p:nvSpPr>
            <p:cNvPr id="93" name="椭圆 47"/>
            <p:cNvSpPr/>
            <p:nvPr/>
          </p:nvSpPr>
          <p:spPr>
            <a:xfrm>
              <a:off x="4027680" y="277668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9"/>
            <p:cNvSpPr/>
            <p:nvPr/>
          </p:nvSpPr>
          <p:spPr>
            <a:xfrm>
              <a:off x="3481560" y="1571760"/>
              <a:ext cx="595440" cy="1204920"/>
            </a:xfrm>
            <a:prstGeom prst="pie">
              <a:avLst/>
            </a:prstGeom>
            <a:noFill/>
            <a:ln w="25560">
              <a:solidFill>
                <a:srgbClr val="ff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46"/>
          <p:cNvSpPr/>
          <p:nvPr/>
        </p:nvSpPr>
        <p:spPr>
          <a:xfrm>
            <a:off x="1698480" y="1427040"/>
            <a:ext cx="180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5"/>
          <p:cNvGrpSpPr/>
          <p:nvPr/>
        </p:nvGrpSpPr>
        <p:grpSpPr>
          <a:xfrm>
            <a:off x="5780160" y="3308400"/>
            <a:ext cx="1270080" cy="482400"/>
            <a:chOff x="5780160" y="3308400"/>
            <a:chExt cx="1270080" cy="482400"/>
          </a:xfrm>
        </p:grpSpPr>
        <p:sp>
          <p:nvSpPr>
            <p:cNvPr id="97" name="椭圆 53"/>
            <p:cNvSpPr/>
            <p:nvPr/>
          </p:nvSpPr>
          <p:spPr>
            <a:xfrm flipH="1">
              <a:off x="5780160" y="3665520"/>
              <a:ext cx="125280" cy="125280"/>
            </a:xfrm>
            <a:prstGeom prst="ellipse">
              <a:avLst/>
            </a:prstGeom>
            <a:solidFill>
              <a:srgbClr val="6464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4"/>
            <p:cNvSpPr/>
            <p:nvPr/>
          </p:nvSpPr>
          <p:spPr>
            <a:xfrm flipH="1">
              <a:off x="5898960" y="3308400"/>
              <a:ext cx="1151280" cy="395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46"/>
          <p:cNvSpPr/>
          <p:nvPr/>
        </p:nvSpPr>
        <p:spPr>
          <a:xfrm>
            <a:off x="7024680" y="3151080"/>
            <a:ext cx="15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58"/>
          <p:cNvSpPr/>
          <p:nvPr/>
        </p:nvSpPr>
        <p:spPr>
          <a:xfrm>
            <a:off x="792000" y="5194440"/>
            <a:ext cx="7560000" cy="0"/>
          </a:xfrm>
          <a:prstGeom prst="line">
            <a:avLst/>
          </a:prstGeom>
          <a:ln cap="rnd" w="381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6"/>
          <p:cNvSpPr/>
          <p:nvPr/>
        </p:nvSpPr>
        <p:spPr>
          <a:xfrm>
            <a:off x="757080" y="5230800"/>
            <a:ext cx="46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6"/>
          <p:cNvSpPr/>
          <p:nvPr/>
        </p:nvSpPr>
        <p:spPr>
          <a:xfrm>
            <a:off x="757080" y="48531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1040" y="58705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表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E1F-1DAC-4CD2-B19B-AE0F455D2B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1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30:25Z</dcterms:modified>
  <cp:revision>30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