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258-5897-4494-A3A2-6DD50484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8E25-9FFA-4E82-8693-8171001F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C22-2FC2-4240-A45C-6DC98D94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C4-4EE2-485D-8AC1-0343FF60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9E0D-2DC5-4D3C-9CEE-764FF7241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4F18-8043-4339-9485-95B57819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81E2-E42C-43B2-8512-C7A28B8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1E276-4674-4EA9-A8C2-67C56CF9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C17B-784C-4D16-82CA-785ED2A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1211-1C0A-4BA8-9F9B-772BE21D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6B00-E067-4DFB-8E3D-5F838B0A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FE8E-A126-4D07-B337-10231589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925-8FFE-43F1-80DB-8236B5B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CA07-312C-4844-9258-B2F85B93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2B4A1-BD76-4DF1-B081-3FB27C00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09B2-2FA4-4A3B-8ED2-3B691434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7E8C-A42A-4B57-9F96-E94EE6C5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7A731-6319-4866-9583-B5516E6F8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6B8C0-1F66-428C-BFED-7A3803AF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56901-A68C-4E92-A114-B5336390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AEB20-2F23-4401-9CF5-DCEAD09D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E640-AC16-4059-8805-BB8F254E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0C58-ECD7-400D-84D0-869CC63F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A8E5-C137-4EAA-B32D-578902B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EE48C-1BCB-4E55-A846-9A92364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324F-5347-47EA-AD58-094A3A3D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A0493-FEE0-4864-8A90-C5D8280B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06023-4BEC-4F6C-94F7-FFF52269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3443-C07E-416A-8E6E-4AFD3B5AB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97E4-315E-4C73-806F-C0FE62BA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019E-3AD0-427E-A95A-5C846F07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0591C-619E-4719-85A9-9A546380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ED4F-7F78-47E1-889C-20D172C0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0B7C-AC13-4B42-BFD5-C46E003E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83063-D374-4470-8A17-A8DF413C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ECA11-7201-4214-95CE-E51123FA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E21CC-D05A-43D1-B722-335EA0E9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BB5D-2A06-462B-93D2-417B7959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B4B10-6275-459C-B41F-DD2168F6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24C22-40EC-49E9-89ED-0AEB0D9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70AF2-A2A4-42FA-9657-BD2EE599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5B5C-D5DA-42D6-A263-330720E3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B13C-47AB-42A6-AEFD-CE518269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68D52-10CD-43F0-A73F-BA60E24E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511-74A6-4021-8472-F484A30D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7DD2-0058-4B1E-A6EB-FE065517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C3C4-5A57-49D7-86E1-17C47586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0FBB-0917-4FC6-A4EE-8C0860DC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F6846-3BA5-427E-B945-9667A276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2A5E0-FBF9-4C98-808E-AFAB26D9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6A1B4-E875-4E93-B049-D3B33537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1659-3C02-47B4-9235-CCF9724F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BA725-C405-428D-9AAA-F6CCF6C2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3B7F7-2577-4202-A5CD-1C897B34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F6943-979F-4691-9567-105A1BD1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E20-F2B8-4589-B2C7-7286312E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9B1EE-C521-49EB-8A98-80136C4E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D6289-EF96-4F84-A248-13935F11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5037-6D4D-4A34-BD58-3EF5DCA9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77A4-69D8-4FEA-A449-691DA7D9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C8595-73E3-4DAA-8FC1-65982B4E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C2BEC-EAC5-42E8-AD72-95621D77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DBE3D-CDF4-4F5B-9D34-E752B0BC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65F4-D5BF-4B1C-8BF1-2E3FAE14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85321-9247-4811-B13D-1F45A76E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3228-CDB1-4A37-870F-AFDE3E8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7AE7-E5D4-407D-B223-54AB5E3C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DAD9C-D8DF-4FB2-AE5A-FA0D8D9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2AF18-EB90-45C7-BB0E-1FF2F7F9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6A2A9-51E2-451E-9065-B85A0857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E221D-DC28-491C-9CF0-ABE15E84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88CC7-F7D3-4B81-B581-35BF6DD8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EA48C-88BE-48A8-A347-9A629F32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17E8F-3F39-4E62-8506-88A7CBF9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2BEBE-C9F6-4C0A-9CA6-26E8B903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8F135-8F16-4E5E-9F1B-4354EB0A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B63EC-C8ED-4C6C-B54C-8CF67346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9569-7626-4139-A709-65F7C553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D5C9A-A04F-49F7-8AE3-E311C31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9B869-DF5D-469E-8BEF-60530E30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D0106-29D3-4096-8892-D9E006AE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47E45-0FC9-420A-82A8-B00EFEF5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248DF-1B62-464C-9E8E-30AFCD2A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D6B-C131-4F0E-A831-FEEF7CB7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250560" y="41076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187280" y="3742200"/>
            <a:ext cx="76327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98320" y="148896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8728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098320" y="3742200"/>
            <a:ext cx="37245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76776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348600" y="148896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18728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76776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348600" y="3742200"/>
            <a:ext cx="2457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94AC-6351-4212-B61C-F7DF57955B3A}" type="slidenum"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99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16" descr="ballon rose"/>
          <p:cNvPicPr/>
          <p:nvPr/>
        </p:nvPicPr>
        <p:blipFill>
          <a:blip r:embed="rId2"/>
          <a:stretch/>
        </p:blipFill>
        <p:spPr>
          <a:xfrm>
            <a:off x="1030320" y="2060640"/>
            <a:ext cx="1525680" cy="367344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5b2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ballon bleu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85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Text Box 12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4" descr="ballon orange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34"/>
          <p:cNvSpPr/>
          <p:nvPr/>
        </p:nvSpPr>
        <p:spPr>
          <a:xfrm>
            <a:off x="321480" y="264168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 Black"/>
                <a:ea typeface="宋体"/>
              </a:rPr>
              <a:t>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37" descr="ballon vert"/>
          <p:cNvPicPr/>
          <p:nvPr/>
        </p:nvPicPr>
        <p:blipFill>
          <a:blip r:embed="rId2"/>
          <a:stretch/>
        </p:blipFill>
        <p:spPr>
          <a:xfrm>
            <a:off x="1030320" y="2063880"/>
            <a:ext cx="1525680" cy="3670200"/>
          </a:xfrm>
          <a:prstGeom prst="rect">
            <a:avLst/>
          </a:prstGeom>
          <a:ln w="0">
            <a:noFill/>
          </a:ln>
        </p:spPr>
      </p:pic>
      <p:sp>
        <p:nvSpPr>
          <p:cNvPr id="49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5" descr="ballon bleu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35053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59241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A0D-B109-4305-99FC-BA2BCFB2D0B2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23" descr="fond BALLON 3"/>
          <p:cNvPicPr/>
          <p:nvPr/>
        </p:nvPicPr>
        <p:blipFill>
          <a:blip r:embed="rId3"/>
          <a:stretch/>
        </p:blipFill>
        <p:spPr>
          <a:xfrm>
            <a:off x="0" y="647640"/>
            <a:ext cx="1562040" cy="623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5" descr="ballon rose"/>
          <p:cNvPicPr/>
          <p:nvPr/>
        </p:nvPicPr>
        <p:blipFill>
          <a:blip r:embed="rId2"/>
          <a:srcRect l="0" t="6702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A069-24CE-4076-989E-A408C0071033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7" descr="ballon rose"/>
          <p:cNvPicPr/>
          <p:nvPr/>
        </p:nvPicPr>
        <p:blipFill>
          <a:blip r:embed="rId2"/>
          <a:srcRect l="0" t="6702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BD08-2939-46EF-B7A7-0F8B92FF8C6E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5" descr="ballon bleu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85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5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C11F-DE38-4E36-B0FA-44672E64FB60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5" descr="ballon orange"/>
          <p:cNvPicPr/>
          <p:nvPr/>
        </p:nvPicPr>
        <p:blipFill>
          <a:blip r:embed="rId2"/>
          <a:srcRect l="0" t="6709" r="26859" b="0"/>
          <a:stretch/>
        </p:blipFill>
        <p:spPr>
          <a:xfrm>
            <a:off x="8028000" y="0"/>
            <a:ext cx="1116000" cy="342432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053E-E7B5-4682-BF71-2CD2DE9176EE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99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21"/>
          </p:nvPr>
        </p:nvSpPr>
        <p:spPr>
          <a:xfrm>
            <a:off x="6975000" y="333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B31F-3904-4175-8F63-0B7204D24404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pic>
        <p:nvPicPr>
          <p:cNvPr id="257" name="Picture 41" descr="ballon vert"/>
          <p:cNvPicPr/>
          <p:nvPr/>
        </p:nvPicPr>
        <p:blipFill>
          <a:blip r:embed="rId2"/>
          <a:srcRect l="0" t="6621" r="26859" b="0"/>
          <a:stretch/>
        </p:blipFill>
        <p:spPr>
          <a:xfrm>
            <a:off x="8028000" y="0"/>
            <a:ext cx="1116000" cy="342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920" y="44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75" descr="fond BALLON 1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250560" y="4107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22"/>
          </p:nvPr>
        </p:nvSpPr>
        <p:spPr>
          <a:xfrm>
            <a:off x="594036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92" descr="fond TEMPLATE 2"/>
          <p:cNvPicPr/>
          <p:nvPr/>
        </p:nvPicPr>
        <p:blipFill>
          <a:blip r:embed="rId2"/>
          <a:stretch/>
        </p:blipFill>
        <p:spPr>
          <a:xfrm>
            <a:off x="0" y="0"/>
            <a:ext cx="4344840" cy="6885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94" descr="ballon rose"/>
          <p:cNvPicPr/>
          <p:nvPr/>
        </p:nvPicPr>
        <p:blipFill>
          <a:blip r:embed="rId3"/>
          <a:stretch/>
        </p:blipFill>
        <p:spPr>
          <a:xfrm>
            <a:off x="6659640" y="549360"/>
            <a:ext cx="1525680" cy="367344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1"/>
          <p:cNvSpPr/>
          <p:nvPr/>
        </p:nvSpPr>
        <p:spPr>
          <a:xfrm>
            <a:off x="2184840" y="4762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气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演示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14B9-C79E-4D66-8F99-DEEF351785DD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5b2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0085b2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5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5b2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0085b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85b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5b2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0085b2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85b2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5b2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0085b2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85b2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5b2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0085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1AF-C826-4D5E-AB00-F7ECC97CBA4D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33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015E-B5CB-4F66-840F-1D754A13730A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99cc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99cc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99cc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99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95280" y="752040"/>
            <a:ext cx="61214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565200" y="2133720"/>
            <a:ext cx="5780160" cy="7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0066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3132000" y="4076280"/>
            <a:ext cx="578016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74E9-7062-4C15-B568-961BBB086267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1187280" y="1488960"/>
            <a:ext cx="763272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灯片编号占位符 4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5554-91E1-4938-B0EB-5E2715C6F892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Object 2"/>
          <p:cNvGraphicFramePr/>
          <p:nvPr/>
        </p:nvGraphicFramePr>
        <p:xfrm>
          <a:off x="0" y="2874960"/>
          <a:ext cx="5113440" cy="35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874960"/>
                    <a:ext cx="5113440" cy="35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3"/>
          <p:cNvSpPr/>
          <p:nvPr/>
        </p:nvSpPr>
        <p:spPr>
          <a:xfrm>
            <a:off x="5222880" y="2565360"/>
            <a:ext cx="359712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64944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of the Hist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Example with a hist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灯片编号占位符 4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4EBF-751D-4556-9C7A-C1831362BC46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85b2"/>
                </a:solidFill>
                <a:latin typeface="Arial"/>
                <a:ea typeface="宋体"/>
              </a:rPr>
              <a:t>Example with a pie chart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3268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85b2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5"/>
          <p:cNvGrpSpPr/>
          <p:nvPr/>
        </p:nvGrpSpPr>
        <p:grpSpPr>
          <a:xfrm>
            <a:off x="3621240" y="2349360"/>
            <a:ext cx="5522760" cy="4054320"/>
            <a:chOff x="3621240" y="2349360"/>
            <a:chExt cx="5522760" cy="4054320"/>
          </a:xfrm>
        </p:grpSpPr>
        <p:graphicFrame>
          <p:nvGraphicFramePr>
            <p:cNvPr id="551" name="Object 5"/>
            <p:cNvGraphicFramePr/>
            <p:nvPr/>
          </p:nvGraphicFramePr>
          <p:xfrm>
            <a:off x="3621240" y="2349360"/>
            <a:ext cx="5522760" cy="405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21240" y="2349360"/>
                      <a:ext cx="5522760" cy="40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3" name="Oval 6"/>
            <p:cNvSpPr/>
            <p:nvPr/>
          </p:nvSpPr>
          <p:spPr>
            <a:xfrm>
              <a:off x="4969080" y="2687400"/>
              <a:ext cx="2792520" cy="279252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7"/>
            <p:cNvSpPr/>
            <p:nvPr/>
          </p:nvSpPr>
          <p:spPr>
            <a:xfrm>
              <a:off x="5681880" y="3400200"/>
              <a:ext cx="1368360" cy="1368360"/>
            </a:xfrm>
            <a:prstGeom prst="ellipse">
              <a:avLst/>
            </a:prstGeom>
            <a:noFill/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"/>
            <p:cNvSpPr/>
            <p:nvPr/>
          </p:nvSpPr>
          <p:spPr>
            <a:xfrm>
              <a:off x="5605560" y="3889080"/>
              <a:ext cx="152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olor sche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Text Box 9"/>
          <p:cNvSpPr/>
          <p:nvPr/>
        </p:nvSpPr>
        <p:spPr>
          <a:xfrm>
            <a:off x="4475160" y="2276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itle of the Pie ch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85b2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5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85b2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9C51-2D6C-4329-9CDA-7AA2E23CFE8A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Arial"/>
                <a:ea typeface="宋体"/>
              </a:rPr>
              <a:t>Example with an object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 rot="2700000">
            <a:off x="7097760" y="3704760"/>
            <a:ext cx="898560" cy="898560"/>
          </a:xfrm>
          <a:prstGeom prst="rect">
            <a:avLst/>
          </a:prstGeom>
          <a:solidFill>
            <a:srgbClr val="99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 rot="2700000">
            <a:off x="6359400" y="4425480"/>
            <a:ext cx="898560" cy="898560"/>
          </a:xfrm>
          <a:prstGeom prst="rect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 rot="2700000">
            <a:off x="5010120" y="3704760"/>
            <a:ext cx="898560" cy="89856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 rot="2700000">
            <a:off x="6359400" y="2950920"/>
            <a:ext cx="898560" cy="898560"/>
          </a:xfrm>
          <a:prstGeom prst="rect">
            <a:avLst/>
          </a:prstGeom>
          <a:solidFill>
            <a:srgbClr val="fdc51a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7"/>
          <p:cNvSpPr/>
          <p:nvPr/>
        </p:nvSpPr>
        <p:spPr>
          <a:xfrm rot="18900000">
            <a:off x="5651640" y="2997000"/>
            <a:ext cx="2314440" cy="2314440"/>
          </a:xfrm>
          <a:custGeom>
            <a:avLst/>
            <a:gdLst>
              <a:gd name="textAreaLeft" fmla="*/ 114120 w 2314440"/>
              <a:gd name="textAreaRight" fmla="*/ 2200320 w 2314440"/>
              <a:gd name="textAreaTop" fmla="*/ 1004400 h 2314440"/>
              <a:gd name="textAreaBottom" fmla="*/ 1310040 h 2314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9276" y="1141"/>
                </a:lnTo>
                <a:lnTo>
                  <a:pt x="9375" y="1141"/>
                </a:lnTo>
                <a:lnTo>
                  <a:pt x="9375" y="9375"/>
                </a:lnTo>
                <a:lnTo>
                  <a:pt x="1141" y="9375"/>
                </a:lnTo>
                <a:lnTo>
                  <a:pt x="1141" y="9276"/>
                </a:lnTo>
                <a:lnTo>
                  <a:pt x="0" y="10800"/>
                </a:lnTo>
                <a:lnTo>
                  <a:pt x="1141" y="12324"/>
                </a:lnTo>
                <a:lnTo>
                  <a:pt x="1141" y="12225"/>
                </a:lnTo>
                <a:lnTo>
                  <a:pt x="9375" y="12225"/>
                </a:lnTo>
                <a:lnTo>
                  <a:pt x="9375" y="20459"/>
                </a:lnTo>
                <a:lnTo>
                  <a:pt x="9276" y="20459"/>
                </a:lnTo>
                <a:lnTo>
                  <a:pt x="10800" y="21600"/>
                </a:lnTo>
                <a:lnTo>
                  <a:pt x="12324" y="20459"/>
                </a:lnTo>
                <a:lnTo>
                  <a:pt x="12225" y="20459"/>
                </a:lnTo>
                <a:lnTo>
                  <a:pt x="12225" y="12225"/>
                </a:lnTo>
                <a:lnTo>
                  <a:pt x="20459" y="12225"/>
                </a:lnTo>
                <a:lnTo>
                  <a:pt x="20459" y="12324"/>
                </a:lnTo>
                <a:lnTo>
                  <a:pt x="21600" y="10800"/>
                </a:lnTo>
                <a:lnTo>
                  <a:pt x="20459" y="9276"/>
                </a:lnTo>
                <a:lnTo>
                  <a:pt x="20459" y="9375"/>
                </a:lnTo>
                <a:lnTo>
                  <a:pt x="12225" y="9375"/>
                </a:lnTo>
                <a:lnTo>
                  <a:pt x="12225" y="1141"/>
                </a:lnTo>
                <a:lnTo>
                  <a:pt x="12324" y="1141"/>
                </a:lnTo>
                <a:lnTo>
                  <a:pt x="10800" y="0"/>
                </a:lnTo>
                <a:close/>
              </a:path>
            </a:pathLst>
          </a:custGeom>
          <a:solidFill>
            <a:srgbClr val="0085b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8"/>
          <p:cNvSpPr/>
          <p:nvPr/>
        </p:nvSpPr>
        <p:spPr>
          <a:xfrm>
            <a:off x="326880" y="2565360"/>
            <a:ext cx="3597480" cy="34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Lorem ipsum dolor sit amet, risus dolor nulla faucibus, elit amet duis blandit, tellus non mollis pu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Iaculis libero et elit nec, morbi nulla velit a, arcu dictum commodo am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3300"/>
                </a:solidFill>
                <a:latin typeface="Arial"/>
              </a:rPr>
              <a:t>Lacus sed nulla id cillum, nulla cras vulputate ut phasellus, elit fermentum turpis vivamus pulvin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295200" y="1197000"/>
            <a:ext cx="8524800" cy="11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3300"/>
                </a:solidFill>
                <a:latin typeface="Arial"/>
              </a:rPr>
              <a:t>Lorem ipsum dolor sit amet, in nec erat ac et, integer diam ultrices ut n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3300"/>
                </a:solidFill>
                <a:latin typeface="Arial"/>
              </a:rPr>
              <a:t>Consectetuer pede orci a, accumsan at ante sed el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0"/>
          <p:cNvSpPr/>
          <p:nvPr/>
        </p:nvSpPr>
        <p:spPr>
          <a:xfrm flipH="1">
            <a:off x="5230440" y="4152960"/>
            <a:ext cx="863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灯片编号占位符 5"/>
          <p:cNvSpPr/>
          <p:nvPr/>
        </p:nvSpPr>
        <p:spPr>
          <a:xfrm>
            <a:off x="6975360" y="333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9E34-7951-4595-813C-F05BEE295E5E}" type="slidenum">
              <a:rPr b="0" lang="en-US" sz="20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99520" y="25992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  <a:ea typeface="宋体"/>
              </a:rPr>
              <a:t>Customize your headline here</a:t>
            </a:r>
            <a:endParaRPr b="0" lang="en-US" sz="3600" spc="-1" strike="noStrike">
              <a:solidFill>
                <a:srgbClr val="cc0099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  <a:ea typeface="宋体"/>
              </a:rPr>
              <a:t>Master text styles</a:t>
            </a: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  <a:ea typeface="宋体"/>
              </a:rPr>
              <a:t>Second level</a:t>
            </a:r>
            <a:endParaRPr b="0" lang="en-US" sz="2000" spc="-1" strike="noStrike">
              <a:solidFill>
                <a:srgbClr val="cc0099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99"/>
                </a:solidFill>
                <a:latin typeface="Arial"/>
                <a:ea typeface="宋体"/>
              </a:rPr>
              <a:t>Third level</a:t>
            </a:r>
            <a:endParaRPr b="0" lang="en-US" sz="1800" spc="-1" strike="noStrike">
              <a:solidFill>
                <a:srgbClr val="cc00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c00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  <a:ea typeface="宋体"/>
              </a:rPr>
              <a:t>Fourth level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cc0099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99"/>
                </a:solidFill>
                <a:latin typeface="Arial"/>
                <a:ea typeface="宋体"/>
              </a:rPr>
              <a:t>Fifth level</a:t>
            </a:r>
            <a:endParaRPr b="0" lang="en-US" sz="1600" spc="-1" strike="noStrike">
              <a:solidFill>
                <a:srgbClr val="cc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744640" y="2347560"/>
            <a:ext cx="6181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title here</a:t>
            </a:r>
            <a:endParaRPr b="0" lang="en-US" sz="36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2744640" y="3728520"/>
            <a:ext cx="61819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5b2"/>
                </a:solidFill>
                <a:latin typeface="Arial"/>
                <a:ea typeface="宋体"/>
              </a:rPr>
              <a:t>Customize your subtitle here</a:t>
            </a:r>
            <a:endParaRPr b="0" lang="en-US" sz="1800" spc="-1" strike="noStrike">
              <a:solidFill>
                <a:srgbClr val="0085b2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704960" y="2646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21:28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4:04Z</dcterms:modified>
  <cp:revision>3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ategory">
    <vt:lpwstr>Templates</vt:lpwstr>
  </property>
  <property fmtid="{D5CDD505-2E9C-101B-9397-08002B2CF9AE}" pid="3" name="Conditions of use">
    <vt:lpwstr>http://creativecommons.org/licenses/by-nd/3.0/</vt:lpwstr>
  </property>
  <property fmtid="{D5CDD505-2E9C-101B-9397-08002B2CF9AE}" pid="4" name="ID">
    <vt:lpwstr>#1-001</vt:lpwstr>
  </property>
  <property fmtid="{D5CDD505-2E9C-101B-9397-08002B2CF9AE}" pid="5" name="KSOProductBuildVer">
    <vt:lpwstr>2052-9.1.0.5133</vt:lpwstr>
  </property>
  <property fmtid="{D5CDD505-2E9C-101B-9397-08002B2CF9AE}" pid="6" name="Source">
    <vt:lpwstr>http://www.showeet.com</vt:lpwstr>
  </property>
</Properties>
</file>