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9E2-03EB-4E60-A5E8-96975E6E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B89-8C8B-4457-A0D6-878D808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CA-F3B3-4424-8E45-A060AF9C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FBE-370B-495D-8284-F66D2E77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4FE-E827-498C-A152-952A202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349-6738-44E0-A940-66D87AE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560-8125-40DE-98DE-1905681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B70-50D4-4E02-BA78-39D63836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310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231-3DF8-407B-8C19-3EFEFF0D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A2A-FAA7-4F78-B2A7-2943930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69E-1815-47D5-9811-12B5994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E93-EDA7-4973-9087-F6659CE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7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520236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B39-42D8-42C0-93B1-75C1FC71E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9608000">
            <a:off x="-1110960" y="19209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 rot="20061000">
            <a:off x="-1039320" y="4655880"/>
            <a:ext cx="57600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-1255680" y="4713120"/>
            <a:ext cx="28872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-1687680" y="1415880"/>
            <a:ext cx="1008360" cy="95760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-1758960" y="42861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-1542960" y="336060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-1903320" y="378468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-1614600" y="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-1039680" y="3144960"/>
            <a:ext cx="57600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-571680" y="5713560"/>
            <a:ext cx="571680" cy="547560"/>
          </a:xfrm>
          <a:custGeom>
            <a:avLst/>
            <a:gdLst/>
            <a:ahLst/>
            <a:rect l="l" t="t" r="r" b="b"/>
            <a:pathLst>
              <a:path w="571500" h="547687">
                <a:moveTo>
                  <a:pt x="1" y="209197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7"/>
                </a:lnTo>
                <a:lnTo>
                  <a:pt x="394895" y="338488"/>
                </a:lnTo>
                <a:lnTo>
                  <a:pt x="462353" y="547686"/>
                </a:lnTo>
                <a:lnTo>
                  <a:pt x="285750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 rot="19930800">
            <a:off x="-1974600" y="5160960"/>
            <a:ext cx="1592280" cy="1652760"/>
          </a:xfrm>
          <a:custGeom>
            <a:avLst/>
            <a:gdLst/>
            <a:ahLst/>
            <a:rect l="l" t="t" r="r" b="b"/>
            <a:pathLst>
              <a:path w="1592262" h="1652587">
                <a:moveTo>
                  <a:pt x="2" y="631230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0"/>
                </a:lnTo>
                <a:lnTo>
                  <a:pt x="1100221" y="1021351"/>
                </a:lnTo>
                <a:lnTo>
                  <a:pt x="1288166" y="1652583"/>
                </a:lnTo>
                <a:lnTo>
                  <a:pt x="796131" y="1262455"/>
                </a:lnTo>
                <a:lnTo>
                  <a:pt x="304096" y="1652583"/>
                </a:lnTo>
                <a:lnTo>
                  <a:pt x="492041" y="1021351"/>
                </a:lnTo>
                <a:lnTo>
                  <a:pt x="2" y="6312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28720" y="6673680"/>
            <a:ext cx="576360" cy="547920"/>
          </a:xfrm>
          <a:custGeom>
            <a:avLst/>
            <a:gdLst/>
            <a:ahLst/>
            <a:rect l="l" t="t" r="r" b="b"/>
            <a:pathLst>
              <a:path w="576263" h="547688">
                <a:moveTo>
                  <a:pt x="1" y="209198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8"/>
                </a:lnTo>
                <a:lnTo>
                  <a:pt x="398186" y="338488"/>
                </a:lnTo>
                <a:lnTo>
                  <a:pt x="466206" y="547687"/>
                </a:lnTo>
                <a:lnTo>
                  <a:pt x="288132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 rot="19608000">
            <a:off x="10333080" y="17049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rot="20061000">
            <a:off x="10296360" y="443988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736800">
            <a:off x="9288000" y="2208240"/>
            <a:ext cx="1189080" cy="1028520"/>
          </a:xfrm>
          <a:custGeom>
            <a:avLst/>
            <a:gdLst/>
            <a:ahLst/>
            <a:rect l="l" t="t" r="r" b="b"/>
            <a:pathLst>
              <a:path w="1189037" h="1028700">
                <a:moveTo>
                  <a:pt x="1" y="392927"/>
                </a:moveTo>
                <a:lnTo>
                  <a:pt x="454174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6" y="392927"/>
                </a:lnTo>
                <a:lnTo>
                  <a:pt x="821600" y="635769"/>
                </a:lnTo>
                <a:lnTo>
                  <a:pt x="961950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10080720" y="4497480"/>
            <a:ext cx="28872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9577440" y="40705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9793440" y="31449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9433080" y="356868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9721800" y="-210960"/>
            <a:ext cx="1008000" cy="952200"/>
          </a:xfrm>
          <a:custGeom>
            <a:avLst/>
            <a:gdLst/>
            <a:ahLst/>
            <a:rect l="l" t="t" r="r" b="b"/>
            <a:pathLst>
              <a:path w="1008063" h="952501">
                <a:moveTo>
                  <a:pt x="1" y="363822"/>
                </a:moveTo>
                <a:lnTo>
                  <a:pt x="385048" y="363825"/>
                </a:lnTo>
                <a:lnTo>
                  <a:pt x="504032" y="0"/>
                </a:lnTo>
                <a:lnTo>
                  <a:pt x="623015" y="363825"/>
                </a:lnTo>
                <a:lnTo>
                  <a:pt x="1008062" y="363822"/>
                </a:lnTo>
                <a:lnTo>
                  <a:pt x="696551" y="588676"/>
                </a:lnTo>
                <a:lnTo>
                  <a:pt x="815539" y="952499"/>
                </a:lnTo>
                <a:lnTo>
                  <a:pt x="504032" y="727641"/>
                </a:lnTo>
                <a:lnTo>
                  <a:pt x="192524" y="952499"/>
                </a:lnTo>
                <a:lnTo>
                  <a:pt x="311512" y="588676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0296360" y="292896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10836360" y="588168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10764720" y="549756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 rot="19930800">
            <a:off x="9361080" y="4944600"/>
            <a:ext cx="1592280" cy="1652760"/>
          </a:xfrm>
          <a:custGeom>
            <a:avLst/>
            <a:gdLst/>
            <a:ahLst/>
            <a:rect l="l" t="t" r="r" b="b"/>
            <a:pathLst>
              <a:path w="1592262" h="1652587">
                <a:moveTo>
                  <a:pt x="2" y="631230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0"/>
                </a:lnTo>
                <a:lnTo>
                  <a:pt x="1100221" y="1021351"/>
                </a:lnTo>
                <a:lnTo>
                  <a:pt x="1288166" y="1652583"/>
                </a:lnTo>
                <a:lnTo>
                  <a:pt x="796131" y="1262455"/>
                </a:lnTo>
                <a:lnTo>
                  <a:pt x="304096" y="1652583"/>
                </a:lnTo>
                <a:lnTo>
                  <a:pt x="492041" y="1021351"/>
                </a:lnTo>
                <a:lnTo>
                  <a:pt x="2" y="6312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 rot="2650200">
            <a:off x="10980360" y="8375400"/>
            <a:ext cx="576360" cy="54756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 rot="20061000">
            <a:off x="7308360" y="6528960"/>
            <a:ext cx="576360" cy="54792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6948360" y="695628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/>
          <p:cNvSpPr/>
          <p:nvPr/>
        </p:nvSpPr>
        <p:spPr>
          <a:xfrm>
            <a:off x="6445080" y="652932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300720" y="6027840"/>
            <a:ext cx="43200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/>
          <p:cNvSpPr/>
          <p:nvPr/>
        </p:nvSpPr>
        <p:spPr>
          <a:xfrm>
            <a:off x="8101080" y="674532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4789440" y="616896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4282920" y="614052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4"/>
          <p:cNvSpPr/>
          <p:nvPr/>
        </p:nvSpPr>
        <p:spPr>
          <a:xfrm rot="18352200">
            <a:off x="1614600" y="631764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3127320" y="1128240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 rot="18269400">
            <a:off x="-392400" y="-2388600"/>
            <a:ext cx="1004760" cy="952560"/>
          </a:xfrm>
          <a:custGeom>
            <a:avLst/>
            <a:gdLst/>
            <a:ahLst/>
            <a:rect l="l" t="t" r="r" b="b"/>
            <a:pathLst>
              <a:path w="1004888" h="952501">
                <a:moveTo>
                  <a:pt x="1" y="363822"/>
                </a:moveTo>
                <a:lnTo>
                  <a:pt x="383835" y="363825"/>
                </a:lnTo>
                <a:lnTo>
                  <a:pt x="502444" y="0"/>
                </a:lnTo>
                <a:lnTo>
                  <a:pt x="621053" y="363825"/>
                </a:lnTo>
                <a:lnTo>
                  <a:pt x="1004887" y="363822"/>
                </a:lnTo>
                <a:lnTo>
                  <a:pt x="694357" y="588676"/>
                </a:lnTo>
                <a:lnTo>
                  <a:pt x="812971" y="952499"/>
                </a:lnTo>
                <a:lnTo>
                  <a:pt x="502444" y="727641"/>
                </a:lnTo>
                <a:lnTo>
                  <a:pt x="191917" y="952499"/>
                </a:lnTo>
                <a:lnTo>
                  <a:pt x="310531" y="588676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 rot="20061000">
            <a:off x="-2226960" y="-91800"/>
            <a:ext cx="576360" cy="542880"/>
          </a:xfrm>
          <a:custGeom>
            <a:avLst/>
            <a:gdLst/>
            <a:ahLst/>
            <a:rect l="l" t="t" r="r" b="b"/>
            <a:pathLst>
              <a:path w="576263" h="542925">
                <a:moveTo>
                  <a:pt x="1" y="207378"/>
                </a:moveTo>
                <a:lnTo>
                  <a:pt x="220114" y="207380"/>
                </a:lnTo>
                <a:lnTo>
                  <a:pt x="288132" y="0"/>
                </a:lnTo>
                <a:lnTo>
                  <a:pt x="356149" y="207380"/>
                </a:lnTo>
                <a:lnTo>
                  <a:pt x="576262" y="207378"/>
                </a:lnTo>
                <a:lnTo>
                  <a:pt x="398186" y="335545"/>
                </a:lnTo>
                <a:lnTo>
                  <a:pt x="466206" y="542924"/>
                </a:lnTo>
                <a:lnTo>
                  <a:pt x="288132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 rot="21004200">
            <a:off x="-1579680" y="-1889280"/>
            <a:ext cx="1189080" cy="1028880"/>
          </a:xfrm>
          <a:custGeom>
            <a:avLst/>
            <a:gdLst/>
            <a:ahLst/>
            <a:rect l="l" t="t" r="r" b="b"/>
            <a:pathLst>
              <a:path w="1189038" h="1028700">
                <a:moveTo>
                  <a:pt x="1" y="392927"/>
                </a:moveTo>
                <a:lnTo>
                  <a:pt x="454175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7" y="392927"/>
                </a:lnTo>
                <a:lnTo>
                  <a:pt x="821601" y="635769"/>
                </a:lnTo>
                <a:lnTo>
                  <a:pt x="961951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-2443320" y="-34920"/>
            <a:ext cx="289080" cy="270000"/>
          </a:xfrm>
          <a:custGeom>
            <a:avLst/>
            <a:gdLst/>
            <a:ahLst/>
            <a:rect l="l" t="t" r="r" b="b"/>
            <a:pathLst>
              <a:path w="288925" h="269875">
                <a:moveTo>
                  <a:pt x="0" y="103083"/>
                </a:moveTo>
                <a:lnTo>
                  <a:pt x="110360" y="103084"/>
                </a:lnTo>
                <a:lnTo>
                  <a:pt x="144463" y="0"/>
                </a:lnTo>
                <a:lnTo>
                  <a:pt x="178565" y="103084"/>
                </a:lnTo>
                <a:lnTo>
                  <a:pt x="288925" y="103083"/>
                </a:lnTo>
                <a:lnTo>
                  <a:pt x="199641" y="166791"/>
                </a:lnTo>
                <a:lnTo>
                  <a:pt x="233745" y="269874"/>
                </a:lnTo>
                <a:lnTo>
                  <a:pt x="144463" y="206165"/>
                </a:lnTo>
                <a:lnTo>
                  <a:pt x="55180" y="269874"/>
                </a:lnTo>
                <a:lnTo>
                  <a:pt x="89284" y="166791"/>
                </a:lnTo>
                <a:lnTo>
                  <a:pt x="0" y="10308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 rot="20260800">
            <a:off x="-2263320" y="-24670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-932040" y="-952560"/>
            <a:ext cx="1003320" cy="952560"/>
          </a:xfrm>
          <a:custGeom>
            <a:avLst/>
            <a:gdLst/>
            <a:ahLst/>
            <a:rect l="l" t="t" r="r" b="b"/>
            <a:pathLst>
              <a:path w="1003301" h="952500">
                <a:moveTo>
                  <a:pt x="1" y="363822"/>
                </a:moveTo>
                <a:lnTo>
                  <a:pt x="383229" y="363824"/>
                </a:lnTo>
                <a:lnTo>
                  <a:pt x="501651" y="0"/>
                </a:lnTo>
                <a:lnTo>
                  <a:pt x="620072" y="363824"/>
                </a:lnTo>
                <a:lnTo>
                  <a:pt x="1003300" y="363822"/>
                </a:lnTo>
                <a:lnTo>
                  <a:pt x="693261" y="588675"/>
                </a:lnTo>
                <a:lnTo>
                  <a:pt x="811687" y="952498"/>
                </a:lnTo>
                <a:lnTo>
                  <a:pt x="501651" y="727640"/>
                </a:lnTo>
                <a:lnTo>
                  <a:pt x="191614" y="952498"/>
                </a:lnTo>
                <a:lnTo>
                  <a:pt x="310040" y="588675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>
            <a:off x="-1292400" y="-52848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0260800">
            <a:off x="-2190240" y="-38829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20256000">
            <a:off x="-428400" y="-1168200"/>
            <a:ext cx="571680" cy="547920"/>
          </a:xfrm>
          <a:custGeom>
            <a:avLst/>
            <a:gdLst/>
            <a:ahLst/>
            <a:rect l="l" t="t" r="r" b="b"/>
            <a:pathLst>
              <a:path w="571500" h="547687">
                <a:moveTo>
                  <a:pt x="1" y="209197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7"/>
                </a:lnTo>
                <a:lnTo>
                  <a:pt x="394895" y="338488"/>
                </a:lnTo>
                <a:lnTo>
                  <a:pt x="462353" y="547686"/>
                </a:lnTo>
                <a:lnTo>
                  <a:pt x="285750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5"/>
          <p:cNvSpPr/>
          <p:nvPr/>
        </p:nvSpPr>
        <p:spPr>
          <a:xfrm rot="14564400">
            <a:off x="6166440" y="-3288960"/>
            <a:ext cx="10083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6"/>
          <p:cNvSpPr/>
          <p:nvPr/>
        </p:nvSpPr>
        <p:spPr>
          <a:xfrm rot="15012600">
            <a:off x="6133680" y="-556920"/>
            <a:ext cx="569880" cy="547560"/>
          </a:xfrm>
          <a:custGeom>
            <a:avLst/>
            <a:gdLst/>
            <a:ahLst/>
            <a:rect l="l" t="t" r="r" b="b"/>
            <a:pathLst>
              <a:path w="569913" h="547687">
                <a:moveTo>
                  <a:pt x="1" y="209197"/>
                </a:moveTo>
                <a:lnTo>
                  <a:pt x="217689" y="209199"/>
                </a:lnTo>
                <a:lnTo>
                  <a:pt x="284957" y="0"/>
                </a:lnTo>
                <a:lnTo>
                  <a:pt x="352224" y="209199"/>
                </a:lnTo>
                <a:lnTo>
                  <a:pt x="569912" y="209197"/>
                </a:lnTo>
                <a:lnTo>
                  <a:pt x="393798" y="338488"/>
                </a:lnTo>
                <a:lnTo>
                  <a:pt x="461069" y="547686"/>
                </a:lnTo>
                <a:lnTo>
                  <a:pt x="284957" y="418393"/>
                </a:lnTo>
                <a:lnTo>
                  <a:pt x="108844" y="547686"/>
                </a:lnTo>
                <a:lnTo>
                  <a:pt x="17611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7"/>
          <p:cNvSpPr/>
          <p:nvPr/>
        </p:nvSpPr>
        <p:spPr>
          <a:xfrm rot="17285400">
            <a:off x="5123520" y="-2785680"/>
            <a:ext cx="1189080" cy="1028880"/>
          </a:xfrm>
          <a:custGeom>
            <a:avLst/>
            <a:gdLst/>
            <a:ahLst/>
            <a:rect l="l" t="t" r="r" b="b"/>
            <a:pathLst>
              <a:path w="1189038" h="1028700">
                <a:moveTo>
                  <a:pt x="1" y="392927"/>
                </a:moveTo>
                <a:lnTo>
                  <a:pt x="454175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7" y="392927"/>
                </a:lnTo>
                <a:lnTo>
                  <a:pt x="821601" y="635769"/>
                </a:lnTo>
                <a:lnTo>
                  <a:pt x="961951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8"/>
          <p:cNvSpPr/>
          <p:nvPr/>
        </p:nvSpPr>
        <p:spPr>
          <a:xfrm rot="16608000">
            <a:off x="5913360" y="-49608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9"/>
          <p:cNvSpPr/>
          <p:nvPr/>
        </p:nvSpPr>
        <p:spPr>
          <a:xfrm rot="16550400">
            <a:off x="5411520" y="-92664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0"/>
          <p:cNvSpPr/>
          <p:nvPr/>
        </p:nvSpPr>
        <p:spPr>
          <a:xfrm rot="16555800">
            <a:off x="5627160" y="-184896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 rot="16590000">
            <a:off x="5266440" y="-142812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2"/>
          <p:cNvSpPr/>
          <p:nvPr/>
        </p:nvSpPr>
        <p:spPr>
          <a:xfrm rot="16551600">
            <a:off x="6129360" y="-2065680"/>
            <a:ext cx="576360" cy="54900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3"/>
          <p:cNvSpPr/>
          <p:nvPr/>
        </p:nvSpPr>
        <p:spPr>
          <a:xfrm rot="2655000">
            <a:off x="755640" y="1167732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4"/>
          <p:cNvSpPr/>
          <p:nvPr/>
        </p:nvSpPr>
        <p:spPr>
          <a:xfrm rot="2625000">
            <a:off x="5076360" y="1055376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5"/>
          <p:cNvSpPr/>
          <p:nvPr/>
        </p:nvSpPr>
        <p:spPr>
          <a:xfrm rot="21004200">
            <a:off x="2413080" y="-1884240"/>
            <a:ext cx="1189080" cy="1027080"/>
          </a:xfrm>
          <a:custGeom>
            <a:avLst/>
            <a:gdLst/>
            <a:ahLst/>
            <a:rect l="l" t="t" r="r" b="b"/>
            <a:pathLst>
              <a:path w="1189038" h="1027113">
                <a:moveTo>
                  <a:pt x="1" y="392321"/>
                </a:moveTo>
                <a:lnTo>
                  <a:pt x="454175" y="392324"/>
                </a:lnTo>
                <a:lnTo>
                  <a:pt x="594519" y="0"/>
                </a:lnTo>
                <a:lnTo>
                  <a:pt x="734863" y="392324"/>
                </a:lnTo>
                <a:lnTo>
                  <a:pt x="1189037" y="392321"/>
                </a:lnTo>
                <a:lnTo>
                  <a:pt x="821601" y="634788"/>
                </a:lnTo>
                <a:lnTo>
                  <a:pt x="961951" y="1027110"/>
                </a:lnTo>
                <a:lnTo>
                  <a:pt x="594519" y="784639"/>
                </a:lnTo>
                <a:lnTo>
                  <a:pt x="227087" y="1027110"/>
                </a:lnTo>
                <a:lnTo>
                  <a:pt x="367437" y="634788"/>
                </a:lnTo>
                <a:lnTo>
                  <a:pt x="1" y="39232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6"/>
          <p:cNvSpPr/>
          <p:nvPr/>
        </p:nvSpPr>
        <p:spPr>
          <a:xfrm>
            <a:off x="1046160" y="-4618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7"/>
          <p:cNvSpPr/>
          <p:nvPr/>
        </p:nvSpPr>
        <p:spPr>
          <a:xfrm>
            <a:off x="3060720" y="-949320"/>
            <a:ext cx="1008000" cy="949320"/>
          </a:xfrm>
          <a:custGeom>
            <a:avLst/>
            <a:gdLst/>
            <a:ahLst/>
            <a:rect l="l" t="t" r="r" b="b"/>
            <a:pathLst>
              <a:path w="1008063" h="949325">
                <a:moveTo>
                  <a:pt x="1" y="362609"/>
                </a:moveTo>
                <a:lnTo>
                  <a:pt x="385048" y="362612"/>
                </a:lnTo>
                <a:lnTo>
                  <a:pt x="504032" y="0"/>
                </a:lnTo>
                <a:lnTo>
                  <a:pt x="623015" y="362612"/>
                </a:lnTo>
                <a:lnTo>
                  <a:pt x="1008062" y="362609"/>
                </a:lnTo>
                <a:lnTo>
                  <a:pt x="696551" y="586713"/>
                </a:lnTo>
                <a:lnTo>
                  <a:pt x="815539" y="949323"/>
                </a:lnTo>
                <a:lnTo>
                  <a:pt x="504032" y="725215"/>
                </a:lnTo>
                <a:lnTo>
                  <a:pt x="192524" y="949323"/>
                </a:lnTo>
                <a:lnTo>
                  <a:pt x="311512" y="586713"/>
                </a:lnTo>
                <a:lnTo>
                  <a:pt x="1" y="36260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8"/>
          <p:cNvSpPr/>
          <p:nvPr/>
        </p:nvSpPr>
        <p:spPr>
          <a:xfrm>
            <a:off x="2700360" y="-525600"/>
            <a:ext cx="431640" cy="408240"/>
          </a:xfrm>
          <a:custGeom>
            <a:avLst/>
            <a:gdLst/>
            <a:ahLst/>
            <a:rect l="l" t="t" r="r" b="b"/>
            <a:pathLst>
              <a:path w="431800" h="407988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7"/>
                </a:lnTo>
                <a:lnTo>
                  <a:pt x="215900" y="311673"/>
                </a:lnTo>
                <a:lnTo>
                  <a:pt x="82467" y="407987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9"/>
          <p:cNvSpPr/>
          <p:nvPr/>
        </p:nvSpPr>
        <p:spPr>
          <a:xfrm>
            <a:off x="3564000" y="-1168560"/>
            <a:ext cx="576360" cy="551160"/>
          </a:xfrm>
          <a:custGeom>
            <a:avLst/>
            <a:gdLst/>
            <a:ahLst/>
            <a:rect l="l" t="t" r="r" b="b"/>
            <a:pathLst>
              <a:path w="576262" h="550862">
                <a:moveTo>
                  <a:pt x="1" y="210410"/>
                </a:moveTo>
                <a:lnTo>
                  <a:pt x="220114" y="210412"/>
                </a:lnTo>
                <a:lnTo>
                  <a:pt x="288131" y="0"/>
                </a:lnTo>
                <a:lnTo>
                  <a:pt x="356148" y="210412"/>
                </a:lnTo>
                <a:lnTo>
                  <a:pt x="576261" y="210410"/>
                </a:lnTo>
                <a:lnTo>
                  <a:pt x="398185" y="340450"/>
                </a:lnTo>
                <a:lnTo>
                  <a:pt x="466205" y="550861"/>
                </a:lnTo>
                <a:lnTo>
                  <a:pt x="288131" y="420818"/>
                </a:lnTo>
                <a:lnTo>
                  <a:pt x="110057" y="550861"/>
                </a:lnTo>
                <a:lnTo>
                  <a:pt x="178077" y="340450"/>
                </a:lnTo>
                <a:lnTo>
                  <a:pt x="1" y="21041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0"/>
          <p:cNvSpPr/>
          <p:nvPr/>
        </p:nvSpPr>
        <p:spPr>
          <a:xfrm rot="19608000">
            <a:off x="11197800" y="-4262400"/>
            <a:ext cx="2340000" cy="2220840"/>
          </a:xfrm>
          <a:custGeom>
            <a:avLst/>
            <a:gdLst/>
            <a:ahLst/>
            <a:rect l="l" t="t" r="r" b="b"/>
            <a:pathLst>
              <a:path w="2339975" h="2220913">
                <a:moveTo>
                  <a:pt x="2" y="848311"/>
                </a:moveTo>
                <a:lnTo>
                  <a:pt x="893796" y="848317"/>
                </a:lnTo>
                <a:lnTo>
                  <a:pt x="1169988" y="0"/>
                </a:lnTo>
                <a:lnTo>
                  <a:pt x="1446179" y="848317"/>
                </a:lnTo>
                <a:lnTo>
                  <a:pt x="2339973" y="848311"/>
                </a:lnTo>
                <a:lnTo>
                  <a:pt x="1616875" y="1372594"/>
                </a:lnTo>
                <a:lnTo>
                  <a:pt x="1893078" y="2220907"/>
                </a:lnTo>
                <a:lnTo>
                  <a:pt x="1169988" y="1696615"/>
                </a:lnTo>
                <a:lnTo>
                  <a:pt x="446897" y="2220907"/>
                </a:lnTo>
                <a:lnTo>
                  <a:pt x="723100" y="1372594"/>
                </a:lnTo>
                <a:lnTo>
                  <a:pt x="2" y="84831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1"/>
          <p:cNvSpPr/>
          <p:nvPr/>
        </p:nvSpPr>
        <p:spPr>
          <a:xfrm rot="736800">
            <a:off x="10439280" y="-1932120"/>
            <a:ext cx="2130480" cy="1838520"/>
          </a:xfrm>
          <a:custGeom>
            <a:avLst/>
            <a:gdLst/>
            <a:ahLst/>
            <a:rect l="l" t="t" r="r" b="b"/>
            <a:pathLst>
              <a:path w="2130425" h="1838325">
                <a:moveTo>
                  <a:pt x="2" y="702176"/>
                </a:moveTo>
                <a:lnTo>
                  <a:pt x="813754" y="702181"/>
                </a:lnTo>
                <a:lnTo>
                  <a:pt x="1065213" y="0"/>
                </a:lnTo>
                <a:lnTo>
                  <a:pt x="1316671" y="702181"/>
                </a:lnTo>
                <a:lnTo>
                  <a:pt x="2130423" y="702176"/>
                </a:lnTo>
                <a:lnTo>
                  <a:pt x="1472080" y="1136143"/>
                </a:lnTo>
                <a:lnTo>
                  <a:pt x="1723549" y="1838320"/>
                </a:lnTo>
                <a:lnTo>
                  <a:pt x="1065213" y="1404346"/>
                </a:lnTo>
                <a:lnTo>
                  <a:pt x="406876" y="1838320"/>
                </a:lnTo>
                <a:lnTo>
                  <a:pt x="658345" y="1136143"/>
                </a:lnTo>
                <a:lnTo>
                  <a:pt x="2" y="7021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2"/>
          <p:cNvSpPr/>
          <p:nvPr/>
        </p:nvSpPr>
        <p:spPr>
          <a:xfrm>
            <a:off x="9145440" y="-4987800"/>
            <a:ext cx="2436840" cy="2314440"/>
          </a:xfrm>
          <a:custGeom>
            <a:avLst/>
            <a:gdLst/>
            <a:ahLst/>
            <a:rect l="l" t="t" r="r" b="b"/>
            <a:pathLst>
              <a:path w="2436812" h="2314575">
                <a:moveTo>
                  <a:pt x="3" y="884087"/>
                </a:moveTo>
                <a:lnTo>
                  <a:pt x="930784" y="884093"/>
                </a:lnTo>
                <a:lnTo>
                  <a:pt x="1218406" y="0"/>
                </a:lnTo>
                <a:lnTo>
                  <a:pt x="1506028" y="884093"/>
                </a:lnTo>
                <a:lnTo>
                  <a:pt x="2436809" y="884087"/>
                </a:lnTo>
                <a:lnTo>
                  <a:pt x="1683787" y="1430480"/>
                </a:lnTo>
                <a:lnTo>
                  <a:pt x="1971421" y="2314569"/>
                </a:lnTo>
                <a:lnTo>
                  <a:pt x="1218406" y="1768166"/>
                </a:lnTo>
                <a:lnTo>
                  <a:pt x="465391" y="2314569"/>
                </a:lnTo>
                <a:lnTo>
                  <a:pt x="753025" y="1430480"/>
                </a:lnTo>
                <a:lnTo>
                  <a:pt x="3" y="88408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3"/>
          <p:cNvSpPr/>
          <p:nvPr/>
        </p:nvSpPr>
        <p:spPr>
          <a:xfrm rot="20061000">
            <a:off x="934560" y="780048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4"/>
          <p:cNvSpPr/>
          <p:nvPr/>
        </p:nvSpPr>
        <p:spPr>
          <a:xfrm rot="18352200">
            <a:off x="-3565080" y="704196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5"/>
          <p:cNvSpPr/>
          <p:nvPr/>
        </p:nvSpPr>
        <p:spPr>
          <a:xfrm>
            <a:off x="-4387680" y="7800840"/>
            <a:ext cx="1044360" cy="992160"/>
          </a:xfrm>
          <a:custGeom>
            <a:avLst/>
            <a:gdLst/>
            <a:ahLst/>
            <a:rect l="l" t="t" r="r" b="b"/>
            <a:pathLst>
              <a:path w="1044575" h="992188">
                <a:moveTo>
                  <a:pt x="1" y="378981"/>
                </a:moveTo>
                <a:lnTo>
                  <a:pt x="398994" y="378984"/>
                </a:lnTo>
                <a:lnTo>
                  <a:pt x="522288" y="0"/>
                </a:lnTo>
                <a:lnTo>
                  <a:pt x="645581" y="378984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5"/>
                </a:lnTo>
                <a:lnTo>
                  <a:pt x="522288" y="757959"/>
                </a:lnTo>
                <a:lnTo>
                  <a:pt x="199497" y="992185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6"/>
          <p:cNvSpPr/>
          <p:nvPr/>
        </p:nvSpPr>
        <p:spPr>
          <a:xfrm rot="19608000">
            <a:off x="0" y="966168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7"/>
          <p:cNvSpPr/>
          <p:nvPr/>
        </p:nvSpPr>
        <p:spPr>
          <a:xfrm>
            <a:off x="-2516040" y="873756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8"/>
          <p:cNvSpPr/>
          <p:nvPr/>
        </p:nvSpPr>
        <p:spPr>
          <a:xfrm>
            <a:off x="-4387680" y="101775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9"/>
          <p:cNvSpPr/>
          <p:nvPr/>
        </p:nvSpPr>
        <p:spPr>
          <a:xfrm>
            <a:off x="-1003320" y="8040600"/>
            <a:ext cx="1003320" cy="957240"/>
          </a:xfrm>
          <a:custGeom>
            <a:avLst/>
            <a:gdLst/>
            <a:ahLst/>
            <a:rect l="l" t="t" r="r" b="b"/>
            <a:pathLst>
              <a:path w="1003300" h="957262">
                <a:moveTo>
                  <a:pt x="1" y="365641"/>
                </a:moveTo>
                <a:lnTo>
                  <a:pt x="383229" y="365643"/>
                </a:lnTo>
                <a:lnTo>
                  <a:pt x="501650" y="0"/>
                </a:lnTo>
                <a:lnTo>
                  <a:pt x="620071" y="365643"/>
                </a:lnTo>
                <a:lnTo>
                  <a:pt x="1003299" y="365641"/>
                </a:lnTo>
                <a:lnTo>
                  <a:pt x="693260" y="591618"/>
                </a:lnTo>
                <a:lnTo>
                  <a:pt x="811686" y="957260"/>
                </a:lnTo>
                <a:lnTo>
                  <a:pt x="501650" y="731278"/>
                </a:lnTo>
                <a:lnTo>
                  <a:pt x="191614" y="957260"/>
                </a:lnTo>
                <a:lnTo>
                  <a:pt x="310040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0"/>
          <p:cNvSpPr/>
          <p:nvPr/>
        </p:nvSpPr>
        <p:spPr>
          <a:xfrm>
            <a:off x="-428760" y="11185560"/>
            <a:ext cx="571680" cy="547560"/>
          </a:xfrm>
          <a:custGeom>
            <a:avLst/>
            <a:gdLst/>
            <a:ahLst/>
            <a:rect l="l" t="t" r="r" b="b"/>
            <a:pathLst>
              <a:path w="571500" h="547688">
                <a:moveTo>
                  <a:pt x="1" y="209198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8"/>
                </a:lnTo>
                <a:lnTo>
                  <a:pt x="394895" y="338488"/>
                </a:lnTo>
                <a:lnTo>
                  <a:pt x="462353" y="547687"/>
                </a:lnTo>
                <a:lnTo>
                  <a:pt x="285750" y="418394"/>
                </a:lnTo>
                <a:lnTo>
                  <a:pt x="109147" y="547687"/>
                </a:lnTo>
                <a:lnTo>
                  <a:pt x="176605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1"/>
          <p:cNvSpPr/>
          <p:nvPr/>
        </p:nvSpPr>
        <p:spPr>
          <a:xfrm rot="18717600">
            <a:off x="1941840" y="-5509440"/>
            <a:ext cx="576360" cy="5461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 rot="20269800">
            <a:off x="1582200" y="-508752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3"/>
          <p:cNvSpPr/>
          <p:nvPr/>
        </p:nvSpPr>
        <p:spPr>
          <a:xfrm rot="20247600">
            <a:off x="1079280" y="-5509800"/>
            <a:ext cx="360360" cy="338040"/>
          </a:xfrm>
          <a:custGeom>
            <a:avLst/>
            <a:gdLst/>
            <a:ahLst/>
            <a:rect l="l" t="t" r="r" b="b"/>
            <a:pathLst>
              <a:path w="360363" h="338138">
                <a:moveTo>
                  <a:pt x="0" y="129157"/>
                </a:moveTo>
                <a:lnTo>
                  <a:pt x="137647" y="129158"/>
                </a:lnTo>
                <a:lnTo>
                  <a:pt x="180182" y="0"/>
                </a:lnTo>
                <a:lnTo>
                  <a:pt x="222716" y="129158"/>
                </a:lnTo>
                <a:lnTo>
                  <a:pt x="360363" y="129157"/>
                </a:lnTo>
                <a:lnTo>
                  <a:pt x="249003" y="208980"/>
                </a:lnTo>
                <a:lnTo>
                  <a:pt x="291540" y="338137"/>
                </a:lnTo>
                <a:lnTo>
                  <a:pt x="180182" y="258313"/>
                </a:lnTo>
                <a:lnTo>
                  <a:pt x="68823" y="338137"/>
                </a:lnTo>
                <a:lnTo>
                  <a:pt x="111360" y="208980"/>
                </a:lnTo>
                <a:lnTo>
                  <a:pt x="0" y="12915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4"/>
          <p:cNvSpPr/>
          <p:nvPr/>
        </p:nvSpPr>
        <p:spPr>
          <a:xfrm rot="20252400">
            <a:off x="934920" y="-6016680"/>
            <a:ext cx="432000" cy="415800"/>
          </a:xfrm>
          <a:custGeom>
            <a:avLst/>
            <a:gdLst/>
            <a:ahLst/>
            <a:rect l="l" t="t" r="r" b="b"/>
            <a:pathLst>
              <a:path w="431800" h="415925">
                <a:moveTo>
                  <a:pt x="0" y="158869"/>
                </a:moveTo>
                <a:lnTo>
                  <a:pt x="164934" y="158870"/>
                </a:lnTo>
                <a:lnTo>
                  <a:pt x="215900" y="0"/>
                </a:lnTo>
                <a:lnTo>
                  <a:pt x="266866" y="158870"/>
                </a:lnTo>
                <a:lnTo>
                  <a:pt x="431800" y="158869"/>
                </a:lnTo>
                <a:lnTo>
                  <a:pt x="298365" y="257055"/>
                </a:lnTo>
                <a:lnTo>
                  <a:pt x="349333" y="415924"/>
                </a:lnTo>
                <a:lnTo>
                  <a:pt x="215900" y="317736"/>
                </a:lnTo>
                <a:lnTo>
                  <a:pt x="82467" y="415924"/>
                </a:lnTo>
                <a:lnTo>
                  <a:pt x="133435" y="257055"/>
                </a:lnTo>
                <a:lnTo>
                  <a:pt x="0" y="15886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5"/>
          <p:cNvSpPr/>
          <p:nvPr/>
        </p:nvSpPr>
        <p:spPr>
          <a:xfrm rot="20256000">
            <a:off x="-571680" y="-5874840"/>
            <a:ext cx="571680" cy="547560"/>
          </a:xfrm>
          <a:custGeom>
            <a:avLst/>
            <a:gdLst/>
            <a:ahLst/>
            <a:rect l="l" t="t" r="r" b="b"/>
            <a:pathLst>
              <a:path w="571500" h="547688">
                <a:moveTo>
                  <a:pt x="1" y="209198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8"/>
                </a:lnTo>
                <a:lnTo>
                  <a:pt x="394895" y="338488"/>
                </a:lnTo>
                <a:lnTo>
                  <a:pt x="462353" y="547687"/>
                </a:lnTo>
                <a:lnTo>
                  <a:pt x="285750" y="418394"/>
                </a:lnTo>
                <a:lnTo>
                  <a:pt x="109147" y="547687"/>
                </a:lnTo>
                <a:lnTo>
                  <a:pt x="176605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6"/>
          <p:cNvSpPr/>
          <p:nvPr/>
        </p:nvSpPr>
        <p:spPr>
          <a:xfrm>
            <a:off x="-1077840" y="-5904000"/>
            <a:ext cx="28872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1220760" y="-508320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 rot="20256000">
            <a:off x="-284040" y="-4374720"/>
            <a:ext cx="571320" cy="547560"/>
          </a:xfrm>
          <a:custGeom>
            <a:avLst/>
            <a:gdLst/>
            <a:ahLst/>
            <a:rect l="l" t="t" r="r" b="b"/>
            <a:pathLst>
              <a:path w="571501" h="547687">
                <a:moveTo>
                  <a:pt x="1" y="209197"/>
                </a:moveTo>
                <a:lnTo>
                  <a:pt x="218295" y="209199"/>
                </a:lnTo>
                <a:lnTo>
                  <a:pt x="285751" y="0"/>
                </a:lnTo>
                <a:lnTo>
                  <a:pt x="353206" y="209199"/>
                </a:lnTo>
                <a:lnTo>
                  <a:pt x="571500" y="209197"/>
                </a:lnTo>
                <a:lnTo>
                  <a:pt x="394896" y="338488"/>
                </a:lnTo>
                <a:lnTo>
                  <a:pt x="462354" y="547686"/>
                </a:lnTo>
                <a:lnTo>
                  <a:pt x="285751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 rot="18352200">
            <a:off x="-4968360" y="-663696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 rot="20262000">
            <a:off x="-3379320" y="-551448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 rot="18269400">
            <a:off x="-1080" y="-3930840"/>
            <a:ext cx="10065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-1508040" y="-45784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 rot="20260800">
            <a:off x="-3379320" y="-313848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4"/>
          <p:cNvSpPr/>
          <p:nvPr/>
        </p:nvSpPr>
        <p:spPr>
          <a:xfrm rot="20260800">
            <a:off x="4212720" y="-5452920"/>
            <a:ext cx="100836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5"/>
          <p:cNvSpPr/>
          <p:nvPr/>
        </p:nvSpPr>
        <p:spPr>
          <a:xfrm rot="20256000">
            <a:off x="574200" y="-2127240"/>
            <a:ext cx="576360" cy="544680"/>
          </a:xfrm>
          <a:custGeom>
            <a:avLst/>
            <a:gdLst/>
            <a:ahLst/>
            <a:rect l="l" t="t" r="r" b="b"/>
            <a:pathLst>
              <a:path w="576263" h="544512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1"/>
                </a:lnTo>
                <a:lnTo>
                  <a:pt x="288132" y="415967"/>
                </a:lnTo>
                <a:lnTo>
                  <a:pt x="110057" y="544511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 rot="20061000">
            <a:off x="15804720" y="-3927600"/>
            <a:ext cx="576360" cy="552600"/>
          </a:xfrm>
          <a:custGeom>
            <a:avLst/>
            <a:gdLst/>
            <a:ahLst/>
            <a:rect l="l" t="t" r="r" b="b"/>
            <a:pathLst>
              <a:path w="576263" h="552450">
                <a:moveTo>
                  <a:pt x="1" y="211017"/>
                </a:moveTo>
                <a:lnTo>
                  <a:pt x="220114" y="211018"/>
                </a:lnTo>
                <a:lnTo>
                  <a:pt x="288132" y="0"/>
                </a:lnTo>
                <a:lnTo>
                  <a:pt x="356149" y="211018"/>
                </a:lnTo>
                <a:lnTo>
                  <a:pt x="576262" y="211017"/>
                </a:lnTo>
                <a:lnTo>
                  <a:pt x="398186" y="341431"/>
                </a:lnTo>
                <a:lnTo>
                  <a:pt x="466206" y="552449"/>
                </a:lnTo>
                <a:lnTo>
                  <a:pt x="288132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7"/>
          <p:cNvSpPr/>
          <p:nvPr/>
        </p:nvSpPr>
        <p:spPr>
          <a:xfrm>
            <a:off x="15444720" y="-3500280"/>
            <a:ext cx="289080" cy="277560"/>
          </a:xfrm>
          <a:custGeom>
            <a:avLst/>
            <a:gdLst/>
            <a:ahLst/>
            <a:rect l="l" t="t" r="r" b="b"/>
            <a:pathLst>
              <a:path w="288925" h="277813">
                <a:moveTo>
                  <a:pt x="0" y="106115"/>
                </a:moveTo>
                <a:lnTo>
                  <a:pt x="110360" y="106116"/>
                </a:lnTo>
                <a:lnTo>
                  <a:pt x="144463" y="0"/>
                </a:lnTo>
                <a:lnTo>
                  <a:pt x="178565" y="106116"/>
                </a:lnTo>
                <a:lnTo>
                  <a:pt x="288925" y="106115"/>
                </a:lnTo>
                <a:lnTo>
                  <a:pt x="199641" y="171697"/>
                </a:lnTo>
                <a:lnTo>
                  <a:pt x="233745" y="277812"/>
                </a:lnTo>
                <a:lnTo>
                  <a:pt x="144463" y="212229"/>
                </a:lnTo>
                <a:lnTo>
                  <a:pt x="55180" y="277812"/>
                </a:lnTo>
                <a:lnTo>
                  <a:pt x="89284" y="171697"/>
                </a:lnTo>
                <a:lnTo>
                  <a:pt x="0" y="10611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8"/>
          <p:cNvSpPr/>
          <p:nvPr/>
        </p:nvSpPr>
        <p:spPr>
          <a:xfrm>
            <a:off x="14941440" y="-392760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9"/>
          <p:cNvSpPr/>
          <p:nvPr/>
        </p:nvSpPr>
        <p:spPr>
          <a:xfrm>
            <a:off x="14797080" y="-4425840"/>
            <a:ext cx="431640" cy="407880"/>
          </a:xfrm>
          <a:custGeom>
            <a:avLst/>
            <a:gdLst/>
            <a:ahLst/>
            <a:rect l="l" t="t" r="r" b="b"/>
            <a:pathLst>
              <a:path w="431800" h="407987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6"/>
                </a:lnTo>
                <a:lnTo>
                  <a:pt x="215900" y="311672"/>
                </a:lnTo>
                <a:lnTo>
                  <a:pt x="82467" y="407986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0"/>
          <p:cNvSpPr/>
          <p:nvPr/>
        </p:nvSpPr>
        <p:spPr>
          <a:xfrm>
            <a:off x="13285800" y="-4284720"/>
            <a:ext cx="576360" cy="544680"/>
          </a:xfrm>
          <a:custGeom>
            <a:avLst/>
            <a:gdLst/>
            <a:ahLst/>
            <a:rect l="l" t="t" r="r" b="b"/>
            <a:pathLst>
              <a:path w="576262" h="544513">
                <a:moveTo>
                  <a:pt x="1" y="207985"/>
                </a:moveTo>
                <a:lnTo>
                  <a:pt x="220114" y="207986"/>
                </a:lnTo>
                <a:lnTo>
                  <a:pt x="288131" y="0"/>
                </a:lnTo>
                <a:lnTo>
                  <a:pt x="356148" y="207986"/>
                </a:lnTo>
                <a:lnTo>
                  <a:pt x="576261" y="207985"/>
                </a:lnTo>
                <a:lnTo>
                  <a:pt x="398185" y="336526"/>
                </a:lnTo>
                <a:lnTo>
                  <a:pt x="466205" y="544512"/>
                </a:lnTo>
                <a:lnTo>
                  <a:pt x="288131" y="415968"/>
                </a:lnTo>
                <a:lnTo>
                  <a:pt x="110057" y="544512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1"/>
          <p:cNvSpPr/>
          <p:nvPr/>
        </p:nvSpPr>
        <p:spPr>
          <a:xfrm>
            <a:off x="12779280" y="-4311720"/>
            <a:ext cx="289080" cy="270000"/>
          </a:xfrm>
          <a:custGeom>
            <a:avLst/>
            <a:gdLst/>
            <a:ahLst/>
            <a:rect l="l" t="t" r="r" b="b"/>
            <a:pathLst>
              <a:path w="288925" h="269875">
                <a:moveTo>
                  <a:pt x="0" y="103083"/>
                </a:moveTo>
                <a:lnTo>
                  <a:pt x="110360" y="103084"/>
                </a:lnTo>
                <a:lnTo>
                  <a:pt x="144463" y="0"/>
                </a:lnTo>
                <a:lnTo>
                  <a:pt x="178565" y="103084"/>
                </a:lnTo>
                <a:lnTo>
                  <a:pt x="288925" y="103083"/>
                </a:lnTo>
                <a:lnTo>
                  <a:pt x="199641" y="166791"/>
                </a:lnTo>
                <a:lnTo>
                  <a:pt x="233745" y="269874"/>
                </a:lnTo>
                <a:lnTo>
                  <a:pt x="144463" y="206165"/>
                </a:lnTo>
                <a:lnTo>
                  <a:pt x="55180" y="269874"/>
                </a:lnTo>
                <a:lnTo>
                  <a:pt x="89284" y="166791"/>
                </a:lnTo>
                <a:lnTo>
                  <a:pt x="0" y="10308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2"/>
          <p:cNvSpPr/>
          <p:nvPr/>
        </p:nvSpPr>
        <p:spPr>
          <a:xfrm>
            <a:off x="13068360" y="673200"/>
            <a:ext cx="360360" cy="34272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3"/>
          <p:cNvSpPr/>
          <p:nvPr/>
        </p:nvSpPr>
        <p:spPr>
          <a:xfrm>
            <a:off x="13463640" y="-3311640"/>
            <a:ext cx="576360" cy="542880"/>
          </a:xfrm>
          <a:custGeom>
            <a:avLst/>
            <a:gdLst/>
            <a:ahLst/>
            <a:rect l="l" t="t" r="r" b="b"/>
            <a:pathLst>
              <a:path w="576262" h="542925">
                <a:moveTo>
                  <a:pt x="1" y="207378"/>
                </a:moveTo>
                <a:lnTo>
                  <a:pt x="220114" y="207380"/>
                </a:lnTo>
                <a:lnTo>
                  <a:pt x="288131" y="0"/>
                </a:lnTo>
                <a:lnTo>
                  <a:pt x="356148" y="207380"/>
                </a:lnTo>
                <a:lnTo>
                  <a:pt x="576261" y="207378"/>
                </a:lnTo>
                <a:lnTo>
                  <a:pt x="398185" y="335545"/>
                </a:lnTo>
                <a:lnTo>
                  <a:pt x="466205" y="542924"/>
                </a:lnTo>
                <a:lnTo>
                  <a:pt x="288131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4"/>
          <p:cNvSpPr/>
          <p:nvPr/>
        </p:nvSpPr>
        <p:spPr>
          <a:xfrm rot="18352200">
            <a:off x="11733840" y="-512280"/>
            <a:ext cx="1584360" cy="1649520"/>
          </a:xfrm>
          <a:custGeom>
            <a:avLst/>
            <a:gdLst/>
            <a:ahLst/>
            <a:rect l="l" t="t" r="r" b="b"/>
            <a:pathLst>
              <a:path w="1584325" h="1651000">
                <a:moveTo>
                  <a:pt x="2" y="630624"/>
                </a:moveTo>
                <a:lnTo>
                  <a:pt x="605162" y="630629"/>
                </a:lnTo>
                <a:lnTo>
                  <a:pt x="792163" y="0"/>
                </a:lnTo>
                <a:lnTo>
                  <a:pt x="979163" y="630629"/>
                </a:lnTo>
                <a:lnTo>
                  <a:pt x="1584323" y="630624"/>
                </a:lnTo>
                <a:lnTo>
                  <a:pt x="1094736" y="1020370"/>
                </a:lnTo>
                <a:lnTo>
                  <a:pt x="1281745" y="1650996"/>
                </a:lnTo>
                <a:lnTo>
                  <a:pt x="792163" y="1261243"/>
                </a:lnTo>
                <a:lnTo>
                  <a:pt x="302580" y="1650996"/>
                </a:lnTo>
                <a:lnTo>
                  <a:pt x="489589" y="1020370"/>
                </a:lnTo>
                <a:lnTo>
                  <a:pt x="2" y="63062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5"/>
          <p:cNvSpPr/>
          <p:nvPr/>
        </p:nvSpPr>
        <p:spPr>
          <a:xfrm>
            <a:off x="10909440" y="241200"/>
            <a:ext cx="1044360" cy="992160"/>
          </a:xfrm>
          <a:custGeom>
            <a:avLst/>
            <a:gdLst/>
            <a:ahLst/>
            <a:rect l="l" t="t" r="r" b="b"/>
            <a:pathLst>
              <a:path w="1044575" h="992188">
                <a:moveTo>
                  <a:pt x="1" y="378981"/>
                </a:moveTo>
                <a:lnTo>
                  <a:pt x="398994" y="378984"/>
                </a:lnTo>
                <a:lnTo>
                  <a:pt x="522288" y="0"/>
                </a:lnTo>
                <a:lnTo>
                  <a:pt x="645581" y="378984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5"/>
                </a:lnTo>
                <a:lnTo>
                  <a:pt x="522288" y="757959"/>
                </a:lnTo>
                <a:lnTo>
                  <a:pt x="199497" y="992185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6"/>
          <p:cNvSpPr/>
          <p:nvPr/>
        </p:nvSpPr>
        <p:spPr>
          <a:xfrm rot="19608000">
            <a:off x="13860000" y="-23428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7"/>
          <p:cNvSpPr/>
          <p:nvPr/>
        </p:nvSpPr>
        <p:spPr>
          <a:xfrm>
            <a:off x="12781080" y="117792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8"/>
          <p:cNvSpPr/>
          <p:nvPr/>
        </p:nvSpPr>
        <p:spPr>
          <a:xfrm>
            <a:off x="10909440" y="261792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13862160" y="-368784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4436720" y="-538200"/>
            <a:ext cx="576360" cy="538200"/>
          </a:xfrm>
          <a:custGeom>
            <a:avLst/>
            <a:gdLst/>
            <a:ahLst/>
            <a:rect l="l" t="t" r="r" b="b"/>
            <a:pathLst>
              <a:path w="576263" h="538163">
                <a:moveTo>
                  <a:pt x="1" y="205559"/>
                </a:moveTo>
                <a:lnTo>
                  <a:pt x="220114" y="205561"/>
                </a:lnTo>
                <a:lnTo>
                  <a:pt x="288132" y="0"/>
                </a:lnTo>
                <a:lnTo>
                  <a:pt x="356149" y="205561"/>
                </a:lnTo>
                <a:lnTo>
                  <a:pt x="576262" y="205559"/>
                </a:lnTo>
                <a:lnTo>
                  <a:pt x="398186" y="332602"/>
                </a:lnTo>
                <a:lnTo>
                  <a:pt x="466206" y="538162"/>
                </a:lnTo>
                <a:lnTo>
                  <a:pt x="288132" y="411117"/>
                </a:lnTo>
                <a:lnTo>
                  <a:pt x="110057" y="538162"/>
                </a:lnTo>
                <a:lnTo>
                  <a:pt x="178077" y="332602"/>
                </a:lnTo>
                <a:lnTo>
                  <a:pt x="1" y="20555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1"/>
          <p:cNvSpPr/>
          <p:nvPr/>
        </p:nvSpPr>
        <p:spPr>
          <a:xfrm rot="19608000">
            <a:off x="13430160" y="475632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2"/>
          <p:cNvSpPr/>
          <p:nvPr/>
        </p:nvSpPr>
        <p:spPr>
          <a:xfrm rot="20061000">
            <a:off x="12204360" y="9408600"/>
            <a:ext cx="576360" cy="54792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3"/>
          <p:cNvSpPr/>
          <p:nvPr/>
        </p:nvSpPr>
        <p:spPr>
          <a:xfrm rot="2616600">
            <a:off x="11988360" y="94662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4"/>
          <p:cNvSpPr/>
          <p:nvPr/>
        </p:nvSpPr>
        <p:spPr>
          <a:xfrm>
            <a:off x="12746160" y="425124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5"/>
          <p:cNvSpPr/>
          <p:nvPr/>
        </p:nvSpPr>
        <p:spPr>
          <a:xfrm rot="2619000">
            <a:off x="11485440" y="90388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6"/>
          <p:cNvSpPr/>
          <p:nvPr/>
        </p:nvSpPr>
        <p:spPr>
          <a:xfrm>
            <a:off x="11701440" y="81136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7"/>
          <p:cNvSpPr/>
          <p:nvPr/>
        </p:nvSpPr>
        <p:spPr>
          <a:xfrm rot="2625000">
            <a:off x="11340720" y="8537400"/>
            <a:ext cx="432000" cy="41148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8"/>
          <p:cNvSpPr/>
          <p:nvPr/>
        </p:nvSpPr>
        <p:spPr>
          <a:xfrm>
            <a:off x="12819240" y="28353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9"/>
          <p:cNvSpPr/>
          <p:nvPr/>
        </p:nvSpPr>
        <p:spPr>
          <a:xfrm>
            <a:off x="12673080" y="10466280"/>
            <a:ext cx="57636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0"/>
          <p:cNvSpPr/>
          <p:nvPr/>
        </p:nvSpPr>
        <p:spPr>
          <a:xfrm rot="20061000">
            <a:off x="12206160" y="273816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1"/>
          <p:cNvSpPr/>
          <p:nvPr/>
        </p:nvSpPr>
        <p:spPr>
          <a:xfrm>
            <a:off x="11990520" y="2795760"/>
            <a:ext cx="288720" cy="27432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2"/>
          <p:cNvSpPr/>
          <p:nvPr/>
        </p:nvSpPr>
        <p:spPr>
          <a:xfrm>
            <a:off x="11487240" y="236844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13141440" y="23018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15484320" y="236844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 rot="1110600">
            <a:off x="3743280" y="117360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6"/>
          <p:cNvSpPr/>
          <p:nvPr/>
        </p:nvSpPr>
        <p:spPr>
          <a:xfrm rot="2616600">
            <a:off x="3526920" y="117936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7"/>
          <p:cNvSpPr/>
          <p:nvPr/>
        </p:nvSpPr>
        <p:spPr>
          <a:xfrm rot="2619000">
            <a:off x="3024360" y="113662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8"/>
          <p:cNvSpPr/>
          <p:nvPr/>
        </p:nvSpPr>
        <p:spPr>
          <a:xfrm rot="2655000">
            <a:off x="3240000" y="1044072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9"/>
          <p:cNvSpPr/>
          <p:nvPr/>
        </p:nvSpPr>
        <p:spPr>
          <a:xfrm rot="2650200">
            <a:off x="3742920" y="1022472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0"/>
          <p:cNvSpPr/>
          <p:nvPr/>
        </p:nvSpPr>
        <p:spPr>
          <a:xfrm>
            <a:off x="4211640" y="127936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1"/>
          <p:cNvSpPr/>
          <p:nvPr/>
        </p:nvSpPr>
        <p:spPr>
          <a:xfrm rot="2655000">
            <a:off x="6227280" y="847404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2"/>
          <p:cNvSpPr/>
          <p:nvPr/>
        </p:nvSpPr>
        <p:spPr>
          <a:xfrm rot="2655000">
            <a:off x="4356000" y="991368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3"/>
          <p:cNvSpPr/>
          <p:nvPr/>
        </p:nvSpPr>
        <p:spPr>
          <a:xfrm rot="19608000">
            <a:off x="6877080" y="1205244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4"/>
          <p:cNvSpPr/>
          <p:nvPr/>
        </p:nvSpPr>
        <p:spPr>
          <a:xfrm rot="2655000">
            <a:off x="6192360" y="1154736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5"/>
          <p:cNvSpPr/>
          <p:nvPr/>
        </p:nvSpPr>
        <p:spPr>
          <a:xfrm rot="2655000">
            <a:off x="6265800" y="1013112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6"/>
          <p:cNvSpPr/>
          <p:nvPr/>
        </p:nvSpPr>
        <p:spPr>
          <a:xfrm rot="1110600">
            <a:off x="5653080" y="100342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7"/>
          <p:cNvSpPr/>
          <p:nvPr/>
        </p:nvSpPr>
        <p:spPr>
          <a:xfrm rot="2625000">
            <a:off x="6587640" y="959796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8"/>
          <p:cNvSpPr/>
          <p:nvPr/>
        </p:nvSpPr>
        <p:spPr>
          <a:xfrm rot="14564400">
            <a:off x="-4032000" y="185724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9"/>
          <p:cNvSpPr/>
          <p:nvPr/>
        </p:nvSpPr>
        <p:spPr>
          <a:xfrm rot="17285400">
            <a:off x="-5074560" y="2362320"/>
            <a:ext cx="1189080" cy="1027080"/>
          </a:xfrm>
          <a:custGeom>
            <a:avLst/>
            <a:gdLst/>
            <a:ahLst/>
            <a:rect l="l" t="t" r="r" b="b"/>
            <a:pathLst>
              <a:path w="1189037" h="1027112">
                <a:moveTo>
                  <a:pt x="1" y="392321"/>
                </a:moveTo>
                <a:lnTo>
                  <a:pt x="454174" y="392324"/>
                </a:lnTo>
                <a:lnTo>
                  <a:pt x="594519" y="0"/>
                </a:lnTo>
                <a:lnTo>
                  <a:pt x="734863" y="392324"/>
                </a:lnTo>
                <a:lnTo>
                  <a:pt x="1189036" y="392321"/>
                </a:lnTo>
                <a:lnTo>
                  <a:pt x="821600" y="634787"/>
                </a:lnTo>
                <a:lnTo>
                  <a:pt x="961950" y="1027109"/>
                </a:lnTo>
                <a:lnTo>
                  <a:pt x="594519" y="784638"/>
                </a:lnTo>
                <a:lnTo>
                  <a:pt x="227087" y="1027109"/>
                </a:lnTo>
                <a:lnTo>
                  <a:pt x="367437" y="634787"/>
                </a:lnTo>
                <a:lnTo>
                  <a:pt x="1" y="39232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0"/>
          <p:cNvSpPr/>
          <p:nvPr/>
        </p:nvSpPr>
        <p:spPr>
          <a:xfrm rot="15216600">
            <a:off x="-6189840" y="-856440"/>
            <a:ext cx="1619280" cy="1543320"/>
          </a:xfrm>
          <a:custGeom>
            <a:avLst/>
            <a:gdLst/>
            <a:ahLst/>
            <a:rect l="l" t="t" r="r" b="b"/>
            <a:pathLst>
              <a:path w="1619250" h="1543050">
                <a:moveTo>
                  <a:pt x="2" y="589391"/>
                </a:moveTo>
                <a:lnTo>
                  <a:pt x="618502" y="589395"/>
                </a:lnTo>
                <a:lnTo>
                  <a:pt x="809625" y="0"/>
                </a:lnTo>
                <a:lnTo>
                  <a:pt x="1000748" y="589395"/>
                </a:lnTo>
                <a:lnTo>
                  <a:pt x="1619248" y="589391"/>
                </a:lnTo>
                <a:lnTo>
                  <a:pt x="1118869" y="953653"/>
                </a:lnTo>
                <a:lnTo>
                  <a:pt x="1310000" y="1543046"/>
                </a:lnTo>
                <a:lnTo>
                  <a:pt x="809625" y="1178777"/>
                </a:lnTo>
                <a:lnTo>
                  <a:pt x="309250" y="1543046"/>
                </a:lnTo>
                <a:lnTo>
                  <a:pt x="500381" y="953653"/>
                </a:lnTo>
                <a:lnTo>
                  <a:pt x="2" y="58939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1"/>
          <p:cNvSpPr/>
          <p:nvPr/>
        </p:nvSpPr>
        <p:spPr>
          <a:xfrm rot="16550400">
            <a:off x="-4787640" y="4222440"/>
            <a:ext cx="360360" cy="341280"/>
          </a:xfrm>
          <a:custGeom>
            <a:avLst/>
            <a:gdLst/>
            <a:ahLst/>
            <a:rect l="l" t="t" r="r" b="b"/>
            <a:pathLst>
              <a:path w="360363" h="341312">
                <a:moveTo>
                  <a:pt x="0" y="130369"/>
                </a:moveTo>
                <a:lnTo>
                  <a:pt x="137647" y="130370"/>
                </a:lnTo>
                <a:lnTo>
                  <a:pt x="180182" y="0"/>
                </a:lnTo>
                <a:lnTo>
                  <a:pt x="222716" y="130370"/>
                </a:lnTo>
                <a:lnTo>
                  <a:pt x="360363" y="130369"/>
                </a:lnTo>
                <a:lnTo>
                  <a:pt x="249003" y="210942"/>
                </a:lnTo>
                <a:lnTo>
                  <a:pt x="291540" y="341311"/>
                </a:lnTo>
                <a:lnTo>
                  <a:pt x="180182" y="260737"/>
                </a:lnTo>
                <a:lnTo>
                  <a:pt x="68823" y="341311"/>
                </a:lnTo>
                <a:lnTo>
                  <a:pt x="111360" y="210942"/>
                </a:lnTo>
                <a:lnTo>
                  <a:pt x="0" y="13036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2"/>
          <p:cNvSpPr/>
          <p:nvPr/>
        </p:nvSpPr>
        <p:spPr>
          <a:xfrm rot="16590000">
            <a:off x="-4931280" y="3723480"/>
            <a:ext cx="43200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3"/>
          <p:cNvSpPr/>
          <p:nvPr/>
        </p:nvSpPr>
        <p:spPr>
          <a:xfrm rot="16551600">
            <a:off x="-4071600" y="30826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4"/>
          <p:cNvSpPr/>
          <p:nvPr/>
        </p:nvSpPr>
        <p:spPr>
          <a:xfrm rot="21004200">
            <a:off x="-4927680" y="1404720"/>
            <a:ext cx="1189080" cy="1028520"/>
          </a:xfrm>
          <a:custGeom>
            <a:avLst/>
            <a:gdLst/>
            <a:ahLst/>
            <a:rect l="l" t="t" r="r" b="b"/>
            <a:pathLst>
              <a:path w="1189037" h="1028700">
                <a:moveTo>
                  <a:pt x="1" y="392927"/>
                </a:moveTo>
                <a:lnTo>
                  <a:pt x="454174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6" y="392927"/>
                </a:lnTo>
                <a:lnTo>
                  <a:pt x="821600" y="635769"/>
                </a:lnTo>
                <a:lnTo>
                  <a:pt x="961950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5"/>
          <p:cNvSpPr/>
          <p:nvPr/>
        </p:nvSpPr>
        <p:spPr>
          <a:xfrm>
            <a:off x="-2965320" y="318780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6"/>
          <p:cNvSpPr/>
          <p:nvPr/>
        </p:nvSpPr>
        <p:spPr>
          <a:xfrm>
            <a:off x="-3776760" y="21258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7"/>
          <p:cNvSpPr/>
          <p:nvPr/>
        </p:nvSpPr>
        <p:spPr>
          <a:xfrm rot="20269800">
            <a:off x="-5757480" y="-178884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8"/>
          <p:cNvSpPr/>
          <p:nvPr/>
        </p:nvSpPr>
        <p:spPr>
          <a:xfrm rot="20247600">
            <a:off x="-6261120" y="-22161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9"/>
          <p:cNvSpPr/>
          <p:nvPr/>
        </p:nvSpPr>
        <p:spPr>
          <a:xfrm rot="20252400">
            <a:off x="-6405480" y="-2717280"/>
            <a:ext cx="43164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0"/>
          <p:cNvSpPr/>
          <p:nvPr/>
        </p:nvSpPr>
        <p:spPr>
          <a:xfrm rot="20256000">
            <a:off x="-6765840" y="1163160"/>
            <a:ext cx="57600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1"/>
          <p:cNvSpPr/>
          <p:nvPr/>
        </p:nvSpPr>
        <p:spPr>
          <a:xfrm>
            <a:off x="5329080" y="-244332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2"/>
          <p:cNvSpPr/>
          <p:nvPr/>
        </p:nvSpPr>
        <p:spPr>
          <a:xfrm rot="19608000">
            <a:off x="7483320" y="-6154200"/>
            <a:ext cx="1764000" cy="1677960"/>
          </a:xfrm>
          <a:custGeom>
            <a:avLst/>
            <a:gdLst/>
            <a:ahLst/>
            <a:rect l="l" t="t" r="r" b="b"/>
            <a:pathLst>
              <a:path w="1763713" h="1677988">
                <a:moveTo>
                  <a:pt x="2" y="640933"/>
                </a:moveTo>
                <a:lnTo>
                  <a:pt x="673682" y="640937"/>
                </a:lnTo>
                <a:lnTo>
                  <a:pt x="881857" y="0"/>
                </a:lnTo>
                <a:lnTo>
                  <a:pt x="1090031" y="640937"/>
                </a:lnTo>
                <a:lnTo>
                  <a:pt x="1763711" y="640933"/>
                </a:lnTo>
                <a:lnTo>
                  <a:pt x="1218690" y="1037049"/>
                </a:lnTo>
                <a:lnTo>
                  <a:pt x="1426873" y="1677984"/>
                </a:lnTo>
                <a:lnTo>
                  <a:pt x="881857" y="1281860"/>
                </a:lnTo>
                <a:lnTo>
                  <a:pt x="336840" y="1677984"/>
                </a:lnTo>
                <a:lnTo>
                  <a:pt x="545023" y="1037049"/>
                </a:lnTo>
                <a:lnTo>
                  <a:pt x="2" y="64093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3"/>
          <p:cNvSpPr/>
          <p:nvPr/>
        </p:nvSpPr>
        <p:spPr>
          <a:xfrm rot="20061000">
            <a:off x="5292360" y="-3327480"/>
            <a:ext cx="576360" cy="544680"/>
          </a:xfrm>
          <a:custGeom>
            <a:avLst/>
            <a:gdLst/>
            <a:ahLst/>
            <a:rect l="l" t="t" r="r" b="b"/>
            <a:pathLst>
              <a:path w="576263" h="544512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1"/>
                </a:lnTo>
                <a:lnTo>
                  <a:pt x="288132" y="415967"/>
                </a:lnTo>
                <a:lnTo>
                  <a:pt x="110057" y="544511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4"/>
          <p:cNvSpPr/>
          <p:nvPr/>
        </p:nvSpPr>
        <p:spPr>
          <a:xfrm>
            <a:off x="5076720" y="-327024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5"/>
          <p:cNvSpPr/>
          <p:nvPr/>
        </p:nvSpPr>
        <p:spPr>
          <a:xfrm>
            <a:off x="5653080" y="-6211800"/>
            <a:ext cx="1536840" cy="1458720"/>
          </a:xfrm>
          <a:custGeom>
            <a:avLst/>
            <a:gdLst/>
            <a:ahLst/>
            <a:rect l="l" t="t" r="r" b="b"/>
            <a:pathLst>
              <a:path w="1536700" h="1458913">
                <a:moveTo>
                  <a:pt x="2" y="557254"/>
                </a:moveTo>
                <a:lnTo>
                  <a:pt x="586970" y="557258"/>
                </a:lnTo>
                <a:lnTo>
                  <a:pt x="768350" y="0"/>
                </a:lnTo>
                <a:lnTo>
                  <a:pt x="949730" y="557258"/>
                </a:lnTo>
                <a:lnTo>
                  <a:pt x="1536698" y="557254"/>
                </a:lnTo>
                <a:lnTo>
                  <a:pt x="1061828" y="901654"/>
                </a:lnTo>
                <a:lnTo>
                  <a:pt x="1243215" y="1458909"/>
                </a:lnTo>
                <a:lnTo>
                  <a:pt x="768350" y="1114503"/>
                </a:lnTo>
                <a:lnTo>
                  <a:pt x="293485" y="1458909"/>
                </a:lnTo>
                <a:lnTo>
                  <a:pt x="474872" y="901654"/>
                </a:lnTo>
                <a:lnTo>
                  <a:pt x="2" y="55725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6"/>
          <p:cNvSpPr/>
          <p:nvPr/>
        </p:nvSpPr>
        <p:spPr>
          <a:xfrm>
            <a:off x="4573440" y="-3700440"/>
            <a:ext cx="360360" cy="347760"/>
          </a:xfrm>
          <a:custGeom>
            <a:avLst/>
            <a:gdLst/>
            <a:ahLst/>
            <a:rect l="l" t="t" r="r" b="b"/>
            <a:pathLst>
              <a:path w="360362" h="347663">
                <a:moveTo>
                  <a:pt x="0" y="132795"/>
                </a:moveTo>
                <a:lnTo>
                  <a:pt x="137647" y="132796"/>
                </a:lnTo>
                <a:lnTo>
                  <a:pt x="180181" y="0"/>
                </a:lnTo>
                <a:lnTo>
                  <a:pt x="222715" y="132796"/>
                </a:lnTo>
                <a:lnTo>
                  <a:pt x="360362" y="132795"/>
                </a:lnTo>
                <a:lnTo>
                  <a:pt x="249003" y="214867"/>
                </a:lnTo>
                <a:lnTo>
                  <a:pt x="291539" y="347662"/>
                </a:lnTo>
                <a:lnTo>
                  <a:pt x="180181" y="265589"/>
                </a:lnTo>
                <a:lnTo>
                  <a:pt x="68823" y="347662"/>
                </a:lnTo>
                <a:lnTo>
                  <a:pt x="111359" y="214867"/>
                </a:lnTo>
                <a:lnTo>
                  <a:pt x="0" y="13279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7"/>
          <p:cNvSpPr/>
          <p:nvPr/>
        </p:nvSpPr>
        <p:spPr>
          <a:xfrm>
            <a:off x="4789440" y="-4622760"/>
            <a:ext cx="1008000" cy="954000"/>
          </a:xfrm>
          <a:custGeom>
            <a:avLst/>
            <a:gdLst/>
            <a:ahLst/>
            <a:rect l="l" t="t" r="r" b="b"/>
            <a:pathLst>
              <a:path w="1008062" h="954087">
                <a:moveTo>
                  <a:pt x="1" y="364428"/>
                </a:moveTo>
                <a:lnTo>
                  <a:pt x="385048" y="364430"/>
                </a:lnTo>
                <a:lnTo>
                  <a:pt x="504031" y="0"/>
                </a:lnTo>
                <a:lnTo>
                  <a:pt x="623014" y="364430"/>
                </a:lnTo>
                <a:lnTo>
                  <a:pt x="1008061" y="364428"/>
                </a:lnTo>
                <a:lnTo>
                  <a:pt x="696550" y="589656"/>
                </a:lnTo>
                <a:lnTo>
                  <a:pt x="815539" y="954085"/>
                </a:lnTo>
                <a:lnTo>
                  <a:pt x="504031" y="728853"/>
                </a:lnTo>
                <a:lnTo>
                  <a:pt x="192523" y="954085"/>
                </a:lnTo>
                <a:lnTo>
                  <a:pt x="311512" y="589656"/>
                </a:lnTo>
                <a:lnTo>
                  <a:pt x="1" y="36442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8"/>
          <p:cNvSpPr/>
          <p:nvPr/>
        </p:nvSpPr>
        <p:spPr>
          <a:xfrm>
            <a:off x="4429080" y="-4199040"/>
            <a:ext cx="432000" cy="408240"/>
          </a:xfrm>
          <a:custGeom>
            <a:avLst/>
            <a:gdLst/>
            <a:ahLst/>
            <a:rect l="l" t="t" r="r" b="b"/>
            <a:pathLst>
              <a:path w="431800" h="407988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7"/>
                </a:lnTo>
                <a:lnTo>
                  <a:pt x="215900" y="311673"/>
                </a:lnTo>
                <a:lnTo>
                  <a:pt x="82467" y="407987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9"/>
          <p:cNvSpPr/>
          <p:nvPr/>
        </p:nvSpPr>
        <p:spPr>
          <a:xfrm>
            <a:off x="5292720" y="-4842000"/>
            <a:ext cx="576360" cy="552600"/>
          </a:xfrm>
          <a:custGeom>
            <a:avLst/>
            <a:gdLst/>
            <a:ahLst/>
            <a:rect l="l" t="t" r="r" b="b"/>
            <a:pathLst>
              <a:path w="576263" h="552450">
                <a:moveTo>
                  <a:pt x="1" y="211017"/>
                </a:moveTo>
                <a:lnTo>
                  <a:pt x="220114" y="211018"/>
                </a:lnTo>
                <a:lnTo>
                  <a:pt x="288132" y="0"/>
                </a:lnTo>
                <a:lnTo>
                  <a:pt x="356149" y="211018"/>
                </a:lnTo>
                <a:lnTo>
                  <a:pt x="576262" y="211017"/>
                </a:lnTo>
                <a:lnTo>
                  <a:pt x="398186" y="341431"/>
                </a:lnTo>
                <a:lnTo>
                  <a:pt x="466206" y="552449"/>
                </a:lnTo>
                <a:lnTo>
                  <a:pt x="288132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0"/>
          <p:cNvSpPr/>
          <p:nvPr/>
        </p:nvSpPr>
        <p:spPr>
          <a:xfrm rot="20061000">
            <a:off x="11412000" y="-6159600"/>
            <a:ext cx="576360" cy="552600"/>
          </a:xfrm>
          <a:custGeom>
            <a:avLst/>
            <a:gdLst/>
            <a:ahLst/>
            <a:rect l="l" t="t" r="r" b="b"/>
            <a:pathLst>
              <a:path w="576262" h="552450">
                <a:moveTo>
                  <a:pt x="1" y="211017"/>
                </a:moveTo>
                <a:lnTo>
                  <a:pt x="220114" y="211018"/>
                </a:lnTo>
                <a:lnTo>
                  <a:pt x="288131" y="0"/>
                </a:lnTo>
                <a:lnTo>
                  <a:pt x="356148" y="211018"/>
                </a:lnTo>
                <a:lnTo>
                  <a:pt x="576261" y="211017"/>
                </a:lnTo>
                <a:lnTo>
                  <a:pt x="398185" y="341431"/>
                </a:lnTo>
                <a:lnTo>
                  <a:pt x="466205" y="552449"/>
                </a:lnTo>
                <a:lnTo>
                  <a:pt x="288131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1"/>
          <p:cNvSpPr/>
          <p:nvPr/>
        </p:nvSpPr>
        <p:spPr>
          <a:xfrm>
            <a:off x="11052000" y="-57276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52"/>
          <p:cNvSpPr/>
          <p:nvPr/>
        </p:nvSpPr>
        <p:spPr>
          <a:xfrm>
            <a:off x="10549080" y="-6159600"/>
            <a:ext cx="360360" cy="346320"/>
          </a:xfrm>
          <a:custGeom>
            <a:avLst/>
            <a:gdLst/>
            <a:ahLst/>
            <a:rect l="l" t="t" r="r" b="b"/>
            <a:pathLst>
              <a:path w="360362" h="346075">
                <a:moveTo>
                  <a:pt x="0" y="132189"/>
                </a:moveTo>
                <a:lnTo>
                  <a:pt x="137647" y="132189"/>
                </a:lnTo>
                <a:lnTo>
                  <a:pt x="180181" y="0"/>
                </a:lnTo>
                <a:lnTo>
                  <a:pt x="222715" y="132189"/>
                </a:lnTo>
                <a:lnTo>
                  <a:pt x="360362" y="132189"/>
                </a:lnTo>
                <a:lnTo>
                  <a:pt x="249003" y="213885"/>
                </a:lnTo>
                <a:lnTo>
                  <a:pt x="291539" y="346074"/>
                </a:lnTo>
                <a:lnTo>
                  <a:pt x="180181" y="264376"/>
                </a:lnTo>
                <a:lnTo>
                  <a:pt x="68823" y="346074"/>
                </a:lnTo>
                <a:lnTo>
                  <a:pt x="111359" y="213885"/>
                </a:lnTo>
                <a:lnTo>
                  <a:pt x="0" y="1321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3"/>
          <p:cNvSpPr/>
          <p:nvPr/>
        </p:nvSpPr>
        <p:spPr>
          <a:xfrm>
            <a:off x="10404360" y="-6656400"/>
            <a:ext cx="432000" cy="406440"/>
          </a:xfrm>
          <a:custGeom>
            <a:avLst/>
            <a:gdLst/>
            <a:ahLst/>
            <a:rect l="l" t="t" r="r" b="b"/>
            <a:pathLst>
              <a:path w="431800" h="406400">
                <a:moveTo>
                  <a:pt x="0" y="155231"/>
                </a:moveTo>
                <a:lnTo>
                  <a:pt x="164934" y="155232"/>
                </a:lnTo>
                <a:lnTo>
                  <a:pt x="215900" y="0"/>
                </a:lnTo>
                <a:lnTo>
                  <a:pt x="266866" y="155232"/>
                </a:lnTo>
                <a:lnTo>
                  <a:pt x="431800" y="155231"/>
                </a:lnTo>
                <a:lnTo>
                  <a:pt x="298365" y="251168"/>
                </a:lnTo>
                <a:lnTo>
                  <a:pt x="349333" y="406399"/>
                </a:lnTo>
                <a:lnTo>
                  <a:pt x="215900" y="310460"/>
                </a:lnTo>
                <a:lnTo>
                  <a:pt x="82467" y="406399"/>
                </a:lnTo>
                <a:lnTo>
                  <a:pt x="133435" y="251168"/>
                </a:lnTo>
                <a:lnTo>
                  <a:pt x="0" y="155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4"/>
          <p:cNvSpPr/>
          <p:nvPr/>
        </p:nvSpPr>
        <p:spPr>
          <a:xfrm>
            <a:off x="8893080" y="-6516720"/>
            <a:ext cx="576360" cy="544680"/>
          </a:xfrm>
          <a:custGeom>
            <a:avLst/>
            <a:gdLst/>
            <a:ahLst/>
            <a:rect l="l" t="t" r="r" b="b"/>
            <a:pathLst>
              <a:path w="576263" h="544513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2"/>
                </a:lnTo>
                <a:lnTo>
                  <a:pt x="288132" y="415968"/>
                </a:lnTo>
                <a:lnTo>
                  <a:pt x="110057" y="544512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5"/>
          <p:cNvSpPr/>
          <p:nvPr/>
        </p:nvSpPr>
        <p:spPr>
          <a:xfrm>
            <a:off x="8386920" y="-6545160"/>
            <a:ext cx="288720" cy="271440"/>
          </a:xfrm>
          <a:custGeom>
            <a:avLst/>
            <a:gdLst/>
            <a:ahLst/>
            <a:rect l="l" t="t" r="r" b="b"/>
            <a:pathLst>
              <a:path w="288925" h="271463">
                <a:moveTo>
                  <a:pt x="0" y="103689"/>
                </a:moveTo>
                <a:lnTo>
                  <a:pt x="110360" y="103690"/>
                </a:lnTo>
                <a:lnTo>
                  <a:pt x="144463" y="0"/>
                </a:lnTo>
                <a:lnTo>
                  <a:pt x="178565" y="103690"/>
                </a:lnTo>
                <a:lnTo>
                  <a:pt x="288925" y="103689"/>
                </a:lnTo>
                <a:lnTo>
                  <a:pt x="199641" y="167773"/>
                </a:lnTo>
                <a:lnTo>
                  <a:pt x="233745" y="271462"/>
                </a:lnTo>
                <a:lnTo>
                  <a:pt x="144463" y="207378"/>
                </a:lnTo>
                <a:lnTo>
                  <a:pt x="55180" y="271462"/>
                </a:lnTo>
                <a:lnTo>
                  <a:pt x="89284" y="167773"/>
                </a:lnTo>
                <a:lnTo>
                  <a:pt x="0" y="1036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6"/>
          <p:cNvSpPr/>
          <p:nvPr/>
        </p:nvSpPr>
        <p:spPr>
          <a:xfrm>
            <a:off x="9070920" y="-5543640"/>
            <a:ext cx="576360" cy="542880"/>
          </a:xfrm>
          <a:custGeom>
            <a:avLst/>
            <a:gdLst/>
            <a:ahLst/>
            <a:rect l="l" t="t" r="r" b="b"/>
            <a:pathLst>
              <a:path w="576263" h="542925">
                <a:moveTo>
                  <a:pt x="1" y="207378"/>
                </a:moveTo>
                <a:lnTo>
                  <a:pt x="220114" y="207380"/>
                </a:lnTo>
                <a:lnTo>
                  <a:pt x="288132" y="0"/>
                </a:lnTo>
                <a:lnTo>
                  <a:pt x="356149" y="207380"/>
                </a:lnTo>
                <a:lnTo>
                  <a:pt x="576262" y="207378"/>
                </a:lnTo>
                <a:lnTo>
                  <a:pt x="398186" y="335545"/>
                </a:lnTo>
                <a:lnTo>
                  <a:pt x="466206" y="542924"/>
                </a:lnTo>
                <a:lnTo>
                  <a:pt x="288132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7"/>
          <p:cNvSpPr/>
          <p:nvPr/>
        </p:nvSpPr>
        <p:spPr>
          <a:xfrm rot="19608000">
            <a:off x="9467640" y="-4571640"/>
            <a:ext cx="1008000" cy="954000"/>
          </a:xfrm>
          <a:custGeom>
            <a:avLst/>
            <a:gdLst/>
            <a:ahLst/>
            <a:rect l="l" t="t" r="r" b="b"/>
            <a:pathLst>
              <a:path w="1008063" h="954087">
                <a:moveTo>
                  <a:pt x="1" y="364428"/>
                </a:moveTo>
                <a:lnTo>
                  <a:pt x="385048" y="364430"/>
                </a:lnTo>
                <a:lnTo>
                  <a:pt x="504032" y="0"/>
                </a:lnTo>
                <a:lnTo>
                  <a:pt x="623015" y="364430"/>
                </a:lnTo>
                <a:lnTo>
                  <a:pt x="1008062" y="364428"/>
                </a:lnTo>
                <a:lnTo>
                  <a:pt x="696551" y="589656"/>
                </a:lnTo>
                <a:lnTo>
                  <a:pt x="815539" y="954085"/>
                </a:lnTo>
                <a:lnTo>
                  <a:pt x="504032" y="728853"/>
                </a:lnTo>
                <a:lnTo>
                  <a:pt x="192524" y="954085"/>
                </a:lnTo>
                <a:lnTo>
                  <a:pt x="311512" y="589656"/>
                </a:lnTo>
                <a:lnTo>
                  <a:pt x="1" y="36442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8"/>
          <p:cNvSpPr/>
          <p:nvPr/>
        </p:nvSpPr>
        <p:spPr>
          <a:xfrm>
            <a:off x="9469440" y="-591984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59"/>
          <p:cNvGrpSpPr/>
          <p:nvPr/>
        </p:nvGrpSpPr>
        <p:grpSpPr>
          <a:xfrm>
            <a:off x="-5505480" y="-4989960"/>
            <a:ext cx="18286200" cy="15574320"/>
            <a:chOff x="-5505480" y="-4989960"/>
            <a:chExt cx="18286200" cy="15574320"/>
          </a:xfrm>
        </p:grpSpPr>
        <p:sp>
          <p:nvSpPr>
            <p:cNvPr id="199" name="AutoShape 160"/>
            <p:cNvSpPr/>
            <p:nvPr/>
          </p:nvSpPr>
          <p:spPr>
            <a:xfrm rot="736800">
              <a:off x="-2191320" y="2426040"/>
              <a:ext cx="1188720" cy="1028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18" y="3827"/>
                  </a:lnTo>
                  <a:lnTo>
                    <a:pt x="5007" y="0"/>
                  </a:lnTo>
                  <a:lnTo>
                    <a:pt x="6182" y="3827"/>
                  </a:lnTo>
                  <a:lnTo>
                    <a:pt x="10000" y="3827"/>
                  </a:lnTo>
                  <a:lnTo>
                    <a:pt x="6916" y="6173"/>
                  </a:lnTo>
                  <a:lnTo>
                    <a:pt x="8091" y="10000"/>
                  </a:lnTo>
                  <a:lnTo>
                    <a:pt x="5007" y="7639"/>
                  </a:lnTo>
                  <a:lnTo>
                    <a:pt x="1909" y="10000"/>
                  </a:lnTo>
                  <a:lnTo>
                    <a:pt x="3084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61"/>
            <p:cNvSpPr/>
            <p:nvPr/>
          </p:nvSpPr>
          <p:spPr>
            <a:xfrm>
              <a:off x="-501120" y="6098400"/>
              <a:ext cx="1007640" cy="957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62"/>
            <p:cNvSpPr/>
            <p:nvPr/>
          </p:nvSpPr>
          <p:spPr>
            <a:xfrm>
              <a:off x="9649800" y="1202400"/>
              <a:ext cx="1007640" cy="957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63"/>
            <p:cNvSpPr/>
            <p:nvPr/>
          </p:nvSpPr>
          <p:spPr>
            <a:xfrm rot="19930800">
              <a:off x="8533800" y="6890400"/>
              <a:ext cx="2018520" cy="209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8"/>
                  </a:moveTo>
                  <a:lnTo>
                    <a:pt x="3821" y="3818"/>
                  </a:lnTo>
                  <a:lnTo>
                    <a:pt x="5000" y="0"/>
                  </a:lnTo>
                  <a:lnTo>
                    <a:pt x="6179" y="3818"/>
                  </a:lnTo>
                  <a:lnTo>
                    <a:pt x="10000" y="3818"/>
                  </a:lnTo>
                  <a:lnTo>
                    <a:pt x="6910" y="6182"/>
                  </a:lnTo>
                  <a:lnTo>
                    <a:pt x="8090" y="10000"/>
                  </a:lnTo>
                  <a:lnTo>
                    <a:pt x="5000" y="7636"/>
                  </a:lnTo>
                  <a:lnTo>
                    <a:pt x="1910" y="10000"/>
                  </a:lnTo>
                  <a:lnTo>
                    <a:pt x="3090" y="6182"/>
                  </a:lnTo>
                  <a:lnTo>
                    <a:pt x="0" y="381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4"/>
            <p:cNvSpPr/>
            <p:nvPr/>
          </p:nvSpPr>
          <p:spPr>
            <a:xfrm>
              <a:off x="4142520" y="696168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65"/>
            <p:cNvSpPr/>
            <p:nvPr/>
          </p:nvSpPr>
          <p:spPr>
            <a:xfrm>
              <a:off x="4969440" y="714132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66"/>
            <p:cNvSpPr/>
            <p:nvPr/>
          </p:nvSpPr>
          <p:spPr>
            <a:xfrm>
              <a:off x="-2946600" y="-46332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7"/>
            <p:cNvSpPr/>
            <p:nvPr/>
          </p:nvSpPr>
          <p:spPr>
            <a:xfrm rot="15216600">
              <a:off x="1150560" y="-4154400"/>
              <a:ext cx="1624680" cy="1542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7"/>
                  </a:moveTo>
                  <a:lnTo>
                    <a:pt x="3818" y="3817"/>
                  </a:lnTo>
                  <a:lnTo>
                    <a:pt x="5000" y="0"/>
                  </a:lnTo>
                  <a:lnTo>
                    <a:pt x="6182" y="3817"/>
                  </a:lnTo>
                  <a:lnTo>
                    <a:pt x="10000" y="3817"/>
                  </a:lnTo>
                  <a:lnTo>
                    <a:pt x="6914" y="6183"/>
                  </a:lnTo>
                  <a:lnTo>
                    <a:pt x="8086" y="10000"/>
                  </a:lnTo>
                  <a:lnTo>
                    <a:pt x="5000" y="7644"/>
                  </a:lnTo>
                  <a:lnTo>
                    <a:pt x="1914" y="10000"/>
                  </a:lnTo>
                  <a:lnTo>
                    <a:pt x="3086" y="6183"/>
                  </a:lnTo>
                  <a:lnTo>
                    <a:pt x="0" y="381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8"/>
            <p:cNvSpPr/>
            <p:nvPr/>
          </p:nvSpPr>
          <p:spPr>
            <a:xfrm rot="16555800">
              <a:off x="2582640" y="-4874040"/>
              <a:ext cx="1620000" cy="153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5"/>
                  </a:moveTo>
                  <a:lnTo>
                    <a:pt x="3820" y="3825"/>
                  </a:lnTo>
                  <a:lnTo>
                    <a:pt x="5005" y="0"/>
                  </a:lnTo>
                  <a:lnTo>
                    <a:pt x="6180" y="3825"/>
                  </a:lnTo>
                  <a:lnTo>
                    <a:pt x="10000" y="3825"/>
                  </a:lnTo>
                  <a:lnTo>
                    <a:pt x="6905" y="6175"/>
                  </a:lnTo>
                  <a:lnTo>
                    <a:pt x="8090" y="10000"/>
                  </a:lnTo>
                  <a:lnTo>
                    <a:pt x="5005" y="7639"/>
                  </a:lnTo>
                  <a:lnTo>
                    <a:pt x="1910" y="10000"/>
                  </a:lnTo>
                  <a:lnTo>
                    <a:pt x="3095" y="6175"/>
                  </a:lnTo>
                  <a:lnTo>
                    <a:pt x="0" y="382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69"/>
            <p:cNvSpPr/>
            <p:nvPr/>
          </p:nvSpPr>
          <p:spPr>
            <a:xfrm rot="19608000">
              <a:off x="5366160" y="811368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70"/>
            <p:cNvSpPr/>
            <p:nvPr/>
          </p:nvSpPr>
          <p:spPr>
            <a:xfrm>
              <a:off x="3855240" y="746676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1"/>
            <p:cNvSpPr/>
            <p:nvPr/>
          </p:nvSpPr>
          <p:spPr>
            <a:xfrm>
              <a:off x="5367600" y="6770160"/>
              <a:ext cx="100800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2"/>
            <p:cNvSpPr/>
            <p:nvPr/>
          </p:nvSpPr>
          <p:spPr>
            <a:xfrm rot="2650200">
              <a:off x="5942160" y="9913320"/>
              <a:ext cx="576000" cy="54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73"/>
            <p:cNvSpPr/>
            <p:nvPr/>
          </p:nvSpPr>
          <p:spPr>
            <a:xfrm rot="20260800">
              <a:off x="-859680" y="-325980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4"/>
            <p:cNvSpPr/>
            <p:nvPr/>
          </p:nvSpPr>
          <p:spPr>
            <a:xfrm>
              <a:off x="7238880" y="-19645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75"/>
            <p:cNvSpPr/>
            <p:nvPr/>
          </p:nvSpPr>
          <p:spPr>
            <a:xfrm rot="20061000">
              <a:off x="9686160" y="-109980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76"/>
            <p:cNvSpPr/>
            <p:nvPr/>
          </p:nvSpPr>
          <p:spPr>
            <a:xfrm>
              <a:off x="9470520" y="-104256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77"/>
            <p:cNvSpPr/>
            <p:nvPr/>
          </p:nvSpPr>
          <p:spPr>
            <a:xfrm>
              <a:off x="8967240" y="-1469160"/>
              <a:ext cx="360000" cy="342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78"/>
            <p:cNvSpPr/>
            <p:nvPr/>
          </p:nvSpPr>
          <p:spPr>
            <a:xfrm>
              <a:off x="9182880" y="-2394720"/>
              <a:ext cx="100800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79"/>
            <p:cNvSpPr/>
            <p:nvPr/>
          </p:nvSpPr>
          <p:spPr>
            <a:xfrm>
              <a:off x="8822520" y="-1971000"/>
              <a:ext cx="431640" cy="41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2"/>
                  </a:moveTo>
                  <a:lnTo>
                    <a:pt x="3824" y="3822"/>
                  </a:lnTo>
                  <a:lnTo>
                    <a:pt x="5000" y="0"/>
                  </a:lnTo>
                  <a:lnTo>
                    <a:pt x="6176" y="3822"/>
                  </a:lnTo>
                  <a:lnTo>
                    <a:pt x="10000" y="3822"/>
                  </a:lnTo>
                  <a:lnTo>
                    <a:pt x="6912" y="6178"/>
                  </a:lnTo>
                  <a:lnTo>
                    <a:pt x="8088" y="10000"/>
                  </a:lnTo>
                  <a:lnTo>
                    <a:pt x="5000" y="7645"/>
                  </a:lnTo>
                  <a:lnTo>
                    <a:pt x="1912" y="10000"/>
                  </a:lnTo>
                  <a:lnTo>
                    <a:pt x="3088" y="6178"/>
                  </a:lnTo>
                  <a:lnTo>
                    <a:pt x="0" y="382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80"/>
            <p:cNvSpPr/>
            <p:nvPr/>
          </p:nvSpPr>
          <p:spPr>
            <a:xfrm>
              <a:off x="9686160" y="-261036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81"/>
            <p:cNvSpPr/>
            <p:nvPr/>
          </p:nvSpPr>
          <p:spPr>
            <a:xfrm>
              <a:off x="577800" y="822816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2"/>
            <p:cNvSpPr/>
            <p:nvPr/>
          </p:nvSpPr>
          <p:spPr>
            <a:xfrm>
              <a:off x="74880" y="780156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83"/>
            <p:cNvSpPr/>
            <p:nvPr/>
          </p:nvSpPr>
          <p:spPr>
            <a:xfrm>
              <a:off x="-69120" y="7300080"/>
              <a:ext cx="431280" cy="41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2"/>
                  </a:moveTo>
                  <a:lnTo>
                    <a:pt x="3824" y="3822"/>
                  </a:lnTo>
                  <a:lnTo>
                    <a:pt x="5000" y="0"/>
                  </a:lnTo>
                  <a:lnTo>
                    <a:pt x="6176" y="3822"/>
                  </a:lnTo>
                  <a:lnTo>
                    <a:pt x="10000" y="3822"/>
                  </a:lnTo>
                  <a:lnTo>
                    <a:pt x="6912" y="6178"/>
                  </a:lnTo>
                  <a:lnTo>
                    <a:pt x="8088" y="10000"/>
                  </a:lnTo>
                  <a:lnTo>
                    <a:pt x="5000" y="7645"/>
                  </a:lnTo>
                  <a:lnTo>
                    <a:pt x="1912" y="10000"/>
                  </a:lnTo>
                  <a:lnTo>
                    <a:pt x="3088" y="6178"/>
                  </a:lnTo>
                  <a:lnTo>
                    <a:pt x="0" y="382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84"/>
            <p:cNvSpPr/>
            <p:nvPr/>
          </p:nvSpPr>
          <p:spPr>
            <a:xfrm>
              <a:off x="-1580040" y="744120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85"/>
            <p:cNvSpPr/>
            <p:nvPr/>
          </p:nvSpPr>
          <p:spPr>
            <a:xfrm>
              <a:off x="-2086560" y="7412760"/>
              <a:ext cx="28872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86"/>
            <p:cNvSpPr/>
            <p:nvPr/>
          </p:nvSpPr>
          <p:spPr>
            <a:xfrm>
              <a:off x="-2229480" y="8233200"/>
              <a:ext cx="360000" cy="342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87"/>
            <p:cNvSpPr/>
            <p:nvPr/>
          </p:nvSpPr>
          <p:spPr>
            <a:xfrm>
              <a:off x="-1402200" y="841248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88"/>
            <p:cNvSpPr/>
            <p:nvPr/>
          </p:nvSpPr>
          <p:spPr>
            <a:xfrm rot="736800">
              <a:off x="11053800" y="7177680"/>
              <a:ext cx="1188720" cy="1028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18" y="3827"/>
                  </a:lnTo>
                  <a:lnTo>
                    <a:pt x="5007" y="0"/>
                  </a:lnTo>
                  <a:lnTo>
                    <a:pt x="6182" y="3827"/>
                  </a:lnTo>
                  <a:lnTo>
                    <a:pt x="10000" y="3827"/>
                  </a:lnTo>
                  <a:lnTo>
                    <a:pt x="6916" y="6173"/>
                  </a:lnTo>
                  <a:lnTo>
                    <a:pt x="8091" y="10000"/>
                  </a:lnTo>
                  <a:lnTo>
                    <a:pt x="5007" y="7639"/>
                  </a:lnTo>
                  <a:lnTo>
                    <a:pt x="1909" y="10000"/>
                  </a:lnTo>
                  <a:lnTo>
                    <a:pt x="3084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89"/>
            <p:cNvSpPr/>
            <p:nvPr/>
          </p:nvSpPr>
          <p:spPr>
            <a:xfrm>
              <a:off x="12205080" y="789840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90"/>
            <p:cNvSpPr/>
            <p:nvPr/>
          </p:nvSpPr>
          <p:spPr>
            <a:xfrm rot="663000">
              <a:off x="3782160" y="900108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91"/>
            <p:cNvSpPr/>
            <p:nvPr/>
          </p:nvSpPr>
          <p:spPr>
            <a:xfrm rot="2655000">
              <a:off x="3097800" y="84967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92"/>
            <p:cNvSpPr/>
            <p:nvPr/>
          </p:nvSpPr>
          <p:spPr>
            <a:xfrm rot="2616600">
              <a:off x="5438880" y="1009152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93"/>
            <p:cNvSpPr/>
            <p:nvPr/>
          </p:nvSpPr>
          <p:spPr>
            <a:xfrm rot="2619000">
              <a:off x="4935960" y="966420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94"/>
            <p:cNvSpPr/>
            <p:nvPr/>
          </p:nvSpPr>
          <p:spPr>
            <a:xfrm rot="16555800">
              <a:off x="-4582800" y="32929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95"/>
            <p:cNvSpPr/>
            <p:nvPr/>
          </p:nvSpPr>
          <p:spPr>
            <a:xfrm rot="16555800">
              <a:off x="-4759560" y="-1584360"/>
              <a:ext cx="1620360" cy="1539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5"/>
                  </a:moveTo>
                  <a:lnTo>
                    <a:pt x="3820" y="3825"/>
                  </a:lnTo>
                  <a:lnTo>
                    <a:pt x="5005" y="0"/>
                  </a:lnTo>
                  <a:lnTo>
                    <a:pt x="6180" y="3825"/>
                  </a:lnTo>
                  <a:lnTo>
                    <a:pt x="10000" y="3825"/>
                  </a:lnTo>
                  <a:lnTo>
                    <a:pt x="6905" y="6175"/>
                  </a:lnTo>
                  <a:lnTo>
                    <a:pt x="8090" y="10000"/>
                  </a:lnTo>
                  <a:lnTo>
                    <a:pt x="5005" y="7639"/>
                  </a:lnTo>
                  <a:lnTo>
                    <a:pt x="1910" y="10000"/>
                  </a:lnTo>
                  <a:lnTo>
                    <a:pt x="3095" y="6175"/>
                  </a:lnTo>
                  <a:lnTo>
                    <a:pt x="0" y="382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96"/>
            <p:cNvSpPr/>
            <p:nvPr/>
          </p:nvSpPr>
          <p:spPr>
            <a:xfrm rot="18717600">
              <a:off x="-5397120" y="-222444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97"/>
            <p:cNvSpPr/>
            <p:nvPr/>
          </p:nvSpPr>
          <p:spPr>
            <a:xfrm rot="736800">
              <a:off x="7016760" y="-4411800"/>
              <a:ext cx="2129760" cy="1842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6"/>
                  </a:moveTo>
                  <a:lnTo>
                    <a:pt x="3823" y="3816"/>
                  </a:lnTo>
                  <a:lnTo>
                    <a:pt x="5000" y="0"/>
                  </a:lnTo>
                  <a:lnTo>
                    <a:pt x="6177" y="3816"/>
                  </a:lnTo>
                  <a:lnTo>
                    <a:pt x="10000" y="3816"/>
                  </a:lnTo>
                  <a:lnTo>
                    <a:pt x="6908" y="6184"/>
                  </a:lnTo>
                  <a:lnTo>
                    <a:pt x="8092" y="10000"/>
                  </a:lnTo>
                  <a:lnTo>
                    <a:pt x="5000" y="7640"/>
                  </a:lnTo>
                  <a:lnTo>
                    <a:pt x="1908" y="10000"/>
                  </a:lnTo>
                  <a:lnTo>
                    <a:pt x="3092" y="6184"/>
                  </a:lnTo>
                  <a:lnTo>
                    <a:pt x="0" y="381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98"/>
            <p:cNvSpPr/>
            <p:nvPr/>
          </p:nvSpPr>
          <p:spPr>
            <a:xfrm>
              <a:off x="10044720" y="-2775600"/>
              <a:ext cx="576000" cy="54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99"/>
          <p:cNvSpPr/>
          <p:nvPr/>
        </p:nvSpPr>
        <p:spPr>
          <a:xfrm rot="2650200">
            <a:off x="8424360" y="945504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0"/>
          <p:cNvSpPr/>
          <p:nvPr/>
        </p:nvSpPr>
        <p:spPr>
          <a:xfrm rot="20061000">
            <a:off x="7597800" y="78246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1"/>
          <p:cNvSpPr/>
          <p:nvPr/>
        </p:nvSpPr>
        <p:spPr>
          <a:xfrm rot="2616600">
            <a:off x="7381440" y="788184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02"/>
          <p:cNvSpPr/>
          <p:nvPr/>
        </p:nvSpPr>
        <p:spPr>
          <a:xfrm rot="2619000">
            <a:off x="8929800" y="101185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3"/>
          <p:cNvSpPr/>
          <p:nvPr/>
        </p:nvSpPr>
        <p:spPr>
          <a:xfrm>
            <a:off x="9145440" y="9193320"/>
            <a:ext cx="10083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4"/>
          <p:cNvSpPr/>
          <p:nvPr/>
        </p:nvSpPr>
        <p:spPr>
          <a:xfrm rot="2625000">
            <a:off x="8784720" y="961704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5"/>
          <p:cNvSpPr/>
          <p:nvPr/>
        </p:nvSpPr>
        <p:spPr>
          <a:xfrm>
            <a:off x="9648720" y="897732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06"/>
          <p:cNvSpPr/>
          <p:nvPr/>
        </p:nvSpPr>
        <p:spPr>
          <a:xfrm>
            <a:off x="8066160" y="8881920"/>
            <a:ext cx="57636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07"/>
          <p:cNvSpPr/>
          <p:nvPr/>
        </p:nvSpPr>
        <p:spPr>
          <a:xfrm>
            <a:off x="973080" y="2550960"/>
            <a:ext cx="7197840" cy="5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8"/>
          <p:cNvSpPr/>
          <p:nvPr/>
        </p:nvSpPr>
        <p:spPr>
          <a:xfrm>
            <a:off x="3205080" y="2281320"/>
            <a:ext cx="2735280" cy="10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解放军进行曲.wma" descr=""/>
          <p:cNvPicPr/>
          <p:nvPr/>
        </p:nvPicPr>
        <p:blipFill>
          <a:blip r:embed="rId1"/>
          <a:stretch/>
        </p:blipFill>
        <p:spPr>
          <a:xfrm>
            <a:off x="4537080" y="61326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矩形 1"/>
          <p:cNvSpPr/>
          <p:nvPr/>
        </p:nvSpPr>
        <p:spPr>
          <a:xfrm>
            <a:off x="1645200" y="1364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从未停止的解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206280" y="5359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0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ea0000">
                  <a:alpha val="70196"/>
                </a:srgbClr>
              </a:gs>
              <a:gs pos="100000">
                <a:srgbClr val="ff3399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0" y="112680"/>
            <a:ext cx="856944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-103320" y="-19080"/>
            <a:ext cx="9428040" cy="5812560"/>
            <a:chOff x="-103320" y="-19080"/>
            <a:chExt cx="9428040" cy="5812560"/>
          </a:xfrm>
        </p:grpSpPr>
        <p:sp>
          <p:nvSpPr>
            <p:cNvPr id="611" name="未知"/>
            <p:cNvSpPr/>
            <p:nvPr/>
          </p:nvSpPr>
          <p:spPr>
            <a:xfrm>
              <a:off x="-49680" y="25560"/>
              <a:ext cx="9333360" cy="5719320"/>
            </a:xfrm>
            <a:custGeom>
              <a:avLst/>
              <a:gdLst/>
              <a:ahLst/>
              <a:rect l="l" t="t" r="r" b="b"/>
              <a:pathLst>
                <a:path w="5921" h="3966">
                  <a:moveTo>
                    <a:pt x="5917" y="3966"/>
                  </a:moveTo>
                  <a:lnTo>
                    <a:pt x="5921" y="0"/>
                  </a:lnTo>
                  <a:lnTo>
                    <a:pt x="0" y="0"/>
                  </a:lnTo>
                  <a:lnTo>
                    <a:pt x="0" y="3966"/>
                  </a:lnTo>
                  <a:lnTo>
                    <a:pt x="5917" y="3966"/>
                  </a:lnTo>
                  <a:close/>
                </a:path>
              </a:pathLst>
            </a:custGeom>
            <a:solidFill>
              <a:srgbClr val="f91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7"/>
            <p:cNvSpPr/>
            <p:nvPr/>
          </p:nvSpPr>
          <p:spPr>
            <a:xfrm>
              <a:off x="-103320" y="-19080"/>
              <a:ext cx="9428040" cy="58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2648520" y="264960"/>
              <a:ext cx="396720" cy="398160"/>
            </a:xfrm>
            <a:custGeom>
              <a:avLst/>
              <a:gdLst/>
              <a:ahLst/>
              <a:rect l="l" t="t" r="r" b="b"/>
              <a:pathLst>
                <a:path w="253" h="275">
                  <a:moveTo>
                    <a:pt x="155" y="0"/>
                  </a:moveTo>
                  <a:lnTo>
                    <a:pt x="158" y="105"/>
                  </a:lnTo>
                  <a:lnTo>
                    <a:pt x="253" y="134"/>
                  </a:lnTo>
                  <a:lnTo>
                    <a:pt x="162" y="171"/>
                  </a:lnTo>
                  <a:lnTo>
                    <a:pt x="165" y="275"/>
                  </a:lnTo>
                  <a:lnTo>
                    <a:pt x="102" y="196"/>
                  </a:lnTo>
                  <a:lnTo>
                    <a:pt x="8" y="228"/>
                  </a:lnTo>
                  <a:lnTo>
                    <a:pt x="60" y="142"/>
                  </a:lnTo>
                  <a:lnTo>
                    <a:pt x="0" y="58"/>
                  </a:lnTo>
                  <a:lnTo>
                    <a:pt x="95" y="8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209760" y="808560"/>
              <a:ext cx="405720" cy="390960"/>
            </a:xfrm>
            <a:custGeom>
              <a:avLst/>
              <a:gdLst/>
              <a:ahLst/>
              <a:rect l="l" t="t" r="r" b="b"/>
              <a:pathLst>
                <a:path w="258" h="272">
                  <a:moveTo>
                    <a:pt x="84" y="0"/>
                  </a:moveTo>
                  <a:lnTo>
                    <a:pt x="150" y="79"/>
                  </a:lnTo>
                  <a:lnTo>
                    <a:pt x="241" y="40"/>
                  </a:lnTo>
                  <a:lnTo>
                    <a:pt x="193" y="130"/>
                  </a:lnTo>
                  <a:lnTo>
                    <a:pt x="258" y="206"/>
                  </a:lnTo>
                  <a:lnTo>
                    <a:pt x="161" y="189"/>
                  </a:lnTo>
                  <a:lnTo>
                    <a:pt x="105" y="272"/>
                  </a:lnTo>
                  <a:lnTo>
                    <a:pt x="95" y="170"/>
                  </a:lnTo>
                  <a:lnTo>
                    <a:pt x="0" y="145"/>
                  </a:lnTo>
                  <a:lnTo>
                    <a:pt x="91" y="1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187800" y="1664280"/>
              <a:ext cx="412200" cy="380880"/>
            </a:xfrm>
            <a:custGeom>
              <a:avLst/>
              <a:gdLst/>
              <a:ahLst/>
              <a:rect l="l" t="t" r="r" b="b"/>
              <a:pathLst>
                <a:path w="261" h="264">
                  <a:moveTo>
                    <a:pt x="126" y="0"/>
                  </a:moveTo>
                  <a:lnTo>
                    <a:pt x="164" y="93"/>
                  </a:lnTo>
                  <a:lnTo>
                    <a:pt x="261" y="89"/>
                  </a:lnTo>
                  <a:lnTo>
                    <a:pt x="187" y="155"/>
                  </a:lnTo>
                  <a:lnTo>
                    <a:pt x="224" y="252"/>
                  </a:lnTo>
                  <a:lnTo>
                    <a:pt x="139" y="199"/>
                  </a:lnTo>
                  <a:lnTo>
                    <a:pt x="57" y="264"/>
                  </a:lnTo>
                  <a:lnTo>
                    <a:pt x="80" y="165"/>
                  </a:lnTo>
                  <a:lnTo>
                    <a:pt x="0" y="109"/>
                  </a:lnTo>
                  <a:lnTo>
                    <a:pt x="100" y="9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2575800" y="2273760"/>
              <a:ext cx="412920" cy="38088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38" y="11"/>
                  </a:moveTo>
                  <a:lnTo>
                    <a:pt x="125" y="63"/>
                  </a:lnTo>
                  <a:lnTo>
                    <a:pt x="203" y="0"/>
                  </a:lnTo>
                  <a:lnTo>
                    <a:pt x="179" y="99"/>
                  </a:lnTo>
                  <a:lnTo>
                    <a:pt x="262" y="155"/>
                  </a:lnTo>
                  <a:lnTo>
                    <a:pt x="165" y="163"/>
                  </a:lnTo>
                  <a:lnTo>
                    <a:pt x="137" y="262"/>
                  </a:lnTo>
                  <a:lnTo>
                    <a:pt x="98" y="170"/>
                  </a:lnTo>
                  <a:lnTo>
                    <a:pt x="0" y="175"/>
                  </a:lnTo>
                  <a:lnTo>
                    <a:pt x="79" y="107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42080" y="489600"/>
              <a:ext cx="1632600" cy="1482840"/>
            </a:xfrm>
            <a:custGeom>
              <a:avLst/>
              <a:gdLst/>
              <a:ahLst/>
              <a:rect l="l" t="t" r="r" b="b"/>
              <a:pathLst>
                <a:path w="1034" h="1025">
                  <a:moveTo>
                    <a:pt x="515" y="0"/>
                  </a:moveTo>
                  <a:lnTo>
                    <a:pt x="646" y="386"/>
                  </a:lnTo>
                  <a:lnTo>
                    <a:pt x="1034" y="394"/>
                  </a:lnTo>
                  <a:lnTo>
                    <a:pt x="722" y="636"/>
                  </a:lnTo>
                  <a:lnTo>
                    <a:pt x="836" y="1025"/>
                  </a:lnTo>
                  <a:lnTo>
                    <a:pt x="515" y="792"/>
                  </a:lnTo>
                  <a:lnTo>
                    <a:pt x="194" y="1025"/>
                  </a:lnTo>
                  <a:lnTo>
                    <a:pt x="308" y="636"/>
                  </a:lnTo>
                  <a:lnTo>
                    <a:pt x="0" y="394"/>
                  </a:lnTo>
                  <a:lnTo>
                    <a:pt x="388" y="386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WordArt 13"/>
          <p:cNvSpPr txBox="1"/>
          <p:nvPr/>
        </p:nvSpPr>
        <p:spPr>
          <a:xfrm>
            <a:off x="1476360" y="4189320"/>
            <a:ext cx="615780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a9"/>
                    </a:gs>
                    <a:gs pos="50000">
                      <a:srgbClr val="ffff00"/>
                    </a:gs>
                    <a:gs pos="100000">
                      <a:srgbClr val="ffffa9"/>
                    </a:gs>
                  </a:gsLst>
                  <a:lin ang="13500000"/>
                </a:gradFill>
                <a:latin typeface="宋体"/>
              </a:rPr>
              <a:t>谨以此片献祝祖国母亲六十华诞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a9"/>
                  </a:gs>
                  <a:gs pos="50000">
                    <a:srgbClr val="ffff00"/>
                  </a:gs>
                  <a:gs pos="100000">
                    <a:srgbClr val="ffffa9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000" y="156960"/>
            <a:ext cx="82090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640" y="1056960"/>
            <a:ext cx="892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7288200" y="277920"/>
            <a:ext cx="138924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677880" y="3540240"/>
            <a:ext cx="6475320" cy="1439640"/>
            <a:chOff x="-677880" y="3540240"/>
            <a:chExt cx="6475320" cy="1439640"/>
          </a:xfrm>
        </p:grpSpPr>
        <p:sp>
          <p:nvSpPr>
            <p:cNvPr id="252" name="AutoShape 3"/>
            <p:cNvSpPr/>
            <p:nvPr/>
          </p:nvSpPr>
          <p:spPr>
            <a:xfrm>
              <a:off x="-677880" y="3719160"/>
              <a:ext cx="6473880" cy="107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/>
            <p:cNvSpPr/>
            <p:nvPr/>
          </p:nvSpPr>
          <p:spPr>
            <a:xfrm>
              <a:off x="-676440" y="3540240"/>
              <a:ext cx="6473880" cy="14396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5"/>
          <p:cNvGrpSpPr/>
          <p:nvPr/>
        </p:nvGrpSpPr>
        <p:grpSpPr>
          <a:xfrm>
            <a:off x="4319640" y="2857680"/>
            <a:ext cx="3744360" cy="2915640"/>
            <a:chOff x="4319640" y="2857680"/>
            <a:chExt cx="3744360" cy="2915640"/>
          </a:xfrm>
        </p:grpSpPr>
        <p:grpSp>
          <p:nvGrpSpPr>
            <p:cNvPr id="255" name="WordArt 6"/>
            <p:cNvGrpSpPr/>
            <p:nvPr/>
          </p:nvGrpSpPr>
          <p:grpSpPr>
            <a:xfrm>
              <a:off x="4319640" y="2857680"/>
              <a:ext cx="2158920" cy="2915640"/>
              <a:chOff x="4319640" y="2857680"/>
              <a:chExt cx="2158920" cy="2915640"/>
            </a:xfrm>
          </p:grpSpPr>
          <p:pic>
            <p:nvPicPr>
              <p:cNvPr id="256" name="WordAr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1800" y="2859120"/>
                <a:ext cx="2156400" cy="291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319640" y="2857680"/>
                <a:ext cx="2158920" cy="29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解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WordArt 7"/>
            <p:cNvGrpSpPr/>
            <p:nvPr/>
          </p:nvGrpSpPr>
          <p:grpSpPr>
            <a:xfrm>
              <a:off x="5898600" y="2857680"/>
              <a:ext cx="2165400" cy="2915640"/>
              <a:chOff x="5898600" y="2857680"/>
              <a:chExt cx="2165400" cy="2915640"/>
            </a:xfrm>
          </p:grpSpPr>
          <p:pic>
            <p:nvPicPr>
              <p:cNvPr id="259" name="WordAr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898600" y="2859120"/>
                <a:ext cx="2165400" cy="291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5901480" y="2857680"/>
                <a:ext cx="2162160" cy="29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Picture 8" descr="1"/>
          <p:cNvPicPr/>
          <p:nvPr/>
        </p:nvPicPr>
        <p:blipFill>
          <a:blip r:embed="rId3"/>
          <a:srcRect l="0" t="0" r="0" b="49939"/>
          <a:stretch/>
        </p:blipFill>
        <p:spPr>
          <a:xfrm>
            <a:off x="431640" y="-2460600"/>
            <a:ext cx="7958160" cy="5281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 flipH="1" rot="20400000">
            <a:off x="3600000" y="-1495440"/>
            <a:ext cx="287280" cy="4305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 flipH="1" rot="19800000">
            <a:off x="3168720" y="-1603440"/>
            <a:ext cx="287280" cy="45943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 flipH="1" rot="19200000">
            <a:off x="2808000" y="-1495800"/>
            <a:ext cx="287280" cy="488160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 flipH="1" rot="18600000">
            <a:off x="2253240" y="-1765800"/>
            <a:ext cx="287280" cy="55735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 flipH="1" rot="18000000">
            <a:off x="1881720" y="-1649880"/>
            <a:ext cx="287280" cy="5988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 flipH="1" rot="17400000">
            <a:off x="1980720" y="-795240"/>
            <a:ext cx="287280" cy="535788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 flipH="1" rot="16800000">
            <a:off x="1893240" y="-422640"/>
            <a:ext cx="285840" cy="5335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 flipH="1" rot="21000000">
            <a:off x="3998160" y="-1378080"/>
            <a:ext cx="287280" cy="40179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7"/>
          <p:cNvGrpSpPr/>
          <p:nvPr/>
        </p:nvGrpSpPr>
        <p:grpSpPr>
          <a:xfrm>
            <a:off x="4356000" y="-1460520"/>
            <a:ext cx="334800" cy="4173480"/>
            <a:chOff x="4356000" y="-1460520"/>
            <a:chExt cx="334800" cy="4173480"/>
          </a:xfrm>
        </p:grpSpPr>
        <p:sp>
          <p:nvSpPr>
            <p:cNvPr id="271" name="Rectangle 18"/>
            <p:cNvSpPr/>
            <p:nvPr/>
          </p:nvSpPr>
          <p:spPr>
            <a:xfrm>
              <a:off x="4356000" y="-1460520"/>
              <a:ext cx="287280" cy="416268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 flipH="1">
              <a:off x="4403520" y="-1449360"/>
              <a:ext cx="287280" cy="416232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20"/>
          <p:cNvSpPr/>
          <p:nvPr/>
        </p:nvSpPr>
        <p:spPr>
          <a:xfrm rot="1200000">
            <a:off x="5149440" y="-1495440"/>
            <a:ext cx="287280" cy="4305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 rot="1800000">
            <a:off x="5581800" y="-1530360"/>
            <a:ext cx="287280" cy="45943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 rot="2400000">
            <a:off x="5976720" y="-1458720"/>
            <a:ext cx="287280" cy="488160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 rot="3000000">
            <a:off x="6500160" y="-1697760"/>
            <a:ext cx="287280" cy="5578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 rot="3600000">
            <a:off x="6977880" y="-1686240"/>
            <a:ext cx="287280" cy="59911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 rot="4200000">
            <a:off x="6860160" y="-832320"/>
            <a:ext cx="287280" cy="5362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 rot="4800000">
            <a:off x="6907680" y="-461160"/>
            <a:ext cx="287280" cy="5340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 rot="600000">
            <a:off x="4766760" y="-1387440"/>
            <a:ext cx="287640" cy="40179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8"/>
          <p:cNvGrpSpPr/>
          <p:nvPr/>
        </p:nvGrpSpPr>
        <p:grpSpPr>
          <a:xfrm>
            <a:off x="1027080" y="2316240"/>
            <a:ext cx="7197840" cy="1081080"/>
            <a:chOff x="1027080" y="2316240"/>
            <a:chExt cx="7197840" cy="1081080"/>
          </a:xfrm>
        </p:grpSpPr>
        <p:sp>
          <p:nvSpPr>
            <p:cNvPr id="282" name="Oval 29"/>
            <p:cNvSpPr/>
            <p:nvPr/>
          </p:nvSpPr>
          <p:spPr>
            <a:xfrm>
              <a:off x="1027080" y="258624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>
              <a:off x="3257640" y="231624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1"/>
            <p:cNvSpPr/>
            <p:nvPr/>
          </p:nvSpPr>
          <p:spPr>
            <a:xfrm>
              <a:off x="1027080" y="258624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2"/>
            <p:cNvSpPr/>
            <p:nvPr/>
          </p:nvSpPr>
          <p:spPr>
            <a:xfrm>
              <a:off x="3257640" y="231624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1027080" y="258768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259080" y="231768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Oval 35"/>
          <p:cNvSpPr/>
          <p:nvPr/>
        </p:nvSpPr>
        <p:spPr>
          <a:xfrm>
            <a:off x="-2479680" y="2533680"/>
            <a:ext cx="138920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6"/>
          <p:cNvSpPr/>
          <p:nvPr/>
        </p:nvSpPr>
        <p:spPr>
          <a:xfrm>
            <a:off x="3781440" y="1992240"/>
            <a:ext cx="1511280" cy="1513080"/>
          </a:xfrm>
          <a:custGeom>
            <a:avLst/>
            <a:gdLst/>
            <a:ahLst/>
            <a:rect l="l" t="t" r="r" b="b"/>
            <a:pathLst>
              <a:path w="1511300" h="1512887">
                <a:moveTo>
                  <a:pt x="2" y="577870"/>
                </a:moveTo>
                <a:lnTo>
                  <a:pt x="577268" y="577874"/>
                </a:lnTo>
                <a:lnTo>
                  <a:pt x="755650" y="0"/>
                </a:lnTo>
                <a:lnTo>
                  <a:pt x="934032" y="577874"/>
                </a:lnTo>
                <a:lnTo>
                  <a:pt x="1511298" y="577870"/>
                </a:lnTo>
                <a:lnTo>
                  <a:pt x="1044277" y="935012"/>
                </a:lnTo>
                <a:lnTo>
                  <a:pt x="1222666" y="1512883"/>
                </a:lnTo>
                <a:lnTo>
                  <a:pt x="755650" y="1155735"/>
                </a:lnTo>
                <a:lnTo>
                  <a:pt x="288634" y="1512883"/>
                </a:lnTo>
                <a:lnTo>
                  <a:pt x="467023" y="935012"/>
                </a:lnTo>
                <a:lnTo>
                  <a:pt x="2" y="57787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AutoShape 37"/>
          <p:cNvGrpSpPr/>
          <p:nvPr/>
        </p:nvGrpSpPr>
        <p:grpSpPr>
          <a:xfrm>
            <a:off x="2621160" y="3330360"/>
            <a:ext cx="1062360" cy="1062360"/>
            <a:chOff x="2621160" y="3330360"/>
            <a:chExt cx="1062360" cy="1062360"/>
          </a:xfrm>
        </p:grpSpPr>
        <p:pic>
          <p:nvPicPr>
            <p:cNvPr id="291" name="AutoShape 37" descr=""/>
            <p:cNvPicPr/>
            <p:nvPr/>
          </p:nvPicPr>
          <p:blipFill>
            <a:blip r:embed="rId5"/>
            <a:stretch/>
          </p:blipFill>
          <p:spPr>
            <a:xfrm>
              <a:off x="2719440" y="3528000"/>
              <a:ext cx="768960" cy="7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2700000">
              <a:off x="2777040" y="3485160"/>
              <a:ext cx="750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8"/>
          <p:cNvGrpSpPr/>
          <p:nvPr/>
        </p:nvGrpSpPr>
        <p:grpSpPr>
          <a:xfrm>
            <a:off x="3508560" y="4152600"/>
            <a:ext cx="934200" cy="951840"/>
            <a:chOff x="3508560" y="4152600"/>
            <a:chExt cx="934200" cy="951840"/>
          </a:xfrm>
        </p:grpSpPr>
        <p:pic>
          <p:nvPicPr>
            <p:cNvPr id="294" name="AutoShape 38" descr=""/>
            <p:cNvPicPr/>
            <p:nvPr/>
          </p:nvPicPr>
          <p:blipFill>
            <a:blip r:embed="rId6"/>
            <a:stretch/>
          </p:blipFill>
          <p:spPr>
            <a:xfrm>
              <a:off x="3630240" y="4246200"/>
              <a:ext cx="7398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 rot="900000">
              <a:off x="3596760" y="4237200"/>
              <a:ext cx="757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39"/>
          <p:cNvGrpSpPr/>
          <p:nvPr/>
        </p:nvGrpSpPr>
        <p:grpSpPr>
          <a:xfrm>
            <a:off x="4654440" y="4146120"/>
            <a:ext cx="932400" cy="950760"/>
            <a:chOff x="4654440" y="4146120"/>
            <a:chExt cx="932400" cy="950760"/>
          </a:xfrm>
        </p:grpSpPr>
        <p:pic>
          <p:nvPicPr>
            <p:cNvPr id="297" name="AutoShape 39" descr=""/>
            <p:cNvPicPr/>
            <p:nvPr/>
          </p:nvPicPr>
          <p:blipFill>
            <a:blip r:embed="rId7"/>
            <a:stretch/>
          </p:blipFill>
          <p:spPr>
            <a:xfrm>
              <a:off x="4730760" y="4241520"/>
              <a:ext cx="7329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rot="20700000">
              <a:off x="4742640" y="4230720"/>
              <a:ext cx="75600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AutoShape 40"/>
          <p:cNvGrpSpPr/>
          <p:nvPr/>
        </p:nvGrpSpPr>
        <p:grpSpPr>
          <a:xfrm>
            <a:off x="5355000" y="3314160"/>
            <a:ext cx="1056240" cy="1056600"/>
            <a:chOff x="5355000" y="3314160"/>
            <a:chExt cx="1056240" cy="1056600"/>
          </a:xfrm>
        </p:grpSpPr>
        <p:pic>
          <p:nvPicPr>
            <p:cNvPr id="300" name="AutoShape 40" descr=""/>
            <p:cNvPicPr/>
            <p:nvPr/>
          </p:nvPicPr>
          <p:blipFill>
            <a:blip r:embed="rId8"/>
            <a:stretch/>
          </p:blipFill>
          <p:spPr>
            <a:xfrm>
              <a:off x="5556600" y="3513240"/>
              <a:ext cx="758160" cy="75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8900000">
              <a:off x="5509800" y="3468240"/>
              <a:ext cx="7462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1"/>
          <p:cNvGrpSpPr/>
          <p:nvPr/>
        </p:nvGrpSpPr>
        <p:grpSpPr>
          <a:xfrm>
            <a:off x="2197080" y="623880"/>
            <a:ext cx="4680000" cy="4377960"/>
            <a:chOff x="2197080" y="623880"/>
            <a:chExt cx="4680000" cy="4377960"/>
          </a:xfrm>
        </p:grpSpPr>
        <p:pic>
          <p:nvPicPr>
            <p:cNvPr id="303" name="WordArt 42" descr=""/>
            <p:cNvPicPr/>
            <p:nvPr/>
          </p:nvPicPr>
          <p:blipFill>
            <a:blip r:embed="rId9"/>
            <a:stretch/>
          </p:blipFill>
          <p:spPr>
            <a:xfrm>
              <a:off x="2197080" y="2814840"/>
              <a:ext cx="4680000" cy="21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43"/>
            <p:cNvSpPr/>
            <p:nvPr/>
          </p:nvSpPr>
          <p:spPr>
            <a:xfrm>
              <a:off x="2211120" y="623880"/>
              <a:ext cx="4648320" cy="22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4"/>
          <p:cNvGrpSpPr/>
          <p:nvPr/>
        </p:nvGrpSpPr>
        <p:grpSpPr>
          <a:xfrm>
            <a:off x="2197080" y="623880"/>
            <a:ext cx="4680000" cy="4377960"/>
            <a:chOff x="2197080" y="623880"/>
            <a:chExt cx="4680000" cy="4377960"/>
          </a:xfrm>
        </p:grpSpPr>
        <p:pic>
          <p:nvPicPr>
            <p:cNvPr id="306" name="WordArt 45" descr=""/>
            <p:cNvPicPr/>
            <p:nvPr/>
          </p:nvPicPr>
          <p:blipFill>
            <a:blip r:embed="rId10"/>
            <a:stretch/>
          </p:blipFill>
          <p:spPr>
            <a:xfrm>
              <a:off x="2197080" y="3926520"/>
              <a:ext cx="4680000" cy="10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46"/>
            <p:cNvSpPr/>
            <p:nvPr/>
          </p:nvSpPr>
          <p:spPr>
            <a:xfrm>
              <a:off x="2211120" y="623880"/>
              <a:ext cx="464832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WordArt 47"/>
          <p:cNvSpPr txBox="1"/>
          <p:nvPr/>
        </p:nvSpPr>
        <p:spPr>
          <a:xfrm>
            <a:off x="541440" y="3889440"/>
            <a:ext cx="403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</a:rPr>
              <a:t>从未停止的</a:t>
            </a:r>
            <a:endParaRPr b="1" lang="en-US" sz="1800" spc="1" strike="noStrike">
              <a:ln w="64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e20000"/>
                  </a:gs>
                  <a:gs pos="100000">
                    <a:srgbClr val="ac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09" name="WordArt 48"/>
          <p:cNvSpPr txBox="1"/>
          <p:nvPr/>
        </p:nvSpPr>
        <p:spPr>
          <a:xfrm>
            <a:off x="4788000" y="3343320"/>
            <a:ext cx="280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</a:rPr>
              <a:t>解放</a:t>
            </a:r>
            <a:endParaRPr b="1" lang="en-US" sz="1800" spc="1" strike="noStrike">
              <a:ln w="64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e20000"/>
                  </a:gs>
                  <a:gs pos="100000">
                    <a:srgbClr val="ac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0" name="Picture 49" descr="001"/>
          <p:cNvPicPr/>
          <p:nvPr/>
        </p:nvPicPr>
        <p:blipFill>
          <a:blip r:embed="rId11"/>
          <a:srcRect l="0" t="0" r="0" b="47292"/>
          <a:stretch/>
        </p:blipFill>
        <p:spPr>
          <a:xfrm>
            <a:off x="2305080" y="71280"/>
            <a:ext cx="432108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3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3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3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3" presetSubtype="52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3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200"/>
                            </p:stCondLst>
                            <p:childTnLst>
                              <p:par>
                                <p:cTn id="1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7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3800"/>
                            </p:stCondLst>
                            <p:childTnLst>
                              <p:par>
                                <p:cTn id="1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4100"/>
                            </p:stCondLst>
                            <p:childTnLst>
                              <p:par>
                                <p:cTn id="1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1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600"/>
                            </p:stCondLst>
                            <p:childTnLst>
                              <p:par>
                                <p:cTn id="1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4700"/>
                            </p:stCondLst>
                            <p:childTnLst>
                              <p:par>
                                <p:cTn id="1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4800"/>
                            </p:stCondLst>
                            <p:childTnLst>
                              <p:par>
                                <p:cTn id="1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900"/>
                            </p:stCondLst>
                            <p:childTnLst>
                              <p:par>
                                <p:cTn id="1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200"/>
                            </p:stCondLst>
                            <p:childTnLst>
                              <p:par>
                                <p:cTn id="1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5.55556E-007 -0.06916 E">
                                      <p:cBhvr>
                                        <p:cTn id="1554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8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900"/>
                            </p:stCondLst>
                            <p:childTnLst>
                              <p:par>
                                <p:cTn id="1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6401"/>
                            </p:stCondLst>
                            <p:childTnLst>
                              <p:par>
                                <p:cTn id="159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2.22222E-006 L -5.55556E-007 -0.14361 E">
                                      <p:cBhvr>
                                        <p:cTn id="1596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7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98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7901"/>
                            </p:stCondLst>
                            <p:childTnLst>
                              <p:par>
                                <p:cTn id="16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1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3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5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7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9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1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3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5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7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9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1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3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5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7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9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1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3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5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7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9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1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3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5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7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9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4361 L -5.55556E-007 -0.25694 E">
                                      <p:cBhvr>
                                        <p:cTn id="1651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1.38889E-006 -0.17639 E">
                                      <p:cBhvr>
                                        <p:cTn id="1653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9201"/>
                            </p:stCondLst>
                            <p:childTnLst>
                              <p:par>
                                <p:cTn id="1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201"/>
                            </p:stCondLst>
                            <p:childTnLst>
                              <p:par>
                                <p:cTn id="16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3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5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0701"/>
                            </p:stCondLst>
                            <p:childTnLst>
                              <p:par>
                                <p:cTn id="16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3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7885080" y="1847880"/>
            <a:ext cx="1189080" cy="165564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6360" y="3289320"/>
            <a:ext cx="1189080" cy="229536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009800" y="1847880"/>
            <a:ext cx="863280" cy="43164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36360" y="1847880"/>
            <a:ext cx="1189080" cy="1655640"/>
            <a:chOff x="36360" y="1847880"/>
            <a:chExt cx="1189080" cy="1655640"/>
          </a:xfrm>
        </p:grpSpPr>
        <p:sp>
          <p:nvSpPr>
            <p:cNvPr id="315" name="Rectangle 6"/>
            <p:cNvSpPr/>
            <p:nvPr/>
          </p:nvSpPr>
          <p:spPr>
            <a:xfrm>
              <a:off x="36360" y="1847880"/>
              <a:ext cx="1189080" cy="165564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7"/>
            <p:cNvSpPr txBox="1"/>
            <p:nvPr/>
          </p:nvSpPr>
          <p:spPr>
            <a:xfrm>
              <a:off x="288720" y="1920960"/>
              <a:ext cx="62244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宋体"/>
                </a:rPr>
                <a:t>导</a:t>
              </a:r>
              <a:endPara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宋体"/>
                </a:rPr>
                <a:t>语</a:t>
              </a:r>
              <a:endPara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17" name="Group 8"/>
          <p:cNvGrpSpPr/>
          <p:nvPr/>
        </p:nvGrpSpPr>
        <p:grpSpPr>
          <a:xfrm>
            <a:off x="1260360" y="2338560"/>
            <a:ext cx="8029440" cy="1719000"/>
            <a:chOff x="1260360" y="2338560"/>
            <a:chExt cx="8029440" cy="1719000"/>
          </a:xfrm>
        </p:grpSpPr>
        <p:sp>
          <p:nvSpPr>
            <p:cNvPr id="318" name="Text Box 9"/>
            <p:cNvSpPr/>
            <p:nvPr/>
          </p:nvSpPr>
          <p:spPr>
            <a:xfrm>
              <a:off x="1260360" y="2934000"/>
              <a:ext cx="65530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个词最早出现在英国哲学家培根的书中，意指解除人性的束缚，之后政治学家邓恩将其引申到政治领域，代表从暴君统治中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“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解放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”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出来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1260360" y="2338560"/>
              <a:ext cx="80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1949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年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,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毛泽东和他的中国共产党带来了 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方正粗倩简体"/>
                </a:rPr>
                <a:t>“</a:t>
              </a:r>
              <a:r>
                <a:rPr b="0" lang="zh-CN" sz="2800" spc="-1" strike="noStrike">
                  <a:solidFill>
                    <a:srgbClr val="ffff99"/>
                  </a:solidFill>
                  <a:latin typeface="方正粗倩简体"/>
                  <a:ea typeface="方正粗倩简体"/>
                </a:rPr>
                <a:t>解放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方正粗倩简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"/>
          <p:cNvGrpSpPr/>
          <p:nvPr/>
        </p:nvGrpSpPr>
        <p:grpSpPr>
          <a:xfrm>
            <a:off x="1836720" y="3289320"/>
            <a:ext cx="7237440" cy="2295360"/>
            <a:chOff x="1836720" y="3289320"/>
            <a:chExt cx="7237440" cy="2295360"/>
          </a:xfrm>
        </p:grpSpPr>
        <p:sp>
          <p:nvSpPr>
            <p:cNvPr id="321" name="Rectangle 12"/>
            <p:cNvSpPr/>
            <p:nvPr/>
          </p:nvSpPr>
          <p:spPr>
            <a:xfrm>
              <a:off x="1836720" y="5153040"/>
              <a:ext cx="6696000" cy="43164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7885080" y="3289320"/>
              <a:ext cx="1189080" cy="229536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2052720" y="85680"/>
            <a:ext cx="4859280" cy="969840"/>
            <a:chOff x="2052720" y="85680"/>
            <a:chExt cx="4859280" cy="969840"/>
          </a:xfrm>
        </p:grpSpPr>
        <p:sp>
          <p:nvSpPr>
            <p:cNvPr id="324" name="WordArt 15"/>
            <p:cNvSpPr txBox="1"/>
            <p:nvPr/>
          </p:nvSpPr>
          <p:spPr>
            <a:xfrm>
              <a:off x="5508720" y="85680"/>
              <a:ext cx="1403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325" name="WordArt 16"/>
            <p:cNvSpPr txBox="1"/>
            <p:nvPr/>
          </p:nvSpPr>
          <p:spPr>
            <a:xfrm>
              <a:off x="2052720" y="318960"/>
              <a:ext cx="32241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7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8" presetSubtype="6">
                                  <p:stCondLst>
                                    <p:cond delay="1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7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4.44444E-006 L -0.86025 -0.00612 E">
                                      <p:cBhvr>
                                        <p:cTn id="1711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800"/>
                            </p:stCondLst>
                            <p:childTnLst>
                              <p:par>
                                <p:cTn id="17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5.55556E-006 L -0.42517 0.31501 E">
                                      <p:cBhvr>
                                        <p:cTn id="1722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800"/>
                            </p:stCondLst>
                            <p:childTnLst>
                              <p:par>
                                <p:cTn id="17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611 L -0.00191 -0.23889 E">
                                      <p:cBhvr>
                                        <p:cTn id="1727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 rot="5400000">
            <a:off x="4358160" y="-1127880"/>
            <a:ext cx="718920" cy="80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 rot="2700000">
            <a:off x="360720" y="-1423080"/>
            <a:ext cx="1079640" cy="43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85800" y="289080"/>
            <a:ext cx="719280" cy="52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8029440" y="289080"/>
            <a:ext cx="719280" cy="52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 rot="5400000">
            <a:off x="4358160" y="-3383640"/>
            <a:ext cx="718920" cy="80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 rot="5400000">
            <a:off x="4321440" y="1165680"/>
            <a:ext cx="719280" cy="799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197080" y="4557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Black"/>
                <a:ea typeface="PMingLiU"/>
              </a:rPr>
              <a:t>19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81440" y="4557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Black"/>
                <a:ea typeface="PMingLiU"/>
              </a:rPr>
              <a:t>19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 rot="18900000">
            <a:off x="-1182240" y="623880"/>
            <a:ext cx="409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粗倩简体"/>
              </a:rPr>
              <a:t>国家的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1"/>
          <p:cNvSpPr/>
          <p:nvPr/>
        </p:nvSpPr>
        <p:spPr>
          <a:xfrm flipV="1" rot="10800000">
            <a:off x="3420720" y="622800"/>
            <a:ext cx="360360" cy="90360"/>
          </a:xfrm>
          <a:custGeom>
            <a:avLst/>
            <a:gdLst>
              <a:gd name="textAreaLeft" fmla="*/ 0 w 360360"/>
              <a:gd name="textAreaRight" fmla="*/ 360720 w 360360"/>
              <a:gd name="textAreaTop" fmla="*/ 37440 h 90360"/>
              <a:gd name="textAreaBottom" fmla="*/ 52920 h 9036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5076720" y="614520"/>
            <a:ext cx="108000" cy="107640"/>
          </a:xfrm>
          <a:prstGeom prst="ellipse">
            <a:avLst/>
          </a:prstGeom>
          <a:solidFill>
            <a:srgbClr val="333333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5292720" y="407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超粗黑_GBK"/>
              </a:rPr>
              <a:t>白色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 rot="5400000">
            <a:off x="1412640" y="-5205240"/>
            <a:ext cx="5746680" cy="161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1260360" y="1139760"/>
            <a:ext cx="61214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49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家“解放”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意味着一个全新时代的来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群情激昂，满怀热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503280" y="615456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整个国家像一幅摊开的白色宣纸，等待泼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332000" y="-8064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那一刻，国家的解放就意味着每个人的解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1260360" y="1139760"/>
            <a:ext cx="61214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49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家“解放”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意味着一个全新时代的来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群情激昂，满怀热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4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5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6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8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9501"/>
                            </p:stCondLst>
                            <p:childTnLst>
                              <p:par>
                                <p:cTn id="174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7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0001"/>
                            </p:stCondLst>
                            <p:childTnLst>
                              <p:par>
                                <p:cTn id="174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8.67362E-019 L 2.77778E-006 0.68028 E">
                                      <p:cBhvr>
                                        <p:cTn id="174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8.67362E-019 L 3.33333E-006 -0.83166 E">
                                      <p:cBhvr>
                                        <p:cTn id="1750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1001"/>
                            </p:stCondLst>
                            <p:childTnLst>
                              <p:par>
                                <p:cTn id="175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4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6251"/>
                            </p:stCondLst>
                            <p:childTnLst>
                              <p:par>
                                <p:cTn id="17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Clr clrSpc="rgb">
                                      <p:cBhvr>
                                        <p:cTn id="1757" dur="3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 to="1.10000002384186">
                                      <p:cBhvr additive="repl">
                                        <p:cTn id="1759" dur="3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8261"/>
                            </p:stCondLst>
                            <p:childTnLst>
                              <p:par>
                                <p:cTn id="1761" nodeType="afterEffect" fill="hold" presetClass="exit" presetID="7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6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20761"/>
                            </p:stCondLst>
                            <p:childTnLst>
                              <p:par>
                                <p:cTn id="1770" nodeType="afterEffect" fill="hold" presetClass="exit" presetID="16" presetSubtype="26">
                                  <p:stCondLst>
                                    <p:cond delay="1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44" name="Rectangle 3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6"/>
          <p:cNvGrpSpPr/>
          <p:nvPr/>
        </p:nvGrpSpPr>
        <p:grpSpPr>
          <a:xfrm>
            <a:off x="-1023120" y="122400"/>
            <a:ext cx="9844560" cy="6607080"/>
            <a:chOff x="-1023120" y="122400"/>
            <a:chExt cx="9844560" cy="6607080"/>
          </a:xfrm>
        </p:grpSpPr>
        <p:grpSp>
          <p:nvGrpSpPr>
            <p:cNvPr id="348" name="Group 7"/>
            <p:cNvGrpSpPr/>
            <p:nvPr/>
          </p:nvGrpSpPr>
          <p:grpSpPr>
            <a:xfrm>
              <a:off x="4573440" y="632880"/>
              <a:ext cx="4248000" cy="4819680"/>
              <a:chOff x="4573440" y="632880"/>
              <a:chExt cx="4248000" cy="4819680"/>
            </a:xfrm>
          </p:grpSpPr>
          <p:sp>
            <p:nvSpPr>
              <p:cNvPr id="349" name="Rectangle 8"/>
              <p:cNvSpPr/>
              <p:nvPr/>
            </p:nvSpPr>
            <p:spPr>
              <a:xfrm>
                <a:off x="4573440" y="632880"/>
                <a:ext cx="4248000" cy="48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4789440" y="992880"/>
                <a:ext cx="3671640" cy="410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"/>
              <p:cNvSpPr/>
              <p:nvPr/>
            </p:nvSpPr>
            <p:spPr>
              <a:xfrm>
                <a:off x="4789440" y="992880"/>
                <a:ext cx="3671640" cy="410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AutoShape 11"/>
            <p:cNvSpPr/>
            <p:nvPr/>
          </p:nvSpPr>
          <p:spPr>
            <a:xfrm rot="5400000">
              <a:off x="-48960" y="822240"/>
              <a:ext cx="5322600" cy="3922560"/>
            </a:xfrm>
            <a:prstGeom prst="parallelogram">
              <a:avLst>
                <a:gd name="adj" fmla="val 1281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2"/>
            <p:cNvSpPr/>
            <p:nvPr/>
          </p:nvSpPr>
          <p:spPr>
            <a:xfrm rot="5400000">
              <a:off x="461160" y="1163160"/>
              <a:ext cx="4461120" cy="3384360"/>
            </a:xfrm>
            <a:prstGeom prst="parallelogram">
              <a:avLst>
                <a:gd name="adj" fmla="val 1194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"/>
            <p:cNvSpPr/>
            <p:nvPr/>
          </p:nvSpPr>
          <p:spPr>
            <a:xfrm rot="5400000">
              <a:off x="461880" y="1127520"/>
              <a:ext cx="4475520" cy="3384360"/>
            </a:xfrm>
            <a:prstGeom prst="parallelogram">
              <a:avLst>
                <a:gd name="adj" fmla="val 119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 rot="18900000">
              <a:off x="396360" y="2792880"/>
              <a:ext cx="719280" cy="431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5"/>
          <p:cNvGrpSpPr/>
          <p:nvPr/>
        </p:nvGrpSpPr>
        <p:grpSpPr>
          <a:xfrm>
            <a:off x="1692360" y="2205360"/>
            <a:ext cx="1895760" cy="1231560"/>
            <a:chOff x="1692360" y="2205360"/>
            <a:chExt cx="1895760" cy="1231560"/>
          </a:xfrm>
        </p:grpSpPr>
        <p:sp>
          <p:nvSpPr>
            <p:cNvPr id="357" name="Text Box 16"/>
            <p:cNvSpPr/>
            <p:nvPr/>
          </p:nvSpPr>
          <p:spPr>
            <a:xfrm flipV="1" rot="5400000">
              <a:off x="1463760" y="2433600"/>
              <a:ext cx="91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 Black"/>
                  <a:ea typeface="PMingLiU"/>
                </a:rPr>
                <a:t>195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 flipH="1" flipV="1" rot="5400000">
              <a:off x="2902320" y="2751120"/>
              <a:ext cx="91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 Black"/>
                  <a:ea typeface="PMingLiU"/>
                </a:rPr>
                <a:t>194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8"/>
            <p:cNvSpPr/>
            <p:nvPr/>
          </p:nvSpPr>
          <p:spPr>
            <a:xfrm rot="16200000">
              <a:off x="2542680" y="2689200"/>
              <a:ext cx="179280" cy="178920"/>
            </a:xfrm>
            <a:prstGeom prst="ellipse">
              <a:avLst/>
            </a:prstGeom>
            <a:solidFill>
              <a:srgbClr val="f8f8f8">
                <a:alpha val="70000"/>
              </a:srgbClr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9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61" name="Rectangle 20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3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65" name="Rectangle 24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5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6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27"/>
          <p:cNvSpPr/>
          <p:nvPr/>
        </p:nvSpPr>
        <p:spPr>
          <a:xfrm>
            <a:off x="5437440" y="1338120"/>
            <a:ext cx="16426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草檀斋毛泽东字体"/>
              </a:rPr>
              <a:t>国家的解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8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70" name="Rectangle 29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0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Rectangle 31"/>
            <p:cNvGrpSpPr/>
            <p:nvPr/>
          </p:nvGrpSpPr>
          <p:grpSpPr>
            <a:xfrm>
              <a:off x="4773600" y="969840"/>
              <a:ext cx="3706560" cy="4138560"/>
              <a:chOff x="4773600" y="969840"/>
              <a:chExt cx="3706560" cy="4138560"/>
            </a:xfrm>
          </p:grpSpPr>
          <p:pic>
            <p:nvPicPr>
              <p:cNvPr id="373" name="Rectangle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3600" y="969840"/>
                <a:ext cx="3706560" cy="41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Text Box 33"/>
              <p:cNvSpPr/>
              <p:nvPr/>
            </p:nvSpPr>
            <p:spPr>
              <a:xfrm>
                <a:off x="4789800" y="986400"/>
                <a:ext cx="3672360" cy="41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32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76" name="Rectangle 33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4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Rectangle 35"/>
            <p:cNvGrpSpPr/>
            <p:nvPr/>
          </p:nvGrpSpPr>
          <p:grpSpPr>
            <a:xfrm>
              <a:off x="4773600" y="969840"/>
              <a:ext cx="3706560" cy="4138560"/>
              <a:chOff x="4773600" y="969840"/>
              <a:chExt cx="3706560" cy="4138560"/>
            </a:xfrm>
          </p:grpSpPr>
          <p:pic>
            <p:nvPicPr>
              <p:cNvPr id="379" name="Rect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73600" y="969840"/>
                <a:ext cx="3706560" cy="41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9"/>
              <p:cNvSpPr/>
              <p:nvPr/>
            </p:nvSpPr>
            <p:spPr>
              <a:xfrm>
                <a:off x="4789800" y="986400"/>
                <a:ext cx="3672360" cy="41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36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grpSp>
          <p:nvGrpSpPr>
            <p:cNvPr id="382" name="Group 37"/>
            <p:cNvGrpSpPr/>
            <p:nvPr/>
          </p:nvGrpSpPr>
          <p:grpSpPr>
            <a:xfrm>
              <a:off x="4573440" y="625320"/>
              <a:ext cx="4248000" cy="4824360"/>
              <a:chOff x="4573440" y="625320"/>
              <a:chExt cx="4248000" cy="4824360"/>
            </a:xfrm>
          </p:grpSpPr>
          <p:sp>
            <p:nvSpPr>
              <p:cNvPr id="383" name="Rectangle 38"/>
              <p:cNvSpPr/>
              <p:nvPr/>
            </p:nvSpPr>
            <p:spPr>
              <a:xfrm>
                <a:off x="4573440" y="625320"/>
                <a:ext cx="4248000" cy="482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9"/>
              <p:cNvSpPr/>
              <p:nvPr/>
            </p:nvSpPr>
            <p:spPr>
              <a:xfrm>
                <a:off x="4789440" y="985680"/>
                <a:ext cx="3671640" cy="410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40"/>
              <p:cNvSpPr/>
              <p:nvPr/>
            </p:nvSpPr>
            <p:spPr>
              <a:xfrm>
                <a:off x="4789440" y="985680"/>
                <a:ext cx="3671640" cy="410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41"/>
            <p:cNvSpPr/>
            <p:nvPr/>
          </p:nvSpPr>
          <p:spPr>
            <a:xfrm>
              <a:off x="5429520" y="1344600"/>
              <a:ext cx="164268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草檀斋毛泽东字体"/>
                </a:rPr>
                <a:t>国家的解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4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388" name="AutoShape 4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4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华人民共和国成立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全人类四分之一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人从此站立起来了。　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398" name="AutoShape 5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5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5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5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以来，天安门及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广场成为国家的政治心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大阅兵和各种宏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庆典都在这里举行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6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408" name="AutoShape 6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6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58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，中国第一部国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轿车在长春第一汽车制造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诞生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了。“红旗”牌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中国第一部高级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6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6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7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418" name="AutoShape 7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7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7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7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家每户把粮食交给公社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砸烂铁锅用来炼钢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吃饭这一私人事件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也成为公共活动之一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7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8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82"/>
          <p:cNvSpPr/>
          <p:nvPr/>
        </p:nvSpPr>
        <p:spPr>
          <a:xfrm rot="2700000">
            <a:off x="-1322280" y="4736520"/>
            <a:ext cx="410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粗倩简体"/>
              </a:rPr>
              <a:t>白色记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1"/>
                            </p:stCondLst>
                            <p:childTnLst>
                              <p:par>
                                <p:cTn id="1791" nodeType="afterEffect" fill="hold" presetClass="exit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6001"/>
                            </p:stCondLst>
                            <p:childTnLst>
                              <p:par>
                                <p:cTn id="18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7001"/>
                            </p:stCondLst>
                            <p:childTnLst>
                              <p:par>
                                <p:cTn id="1807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3001"/>
                            </p:stCondLst>
                            <p:childTnLst>
                              <p:par>
                                <p:cTn id="1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4001"/>
                            </p:stCondLst>
                            <p:childTnLst>
                              <p:par>
                                <p:cTn id="1823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1"/>
                            </p:stCondLst>
                            <p:childTnLst>
                              <p:par>
                                <p:cTn id="18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21001"/>
                            </p:stCondLst>
                            <p:childTnLst>
                              <p:par>
                                <p:cTn id="1839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26501"/>
                            </p:stCondLst>
                            <p:childTnLst>
                              <p:par>
                                <p:cTn id="18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-1023120" y="60840"/>
            <a:ext cx="9844560" cy="6668640"/>
            <a:chOff x="-1023120" y="60840"/>
            <a:chExt cx="9844560" cy="6668640"/>
          </a:xfrm>
        </p:grpSpPr>
        <p:grpSp>
          <p:nvGrpSpPr>
            <p:cNvPr id="429" name="Group 3"/>
            <p:cNvGrpSpPr/>
            <p:nvPr/>
          </p:nvGrpSpPr>
          <p:grpSpPr>
            <a:xfrm>
              <a:off x="-1023120" y="122400"/>
              <a:ext cx="9844560" cy="6607080"/>
              <a:chOff x="-1023120" y="122400"/>
              <a:chExt cx="9844560" cy="6607080"/>
            </a:xfrm>
          </p:grpSpPr>
          <p:grpSp>
            <p:nvGrpSpPr>
              <p:cNvPr id="430" name="Group 4"/>
              <p:cNvGrpSpPr/>
              <p:nvPr/>
            </p:nvGrpSpPr>
            <p:grpSpPr>
              <a:xfrm>
                <a:off x="4573440" y="632880"/>
                <a:ext cx="4248000" cy="4819680"/>
                <a:chOff x="4573440" y="632880"/>
                <a:chExt cx="4248000" cy="4819680"/>
              </a:xfrm>
            </p:grpSpPr>
            <p:sp>
              <p:nvSpPr>
                <p:cNvPr id="431" name="Rectangle 5"/>
                <p:cNvSpPr/>
                <p:nvPr/>
              </p:nvSpPr>
              <p:spPr>
                <a:xfrm>
                  <a:off x="4573440" y="632880"/>
                  <a:ext cx="4248000" cy="481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"/>
                <p:cNvSpPr/>
                <p:nvPr/>
              </p:nvSpPr>
              <p:spPr>
                <a:xfrm>
                  <a:off x="4789440" y="992880"/>
                  <a:ext cx="3671640" cy="4101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"/>
                <p:cNvSpPr/>
                <p:nvPr/>
              </p:nvSpPr>
              <p:spPr>
                <a:xfrm>
                  <a:off x="4789440" y="992880"/>
                  <a:ext cx="3671640" cy="4101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AutoShape 8"/>
              <p:cNvSpPr/>
              <p:nvPr/>
            </p:nvSpPr>
            <p:spPr>
              <a:xfrm rot="5400000">
                <a:off x="-48960" y="822240"/>
                <a:ext cx="5322600" cy="3922560"/>
              </a:xfrm>
              <a:prstGeom prst="parallelogram">
                <a:avLst>
                  <a:gd name="adj" fmla="val 1281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9"/>
              <p:cNvSpPr/>
              <p:nvPr/>
            </p:nvSpPr>
            <p:spPr>
              <a:xfrm rot="5400000">
                <a:off x="461160" y="1163160"/>
                <a:ext cx="4461120" cy="3384360"/>
              </a:xfrm>
              <a:prstGeom prst="parallelogram">
                <a:avLst>
                  <a:gd name="adj" fmla="val 1194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10"/>
              <p:cNvSpPr/>
              <p:nvPr/>
            </p:nvSpPr>
            <p:spPr>
              <a:xfrm rot="5400000">
                <a:off x="461880" y="1127520"/>
                <a:ext cx="4475520" cy="3384360"/>
              </a:xfrm>
              <a:prstGeom prst="parallelogram">
                <a:avLst>
                  <a:gd name="adj" fmla="val 119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1"/>
              <p:cNvSpPr/>
              <p:nvPr/>
            </p:nvSpPr>
            <p:spPr>
              <a:xfrm rot="18900000">
                <a:off x="396360" y="2792880"/>
                <a:ext cx="719280" cy="431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2"/>
            <p:cNvGrpSpPr/>
            <p:nvPr/>
          </p:nvGrpSpPr>
          <p:grpSpPr>
            <a:xfrm>
              <a:off x="4573440" y="625320"/>
              <a:ext cx="4248000" cy="4824000"/>
              <a:chOff x="4573440" y="625320"/>
              <a:chExt cx="4248000" cy="4824000"/>
            </a:xfrm>
          </p:grpSpPr>
          <p:sp>
            <p:nvSpPr>
              <p:cNvPr id="439" name="Rectangle 13"/>
              <p:cNvSpPr/>
              <p:nvPr/>
            </p:nvSpPr>
            <p:spPr>
              <a:xfrm>
                <a:off x="4573440" y="625320"/>
                <a:ext cx="4248000" cy="48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"/>
              <p:cNvSpPr/>
              <p:nvPr/>
            </p:nvSpPr>
            <p:spPr>
              <a:xfrm>
                <a:off x="4789440" y="985320"/>
                <a:ext cx="3671640" cy="410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5"/>
              <p:cNvSpPr/>
              <p:nvPr/>
            </p:nvSpPr>
            <p:spPr>
              <a:xfrm>
                <a:off x="4789440" y="985320"/>
                <a:ext cx="3671640" cy="41050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6"/>
            <p:cNvGrpSpPr/>
            <p:nvPr/>
          </p:nvGrpSpPr>
          <p:grpSpPr>
            <a:xfrm>
              <a:off x="544320" y="60840"/>
              <a:ext cx="4029120" cy="5388840"/>
              <a:chOff x="544320" y="60840"/>
              <a:chExt cx="4029120" cy="5388840"/>
            </a:xfrm>
          </p:grpSpPr>
          <p:sp>
            <p:nvSpPr>
              <p:cNvPr id="443" name="AutoShape 17"/>
              <p:cNvSpPr/>
              <p:nvPr/>
            </p:nvSpPr>
            <p:spPr>
              <a:xfrm rot="5400000">
                <a:off x="-51480" y="824400"/>
                <a:ext cx="5327280" cy="3922560"/>
              </a:xfrm>
              <a:prstGeom prst="parallelogram">
                <a:avLst>
                  <a:gd name="adj" fmla="val 128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rot="5400000">
                <a:off x="467640" y="1165320"/>
                <a:ext cx="4465080" cy="3384720"/>
              </a:xfrm>
              <a:prstGeom prst="parallelogram">
                <a:avLst>
                  <a:gd name="adj" fmla="val 1195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9"/>
              <p:cNvSpPr/>
              <p:nvPr/>
            </p:nvSpPr>
            <p:spPr>
              <a:xfrm rot="19052400">
                <a:off x="612720" y="199440"/>
                <a:ext cx="576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 Black"/>
                    <a:ea typeface="PMingLiU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 Black"/>
                    <a:ea typeface="PMingLiU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 rot="5400000">
                <a:off x="460440" y="1129680"/>
                <a:ext cx="4479480" cy="3384720"/>
              </a:xfrm>
              <a:prstGeom prst="parallelogram">
                <a:avLst>
                  <a:gd name="adj" fmla="val 1199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8000" bIns="18000" anchor="t" anchorCtr="1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家每户把粮食交给公社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砸烂铁锅用来炼钢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吃饭这一私人事件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也成为公共活动之一。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1"/>
              <p:cNvSpPr/>
              <p:nvPr/>
            </p:nvSpPr>
            <p:spPr>
              <a:xfrm>
                <a:off x="3311640" y="113652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2771640" y="106344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2232000" y="99180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692360" y="92052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3851280" y="128088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26"/>
            <p:cNvSpPr/>
            <p:nvPr/>
          </p:nvSpPr>
          <p:spPr>
            <a:xfrm rot="2700000">
              <a:off x="-1330200" y="4728240"/>
              <a:ext cx="410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方正粗倩简体"/>
                </a:rPr>
                <a:t>白色记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Oval 27"/>
          <p:cNvSpPr/>
          <p:nvPr/>
        </p:nvSpPr>
        <p:spPr>
          <a:xfrm>
            <a:off x="396720" y="-1314360"/>
            <a:ext cx="8317080" cy="831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d2d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社会主义好伴奏版.wma" descr=""/>
          <p:cNvPicPr/>
          <p:nvPr/>
        </p:nvPicPr>
        <p:blipFill>
          <a:blip r:embed="rId2"/>
          <a:stretch/>
        </p:blipFill>
        <p:spPr>
          <a:xfrm>
            <a:off x="4419720" y="61326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0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with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9" dur="3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3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2" dur="3000" fill="hold"/>
                                        <p:tgtEl>
                                          <p:spTgt spid="45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874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未知"/>
          <p:cNvSpPr/>
          <p:nvPr/>
        </p:nvSpPr>
        <p:spPr>
          <a:xfrm>
            <a:off x="2833560" y="654120"/>
            <a:ext cx="6392880" cy="51213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0" y="329"/>
                </a:lnTo>
                <a:lnTo>
                  <a:pt x="0" y="3"/>
                </a:lnTo>
                <a:close/>
              </a:path>
            </a:pathLst>
          </a:custGeom>
          <a:gradFill rotWithShape="0">
            <a:gsLst>
              <a:gs pos="0">
                <a:srgbClr val="d1d1d1">
                  <a:alpha val="60000"/>
                </a:srgbClr>
              </a:gs>
              <a:gs pos="100000">
                <a:srgbClr val="c0c0c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 flipH="1" rot="19800000">
            <a:off x="4244040" y="2486880"/>
            <a:ext cx="358920" cy="3618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476440" y="663480"/>
            <a:ext cx="36036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 flipH="1" rot="19800000">
            <a:off x="2963880" y="1130040"/>
            <a:ext cx="358920" cy="18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 rot="19800000">
            <a:off x="1902960" y="872640"/>
            <a:ext cx="360360" cy="569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 rot="1800000">
            <a:off x="828720" y="-626760"/>
            <a:ext cx="539640" cy="377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 rot="5400000">
            <a:off x="2101680" y="-1892160"/>
            <a:ext cx="360360" cy="467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 rot="18000000">
            <a:off x="-340560" y="1355760"/>
            <a:ext cx="252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  <a:ea typeface="方正粗倩简体"/>
              </a:rPr>
              <a:t>试图解放国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-130320" y="73080"/>
            <a:ext cx="98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c0c0"/>
                </a:solidFill>
                <a:latin typeface="Arial Black"/>
                <a:ea typeface="PMingLiU"/>
              </a:rPr>
              <a:t>19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2025720" y="-5256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方正超粗黑_GBK"/>
              </a:rPr>
              <a:t>灰色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22440" y="157320"/>
            <a:ext cx="161640" cy="1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 flipH="1">
            <a:off x="531720" y="7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c0c0"/>
                </a:solidFill>
                <a:latin typeface="Arial Black"/>
                <a:ea typeface="PMingLiU"/>
              </a:rPr>
              <a:t>196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4"/>
          <p:cNvSpPr/>
          <p:nvPr/>
        </p:nvSpPr>
        <p:spPr>
          <a:xfrm>
            <a:off x="1557360" y="409680"/>
            <a:ext cx="54000" cy="54000"/>
          </a:xfrm>
          <a:prstGeom prst="ellipse">
            <a:avLst/>
          </a:prstGeom>
          <a:solidFill>
            <a:srgbClr val="ffffff">
              <a:alpha val="85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 rot="5400000">
            <a:off x="6777720" y="-1894680"/>
            <a:ext cx="360360" cy="4680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 rot="1800000">
            <a:off x="-318960" y="2681280"/>
            <a:ext cx="534960" cy="11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未知"/>
          <p:cNvSpPr/>
          <p:nvPr/>
        </p:nvSpPr>
        <p:spPr>
          <a:xfrm>
            <a:off x="3152880" y="909720"/>
            <a:ext cx="5754600" cy="46101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6" y="335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1">
              <a:alphaModFix amt="90000"/>
            </a:blip>
            <a:srcRect/>
            <a:stretch/>
          </a:blipFill>
          <a:ln w="1260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28640" y="332892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管面临美苏遏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946080" y="4536720"/>
            <a:ext cx="3276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中国第一颗原子弹仍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爆炸成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1233360" y="3849840"/>
            <a:ext cx="29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又进入经济困难时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 rot="1800000">
            <a:off x="1974600" y="1130400"/>
            <a:ext cx="360360" cy="18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 rot="1800000">
            <a:off x="696600" y="2592360"/>
            <a:ext cx="360360" cy="3378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3"/>
          <p:cNvGrpSpPr/>
          <p:nvPr/>
        </p:nvGrpSpPr>
        <p:grpSpPr>
          <a:xfrm>
            <a:off x="2476440" y="663480"/>
            <a:ext cx="3008160" cy="5288400"/>
            <a:chOff x="2476440" y="663480"/>
            <a:chExt cx="3008160" cy="5288400"/>
          </a:xfrm>
        </p:grpSpPr>
        <p:sp>
          <p:nvSpPr>
            <p:cNvPr id="477" name="Rectangle 24"/>
            <p:cNvSpPr/>
            <p:nvPr/>
          </p:nvSpPr>
          <p:spPr>
            <a:xfrm flipH="1" rot="19800000">
              <a:off x="4244040" y="2486880"/>
              <a:ext cx="358920" cy="361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5"/>
            <p:cNvSpPr/>
            <p:nvPr/>
          </p:nvSpPr>
          <p:spPr>
            <a:xfrm>
              <a:off x="2476440" y="663480"/>
              <a:ext cx="360360" cy="719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6"/>
            <p:cNvSpPr/>
            <p:nvPr/>
          </p:nvSpPr>
          <p:spPr>
            <a:xfrm flipH="1" rot="19800000">
              <a:off x="2963160" y="1130040"/>
              <a:ext cx="358560" cy="18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未知"/>
          <p:cNvSpPr/>
          <p:nvPr/>
        </p:nvSpPr>
        <p:spPr>
          <a:xfrm>
            <a:off x="3152880" y="909720"/>
            <a:ext cx="5754600" cy="46101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6" y="335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stretch/>
          </a:blipFill>
          <a:ln w="1260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8"/>
          <p:cNvSpPr/>
          <p:nvPr/>
        </p:nvSpPr>
        <p:spPr>
          <a:xfrm>
            <a:off x="2133720" y="2924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票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1413000" y="36320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物质短缺的计划时代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0"/>
          <p:cNvSpPr/>
          <p:nvPr/>
        </p:nvSpPr>
        <p:spPr>
          <a:xfrm>
            <a:off x="1233360" y="43401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钱也买不到想要的物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620640" y="504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今天的消费券则是为了鼓励人们购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未知"/>
          <p:cNvGrpSpPr/>
          <p:nvPr/>
        </p:nvGrpSpPr>
        <p:grpSpPr>
          <a:xfrm>
            <a:off x="3144960" y="901800"/>
            <a:ext cx="5767200" cy="4620960"/>
            <a:chOff x="3144960" y="901800"/>
            <a:chExt cx="5767200" cy="4620960"/>
          </a:xfrm>
        </p:grpSpPr>
        <p:pic>
          <p:nvPicPr>
            <p:cNvPr id="486" name="未知" descr=""/>
            <p:cNvPicPr/>
            <p:nvPr/>
          </p:nvPicPr>
          <p:blipFill>
            <a:blip r:embed="rId3"/>
            <a:stretch/>
          </p:blipFill>
          <p:spPr>
            <a:xfrm>
              <a:off x="3144960" y="901800"/>
              <a:ext cx="576720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34"/>
            <p:cNvSpPr/>
            <p:nvPr/>
          </p:nvSpPr>
          <p:spPr>
            <a:xfrm>
              <a:off x="3152520" y="909360"/>
              <a:ext cx="5754240" cy="46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33"/>
          <p:cNvSpPr/>
          <p:nvPr/>
        </p:nvSpPr>
        <p:spPr>
          <a:xfrm>
            <a:off x="2133720" y="2924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1413000" y="36320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庆油田开建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5"/>
          <p:cNvSpPr/>
          <p:nvPr/>
        </p:nvSpPr>
        <p:spPr>
          <a:xfrm>
            <a:off x="1054080" y="43401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人开始告别“洋油”时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693720" y="504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毛泽东号召工业学大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7"/>
          <p:cNvSpPr/>
          <p:nvPr/>
        </p:nvSpPr>
        <p:spPr>
          <a:xfrm flipH="1" rot="1800000">
            <a:off x="3034800" y="873000"/>
            <a:ext cx="360360" cy="569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我们都是共产主义接班人.mp3" descr=""/>
          <p:cNvPicPr/>
          <p:nvPr/>
        </p:nvPicPr>
        <p:blipFill>
          <a:blip r:embed="rId4"/>
          <a:stretch/>
        </p:blipFill>
        <p:spPr>
          <a:xfrm>
            <a:off x="4140360" y="595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300"/>
                            </p:stCondLst>
                            <p:childTnLst>
                              <p:par>
                                <p:cTn id="1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600"/>
                            </p:stCondLst>
                            <p:childTnLst>
                              <p:par>
                                <p:cTn id="1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3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3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9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901"/>
                            </p:stCondLst>
                            <p:childTnLst>
                              <p:par>
                                <p:cTn id="1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401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901"/>
                            </p:stCondLst>
                            <p:childTnLst>
                              <p:par>
                                <p:cTn id="19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7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2401"/>
                            </p:stCondLst>
                            <p:childTnLst>
                              <p:par>
                                <p:cTn id="19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3301"/>
                            </p:stCondLst>
                            <p:childTnLst>
                              <p:par>
                                <p:cTn id="1915" nodeType="afterEffect" fill="hold" presetClass="entr" presetID="4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351"/>
                            </p:stCondLst>
                            <p:childTnLst>
                              <p:par>
                                <p:cTn id="1921" nodeType="afterEffect" fill="hold" presetClass="entr" presetID="26">
                                  <p:stCondLst>
                                    <p:cond delay="1000"/>
                                  </p:stCondLst>
                                  <p:iterate type="lt">
                                    <p:tmAbs val="149.7"/>
                                  </p:iterate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443"/>
                            </p:stCondLst>
                            <p:childTnLst>
                              <p:par>
                                <p:cTn id="193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0.00781 -0.00528 L -0.00781 -0.10611 E">
                                      <p:cBhvr>
                                        <p:cTn id="1942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1543"/>
                            </p:stCondLst>
                            <p:childTnLst>
                              <p:par>
                                <p:cTn id="19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0.004 -0.00194 L -0.004 -0.10278 E">
                                      <p:cBhvr>
                                        <p:cTn id="1948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2043"/>
                            </p:stCondLst>
                            <p:childTnLst>
                              <p:par>
                                <p:cTn id="195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0.00191 0.01834 L 0.00191 -0.0825 E">
                                      <p:cBhvr>
                                        <p:cTn id="1954" dur="5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2543"/>
                            </p:stCondLst>
                            <p:childTnLst>
                              <p:par>
                                <p:cTn id="19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3043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3543"/>
                            </p:stCondLst>
                            <p:childTnLst>
                              <p:par>
                                <p:cTn id="19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6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4043"/>
                            </p:stCondLst>
                            <p:childTnLst>
                              <p:par>
                                <p:cTn id="1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15143"/>
                            </p:stCondLst>
                            <p:childTnLst>
                              <p:par>
                                <p:cTn id="19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7293"/>
                            </p:stCondLst>
                            <p:childTnLst>
                              <p:par>
                                <p:cTn id="19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4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9593"/>
                            </p:stCondLst>
                            <p:childTnLst>
                              <p:par>
                                <p:cTn id="19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0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2793"/>
                            </p:stCondLst>
                            <p:childTnLst>
                              <p:par>
                                <p:cTn id="1992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9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5593"/>
                            </p:stCondLst>
                            <p:childTnLst>
                              <p:par>
                                <p:cTn id="199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99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6918"/>
                            </p:stCondLst>
                            <p:childTnLst>
                              <p:par>
                                <p:cTn id="20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0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8318"/>
                            </p:stCondLst>
                            <p:childTnLst>
                              <p:par>
                                <p:cTn id="200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0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30168"/>
                            </p:stCondLst>
                            <p:childTnLst>
                              <p:par>
                                <p:cTn id="200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30668"/>
                            </p:stCondLst>
                            <p:childTnLst>
                              <p:par>
                                <p:cTn id="2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31168"/>
                            </p:stCondLst>
                            <p:childTnLst>
                              <p:par>
                                <p:cTn id="20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8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31668"/>
                            </p:stCondLst>
                            <p:childTnLst>
                              <p:par>
                                <p:cTn id="2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2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3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4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32918"/>
                            </p:stCondLst>
                            <p:childTnLst>
                              <p:par>
                                <p:cTn id="20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8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9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34468"/>
                            </p:stCondLst>
                            <p:childTnLst>
                              <p:par>
                                <p:cTn id="20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4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5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37068"/>
                            </p:stCondLst>
                            <p:childTnLst>
                              <p:par>
                                <p:cTn id="20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0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1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40118"/>
                            </p:stCondLst>
                            <p:childTnLst>
                              <p:par>
                                <p:cTn id="2044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43368"/>
                            </p:stCondLst>
                            <p:childTnLst>
                              <p:par>
                                <p:cTn id="2051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44918"/>
                            </p:stCondLst>
                            <p:childTnLst>
                              <p:par>
                                <p:cTn id="2058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47518"/>
                            </p:stCondLst>
                            <p:childTnLst>
                              <p:par>
                                <p:cTn id="2065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0568"/>
                            </p:stCondLst>
                            <p:childTnLst>
                              <p:par>
                                <p:cTn id="207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51068"/>
                            </p:stCondLst>
                            <p:childTnLst>
                              <p:par>
                                <p:cTn id="207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51568"/>
                            </p:stCondLst>
                            <p:childTnLst>
                              <p:par>
                                <p:cTn id="20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81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13080" y="-1135080"/>
            <a:ext cx="4440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-103320" y="-487440"/>
            <a:ext cx="9325440" cy="4595760"/>
            <a:chOff x="-103320" y="-487440"/>
            <a:chExt cx="9325440" cy="4595760"/>
          </a:xfrm>
        </p:grpSpPr>
        <p:grpSp>
          <p:nvGrpSpPr>
            <p:cNvPr id="496" name="Group 4"/>
            <p:cNvGrpSpPr/>
            <p:nvPr/>
          </p:nvGrpSpPr>
          <p:grpSpPr>
            <a:xfrm>
              <a:off x="4320" y="-487440"/>
              <a:ext cx="9217800" cy="4595760"/>
              <a:chOff x="4320" y="-487440"/>
              <a:chExt cx="9217800" cy="4595760"/>
            </a:xfrm>
          </p:grpSpPr>
          <p:grpSp>
            <p:nvGrpSpPr>
              <p:cNvPr id="497" name="Group 5"/>
              <p:cNvGrpSpPr/>
              <p:nvPr/>
            </p:nvGrpSpPr>
            <p:grpSpPr>
              <a:xfrm>
                <a:off x="4320" y="-487080"/>
                <a:ext cx="4494600" cy="4524120"/>
                <a:chOff x="4320" y="-487080"/>
                <a:chExt cx="4494600" cy="4524120"/>
              </a:xfrm>
            </p:grpSpPr>
            <p:sp>
              <p:nvSpPr>
                <p:cNvPr id="498" name="Rectangle 6"/>
                <p:cNvSpPr/>
                <p:nvPr/>
              </p:nvSpPr>
              <p:spPr>
                <a:xfrm flipV="1">
                  <a:off x="4320" y="-487080"/>
                  <a:ext cx="1522800" cy="287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未知"/>
                <p:cNvSpPr/>
                <p:nvPr/>
              </p:nvSpPr>
              <p:spPr>
                <a:xfrm flipV="1">
                  <a:off x="4320" y="2380680"/>
                  <a:ext cx="449460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"/>
              <p:cNvGrpSpPr/>
              <p:nvPr/>
            </p:nvGrpSpPr>
            <p:grpSpPr>
              <a:xfrm>
                <a:off x="1527480" y="-487080"/>
                <a:ext cx="2971080" cy="4524120"/>
                <a:chOff x="1527480" y="-487080"/>
                <a:chExt cx="2971080" cy="4524120"/>
              </a:xfrm>
            </p:grpSpPr>
            <p:sp>
              <p:nvSpPr>
                <p:cNvPr id="501" name="Rectangle 9"/>
                <p:cNvSpPr/>
                <p:nvPr/>
              </p:nvSpPr>
              <p:spPr>
                <a:xfrm flipV="1">
                  <a:off x="1527480" y="-487080"/>
                  <a:ext cx="1522800" cy="2876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未知"/>
                <p:cNvSpPr/>
                <p:nvPr/>
              </p:nvSpPr>
              <p:spPr>
                <a:xfrm flipV="1">
                  <a:off x="1527480" y="2380680"/>
                  <a:ext cx="2971080" cy="165564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1"/>
              <p:cNvGrpSpPr/>
              <p:nvPr/>
            </p:nvGrpSpPr>
            <p:grpSpPr>
              <a:xfrm>
                <a:off x="3051000" y="-487080"/>
                <a:ext cx="1524240" cy="4595400"/>
                <a:chOff x="3051000" y="-487080"/>
                <a:chExt cx="1524240" cy="4595400"/>
              </a:xfrm>
            </p:grpSpPr>
            <p:sp>
              <p:nvSpPr>
                <p:cNvPr id="504" name="Rectangle 12"/>
                <p:cNvSpPr/>
                <p:nvPr/>
              </p:nvSpPr>
              <p:spPr>
                <a:xfrm flipV="1">
                  <a:off x="3051000" y="-487080"/>
                  <a:ext cx="1522800" cy="28764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13"/>
                <p:cNvSpPr/>
                <p:nvPr/>
              </p:nvSpPr>
              <p:spPr>
                <a:xfrm flipH="1" flipV="1">
                  <a:off x="3052440" y="2382480"/>
                  <a:ext cx="1522800" cy="1725480"/>
                </a:xfrm>
                <a:prstGeom prst="rtTriangle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4"/>
              <p:cNvGrpSpPr/>
              <p:nvPr/>
            </p:nvGrpSpPr>
            <p:grpSpPr>
              <a:xfrm>
                <a:off x="4574520" y="-487080"/>
                <a:ext cx="1524240" cy="4595400"/>
                <a:chOff x="4574520" y="-487080"/>
                <a:chExt cx="1524240" cy="4595400"/>
              </a:xfrm>
            </p:grpSpPr>
            <p:sp>
              <p:nvSpPr>
                <p:cNvPr id="507" name="Rectangle 15"/>
                <p:cNvSpPr/>
                <p:nvPr/>
              </p:nvSpPr>
              <p:spPr>
                <a:xfrm flipV="1">
                  <a:off x="4574520" y="-487080"/>
                  <a:ext cx="1522800" cy="2876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16"/>
                <p:cNvSpPr/>
                <p:nvPr/>
              </p:nvSpPr>
              <p:spPr>
                <a:xfrm flipV="1">
                  <a:off x="4575960" y="2382480"/>
                  <a:ext cx="1522800" cy="1725480"/>
                </a:xfrm>
                <a:prstGeom prst="rtTriangle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17"/>
              <p:cNvGrpSpPr/>
              <p:nvPr/>
            </p:nvGrpSpPr>
            <p:grpSpPr>
              <a:xfrm>
                <a:off x="4727520" y="-487440"/>
                <a:ext cx="3046320" cy="4451040"/>
                <a:chOff x="4727520" y="-487440"/>
                <a:chExt cx="3046320" cy="4451040"/>
              </a:xfrm>
            </p:grpSpPr>
            <p:sp>
              <p:nvSpPr>
                <p:cNvPr id="510" name="Rectangle 18"/>
                <p:cNvSpPr/>
                <p:nvPr/>
              </p:nvSpPr>
              <p:spPr>
                <a:xfrm flipV="1">
                  <a:off x="6096240" y="-487440"/>
                  <a:ext cx="1523520" cy="28764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未知"/>
                <p:cNvSpPr/>
                <p:nvPr/>
              </p:nvSpPr>
              <p:spPr>
                <a:xfrm flipH="1" flipV="1">
                  <a:off x="4727520" y="2381040"/>
                  <a:ext cx="3046320" cy="158256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0"/>
              <p:cNvGrpSpPr/>
              <p:nvPr/>
            </p:nvGrpSpPr>
            <p:grpSpPr>
              <a:xfrm>
                <a:off x="4575960" y="-487080"/>
                <a:ext cx="4646160" cy="4524120"/>
                <a:chOff x="4575960" y="-487080"/>
                <a:chExt cx="4646160" cy="4524120"/>
              </a:xfrm>
            </p:grpSpPr>
            <p:sp>
              <p:nvSpPr>
                <p:cNvPr id="513" name="Rectangle 21"/>
                <p:cNvSpPr/>
                <p:nvPr/>
              </p:nvSpPr>
              <p:spPr>
                <a:xfrm flipV="1">
                  <a:off x="7621920" y="-487080"/>
                  <a:ext cx="1523160" cy="28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未知"/>
                <p:cNvSpPr/>
                <p:nvPr/>
              </p:nvSpPr>
              <p:spPr>
                <a:xfrm flipH="1" flipV="1">
                  <a:off x="4575960" y="2381040"/>
                  <a:ext cx="464616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23"/>
                <p:cNvSpPr/>
                <p:nvPr/>
              </p:nvSpPr>
              <p:spPr>
                <a:xfrm flipV="1">
                  <a:off x="9145080" y="2318400"/>
                  <a:ext cx="77040" cy="14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24"/>
            <p:cNvGrpSpPr/>
            <p:nvPr/>
          </p:nvGrpSpPr>
          <p:grpSpPr>
            <a:xfrm>
              <a:off x="-103320" y="154440"/>
              <a:ext cx="9300240" cy="2253240"/>
              <a:chOff x="-103320" y="154440"/>
              <a:chExt cx="9300240" cy="2253240"/>
            </a:xfrm>
          </p:grpSpPr>
          <p:sp>
            <p:nvSpPr>
              <p:cNvPr id="517" name="Text Box 25"/>
              <p:cNvSpPr/>
              <p:nvPr/>
            </p:nvSpPr>
            <p:spPr>
              <a:xfrm flipV="1">
                <a:off x="-102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6"/>
              <p:cNvSpPr/>
              <p:nvPr/>
            </p:nvSpPr>
            <p:spPr>
              <a:xfrm flipV="1">
                <a:off x="1425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7"/>
              <p:cNvSpPr/>
              <p:nvPr/>
            </p:nvSpPr>
            <p:spPr>
              <a:xfrm flipV="1">
                <a:off x="29397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28"/>
              <p:cNvSpPr/>
              <p:nvPr/>
            </p:nvSpPr>
            <p:spPr>
              <a:xfrm flipV="1">
                <a:off x="44535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9"/>
              <p:cNvSpPr/>
              <p:nvPr/>
            </p:nvSpPr>
            <p:spPr>
              <a:xfrm flipV="1">
                <a:off x="59673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0"/>
              <p:cNvSpPr/>
              <p:nvPr/>
            </p:nvSpPr>
            <p:spPr>
              <a:xfrm flipV="1">
                <a:off x="748080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200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Rectangle 31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WordArt 32" descr=""/>
          <p:cNvPicPr/>
          <p:nvPr/>
        </p:nvPicPr>
        <p:blipFill>
          <a:blip r:embed="rId1"/>
          <a:stretch/>
        </p:blipFill>
        <p:spPr>
          <a:xfrm>
            <a:off x="2987640" y="3743280"/>
            <a:ext cx="3168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33"/>
          <p:cNvGrpSpPr/>
          <p:nvPr/>
        </p:nvGrpSpPr>
        <p:grpSpPr>
          <a:xfrm>
            <a:off x="2266920" y="4659480"/>
            <a:ext cx="4609800" cy="969840"/>
            <a:chOff x="2266920" y="4659480"/>
            <a:chExt cx="4609800" cy="969840"/>
          </a:xfrm>
        </p:grpSpPr>
        <p:sp>
          <p:nvSpPr>
            <p:cNvPr id="526" name="WordArt 34"/>
            <p:cNvSpPr txBox="1"/>
            <p:nvPr/>
          </p:nvSpPr>
          <p:spPr>
            <a:xfrm>
              <a:off x="5545440" y="4659480"/>
              <a:ext cx="1331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527" name="WordArt 35"/>
            <p:cNvSpPr txBox="1"/>
            <p:nvPr/>
          </p:nvSpPr>
          <p:spPr>
            <a:xfrm>
              <a:off x="2266920" y="4892760"/>
              <a:ext cx="30585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grpSp>
        <p:nvGrpSpPr>
          <p:cNvPr id="528" name="Oval 36"/>
          <p:cNvGrpSpPr/>
          <p:nvPr/>
        </p:nvGrpSpPr>
        <p:grpSpPr>
          <a:xfrm>
            <a:off x="9253440" y="1384200"/>
            <a:ext cx="5400720" cy="66600"/>
            <a:chOff x="9253440" y="1384200"/>
            <a:chExt cx="5400720" cy="66600"/>
          </a:xfrm>
        </p:grpSpPr>
        <p:pic>
          <p:nvPicPr>
            <p:cNvPr id="529" name="Oval 36" descr=""/>
            <p:cNvPicPr/>
            <p:nvPr/>
          </p:nvPicPr>
          <p:blipFill>
            <a:blip r:embed="rId2"/>
            <a:stretch/>
          </p:blipFill>
          <p:spPr>
            <a:xfrm>
              <a:off x="9253440" y="1384200"/>
              <a:ext cx="54007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10044000" y="1392120"/>
              <a:ext cx="381780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37"/>
          <p:cNvGrpSpPr/>
          <p:nvPr/>
        </p:nvGrpSpPr>
        <p:grpSpPr>
          <a:xfrm>
            <a:off x="3171960" y="1415880"/>
            <a:ext cx="2800080" cy="1044360"/>
            <a:chOff x="3171960" y="1415880"/>
            <a:chExt cx="2800080" cy="1044360"/>
          </a:xfrm>
        </p:grpSpPr>
        <p:grpSp>
          <p:nvGrpSpPr>
            <p:cNvPr id="532" name="Rectangle 38"/>
            <p:cNvGrpSpPr/>
            <p:nvPr/>
          </p:nvGrpSpPr>
          <p:grpSpPr>
            <a:xfrm>
              <a:off x="3171960" y="1415880"/>
              <a:ext cx="2800080" cy="1044360"/>
              <a:chOff x="3171960" y="1415880"/>
              <a:chExt cx="2800080" cy="1044360"/>
            </a:xfrm>
          </p:grpSpPr>
          <p:pic>
            <p:nvPicPr>
              <p:cNvPr id="533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1960" y="1415880"/>
                <a:ext cx="280008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Text Box 42"/>
              <p:cNvSpPr/>
              <p:nvPr/>
            </p:nvSpPr>
            <p:spPr>
              <a:xfrm>
                <a:off x="3173760" y="1417320"/>
                <a:ext cx="279648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Rectangle 39"/>
            <p:cNvGrpSpPr/>
            <p:nvPr/>
          </p:nvGrpSpPr>
          <p:grpSpPr>
            <a:xfrm>
              <a:off x="3981960" y="1415880"/>
              <a:ext cx="1187640" cy="1044360"/>
              <a:chOff x="3981960" y="1415880"/>
              <a:chExt cx="1187640" cy="1044360"/>
            </a:xfrm>
          </p:grpSpPr>
          <p:pic>
            <p:nvPicPr>
              <p:cNvPr id="536" name="Rectangle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3984120" y="1415880"/>
                <a:ext cx="118548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Text Box 45"/>
              <p:cNvSpPr/>
              <p:nvPr/>
            </p:nvSpPr>
            <p:spPr>
              <a:xfrm>
                <a:off x="3981960" y="1417320"/>
                <a:ext cx="118584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WordArt 40"/>
          <p:cNvSpPr txBox="1"/>
          <p:nvPr/>
        </p:nvSpPr>
        <p:spPr>
          <a:xfrm>
            <a:off x="3924360" y="1668600"/>
            <a:ext cx="1295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结 语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539" name="Oval 41"/>
          <p:cNvGrpSpPr/>
          <p:nvPr/>
        </p:nvGrpSpPr>
        <p:grpSpPr>
          <a:xfrm>
            <a:off x="0" y="1384200"/>
            <a:ext cx="9144000" cy="66600"/>
            <a:chOff x="0" y="1384200"/>
            <a:chExt cx="9144000" cy="66600"/>
          </a:xfrm>
        </p:grpSpPr>
        <p:pic>
          <p:nvPicPr>
            <p:cNvPr id="540" name="Oval 41" descr=""/>
            <p:cNvPicPr/>
            <p:nvPr/>
          </p:nvPicPr>
          <p:blipFill>
            <a:blip r:embed="rId5"/>
            <a:stretch/>
          </p:blipFill>
          <p:spPr>
            <a:xfrm>
              <a:off x="0" y="1384200"/>
              <a:ext cx="9144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49"/>
            <p:cNvSpPr/>
            <p:nvPr/>
          </p:nvSpPr>
          <p:spPr>
            <a:xfrm>
              <a:off x="1339920" y="1392120"/>
              <a:ext cx="6465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AutoShape 42"/>
          <p:cNvGrpSpPr/>
          <p:nvPr/>
        </p:nvGrpSpPr>
        <p:grpSpPr>
          <a:xfrm>
            <a:off x="324000" y="1347840"/>
            <a:ext cx="8277120" cy="176040"/>
            <a:chOff x="324000" y="1347840"/>
            <a:chExt cx="8277120" cy="176040"/>
          </a:xfrm>
        </p:grpSpPr>
        <p:pic>
          <p:nvPicPr>
            <p:cNvPr id="543" name="AutoShape 42" descr=""/>
            <p:cNvPicPr/>
            <p:nvPr/>
          </p:nvPicPr>
          <p:blipFill>
            <a:blip r:embed="rId6"/>
            <a:stretch/>
          </p:blipFill>
          <p:spPr>
            <a:xfrm>
              <a:off x="324000" y="1347840"/>
              <a:ext cx="82771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2"/>
            <p:cNvSpPr/>
            <p:nvPr/>
          </p:nvSpPr>
          <p:spPr>
            <a:xfrm rot="16200000">
              <a:off x="4426920" y="-673560"/>
              <a:ext cx="633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0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51472 E">
                                      <p:cBhvr>
                                        <p:cTn id="2087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74028 E">
                                      <p:cBhvr>
                                        <p:cTn id="2092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0" dur="1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8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413080" y="-1135080"/>
            <a:ext cx="4440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-103320" y="-487440"/>
            <a:ext cx="9325440" cy="4595760"/>
            <a:chOff x="-103320" y="-487440"/>
            <a:chExt cx="9325440" cy="4595760"/>
          </a:xfrm>
        </p:grpSpPr>
        <p:grpSp>
          <p:nvGrpSpPr>
            <p:cNvPr id="547" name="Group 4"/>
            <p:cNvGrpSpPr/>
            <p:nvPr/>
          </p:nvGrpSpPr>
          <p:grpSpPr>
            <a:xfrm>
              <a:off x="4320" y="-487440"/>
              <a:ext cx="9217800" cy="4595760"/>
              <a:chOff x="4320" y="-487440"/>
              <a:chExt cx="9217800" cy="4595760"/>
            </a:xfrm>
          </p:grpSpPr>
          <p:grpSp>
            <p:nvGrpSpPr>
              <p:cNvPr id="548" name="Group 5"/>
              <p:cNvGrpSpPr/>
              <p:nvPr/>
            </p:nvGrpSpPr>
            <p:grpSpPr>
              <a:xfrm>
                <a:off x="4320" y="-487080"/>
                <a:ext cx="4494600" cy="4524120"/>
                <a:chOff x="4320" y="-487080"/>
                <a:chExt cx="4494600" cy="4524120"/>
              </a:xfrm>
            </p:grpSpPr>
            <p:sp>
              <p:nvSpPr>
                <p:cNvPr id="549" name="Rectangle 6"/>
                <p:cNvSpPr/>
                <p:nvPr/>
              </p:nvSpPr>
              <p:spPr>
                <a:xfrm flipV="1">
                  <a:off x="4320" y="-487080"/>
                  <a:ext cx="1522800" cy="287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未知"/>
                <p:cNvSpPr/>
                <p:nvPr/>
              </p:nvSpPr>
              <p:spPr>
                <a:xfrm flipV="1">
                  <a:off x="4320" y="2380680"/>
                  <a:ext cx="449460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8"/>
              <p:cNvGrpSpPr/>
              <p:nvPr/>
            </p:nvGrpSpPr>
            <p:grpSpPr>
              <a:xfrm>
                <a:off x="1527480" y="-487080"/>
                <a:ext cx="2971080" cy="4524120"/>
                <a:chOff x="1527480" y="-487080"/>
                <a:chExt cx="2971080" cy="4524120"/>
              </a:xfrm>
            </p:grpSpPr>
            <p:sp>
              <p:nvSpPr>
                <p:cNvPr id="552" name="Rectangle 9"/>
                <p:cNvSpPr/>
                <p:nvPr/>
              </p:nvSpPr>
              <p:spPr>
                <a:xfrm flipV="1">
                  <a:off x="1527480" y="-487080"/>
                  <a:ext cx="1522800" cy="2876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未知"/>
                <p:cNvSpPr/>
                <p:nvPr/>
              </p:nvSpPr>
              <p:spPr>
                <a:xfrm flipV="1">
                  <a:off x="1527480" y="2380680"/>
                  <a:ext cx="2971080" cy="165564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1"/>
              <p:cNvGrpSpPr/>
              <p:nvPr/>
            </p:nvGrpSpPr>
            <p:grpSpPr>
              <a:xfrm>
                <a:off x="3051000" y="-487080"/>
                <a:ext cx="1524240" cy="4595400"/>
                <a:chOff x="3051000" y="-487080"/>
                <a:chExt cx="1524240" cy="4595400"/>
              </a:xfrm>
            </p:grpSpPr>
            <p:sp>
              <p:nvSpPr>
                <p:cNvPr id="555" name="Rectangle 12"/>
                <p:cNvSpPr/>
                <p:nvPr/>
              </p:nvSpPr>
              <p:spPr>
                <a:xfrm flipV="1">
                  <a:off x="3051000" y="-487080"/>
                  <a:ext cx="1522800" cy="28764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3"/>
                <p:cNvSpPr/>
                <p:nvPr/>
              </p:nvSpPr>
              <p:spPr>
                <a:xfrm flipH="1" flipV="1">
                  <a:off x="3052440" y="2382480"/>
                  <a:ext cx="1522800" cy="1725480"/>
                </a:xfrm>
                <a:prstGeom prst="rtTriangle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14"/>
              <p:cNvGrpSpPr/>
              <p:nvPr/>
            </p:nvGrpSpPr>
            <p:grpSpPr>
              <a:xfrm>
                <a:off x="4574520" y="-487080"/>
                <a:ext cx="1524240" cy="4595400"/>
                <a:chOff x="4574520" y="-487080"/>
                <a:chExt cx="1524240" cy="4595400"/>
              </a:xfrm>
            </p:grpSpPr>
            <p:sp>
              <p:nvSpPr>
                <p:cNvPr id="558" name="Rectangle 15"/>
                <p:cNvSpPr/>
                <p:nvPr/>
              </p:nvSpPr>
              <p:spPr>
                <a:xfrm flipV="1">
                  <a:off x="4574520" y="-487080"/>
                  <a:ext cx="1522800" cy="2876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16"/>
                <p:cNvSpPr/>
                <p:nvPr/>
              </p:nvSpPr>
              <p:spPr>
                <a:xfrm flipV="1">
                  <a:off x="4575960" y="2382480"/>
                  <a:ext cx="1522800" cy="1725480"/>
                </a:xfrm>
                <a:prstGeom prst="rtTriangle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17"/>
              <p:cNvGrpSpPr/>
              <p:nvPr/>
            </p:nvGrpSpPr>
            <p:grpSpPr>
              <a:xfrm>
                <a:off x="4727520" y="-487440"/>
                <a:ext cx="3046320" cy="4451040"/>
                <a:chOff x="4727520" y="-487440"/>
                <a:chExt cx="3046320" cy="4451040"/>
              </a:xfrm>
            </p:grpSpPr>
            <p:sp>
              <p:nvSpPr>
                <p:cNvPr id="561" name="Rectangle 18"/>
                <p:cNvSpPr/>
                <p:nvPr/>
              </p:nvSpPr>
              <p:spPr>
                <a:xfrm flipV="1">
                  <a:off x="6096240" y="-487440"/>
                  <a:ext cx="1523520" cy="28764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未知"/>
                <p:cNvSpPr/>
                <p:nvPr/>
              </p:nvSpPr>
              <p:spPr>
                <a:xfrm flipH="1" flipV="1">
                  <a:off x="4727520" y="2381040"/>
                  <a:ext cx="3046320" cy="158256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20"/>
              <p:cNvGrpSpPr/>
              <p:nvPr/>
            </p:nvGrpSpPr>
            <p:grpSpPr>
              <a:xfrm>
                <a:off x="4575960" y="-487080"/>
                <a:ext cx="4646160" cy="4524120"/>
                <a:chOff x="4575960" y="-487080"/>
                <a:chExt cx="4646160" cy="4524120"/>
              </a:xfrm>
            </p:grpSpPr>
            <p:sp>
              <p:nvSpPr>
                <p:cNvPr id="564" name="Rectangle 21"/>
                <p:cNvSpPr/>
                <p:nvPr/>
              </p:nvSpPr>
              <p:spPr>
                <a:xfrm flipV="1">
                  <a:off x="7621920" y="-487080"/>
                  <a:ext cx="1523160" cy="28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 flipH="1" flipV="1">
                  <a:off x="4575960" y="2381040"/>
                  <a:ext cx="464616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23"/>
                <p:cNvSpPr/>
                <p:nvPr/>
              </p:nvSpPr>
              <p:spPr>
                <a:xfrm flipV="1">
                  <a:off x="9145080" y="2318400"/>
                  <a:ext cx="77040" cy="14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Group 24"/>
            <p:cNvGrpSpPr/>
            <p:nvPr/>
          </p:nvGrpSpPr>
          <p:grpSpPr>
            <a:xfrm>
              <a:off x="-103320" y="154440"/>
              <a:ext cx="9300240" cy="2253240"/>
              <a:chOff x="-103320" y="154440"/>
              <a:chExt cx="9300240" cy="2253240"/>
            </a:xfrm>
          </p:grpSpPr>
          <p:sp>
            <p:nvSpPr>
              <p:cNvPr id="568" name="Text Box 25"/>
              <p:cNvSpPr/>
              <p:nvPr/>
            </p:nvSpPr>
            <p:spPr>
              <a:xfrm flipV="1">
                <a:off x="-102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 flipV="1">
                <a:off x="1425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7"/>
              <p:cNvSpPr/>
              <p:nvPr/>
            </p:nvSpPr>
            <p:spPr>
              <a:xfrm flipV="1">
                <a:off x="29397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28"/>
              <p:cNvSpPr/>
              <p:nvPr/>
            </p:nvSpPr>
            <p:spPr>
              <a:xfrm flipV="1">
                <a:off x="44535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9"/>
              <p:cNvSpPr/>
              <p:nvPr/>
            </p:nvSpPr>
            <p:spPr>
              <a:xfrm flipV="1">
                <a:off x="59673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0"/>
              <p:cNvSpPr/>
              <p:nvPr/>
            </p:nvSpPr>
            <p:spPr>
              <a:xfrm flipV="1">
                <a:off x="748080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200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Rectangle 31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ea0000">
                  <a:alpha val="70196"/>
                </a:srgbClr>
              </a:gs>
              <a:gs pos="100000">
                <a:srgbClr val="ff3399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3"/>
          <p:cNvGrpSpPr/>
          <p:nvPr/>
        </p:nvGrpSpPr>
        <p:grpSpPr>
          <a:xfrm>
            <a:off x="0" y="1415880"/>
            <a:ext cx="9145440" cy="4297320"/>
            <a:chOff x="0" y="1415880"/>
            <a:chExt cx="9145440" cy="4297320"/>
          </a:xfrm>
        </p:grpSpPr>
        <p:sp>
          <p:nvSpPr>
            <p:cNvPr id="577" name="Rectangle 34"/>
            <p:cNvSpPr/>
            <p:nvPr/>
          </p:nvSpPr>
          <p:spPr>
            <a:xfrm>
              <a:off x="0" y="1415880"/>
              <a:ext cx="9145440" cy="429732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80000"/>
                  </a:srgbClr>
                </a:gs>
                <a:gs pos="100000">
                  <a:srgbClr val="dc2c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5"/>
            <p:cNvSpPr/>
            <p:nvPr/>
          </p:nvSpPr>
          <p:spPr>
            <a:xfrm>
              <a:off x="0" y="4273560"/>
              <a:ext cx="179280" cy="143964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6"/>
            <p:cNvSpPr/>
            <p:nvPr/>
          </p:nvSpPr>
          <p:spPr>
            <a:xfrm>
              <a:off x="0" y="5533920"/>
              <a:ext cx="1440000" cy="17928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37"/>
            <p:cNvSpPr/>
            <p:nvPr/>
          </p:nvSpPr>
          <p:spPr>
            <a:xfrm flipH="1">
              <a:off x="8966160" y="4273560"/>
              <a:ext cx="179280" cy="143964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38"/>
            <p:cNvSpPr/>
            <p:nvPr/>
          </p:nvSpPr>
          <p:spPr>
            <a:xfrm flipH="1">
              <a:off x="7705080" y="5533920"/>
              <a:ext cx="1439640" cy="17928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9"/>
          <p:cNvGrpSpPr/>
          <p:nvPr/>
        </p:nvGrpSpPr>
        <p:grpSpPr>
          <a:xfrm>
            <a:off x="-6664320" y="1415880"/>
            <a:ext cx="22395960" cy="1044360"/>
            <a:chOff x="-6664320" y="1415880"/>
            <a:chExt cx="22395960" cy="1044360"/>
          </a:xfrm>
        </p:grpSpPr>
        <p:grpSp>
          <p:nvGrpSpPr>
            <p:cNvPr id="583" name="Rectangle 40"/>
            <p:cNvGrpSpPr/>
            <p:nvPr/>
          </p:nvGrpSpPr>
          <p:grpSpPr>
            <a:xfrm>
              <a:off x="-6664320" y="1415880"/>
              <a:ext cx="22395960" cy="1044360"/>
              <a:chOff x="-6664320" y="1415880"/>
              <a:chExt cx="22395960" cy="1044360"/>
            </a:xfrm>
          </p:grpSpPr>
          <p:pic>
            <p:nvPicPr>
              <p:cNvPr id="584" name="Rectangle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-6662880" y="1415880"/>
                <a:ext cx="2239452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Text Box 42"/>
              <p:cNvSpPr/>
              <p:nvPr/>
            </p:nvSpPr>
            <p:spPr>
              <a:xfrm>
                <a:off x="-6664320" y="1417320"/>
                <a:ext cx="2239560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Rectangle 41"/>
            <p:cNvGrpSpPr/>
            <p:nvPr/>
          </p:nvGrpSpPr>
          <p:grpSpPr>
            <a:xfrm>
              <a:off x="-215280" y="1415880"/>
              <a:ext cx="9509400" cy="1044360"/>
              <a:chOff x="-215280" y="1415880"/>
              <a:chExt cx="9509400" cy="1044360"/>
            </a:xfrm>
          </p:grpSpPr>
          <p:pic>
            <p:nvPicPr>
              <p:cNvPr id="587" name="Rectangle 4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4200" y="1415880"/>
                <a:ext cx="950832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45"/>
              <p:cNvSpPr/>
              <p:nvPr/>
            </p:nvSpPr>
            <p:spPr>
              <a:xfrm>
                <a:off x="-215280" y="1417320"/>
                <a:ext cx="950904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WordArt 42"/>
          <p:cNvSpPr txBox="1"/>
          <p:nvPr/>
        </p:nvSpPr>
        <p:spPr>
          <a:xfrm>
            <a:off x="3924360" y="1668600"/>
            <a:ext cx="1295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结 语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973080" y="38019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05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培根到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中国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973080" y="38037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4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973080" y="38037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973080" y="445140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除人性的束缚令人欣喜地逐渐成为人类的共识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973080" y="50529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它依然是我们这个时代最重要的命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8"/>
          <p:cNvGrpSpPr/>
          <p:nvPr/>
        </p:nvGrpSpPr>
        <p:grpSpPr>
          <a:xfrm>
            <a:off x="2052720" y="192240"/>
            <a:ext cx="4908240" cy="1258200"/>
            <a:chOff x="2052720" y="192240"/>
            <a:chExt cx="4908240" cy="1258200"/>
          </a:xfrm>
        </p:grpSpPr>
        <p:sp>
          <p:nvSpPr>
            <p:cNvPr id="596" name="WordArt 49"/>
            <p:cNvSpPr txBox="1"/>
            <p:nvPr/>
          </p:nvSpPr>
          <p:spPr>
            <a:xfrm>
              <a:off x="5543640" y="192240"/>
              <a:ext cx="1417320" cy="125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3">
                      <a:alphaModFix amt="90000"/>
                    </a:blip>
                    <a:srcRect/>
                    <a:stretch/>
                  </a:blipFill>
                  <a:latin typeface="宋体"/>
                </a:rPr>
                <a:t>解放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4">
                    <a:alphaModFix amt="90000"/>
                  </a:blip>
                  <a:srcRect/>
                  <a:stretch/>
                </a:blipFill>
                <a:latin typeface="宋体"/>
                <a:ea typeface="宋体"/>
              </a:endParaRPr>
            </a:p>
          </p:txBody>
        </p:sp>
        <p:sp>
          <p:nvSpPr>
            <p:cNvPr id="597" name="WordArt 50"/>
            <p:cNvSpPr txBox="1"/>
            <p:nvPr/>
          </p:nvSpPr>
          <p:spPr>
            <a:xfrm>
              <a:off x="2052720" y="494640"/>
              <a:ext cx="3256560" cy="77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5">
                      <a:alphaModFix amt="90000"/>
                    </a:blip>
                    <a:srcRect/>
                    <a:stretch/>
                  </a:blipFill>
                  <a:latin typeface="宋体"/>
                </a:rPr>
                <a:t>从未停止的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6">
                    <a:alphaModFix amt="90000"/>
                  </a:blip>
                  <a:srcRect/>
                  <a:stretch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598" name="Group 51"/>
          <p:cNvGrpSpPr/>
          <p:nvPr/>
        </p:nvGrpSpPr>
        <p:grpSpPr>
          <a:xfrm>
            <a:off x="2266920" y="446040"/>
            <a:ext cx="4609800" cy="969840"/>
            <a:chOff x="2266920" y="446040"/>
            <a:chExt cx="4609800" cy="969840"/>
          </a:xfrm>
        </p:grpSpPr>
        <p:sp>
          <p:nvSpPr>
            <p:cNvPr id="599" name="WordArt 52"/>
            <p:cNvSpPr txBox="1"/>
            <p:nvPr/>
          </p:nvSpPr>
          <p:spPr>
            <a:xfrm>
              <a:off x="5545440" y="446040"/>
              <a:ext cx="1331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00" name="WordArt 53"/>
            <p:cNvSpPr txBox="1"/>
            <p:nvPr/>
          </p:nvSpPr>
          <p:spPr>
            <a:xfrm>
              <a:off x="2266920" y="679320"/>
              <a:ext cx="30585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grpSp>
        <p:nvGrpSpPr>
          <p:cNvPr id="601" name="Oval 54"/>
          <p:cNvGrpSpPr/>
          <p:nvPr/>
        </p:nvGrpSpPr>
        <p:grpSpPr>
          <a:xfrm>
            <a:off x="0" y="1384200"/>
            <a:ext cx="9144000" cy="66600"/>
            <a:chOff x="0" y="1384200"/>
            <a:chExt cx="9144000" cy="66600"/>
          </a:xfrm>
        </p:grpSpPr>
        <p:pic>
          <p:nvPicPr>
            <p:cNvPr id="602" name="Oval 54" descr=""/>
            <p:cNvPicPr/>
            <p:nvPr/>
          </p:nvPicPr>
          <p:blipFill>
            <a:blip r:embed="rId7"/>
            <a:stretch/>
          </p:blipFill>
          <p:spPr>
            <a:xfrm>
              <a:off x="0" y="1384200"/>
              <a:ext cx="9144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60"/>
            <p:cNvSpPr/>
            <p:nvPr/>
          </p:nvSpPr>
          <p:spPr>
            <a:xfrm>
              <a:off x="1339920" y="1392120"/>
              <a:ext cx="6465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AutoShape 55"/>
          <p:cNvGrpSpPr/>
          <p:nvPr/>
        </p:nvGrpSpPr>
        <p:grpSpPr>
          <a:xfrm>
            <a:off x="324000" y="1347840"/>
            <a:ext cx="8277120" cy="176040"/>
            <a:chOff x="324000" y="1347840"/>
            <a:chExt cx="8277120" cy="176040"/>
          </a:xfrm>
        </p:grpSpPr>
        <p:pic>
          <p:nvPicPr>
            <p:cNvPr id="605" name="AutoShape 55" descr=""/>
            <p:cNvPicPr/>
            <p:nvPr/>
          </p:nvPicPr>
          <p:blipFill>
            <a:blip r:embed="rId8"/>
            <a:stretch/>
          </p:blipFill>
          <p:spPr>
            <a:xfrm>
              <a:off x="324000" y="1347840"/>
              <a:ext cx="82771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63"/>
            <p:cNvSpPr/>
            <p:nvPr/>
          </p:nvSpPr>
          <p:spPr>
            <a:xfrm rot="16200000">
              <a:off x="4426920" y="-673560"/>
              <a:ext cx="633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0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6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19111 E">
                                      <p:cBhvr>
                                        <p:cTn id="2154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1.38889E-006 -0.09862 E">
                                      <p:cBhvr>
                                        <p:cTn id="2163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1800"/>
                            </p:stCondLst>
                            <p:childTnLst>
                              <p:par>
                                <p:cTn id="2177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xit" presetID="47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47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99" nodeType="afterEffect" fill="hold" presetClass="path" presetID="6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1.11111E-006 L -8.33333E-007 -0.31278 E">
                                      <p:cBhvr>
                                        <p:cTn id="2200" dur="1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1" nodeType="withEffect" fill="hold" presetClass="path" presetID="6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3.33333E-006 L 0 -0.27945 E">
                                      <p:cBhvr>
                                        <p:cTn id="2202" dur="1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4" dur="1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7" dur="1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21100"/>
                            </p:stCondLst>
                            <p:childTnLst>
                              <p:par>
                                <p:cTn id="2210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21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4" dur="1000" fill="hold"/>
                                        <p:tgtEl>
                                          <p:spTgt spid="576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2100"/>
                            </p:stCondLst>
                            <p:childTnLst>
                              <p:par>
                                <p:cTn id="2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0" dur="10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25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23100"/>
                            </p:stCondLst>
                            <p:childTnLst>
                              <p:par>
                                <p:cTn id="222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4:11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0:41:11Z</dcterms:modified>
  <cp:revision>10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