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4"/>
          <p:cNvGrpSpPr/>
          <p:nvPr/>
        </p:nvGrpSpPr>
        <p:grpSpPr>
          <a:xfrm>
            <a:off x="204840" y="3429000"/>
            <a:ext cx="9142920" cy="355680"/>
            <a:chOff x="204840" y="3429000"/>
            <a:chExt cx="9142920" cy="355680"/>
          </a:xfrm>
        </p:grpSpPr>
        <p:sp>
          <p:nvSpPr>
            <p:cNvPr id="40" name="Rectangle 5"/>
            <p:cNvSpPr/>
            <p:nvPr/>
          </p:nvSpPr>
          <p:spPr>
            <a:xfrm>
              <a:off x="204840" y="3699000"/>
              <a:ext cx="9142920" cy="85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6"/>
            <p:cNvSpPr/>
            <p:nvPr/>
          </p:nvSpPr>
          <p:spPr>
            <a:xfrm>
              <a:off x="204840" y="3429000"/>
              <a:ext cx="9142920" cy="23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Rectangle 7"/>
          <p:cNvSpPr/>
          <p:nvPr/>
        </p:nvSpPr>
        <p:spPr>
          <a:xfrm>
            <a:off x="3409920" y="3427560"/>
            <a:ext cx="2806560" cy="23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3409920" y="3697200"/>
            <a:ext cx="2806560" cy="8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409920" y="3427560"/>
            <a:ext cx="2806560" cy="23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268160" y="340344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263480" y="340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4357800" y="3403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470120" y="34084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54360" y="3408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670640" y="3403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4711680" y="3408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820040" y="3408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70252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4718520" y="42386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5437440" y="2178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853080" y="155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>
            <a:off x="0" y="-117936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0" y="681372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8"/>
          <p:cNvGrpSpPr/>
          <p:nvPr/>
        </p:nvGrpSpPr>
        <p:grpSpPr>
          <a:xfrm>
            <a:off x="283680" y="81000"/>
            <a:ext cx="2709000" cy="677880"/>
            <a:chOff x="283680" y="81000"/>
            <a:chExt cx="2709000" cy="677880"/>
          </a:xfrm>
        </p:grpSpPr>
        <p:sp>
          <p:nvSpPr>
            <p:cNvPr id="61" name="Text Box 29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1376280" y="38052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2284560" y="360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春野.wma" descr=""/>
          <p:cNvPicPr/>
          <p:nvPr/>
        </p:nvPicPr>
        <p:blipFill>
          <a:blip r:embed="rId1"/>
          <a:stretch/>
        </p:blipFill>
        <p:spPr>
          <a:xfrm>
            <a:off x="766764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3"/>
          <p:cNvSpPr/>
          <p:nvPr/>
        </p:nvSpPr>
        <p:spPr>
          <a:xfrm>
            <a:off x="3203640" y="404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春语文课件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4164840" y="2421000"/>
            <a:ext cx="9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文</a:t>
            </a:r>
            <a:r>
              <a:rPr b="0" lang="en-US" sz="18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朱自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5" descr="19"/>
          <p:cNvPicPr/>
          <p:nvPr/>
        </p:nvPicPr>
        <p:blipFill>
          <a:blip r:embed="rId2"/>
          <a:srcRect l="9439" t="5066" r="17630" b="4500"/>
          <a:stretch/>
        </p:blipFill>
        <p:spPr>
          <a:xfrm>
            <a:off x="5508720" y="1557360"/>
            <a:ext cx="2232000" cy="25909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08000" y="7461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1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1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8601 L 0 0.15514 E">
                                      <p:cBhvr>
                                        <p:cTn id="93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8717 L 0 -0.15931 E">
                                      <p:cBhvr>
                                        <p:cTn id="95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1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1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1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283680" y="81000"/>
            <a:ext cx="2709000" cy="677880"/>
            <a:chOff x="283680" y="81000"/>
            <a:chExt cx="2709000" cy="677880"/>
          </a:xfrm>
        </p:grpSpPr>
        <p:sp>
          <p:nvSpPr>
            <p:cNvPr id="71" name="Text Box 7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376280" y="38052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2284560" y="360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0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1"/>
          <p:cNvPicPr/>
          <p:nvPr/>
        </p:nvPicPr>
        <p:blipFill>
          <a:blip r:embed="rId1"/>
          <a:stretch/>
        </p:blipFill>
        <p:spPr>
          <a:xfrm>
            <a:off x="395280" y="1844640"/>
            <a:ext cx="4103640" cy="27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6" name="Text Box 13"/>
          <p:cNvSpPr/>
          <p:nvPr/>
        </p:nvSpPr>
        <p:spPr>
          <a:xfrm>
            <a:off x="4643280" y="19162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盼望着，盼望着，东风来了，春天的脚步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一切都像刚睡醒的样子，欣欣然张开了眼。山朗润起来了，水涨起来了，太阳的脸红起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26"/>
          <p:cNvPicPr/>
          <p:nvPr/>
        </p:nvPicPr>
        <p:blipFill>
          <a:blip r:embed="rId2"/>
          <a:stretch/>
        </p:blipFill>
        <p:spPr>
          <a:xfrm>
            <a:off x="395280" y="1700280"/>
            <a:ext cx="4105440" cy="302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8" descr="070516160003_32"/>
          <p:cNvPicPr/>
          <p:nvPr/>
        </p:nvPicPr>
        <p:blipFill>
          <a:blip r:embed="rId3"/>
          <a:stretch/>
        </p:blipFill>
        <p:spPr>
          <a:xfrm>
            <a:off x="324000" y="1557360"/>
            <a:ext cx="4249440" cy="334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283680" y="81000"/>
            <a:ext cx="2709000" cy="677880"/>
            <a:chOff x="283680" y="81000"/>
            <a:chExt cx="2709000" cy="677880"/>
          </a:xfrm>
        </p:grpSpPr>
        <p:sp>
          <p:nvSpPr>
            <p:cNvPr id="82" name="Text Box 6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1376280" y="38052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2284560" y="360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9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11280" y="17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小草偷偷地从土里钻出来，嫩嫩的，绿绿的。园子里，田野里，瞧去，一大片一大片满是的。坐着，躺着，打两个滚，踢几脚球，赛几趟跑，捉几回迷藏。风轻悄悄的，草软绵绵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200671311274856712"/>
          <p:cNvPicPr/>
          <p:nvPr/>
        </p:nvPicPr>
        <p:blipFill>
          <a:blip r:embed="rId1"/>
          <a:srcRect l="6339" t="2115" r="6948" b="13804"/>
          <a:stretch/>
        </p:blipFill>
        <p:spPr>
          <a:xfrm>
            <a:off x="4498920" y="1844640"/>
            <a:ext cx="3960720" cy="287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283680" y="81000"/>
            <a:ext cx="2709000" cy="677880"/>
            <a:chOff x="283680" y="81000"/>
            <a:chExt cx="2709000" cy="677880"/>
          </a:xfrm>
        </p:grpSpPr>
        <p:sp>
          <p:nvSpPr>
            <p:cNvPr id="91" name="Text Box 6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1376280" y="38052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2284560" y="360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292720" y="20764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桃树、杏树、梨树，你不让我，我不让你，都开满了花赶趟儿。红的像火，粉的像霞，白的像雪。花里带着甜味，闭了眼，树上仿佛已经满是桃儿、杏儿、梨儿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4" descr="14"/>
          <p:cNvPicPr/>
          <p:nvPr/>
        </p:nvPicPr>
        <p:blipFill>
          <a:blip r:embed="rId1"/>
          <a:stretch/>
        </p:blipFill>
        <p:spPr>
          <a:xfrm>
            <a:off x="324000" y="1538280"/>
            <a:ext cx="4824360" cy="361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283680" y="81000"/>
            <a:ext cx="2709000" cy="677880"/>
            <a:chOff x="283680" y="81000"/>
            <a:chExt cx="2709000" cy="677880"/>
          </a:xfrm>
        </p:grpSpPr>
        <p:sp>
          <p:nvSpPr>
            <p:cNvPr id="104" name="Text Box 6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1376280" y="38052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2284560" y="360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9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92720" y="20764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花下成千成百的蜜蜂嗡嗡的闹着，大小的蝴蝶飞来飞去。野花遍地是：杂样儿，有名字的，没名字的，散在草丛里，像眼睛，像星星，还眨呀眨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蜜蜂a"/>
          <p:cNvPicPr/>
          <p:nvPr/>
        </p:nvPicPr>
        <p:blipFill>
          <a:blip r:embed="rId1"/>
          <a:stretch/>
        </p:blipFill>
        <p:spPr>
          <a:xfrm>
            <a:off x="250920" y="1628640"/>
            <a:ext cx="4651200" cy="34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3421080" y="220500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283680" y="81000"/>
            <a:ext cx="2709000" cy="677880"/>
            <a:chOff x="283680" y="81000"/>
            <a:chExt cx="2709000" cy="677880"/>
          </a:xfrm>
        </p:grpSpPr>
        <p:sp>
          <p:nvSpPr>
            <p:cNvPr id="114" name="Text Box 6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1376280" y="38052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2284560" y="360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1"/>
          <a:stretch/>
        </p:blipFill>
        <p:spPr>
          <a:xfrm>
            <a:off x="539640" y="1989000"/>
            <a:ext cx="2590920" cy="172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0" name="Picture 14" descr="200671311274856712"/>
          <p:cNvPicPr/>
          <p:nvPr/>
        </p:nvPicPr>
        <p:blipFill>
          <a:blip r:embed="rId2"/>
          <a:srcRect l="6345" t="2122" r="6950" b="13800"/>
          <a:stretch/>
        </p:blipFill>
        <p:spPr>
          <a:xfrm>
            <a:off x="6156360" y="1989000"/>
            <a:ext cx="2736720" cy="172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1" name="Picture 15" descr="14"/>
          <p:cNvPicPr/>
          <p:nvPr/>
        </p:nvPicPr>
        <p:blipFill>
          <a:blip r:embed="rId3"/>
          <a:stretch/>
        </p:blipFill>
        <p:spPr>
          <a:xfrm>
            <a:off x="3276720" y="1989000"/>
            <a:ext cx="2736720" cy="172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2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4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700"/>
                            </p:stCondLst>
                            <p:childTnLst>
                              <p:par>
                                <p:cTn id="2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2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2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7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58:1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5:19Z</dcterms:modified>
  <cp:revision>1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