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D60-6BA8-45C3-9EF6-BED89088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9D4B-BE5A-465D-B9A0-C57751C5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A29AF-FB0F-478F-A78C-46267833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03684-DE97-43E7-8F96-AF5828EC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CF4E2-18BF-4FFB-9D6F-A203527B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7734C-9836-4B37-A4BC-F90BB268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A6987-5C08-4433-861D-C132DBA5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942F7-9541-4DEB-87F9-E87C8772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C3375-A14C-4EAA-BDBD-E69D53A6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ABEE8-50A0-40A1-8B61-772591F0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D1D06-E9CB-47B6-A99C-F6426828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935D6-B853-4B0D-A68C-BC64B02A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BC8-B4D4-4CE1-9E25-ED8AD4FD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1AE75-A3F0-45F3-B9CF-D5DD2BDD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97C40-5A1B-4153-8F2D-DF154678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0E735-E21D-44CF-8D92-F448EA66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BD17D-B273-4CA7-B51C-1E49A06A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E18FE-F304-453A-A1BF-EBC48CB4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3215B-BA6E-4EA3-9E9D-1AF136FD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873F7-409D-4F65-815D-E2CD28FD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A5B93-697D-43E6-8E32-81492AD2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2FFA7-E3AB-4521-BE44-52370581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F8266-02DE-4910-A1C3-0930A4A8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10C-10DE-4534-AB32-2CF4D9BB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DB914-C065-4C42-A788-E34A4AA6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8D002-5FEA-42AF-B68E-1AC63534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D9E91-99D0-49C2-9463-B740EF45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D8EC1-296F-4609-BE43-0BE309EB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40709-0A0B-4EDB-A267-63A04BEB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1B794-2B86-4026-829C-23D46C70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D1328-2F85-4397-BBB6-E4753D07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4C5C7-965F-4FFD-8FD9-EB97563F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D9CB2-0A1F-4EA9-A454-A7AE7FBD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BD17D-1069-43B1-9288-398B3B6E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7637-CF5D-4CEC-B71F-CD7339BD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2E258-F0C2-4E6C-9B8E-26636DA4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F8E3E-B847-4B6E-94D4-DBB1238A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EDF01-296B-462F-9E72-A452E5B4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E1300-E4D1-43D6-9A66-7D8E0964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CBB1E-D110-4E53-8F0A-A3FBEB34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D03C5-5FD6-4EEA-A35E-BA1501C9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C8578-C395-41AB-A22B-A0949839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1CCCB-8FFB-4F18-9B7D-C66D1572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84BFA-EE2D-47C0-B1BB-F7844D1C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077AE-78F8-4B80-B7BA-F2E37395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C1AE-11E4-4E55-A4E6-90C1D38B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E33B5-0B45-4476-A525-A6C8B444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F618B-4B6E-4ADA-BBBB-B7EB9223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75122-7F31-42C1-99DC-D27F607F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98CB4-530A-4965-9395-CA51C54C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0FEBF-485D-4660-A6B6-3EF1F3DE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7F230-B62C-4780-8DED-4D40EE21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E506A-B14C-4D04-B0DF-04436EFB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30A5E-FCFC-46DA-8FC0-0B27199F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9D245-3166-416B-B7E1-782639B8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3994D-18E5-4F3A-90A9-06AA65E0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61A5-AA22-4BA4-AF61-3B1C9FC3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A9A68-D199-4265-9B50-528519D2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65027-09E9-4ABB-AED9-C4AB4534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ED761-A57E-43A5-A666-0D963F50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89CF3-8A21-48B6-B8AF-AD0E771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E954F-99C4-4B88-A07F-6B107710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D1E26-9359-4108-A5B4-9C98B13F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204AC-006D-4303-8C93-D71A87C7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445F-2211-498B-8B13-3A738A6F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3120-C998-4374-8664-B44A8171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8A5B-CDFC-44EE-BB96-DFF34483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87F3-C7F1-4A34-B635-0556E42E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142-A53F-4913-AD9E-4B2A1B54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06ED-E33E-479C-8636-4ADA1ADC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9A66-D0DB-4E49-AAD4-AB8C29CB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F576-4817-4A80-A22A-5AF5C169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4C76-95B9-46FF-987F-99BD4A82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465B-F51D-45B7-90C7-A13DEB94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3D3D8-4EF0-4025-9738-1FA00231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DA37-1B3E-4632-91E2-3F7886AD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61A87-5BB8-4BC6-851E-73A6666B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9335E-DC8F-4653-9CA7-EC741F29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63062-D70F-4FF5-8A99-6ED805D6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892-5A61-41CE-A4A3-7D73C992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6CFF1-0838-48DA-8887-79CA88E3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88CAB-D3CF-4E36-82CF-56FE8A68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7A4E6-4262-4021-8280-207B4C32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982E8-1EAB-4234-AA6F-44C0D4AD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5800-E0A6-4310-8962-9A716EDE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23EE-9FED-4947-B4C5-218B3344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A8A31-5F2D-441E-9D19-54A5F598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2866A-9F11-48E4-B1EC-76FE4C03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B2335-E88F-4AFC-9FD2-E130124F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87C55-DEDF-4D46-9C0D-800943FA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945-DB36-4F96-8951-876784A9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9A5E8-48BC-4577-8A4B-0A2A4F01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7521D-55E2-4D2D-8FB4-0DFAFFE7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DF425-E09A-4756-A67E-1664D384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A0975-D56C-405F-93E8-C24055C3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F36BC-DFC7-4403-8179-E2BA6EEC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1AE0D-82B7-4935-8C0C-69B0E5BC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272A7-9DA3-4DFF-9AEC-8E14D9EA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6F54D-F7A4-469B-97DF-EE7B62A2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CD83-05B7-4FE1-B96C-7E104315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0BDB6-5335-4121-B0D3-CBCD07E1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D77-AD54-4054-AA60-1FB089FA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7DB85-EC28-4395-A1D0-1B9184AE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2B2EC-12AB-48F4-98A2-42583E77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AD42D-4694-42CE-8CB5-BC78870A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9D868-D3A2-499A-8DE4-2B01D10D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73B71-D56D-48D8-B4B4-6A88DA4C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49D70-9307-465F-8B2F-4C7BFA37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C62FE-CD4F-412E-B38A-805CB9F4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8939B-64B4-4739-BE40-41D139B8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EE485-6DD3-4B2D-9AD9-4B981088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D2F9D-F198-49CD-9002-6C836978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B5A-7B71-4988-8167-54C5C3BD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5A847-A389-416F-AA8C-BE16D904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EE852-2F28-4156-BFCE-DC8D43D9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0A7E7-410C-4838-8090-52716CDC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6677D-3A65-4CFF-B810-8B396932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0A2A7-7323-4A8F-912B-6D112B24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F757E-C1C3-4BAB-AFF4-59F2326E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9BFD9-23CD-4761-B9BA-9A96CAA5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BA1F4-9E15-401F-9992-2DB716EA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DE5B3-CA8B-498B-A9F7-454FC1B4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49391-AEB4-4BC0-8ED0-F937537E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F09-62AF-4F56-BFC4-3F7930B5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FBC1C-BACA-4CA0-9C96-A5E2935C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40C27-3E47-4744-A08A-E8F969E6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E02F7-F134-480B-ADCF-FB11878A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DE3B4-7720-49CA-B666-9BAE3D01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C24E9-1215-4D65-BE84-632E9101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9CFFC-30AA-46AE-9BC6-C1A80650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889CF-28A6-4A32-ADD1-8EA273B8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BC4C8-1AC9-4B2D-833F-4FC1B197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C0D98-ACC5-439D-B3E9-C7C4CC0D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04B9C-B451-44F4-8B09-55AB6998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5E8-3130-4709-A3D7-C41585AA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19C74-60D0-414D-824B-23A79D83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60E32-8B3A-44D4-8623-D0949A8F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2FE40-78F2-4616-AC61-505AF307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07E73-E806-4E6C-8183-7CBD330D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0F701-48AE-41C3-931A-7896089B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DFB39-428F-46D2-A5FB-786DFF8A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1E946-C002-43BD-8E8C-FC44A1A8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6AB72-A77C-4529-BCBD-E5510C41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CEF4A-E26C-4416-8831-65EBCCFA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7E3EA-58E9-4C21-9416-7DC29F3C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98A-EC49-406F-8481-F8EA1906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B6D30-6758-489C-AA6A-D755914B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49983-2F97-4039-A77F-7D24E4E9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2A017-5589-4232-BB59-660E0528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6219B-21C2-48FA-98D7-69EC7167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15C67-CB3C-4A16-81E4-170870D3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BCCEE-531B-4375-ABB3-4C7EFCEA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3E40E-FE37-4D7F-947E-F8736FAE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BC7DB-8A63-4616-AE70-4045C6D4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A2E03-D5BE-4343-BC66-21E673FF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12CF2-4DE2-4C05-85AA-30F1C343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ACA0-345A-4428-BAEB-89956B458D6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907C-D2C7-4B2B-97F6-976F11D91D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F54A-F37C-4CEB-82B1-0EA5F85F56D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1C9B-E970-44D4-B59D-6787E4AF73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11E4-249D-427C-8A90-2CE0514B83F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89FF-2A9D-4D46-B669-2A08CFC55D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41D2-F853-4093-A556-3478D496A95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D2DC-517C-4B44-BAAA-AD431447A9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1A8D-A669-4100-B924-C397C68DFB8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A8CA-978B-4880-915F-416C16786E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1187-B35C-4F17-BE8C-78251C47C04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42CD-88B1-44EE-8138-6383894D43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49C8-1243-45B5-B57F-19870E7EBE6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ECFA-F6A2-47C1-9978-E7385A1753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8FFF-4EF5-4EF2-ADD3-1BFE30B60E2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5554-7EDB-4888-8416-B0E7DB6297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39C3-3FC9-4823-B58E-154FB4C04C7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88FA-F390-4800-9C3C-575A29236D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07CD-3B8E-438B-8B88-5DAEF0C51A2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B199-64EE-4634-8B68-9DBEE76A07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77F4-6BC6-4967-9A3D-9234E213D71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94C9-F1EF-47B3-8436-3125622F75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CB05-A9AD-494F-9AF1-AA947654B33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AF2A-DBBC-4CC8-9DF9-8FE93857B3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6451-DF57-410B-8A6A-59EAD4E9320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9BD3-D942-4B73-8DE6-50161669BA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-33480" y="-33480"/>
            <a:ext cx="9177480" cy="6891480"/>
          </a:xfrm>
          <a:prstGeom prst="rect">
            <a:avLst/>
          </a:prstGeom>
          <a:ln w="0">
            <a:noFill/>
          </a:ln>
        </p:spPr>
      </p:pic>
      <p:sp>
        <p:nvSpPr>
          <p:cNvPr id="534" name="TextBox 2"/>
          <p:cNvSpPr/>
          <p:nvPr/>
        </p:nvSpPr>
        <p:spPr>
          <a:xfrm>
            <a:off x="3071880" y="2571840"/>
            <a:ext cx="307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e787"/>
                </a:solidFill>
                <a:latin typeface="时尚中黑简体"/>
                <a:ea typeface="时尚中黑简体"/>
              </a:rPr>
              <a:t>学习学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3"/>
          <p:cNvSpPr/>
          <p:nvPr/>
        </p:nvSpPr>
        <p:spPr>
          <a:xfrm>
            <a:off x="379080" y="635328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"/>
          <p:cNvSpPr/>
          <p:nvPr/>
        </p:nvSpPr>
        <p:spPr>
          <a:xfrm>
            <a:off x="2048040" y="1600200"/>
            <a:ext cx="47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多彩酷炫三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94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5" descr="C:\Documents and Settings\Administrator\桌面\未标题-1.png"/>
          <p:cNvPicPr/>
          <p:nvPr/>
        </p:nvPicPr>
        <p:blipFill>
          <a:blip r:embed="rId2"/>
          <a:stretch/>
        </p:blipFill>
        <p:spPr>
          <a:xfrm>
            <a:off x="1832040" y="2527200"/>
            <a:ext cx="5441760" cy="1839960"/>
          </a:xfrm>
          <a:prstGeom prst="rect">
            <a:avLst/>
          </a:prstGeom>
          <a:ln w="0">
            <a:noFill/>
          </a:ln>
        </p:spPr>
      </p:pic>
      <p:sp>
        <p:nvSpPr>
          <p:cNvPr id="549" name="TextBox 4"/>
          <p:cNvSpPr/>
          <p:nvPr/>
        </p:nvSpPr>
        <p:spPr>
          <a:xfrm>
            <a:off x="2928960" y="300024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3e88e"/>
                </a:solidFill>
                <a:latin typeface="时尚中黑简体"/>
                <a:ea typeface="时尚中黑简体"/>
              </a:rPr>
              <a:t>学习学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5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-33480" y="-31680"/>
            <a:ext cx="91774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-33480" y="-31680"/>
            <a:ext cx="91774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0" y="0"/>
            <a:ext cx="91803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C:\Documents and Settings\Administrator\桌面\3.jpg"/>
          <p:cNvPicPr/>
          <p:nvPr/>
        </p:nvPicPr>
        <p:blipFill>
          <a:blip r:embed="rId1"/>
          <a:stretch/>
        </p:blipFill>
        <p:spPr>
          <a:xfrm>
            <a:off x="-33480" y="-31680"/>
            <a:ext cx="91774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-33480" y="-33480"/>
            <a:ext cx="917748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0" y="0"/>
            <a:ext cx="91803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3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0" y="-33480"/>
            <a:ext cx="91803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-33480" y="-33480"/>
            <a:ext cx="917748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-33480" y="-31680"/>
            <a:ext cx="91774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6:21:1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59:10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