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51D-534F-45A3-B081-C4B79AEF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6729-C997-4CB3-BE4D-CF7C6C2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F468-F0C0-46F7-B8B2-A938649E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7B0-7CBE-4FA9-A5C6-8DACE778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7A6-4DE0-4E10-B8AF-7545CF00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D03-8D1C-4DF5-BB7F-8E1BB86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0C4-BE1D-4064-9321-1B732069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CE9-D5B4-41EE-BDA9-593E080D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248-EF99-4728-91F9-05EE7E5B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5B0-9BB3-4E63-B49F-1B83D3F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F6F-79A5-40FA-9477-F2E99655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850E-7A59-437A-A4C5-858DC26C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28DD-FCC5-43B5-BA5F-930DC95F469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FE44-2EF8-4CE9-B6FB-FCB9C6ADC1C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1368360" y="1946160"/>
            <a:ext cx="6226200" cy="717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1368360" y="2035080"/>
            <a:ext cx="6228000" cy="540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3121200" y="21207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19"/>
          <p:cNvGrpSpPr/>
          <p:nvPr/>
        </p:nvGrpSpPr>
        <p:grpSpPr>
          <a:xfrm>
            <a:off x="1368360" y="2881440"/>
            <a:ext cx="6228000" cy="718920"/>
            <a:chOff x="1368360" y="2881440"/>
            <a:chExt cx="6228000" cy="718920"/>
          </a:xfrm>
        </p:grpSpPr>
        <p:grpSp>
          <p:nvGrpSpPr>
            <p:cNvPr id="46" name="组合 6"/>
            <p:cNvGrpSpPr/>
            <p:nvPr/>
          </p:nvGrpSpPr>
          <p:grpSpPr>
            <a:xfrm>
              <a:off x="1368360" y="2881440"/>
              <a:ext cx="6228000" cy="718920"/>
              <a:chOff x="1368360" y="2881440"/>
              <a:chExt cx="6228000" cy="718920"/>
            </a:xfrm>
          </p:grpSpPr>
          <p:sp>
            <p:nvSpPr>
              <p:cNvPr id="47" name="AutoShape 3"/>
              <p:cNvSpPr/>
              <p:nvPr/>
            </p:nvSpPr>
            <p:spPr>
              <a:xfrm>
                <a:off x="1368360" y="2881440"/>
                <a:ext cx="622800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3"/>
              <p:cNvSpPr/>
              <p:nvPr/>
            </p:nvSpPr>
            <p:spPr>
              <a:xfrm>
                <a:off x="1368360" y="2970720"/>
                <a:ext cx="6228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eeece1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16"/>
            <p:cNvSpPr/>
            <p:nvPr/>
          </p:nvSpPr>
          <p:spPr>
            <a:xfrm>
              <a:off x="3120840" y="3056040"/>
              <a:ext cx="274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20"/>
          <p:cNvGrpSpPr/>
          <p:nvPr/>
        </p:nvGrpSpPr>
        <p:grpSpPr>
          <a:xfrm>
            <a:off x="1368360" y="3862440"/>
            <a:ext cx="6228000" cy="718920"/>
            <a:chOff x="1368360" y="3862440"/>
            <a:chExt cx="6228000" cy="718920"/>
          </a:xfrm>
        </p:grpSpPr>
        <p:grpSp>
          <p:nvGrpSpPr>
            <p:cNvPr id="51" name="组合 10"/>
            <p:cNvGrpSpPr/>
            <p:nvPr/>
          </p:nvGrpSpPr>
          <p:grpSpPr>
            <a:xfrm>
              <a:off x="1368360" y="3862440"/>
              <a:ext cx="6228000" cy="718920"/>
              <a:chOff x="1368360" y="3862440"/>
              <a:chExt cx="6228000" cy="718920"/>
            </a:xfrm>
          </p:grpSpPr>
          <p:sp>
            <p:nvSpPr>
              <p:cNvPr id="52" name="AutoShape 3"/>
              <p:cNvSpPr/>
              <p:nvPr/>
            </p:nvSpPr>
            <p:spPr>
              <a:xfrm>
                <a:off x="1368360" y="3862440"/>
                <a:ext cx="622800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3"/>
              <p:cNvSpPr/>
              <p:nvPr/>
            </p:nvSpPr>
            <p:spPr>
              <a:xfrm>
                <a:off x="1368360" y="3951720"/>
                <a:ext cx="6228000" cy="540000"/>
              </a:xfrm>
              <a:prstGeom prst="roundRect">
                <a:avLst>
                  <a:gd name="adj" fmla="val 16667"/>
                </a:avLst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19"/>
            <p:cNvSpPr/>
            <p:nvPr/>
          </p:nvSpPr>
          <p:spPr>
            <a:xfrm>
              <a:off x="3120840" y="4037040"/>
              <a:ext cx="274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52360" y="63086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200"/>
                            </p:stCondLst>
                            <p:childTnLst>
                              <p:par>
                                <p:cTn id="9" dur="indefinite" nodeType="afterEffect" fill="hold" presetClass="entr" presetID="16" presetSubtype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6" presetSubtype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200"/>
                            </p:stCondLst>
                            <p:childTnLst>
                              <p:par>
                                <p:cTn id="16" dur="indefinite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4FB-5DD1-4B91-B07E-34202E0BA0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2:48:41Z</dcterms:modified>
  <cp:revision>70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