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20F5-9870-4344-AAB1-1AF309EE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37E2-7B10-477A-8BF4-103C479C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06E2-2F7D-4488-85FE-E5760491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51AE-718A-4E94-A121-71E5EADD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DFEC-671F-4BD0-AB8C-CE0815BC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3626-0947-4C3A-BF3B-F2A6F0E0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D06F-44A9-432E-9EC6-20A6832A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E74B-43F6-4FFC-B686-6C91EE4C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69F2-8C84-4C73-A5C0-A55768DD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2215-39C1-48F3-A327-37006489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B2AF-98F3-438D-A1FA-8B7DEA6B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235C-CB7F-4856-AFDC-7EBBBB1F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方正静蕾简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方正静蕾简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方正静蕾简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36C8-D23D-4B7C-A2F4-32377E6C4F4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方正静蕾简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73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7368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12" descr=""/>
          <p:cNvPicPr/>
          <p:nvPr/>
        </p:nvPicPr>
        <p:blipFill>
          <a:blip r:embed="rId3"/>
          <a:stretch/>
        </p:blipFill>
        <p:spPr>
          <a:xfrm>
            <a:off x="5913360" y="-63360"/>
            <a:ext cx="1084320" cy="108108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5"/>
          <p:cNvGrpSpPr/>
          <p:nvPr/>
        </p:nvGrpSpPr>
        <p:grpSpPr>
          <a:xfrm>
            <a:off x="4170240" y="-1806480"/>
            <a:ext cx="4573800" cy="4570200"/>
            <a:chOff x="4170240" y="-1806480"/>
            <a:chExt cx="4573800" cy="4570200"/>
          </a:xfrm>
        </p:grpSpPr>
        <p:grpSp>
          <p:nvGrpSpPr>
            <p:cNvPr id="45" name="Group 6"/>
            <p:cNvGrpSpPr/>
            <p:nvPr/>
          </p:nvGrpSpPr>
          <p:grpSpPr>
            <a:xfrm>
              <a:off x="4572720" y="-746640"/>
              <a:ext cx="3648600" cy="2298960"/>
              <a:chOff x="4572720" y="-746640"/>
              <a:chExt cx="3648600" cy="2298960"/>
            </a:xfrm>
          </p:grpSpPr>
          <p:grpSp>
            <p:nvGrpSpPr>
              <p:cNvPr id="46" name="Group 7"/>
              <p:cNvGrpSpPr/>
              <p:nvPr/>
            </p:nvGrpSpPr>
            <p:grpSpPr>
              <a:xfrm>
                <a:off x="6933600" y="-746640"/>
                <a:ext cx="1287720" cy="1066680"/>
                <a:chOff x="6933600" y="-746640"/>
                <a:chExt cx="1287720" cy="1066680"/>
              </a:xfrm>
            </p:grpSpPr>
            <p:grpSp>
              <p:nvGrpSpPr>
                <p:cNvPr id="47" name="Group 8"/>
                <p:cNvGrpSpPr/>
                <p:nvPr/>
              </p:nvGrpSpPr>
              <p:grpSpPr>
                <a:xfrm>
                  <a:off x="7677000" y="-746640"/>
                  <a:ext cx="544320" cy="545760"/>
                  <a:chOff x="7677000" y="-746640"/>
                  <a:chExt cx="544320" cy="545760"/>
                </a:xfrm>
              </p:grpSpPr>
              <p:pic>
                <p:nvPicPr>
                  <p:cNvPr id="48" name="椭圆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 rot="21599400">
                    <a:off x="7677000" y="-746640"/>
                    <a:ext cx="54432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" name="Text Box 10"/>
                  <p:cNvSpPr/>
                  <p:nvPr/>
                </p:nvSpPr>
                <p:spPr>
                  <a:xfrm rot="10132200">
                    <a:off x="7760520" y="-663120"/>
                    <a:ext cx="377640" cy="37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" name="Group 11"/>
                <p:cNvGrpSpPr/>
                <p:nvPr/>
              </p:nvGrpSpPr>
              <p:grpSpPr>
                <a:xfrm>
                  <a:off x="6933600" y="41400"/>
                  <a:ext cx="248040" cy="278640"/>
                  <a:chOff x="6933600" y="41400"/>
                  <a:chExt cx="248040" cy="278640"/>
                </a:xfrm>
              </p:grpSpPr>
              <p:pic>
                <p:nvPicPr>
                  <p:cNvPr id="51" name="椭圆 2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 rot="21599400">
                    <a:off x="6933600" y="41040"/>
                    <a:ext cx="248040" cy="2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" name="Text Box 13"/>
                  <p:cNvSpPr/>
                  <p:nvPr/>
                </p:nvSpPr>
                <p:spPr>
                  <a:xfrm rot="10132200">
                    <a:off x="6974280" y="82800"/>
                    <a:ext cx="165960" cy="197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" name="Group 14"/>
                <p:cNvGrpSpPr/>
                <p:nvPr/>
              </p:nvGrpSpPr>
              <p:grpSpPr>
                <a:xfrm>
                  <a:off x="7253280" y="-274320"/>
                  <a:ext cx="344880" cy="351720"/>
                  <a:chOff x="7253280" y="-274320"/>
                  <a:chExt cx="344880" cy="351720"/>
                </a:xfrm>
              </p:grpSpPr>
              <p:pic>
                <p:nvPicPr>
                  <p:cNvPr id="54" name="椭圆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21599400">
                    <a:off x="7253280" y="-274320"/>
                    <a:ext cx="344880" cy="3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" name="Text Box 16"/>
                  <p:cNvSpPr/>
                  <p:nvPr/>
                </p:nvSpPr>
                <p:spPr>
                  <a:xfrm rot="10132200">
                    <a:off x="7305480" y="-219600"/>
                    <a:ext cx="241920" cy="24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" name="Group 17"/>
              <p:cNvGrpSpPr/>
              <p:nvPr/>
            </p:nvGrpSpPr>
            <p:grpSpPr>
              <a:xfrm>
                <a:off x="4572720" y="669960"/>
                <a:ext cx="1397880" cy="882360"/>
                <a:chOff x="4572720" y="669960"/>
                <a:chExt cx="1397880" cy="882360"/>
              </a:xfrm>
            </p:grpSpPr>
            <p:grpSp>
              <p:nvGrpSpPr>
                <p:cNvPr id="57" name="Group 18"/>
                <p:cNvGrpSpPr/>
                <p:nvPr/>
              </p:nvGrpSpPr>
              <p:grpSpPr>
                <a:xfrm>
                  <a:off x="4572720" y="1016640"/>
                  <a:ext cx="537120" cy="535680"/>
                  <a:chOff x="4572720" y="1016640"/>
                  <a:chExt cx="537120" cy="535680"/>
                </a:xfrm>
              </p:grpSpPr>
              <p:pic>
                <p:nvPicPr>
                  <p:cNvPr id="58" name="椭圆 1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720" y="1016640"/>
                    <a:ext cx="537120" cy="5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9" name="Text Box 20"/>
                  <p:cNvSpPr/>
                  <p:nvPr/>
                </p:nvSpPr>
                <p:spPr>
                  <a:xfrm>
                    <a:off x="4651920" y="1094760"/>
                    <a:ext cx="381240" cy="38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21"/>
                <p:cNvGrpSpPr/>
                <p:nvPr/>
              </p:nvGrpSpPr>
              <p:grpSpPr>
                <a:xfrm>
                  <a:off x="5732640" y="669960"/>
                  <a:ext cx="237960" cy="279720"/>
                  <a:chOff x="5732640" y="669960"/>
                  <a:chExt cx="237960" cy="279720"/>
                </a:xfrm>
              </p:grpSpPr>
              <p:pic>
                <p:nvPicPr>
                  <p:cNvPr id="61" name="椭圆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32640" y="669960"/>
                    <a:ext cx="237960" cy="2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2" name="Text Box 23"/>
                  <p:cNvSpPr/>
                  <p:nvPr/>
                </p:nvSpPr>
                <p:spPr>
                  <a:xfrm>
                    <a:off x="5770080" y="713160"/>
                    <a:ext cx="16740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24"/>
                <p:cNvGrpSpPr/>
                <p:nvPr/>
              </p:nvGrpSpPr>
              <p:grpSpPr>
                <a:xfrm>
                  <a:off x="5262480" y="846360"/>
                  <a:ext cx="341640" cy="340560"/>
                  <a:chOff x="5262480" y="846360"/>
                  <a:chExt cx="341640" cy="340560"/>
                </a:xfrm>
              </p:grpSpPr>
              <p:pic>
                <p:nvPicPr>
                  <p:cNvPr id="64" name="椭圆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62480" y="846360"/>
                    <a:ext cx="341640" cy="3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5" name="Text Box 26"/>
                  <p:cNvSpPr/>
                  <p:nvPr/>
                </p:nvSpPr>
                <p:spPr>
                  <a:xfrm>
                    <a:off x="5311080" y="894240"/>
                    <a:ext cx="244080" cy="243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" name="Group 27"/>
            <p:cNvGrpSpPr/>
            <p:nvPr/>
          </p:nvGrpSpPr>
          <p:grpSpPr>
            <a:xfrm>
              <a:off x="4170240" y="-1806480"/>
              <a:ext cx="4573800" cy="4570200"/>
              <a:chOff x="4170240" y="-1806480"/>
              <a:chExt cx="4573800" cy="4570200"/>
            </a:xfrm>
          </p:grpSpPr>
          <p:pic>
            <p:nvPicPr>
              <p:cNvPr id="67" name="椭圆 43" descr=""/>
              <p:cNvPicPr/>
              <p:nvPr/>
            </p:nvPicPr>
            <p:blipFill>
              <a:blip r:embed="rId10"/>
              <a:stretch/>
            </p:blipFill>
            <p:spPr>
              <a:xfrm>
                <a:off x="4170240" y="-1806480"/>
                <a:ext cx="4573800" cy="457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Text Box 29"/>
              <p:cNvSpPr/>
              <p:nvPr/>
            </p:nvSpPr>
            <p:spPr>
              <a:xfrm>
                <a:off x="4840920" y="-1135800"/>
                <a:ext cx="3235320" cy="32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矩形 6"/>
          <p:cNvSpPr/>
          <p:nvPr/>
        </p:nvSpPr>
        <p:spPr>
          <a:xfrm>
            <a:off x="-538200" y="-303120"/>
            <a:ext cx="10439280" cy="589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TextBox 24" descr=""/>
          <p:cNvPicPr/>
          <p:nvPr/>
        </p:nvPicPr>
        <p:blipFill>
          <a:blip r:embed="rId11"/>
          <a:stretch/>
        </p:blipFill>
        <p:spPr>
          <a:xfrm>
            <a:off x="-1020600" y="500040"/>
            <a:ext cx="371160" cy="890640"/>
          </a:xfrm>
          <a:prstGeom prst="rect">
            <a:avLst/>
          </a:prstGeom>
          <a:ln w="0">
            <a:noFill/>
          </a:ln>
        </p:spPr>
      </p:pic>
      <p:sp>
        <p:nvSpPr>
          <p:cNvPr id="71" name="TextBox 26"/>
          <p:cNvSpPr/>
          <p:nvPr/>
        </p:nvSpPr>
        <p:spPr>
          <a:xfrm>
            <a:off x="6834240" y="8177040"/>
            <a:ext cx="11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捺"/>
          <p:cNvSpPr/>
          <p:nvPr/>
        </p:nvSpPr>
        <p:spPr>
          <a:xfrm>
            <a:off x="4565520" y="2516040"/>
            <a:ext cx="347760" cy="514440"/>
          </a:xfrm>
          <a:custGeom>
            <a:avLst/>
            <a:gdLst/>
            <a:ahLst/>
            <a:rect l="l" t="t" r="r" b="b"/>
            <a:pathLst>
              <a:path w="347663" h="514350">
                <a:moveTo>
                  <a:pt x="28576" y="0"/>
                </a:moveTo>
                <a:cubicBezTo>
                  <a:pt x="115095" y="254001"/>
                  <a:pt x="184944" y="341312"/>
                  <a:pt x="347663" y="457200"/>
                </a:cubicBezTo>
                <a:lnTo>
                  <a:pt x="290513" y="514350"/>
                </a:lnTo>
                <a:cubicBezTo>
                  <a:pt x="161131" y="411956"/>
                  <a:pt x="76995" y="342899"/>
                  <a:pt x="0" y="102393"/>
                </a:cubicBezTo>
                <a:lnTo>
                  <a:pt x="2857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extBox 36" descr=""/>
          <p:cNvPicPr/>
          <p:nvPr/>
        </p:nvPicPr>
        <p:blipFill>
          <a:blip r:embed="rId12"/>
          <a:stretch/>
        </p:blipFill>
        <p:spPr>
          <a:xfrm>
            <a:off x="-2630520" y="-6762600"/>
            <a:ext cx="17127720" cy="171259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0"/>
          <p:cNvSpPr/>
          <p:nvPr/>
        </p:nvSpPr>
        <p:spPr>
          <a:xfrm>
            <a:off x="4616280" y="1986120"/>
            <a:ext cx="11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6"/>
          <p:cNvGrpSpPr/>
          <p:nvPr/>
        </p:nvGrpSpPr>
        <p:grpSpPr>
          <a:xfrm>
            <a:off x="4246560" y="2035080"/>
            <a:ext cx="818280" cy="995400"/>
            <a:chOff x="4246560" y="2035080"/>
            <a:chExt cx="818280" cy="995400"/>
          </a:xfrm>
        </p:grpSpPr>
        <p:sp>
          <p:nvSpPr>
            <p:cNvPr id="76" name="任意多边形 27"/>
            <p:cNvSpPr/>
            <p:nvPr/>
          </p:nvSpPr>
          <p:spPr>
            <a:xfrm>
              <a:off x="4246560" y="2387520"/>
              <a:ext cx="363600" cy="642960"/>
            </a:xfrm>
            <a:custGeom>
              <a:avLst/>
              <a:gdLst/>
              <a:ahLst/>
              <a:rect l="l" t="t" r="r" b="b"/>
              <a:pathLst>
                <a:path w="364331" h="642938">
                  <a:moveTo>
                    <a:pt x="304800" y="2382"/>
                  </a:moveTo>
                  <a:cubicBezTo>
                    <a:pt x="274638" y="287337"/>
                    <a:pt x="201613" y="462758"/>
                    <a:pt x="0" y="592932"/>
                  </a:cubicBezTo>
                  <a:lnTo>
                    <a:pt x="35718" y="642938"/>
                  </a:lnTo>
                  <a:cubicBezTo>
                    <a:pt x="116681" y="595314"/>
                    <a:pt x="340518" y="464344"/>
                    <a:pt x="364331" y="0"/>
                  </a:cubicBezTo>
                  <a:lnTo>
                    <a:pt x="304800" y="23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任意多边形 31"/>
            <p:cNvSpPr/>
            <p:nvPr/>
          </p:nvSpPr>
          <p:spPr>
            <a:xfrm rot="20139000">
              <a:off x="4584600" y="2081160"/>
              <a:ext cx="363600" cy="642960"/>
            </a:xfrm>
            <a:custGeom>
              <a:avLst/>
              <a:gdLst/>
              <a:ahLst/>
              <a:rect l="l" t="t" r="r" b="b"/>
              <a:pathLst>
                <a:path w="364331" h="642938">
                  <a:moveTo>
                    <a:pt x="304800" y="2382"/>
                  </a:moveTo>
                  <a:cubicBezTo>
                    <a:pt x="274638" y="287337"/>
                    <a:pt x="201613" y="462758"/>
                    <a:pt x="0" y="592932"/>
                  </a:cubicBezTo>
                  <a:lnTo>
                    <a:pt x="35718" y="642938"/>
                  </a:lnTo>
                  <a:cubicBezTo>
                    <a:pt x="116681" y="595314"/>
                    <a:pt x="340518" y="464344"/>
                    <a:pt x="364331" y="0"/>
                  </a:cubicBezTo>
                  <a:lnTo>
                    <a:pt x="304800" y="238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Box 5"/>
          <p:cNvSpPr/>
          <p:nvPr/>
        </p:nvSpPr>
        <p:spPr>
          <a:xfrm>
            <a:off x="0" y="14176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上本有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走的人多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便没了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0"/>
          <p:cNvGrpSpPr/>
          <p:nvPr/>
        </p:nvGrpSpPr>
        <p:grpSpPr>
          <a:xfrm>
            <a:off x="4299480" y="1821240"/>
            <a:ext cx="2567880" cy="1209240"/>
            <a:chOff x="4299480" y="1821240"/>
            <a:chExt cx="2567880" cy="1209240"/>
          </a:xfrm>
        </p:grpSpPr>
        <p:grpSp>
          <p:nvGrpSpPr>
            <p:cNvPr id="80" name="Group 41"/>
            <p:cNvGrpSpPr/>
            <p:nvPr/>
          </p:nvGrpSpPr>
          <p:grpSpPr>
            <a:xfrm>
              <a:off x="4299480" y="1977480"/>
              <a:ext cx="630360" cy="1053000"/>
              <a:chOff x="4299480" y="1977480"/>
              <a:chExt cx="630360" cy="1053000"/>
            </a:xfrm>
          </p:grpSpPr>
          <p:sp>
            <p:nvSpPr>
              <p:cNvPr id="81" name="任意多边形 33"/>
              <p:cNvSpPr/>
              <p:nvPr/>
            </p:nvSpPr>
            <p:spPr>
              <a:xfrm rot="9065400">
                <a:off x="4431960" y="2025720"/>
                <a:ext cx="365040" cy="642600"/>
              </a:xfrm>
              <a:custGeom>
                <a:avLst/>
                <a:gdLst/>
                <a:ahLst/>
                <a:rect l="l" t="t" r="r" b="b"/>
                <a:pathLst>
                  <a:path w="364331" h="642938">
                    <a:moveTo>
                      <a:pt x="304800" y="2382"/>
                    </a:moveTo>
                    <a:cubicBezTo>
                      <a:pt x="274638" y="287337"/>
                      <a:pt x="201613" y="462758"/>
                      <a:pt x="0" y="592932"/>
                    </a:cubicBezTo>
                    <a:lnTo>
                      <a:pt x="35718" y="642938"/>
                    </a:lnTo>
                    <a:cubicBezTo>
                      <a:pt x="116681" y="595314"/>
                      <a:pt x="340518" y="464344"/>
                      <a:pt x="364331" y="0"/>
                    </a:cubicBezTo>
                    <a:lnTo>
                      <a:pt x="304800" y="23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任意多边形 35"/>
              <p:cNvSpPr/>
              <p:nvPr/>
            </p:nvSpPr>
            <p:spPr>
              <a:xfrm>
                <a:off x="4565520" y="2516400"/>
                <a:ext cx="347400" cy="514080"/>
              </a:xfrm>
              <a:custGeom>
                <a:avLst/>
                <a:gdLst/>
                <a:ahLst/>
                <a:rect l="l" t="t" r="r" b="b"/>
                <a:pathLst>
                  <a:path w="347663" h="514350">
                    <a:moveTo>
                      <a:pt x="28576" y="0"/>
                    </a:moveTo>
                    <a:cubicBezTo>
                      <a:pt x="115095" y="254001"/>
                      <a:pt x="184944" y="341312"/>
                      <a:pt x="347663" y="457200"/>
                    </a:cubicBezTo>
                    <a:lnTo>
                      <a:pt x="290513" y="514350"/>
                    </a:lnTo>
                    <a:cubicBezTo>
                      <a:pt x="161131" y="411956"/>
                      <a:pt x="76995" y="342899"/>
                      <a:pt x="0" y="102393"/>
                    </a:cubicBezTo>
                    <a:lnTo>
                      <a:pt x="28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44"/>
            <p:cNvGrpSpPr/>
            <p:nvPr/>
          </p:nvGrpSpPr>
          <p:grpSpPr>
            <a:xfrm>
              <a:off x="6371280" y="1821240"/>
              <a:ext cx="496080" cy="1092240"/>
              <a:chOff x="6371280" y="1821240"/>
              <a:chExt cx="496080" cy="1092240"/>
            </a:xfrm>
          </p:grpSpPr>
          <p:sp>
            <p:nvSpPr>
              <p:cNvPr id="84" name="任意多边形 40"/>
              <p:cNvSpPr/>
              <p:nvPr/>
            </p:nvSpPr>
            <p:spPr>
              <a:xfrm flipH="1" rot="11556600">
                <a:off x="6437160" y="1853280"/>
                <a:ext cx="364320" cy="642960"/>
              </a:xfrm>
              <a:custGeom>
                <a:avLst/>
                <a:gdLst/>
                <a:ahLst/>
                <a:rect l="l" t="t" r="r" b="b"/>
                <a:pathLst>
                  <a:path w="364331" h="642938">
                    <a:moveTo>
                      <a:pt x="304800" y="2382"/>
                    </a:moveTo>
                    <a:cubicBezTo>
                      <a:pt x="274638" y="287337"/>
                      <a:pt x="201613" y="462758"/>
                      <a:pt x="0" y="592932"/>
                    </a:cubicBezTo>
                    <a:lnTo>
                      <a:pt x="35718" y="642938"/>
                    </a:lnTo>
                    <a:cubicBezTo>
                      <a:pt x="116681" y="595314"/>
                      <a:pt x="340518" y="464344"/>
                      <a:pt x="364331" y="0"/>
                    </a:cubicBezTo>
                    <a:lnTo>
                      <a:pt x="304800" y="2382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任意多边形 41"/>
              <p:cNvSpPr/>
              <p:nvPr/>
            </p:nvSpPr>
            <p:spPr>
              <a:xfrm flipH="1" rot="20622000">
                <a:off x="6445080" y="2360880"/>
                <a:ext cx="347040" cy="514080"/>
              </a:xfrm>
              <a:custGeom>
                <a:avLst/>
                <a:gdLst/>
                <a:ahLst/>
                <a:rect l="l" t="t" r="r" b="b"/>
                <a:pathLst>
                  <a:path w="347663" h="514350">
                    <a:moveTo>
                      <a:pt x="28576" y="0"/>
                    </a:moveTo>
                    <a:cubicBezTo>
                      <a:pt x="115095" y="254001"/>
                      <a:pt x="184944" y="341312"/>
                      <a:pt x="347663" y="457200"/>
                    </a:cubicBezTo>
                    <a:lnTo>
                      <a:pt x="290513" y="514350"/>
                    </a:lnTo>
                    <a:cubicBezTo>
                      <a:pt x="161131" y="411956"/>
                      <a:pt x="76995" y="342899"/>
                      <a:pt x="0" y="102393"/>
                    </a:cubicBezTo>
                    <a:lnTo>
                      <a:pt x="28576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" name="椭圆 38"/>
          <p:cNvSpPr/>
          <p:nvPr/>
        </p:nvSpPr>
        <p:spPr>
          <a:xfrm>
            <a:off x="5425920" y="1400040"/>
            <a:ext cx="1008360" cy="1008360"/>
          </a:xfrm>
          <a:custGeom>
            <a:avLst/>
            <a:gdLst/>
            <a:ahLst/>
            <a:rect l="l" t="t" r="r" b="b"/>
            <a:pathLst>
              <a:path w="1008000" h="1008000">
                <a:moveTo>
                  <a:pt x="504000" y="75072"/>
                </a:moveTo>
                <a:cubicBezTo>
                  <a:pt x="267110" y="75072"/>
                  <a:pt x="75072" y="267110"/>
                  <a:pt x="75072" y="504000"/>
                </a:cubicBezTo>
                <a:cubicBezTo>
                  <a:pt x="75072" y="740890"/>
                  <a:pt x="267110" y="932928"/>
                  <a:pt x="504000" y="932928"/>
                </a:cubicBezTo>
                <a:cubicBezTo>
                  <a:pt x="740890" y="932928"/>
                  <a:pt x="932928" y="740890"/>
                  <a:pt x="932928" y="504000"/>
                </a:cubicBezTo>
                <a:cubicBezTo>
                  <a:pt x="932928" y="267110"/>
                  <a:pt x="740890" y="75072"/>
                  <a:pt x="504000" y="75072"/>
                </a:cubicBezTo>
                <a:close/>
                <a:moveTo>
                  <a:pt x="504000" y="0"/>
                </a:moveTo>
                <a:cubicBezTo>
                  <a:pt x="782352" y="0"/>
                  <a:pt x="1008000" y="225648"/>
                  <a:pt x="1008000" y="504000"/>
                </a:cubicBezTo>
                <a:cubicBezTo>
                  <a:pt x="1008000" y="782352"/>
                  <a:pt x="782352" y="1008000"/>
                  <a:pt x="504000" y="1008000"/>
                </a:cubicBezTo>
                <a:cubicBezTo>
                  <a:pt x="225648" y="1008000"/>
                  <a:pt x="0" y="782352"/>
                  <a:pt x="0" y="504000"/>
                </a:cubicBezTo>
                <a:cubicBezTo>
                  <a:pt x="0" y="225648"/>
                  <a:pt x="225648" y="0"/>
                  <a:pt x="5040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42"/>
          <p:cNvSpPr/>
          <p:nvPr/>
        </p:nvSpPr>
        <p:spPr>
          <a:xfrm>
            <a:off x="5500800" y="1474920"/>
            <a:ext cx="858600" cy="85716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u"/>
          <p:cNvSpPr/>
          <p:nvPr/>
        </p:nvSpPr>
        <p:spPr>
          <a:xfrm>
            <a:off x="5388120" y="1417680"/>
            <a:ext cx="111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50"/>
          <p:cNvGrpSpPr/>
          <p:nvPr/>
        </p:nvGrpSpPr>
        <p:grpSpPr>
          <a:xfrm>
            <a:off x="5378400" y="1398600"/>
            <a:ext cx="1116000" cy="1008000"/>
            <a:chOff x="5378400" y="1398600"/>
            <a:chExt cx="1116000" cy="1008000"/>
          </a:xfrm>
        </p:grpSpPr>
        <p:sp>
          <p:nvSpPr>
            <p:cNvPr id="90" name="椭圆 38"/>
            <p:cNvSpPr/>
            <p:nvPr/>
          </p:nvSpPr>
          <p:spPr>
            <a:xfrm>
              <a:off x="5425920" y="1398600"/>
              <a:ext cx="1008360" cy="1008000"/>
            </a:xfrm>
            <a:custGeom>
              <a:avLst/>
              <a:gdLst/>
              <a:ahLst/>
              <a:rect l="l" t="t" r="r" b="b"/>
              <a:pathLst>
                <a:path w="1008000" h="1008000">
                  <a:moveTo>
                    <a:pt x="504000" y="75072"/>
                  </a:moveTo>
                  <a:cubicBezTo>
                    <a:pt x="267110" y="75072"/>
                    <a:pt x="75072" y="267110"/>
                    <a:pt x="75072" y="504000"/>
                  </a:cubicBezTo>
                  <a:cubicBezTo>
                    <a:pt x="75072" y="740890"/>
                    <a:pt x="267110" y="932928"/>
                    <a:pt x="504000" y="932928"/>
                  </a:cubicBezTo>
                  <a:cubicBezTo>
                    <a:pt x="740890" y="932928"/>
                    <a:pt x="932928" y="740890"/>
                    <a:pt x="932928" y="504000"/>
                  </a:cubicBezTo>
                  <a:cubicBezTo>
                    <a:pt x="932928" y="267110"/>
                    <a:pt x="740890" y="75072"/>
                    <a:pt x="504000" y="75072"/>
                  </a:cubicBezTo>
                  <a:close/>
                  <a:moveTo>
                    <a:pt x="504000" y="0"/>
                  </a:moveTo>
                  <a:cubicBezTo>
                    <a:pt x="782352" y="0"/>
                    <a:pt x="1008000" y="225648"/>
                    <a:pt x="1008000" y="504000"/>
                  </a:cubicBezTo>
                  <a:cubicBezTo>
                    <a:pt x="1008000" y="782352"/>
                    <a:pt x="782352" y="1008000"/>
                    <a:pt x="504000" y="1008000"/>
                  </a:cubicBezTo>
                  <a:cubicBezTo>
                    <a:pt x="225648" y="1008000"/>
                    <a:pt x="0" y="782352"/>
                    <a:pt x="0" y="504000"/>
                  </a:cubicBezTo>
                  <a:cubicBezTo>
                    <a:pt x="0" y="225648"/>
                    <a:pt x="225648" y="0"/>
                    <a:pt x="504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47"/>
            <p:cNvSpPr/>
            <p:nvPr/>
          </p:nvSpPr>
          <p:spPr>
            <a:xfrm>
              <a:off x="5500440" y="1473120"/>
              <a:ext cx="858960" cy="85896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u"/>
            <p:cNvSpPr/>
            <p:nvPr/>
          </p:nvSpPr>
          <p:spPr>
            <a:xfrm>
              <a:off x="5378400" y="1428120"/>
              <a:ext cx="111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路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22"/>
          <p:cNvSpPr/>
          <p:nvPr/>
        </p:nvSpPr>
        <p:spPr>
          <a:xfrm>
            <a:off x="-681120" y="-633240"/>
            <a:ext cx="10869840" cy="111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3"/>
          <p:cNvSpPr/>
          <p:nvPr/>
        </p:nvSpPr>
        <p:spPr>
          <a:xfrm>
            <a:off x="-681120" y="5156280"/>
            <a:ext cx="10869840" cy="111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media1.wma" descr=""/>
          <p:cNvPicPr/>
          <p:nvPr/>
        </p:nvPicPr>
        <p:blipFill>
          <a:blip r:embed="rId13"/>
          <a:stretch/>
        </p:blipFill>
        <p:spPr>
          <a:xfrm>
            <a:off x="-2841480" y="81136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6" name="矩形 1"/>
          <p:cNvSpPr/>
          <p:nvPr/>
        </p:nvSpPr>
        <p:spPr>
          <a:xfrm>
            <a:off x="2503440" y="65412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动画人与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免费完整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25200" y="53704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42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42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42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8">
                                  <p:stCondLst>
                                    <p:cond delay="8500"/>
                                  </p:stCondLst>
                                  <p:childTnLst>
                                    <p:animRot by="9120000">
                                      <p:cBhvr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8">
                                  <p:stCondLst>
                                    <p:cond delay="9500"/>
                                  </p:stCondLst>
                                  <p:childTnLst>
                                    <p:animRot by="21600000">
                                      <p:cBhvr>
                                        <p:cTn id="63" dur="17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22" presetSubtype="4">
                                  <p:stCondLst>
                                    <p:cond delay="97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5" dur="4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8">
                                  <p:stCondLst>
                                    <p:cond delay="10000"/>
                                  </p:stCondLst>
                                  <p:childTnLst>
                                    <p:animRot by="21600000">
                                      <p:cBhvr>
                                        <p:cTn id="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112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1" repeatCount="5000">
                                  <p:stCondLst>
                                    <p:cond delay="1175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6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14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14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14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1425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14250"/>
                                  </p:stCondLst>
                                  <p:childTnLst>
                                    <p:animMotion origin="layout" path="M 0.00139 -0.01361 L 0.05695 -0.24945 E">
                                      <p:cBhvr>
                                        <p:cTn id="90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15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15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157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1" repeatCount="indefinite">
                                  <p:stCondLst>
                                    <p:cond delay="1625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1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1625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42">
                                  <p:stCondLst>
                                    <p:cond delay="167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61111E-006 -3.33333E-006 L 0.13246 0.00084 E">
                                      <p:cBhvr>
                                        <p:cTn id="10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42">
                                  <p:stCondLst>
                                    <p:cond delay="16750"/>
                                  </p:stCondLst>
                                  <p:childTnLst>
                                    <p:animMotion origin="layout" path="M -2.5E-006 3.33333E-006 L 0.13698 0.0075 E">
                                      <p:cBhvr>
                                        <p:cTn id="108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8">
                                  <p:stCondLst>
                                    <p:cond delay="16750"/>
                                  </p:stCondLst>
                                  <p:childTnLst>
                                    <p:animRot by="21600000">
                                      <p:cBhvr>
                                        <p:cTn id="110" dur="22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18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1" repeatCount="indefinite">
                                  <p:stCondLst>
                                    <p:cond delay="1875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5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125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71702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0" y="-163440"/>
            <a:ext cx="9753480" cy="5878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Administrator\Desktop\路\交通工具\交通工具\camaro.png"/>
          <p:cNvPicPr/>
          <p:nvPr/>
        </p:nvPicPr>
        <p:blipFill>
          <a:blip r:embed="rId2"/>
          <a:stretch/>
        </p:blipFill>
        <p:spPr>
          <a:xfrm flipH="1" rot="192600">
            <a:off x="9820080" y="2447640"/>
            <a:ext cx="514080" cy="515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C:\Users\Administrator\Desktop\路\交通工具\交通工具\red_256.png"/>
          <p:cNvPicPr/>
          <p:nvPr/>
        </p:nvPicPr>
        <p:blipFill>
          <a:blip r:embed="rId3"/>
          <a:stretch/>
        </p:blipFill>
        <p:spPr>
          <a:xfrm>
            <a:off x="9806040" y="2492280"/>
            <a:ext cx="782640" cy="397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C:\Users\Administrator\Desktop\路\xiaoche.png"/>
          <p:cNvPicPr/>
          <p:nvPr/>
        </p:nvPicPr>
        <p:blipFill>
          <a:blip r:embed="rId4"/>
          <a:stretch/>
        </p:blipFill>
        <p:spPr>
          <a:xfrm>
            <a:off x="9806040" y="2435400"/>
            <a:ext cx="1027080" cy="380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Administrator\Desktop\路\xiaoche.png"/>
          <p:cNvPicPr/>
          <p:nvPr/>
        </p:nvPicPr>
        <p:blipFill>
          <a:blip r:embed="rId5"/>
          <a:stretch/>
        </p:blipFill>
        <p:spPr>
          <a:xfrm>
            <a:off x="9847440" y="2414520"/>
            <a:ext cx="757080" cy="28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C:\Users\Administrator\Desktop\路\yijiao.png"/>
          <p:cNvPicPr/>
          <p:nvPr/>
        </p:nvPicPr>
        <p:blipFill>
          <a:blip r:embed="rId6"/>
          <a:stretch/>
        </p:blipFill>
        <p:spPr>
          <a:xfrm>
            <a:off x="8489880" y="2722680"/>
            <a:ext cx="1370160" cy="500040"/>
          </a:xfrm>
          <a:prstGeom prst="rect">
            <a:avLst/>
          </a:prstGeom>
          <a:ln w="0">
            <a:noFill/>
          </a:ln>
        </p:spPr>
      </p:pic>
      <p:pic>
        <p:nvPicPr>
          <p:cNvPr id="104" name="TextBox 11" descr=""/>
          <p:cNvPicPr/>
          <p:nvPr/>
        </p:nvPicPr>
        <p:blipFill>
          <a:blip r:embed="rId7"/>
          <a:stretch/>
        </p:blipFill>
        <p:spPr>
          <a:xfrm>
            <a:off x="-1849320" y="1444680"/>
            <a:ext cx="347400" cy="225360"/>
          </a:xfrm>
          <a:prstGeom prst="rect">
            <a:avLst/>
          </a:prstGeom>
          <a:ln w="0">
            <a:noFill/>
          </a:ln>
        </p:spPr>
      </p:pic>
      <p:pic>
        <p:nvPicPr>
          <p:cNvPr id="105" name="TextBox 12" descr=""/>
          <p:cNvPicPr/>
          <p:nvPr/>
        </p:nvPicPr>
        <p:blipFill>
          <a:blip r:embed="rId8"/>
          <a:stretch/>
        </p:blipFill>
        <p:spPr>
          <a:xfrm>
            <a:off x="-2459160" y="1231920"/>
            <a:ext cx="347760" cy="218880"/>
          </a:xfrm>
          <a:prstGeom prst="rect">
            <a:avLst/>
          </a:prstGeom>
          <a:ln w="0">
            <a:noFill/>
          </a:ln>
        </p:spPr>
      </p:pic>
      <p:pic>
        <p:nvPicPr>
          <p:cNvPr id="106" name="TextBox 13" descr=""/>
          <p:cNvPicPr/>
          <p:nvPr/>
        </p:nvPicPr>
        <p:blipFill>
          <a:blip r:embed="rId9"/>
          <a:stretch/>
        </p:blipFill>
        <p:spPr>
          <a:xfrm>
            <a:off x="-2252520" y="1743120"/>
            <a:ext cx="347400" cy="218880"/>
          </a:xfrm>
          <a:prstGeom prst="rect">
            <a:avLst/>
          </a:prstGeom>
          <a:ln w="0">
            <a:noFill/>
          </a:ln>
        </p:spPr>
      </p:pic>
      <p:pic>
        <p:nvPicPr>
          <p:cNvPr id="107" name="TextBox 14" descr=""/>
          <p:cNvPicPr/>
          <p:nvPr/>
        </p:nvPicPr>
        <p:blipFill>
          <a:blip r:embed="rId10"/>
          <a:stretch/>
        </p:blipFill>
        <p:spPr>
          <a:xfrm>
            <a:off x="-3051000" y="1122480"/>
            <a:ext cx="347400" cy="225360"/>
          </a:xfrm>
          <a:prstGeom prst="rect">
            <a:avLst/>
          </a:prstGeom>
          <a:ln w="0">
            <a:noFill/>
          </a:ln>
        </p:spPr>
      </p:pic>
      <p:pic>
        <p:nvPicPr>
          <p:cNvPr id="108" name="TextBox 15" descr=""/>
          <p:cNvPicPr/>
          <p:nvPr/>
        </p:nvPicPr>
        <p:blipFill>
          <a:blip r:embed="rId11"/>
          <a:stretch/>
        </p:blipFill>
        <p:spPr>
          <a:xfrm>
            <a:off x="-2770200" y="1920960"/>
            <a:ext cx="347760" cy="218880"/>
          </a:xfrm>
          <a:prstGeom prst="rect">
            <a:avLst/>
          </a:prstGeom>
          <a:ln w="0">
            <a:noFill/>
          </a:ln>
        </p:spPr>
      </p:pic>
      <p:sp>
        <p:nvSpPr>
          <p:cNvPr id="109" name="矩形 9"/>
          <p:cNvSpPr/>
          <p:nvPr/>
        </p:nvSpPr>
        <p:spPr>
          <a:xfrm>
            <a:off x="-681120" y="5156280"/>
            <a:ext cx="10869840" cy="111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0"/>
          <p:cNvSpPr/>
          <p:nvPr/>
        </p:nvSpPr>
        <p:spPr>
          <a:xfrm>
            <a:off x="-681120" y="-633240"/>
            <a:ext cx="10869840" cy="111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125 L -0.20833 0.0803 L -0.46007 0.1606 L -0.7875 0.26313 E">
                                      <p:cBhvr>
                                        <p:cTn id="12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75 0.26291 L -1.23351 0.41783 E">
                                      <p:cBhvr>
                                        <p:cTn id="129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-0.01249 L -0.2085 0.08023 L -0.46007 0.16047 L -1.22743 0.40311 E">
                                      <p:cBhvr>
                                        <p:cTn id="13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1" repeatCount="indefinite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5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-3.33333E-006 L 1.56128 -0.25583 E">
                                      <p:cBhvr>
                                        <p:cTn id="137" dur="3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1" repeatCount="indefinite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9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112E-017 -2.22222E-006 L 1.58316 -0.26166 E">
                                      <p:cBhvr>
                                        <p:cTn id="141" dur="3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1" repeatCount="indefinite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3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112E-017 5.55112E-017 L 1.55955 -0.28833 E">
                                      <p:cBhvr>
                                        <p:cTn id="145" dur="35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1" repeatCount="indefinite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7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-3.33333E-006 L 1.57535 -0.24805 E">
                                      <p:cBhvr>
                                        <p:cTn id="149" dur="3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1" repeatCount="indefinite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1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66667E-006 1.11111E-006 L 1.58646 -0.27167 E">
                                      <p:cBhvr>
                                        <p:cTn id="153" dur="35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017 -0.0125 L -0.20851 0.08028 L -0.46007 0.16055 L -1.3559 0.44055 E">
                                      <p:cBhvr>
                                        <p:cTn id="155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57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0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8.33333E-007 -0.0125 L -0.20833 0.08028 L -0.46007 0.16056 L -1.58177 0.51667 E">
                                      <p:cBhvr>
                                        <p:cTn id="159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7:20:0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10:55:04Z</dcterms:modified>
  <cp:revision>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