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F5C4-FEC9-4F3F-80E4-E2A61861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515E-5E67-490B-A94C-0B2967BA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5ECB-6705-427C-A4DB-9C48C17F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B24C-377D-4F0A-BD4D-D003D4AC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902B-8194-4E5D-904C-EF7C39EF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674B-73A6-4F55-85EF-4F6B1CA4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E649-8E91-40AA-A45D-EEADD280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9359-8A28-4BF7-9E20-210B5971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44AE-2F55-431F-8C93-202CD185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3EC5-9095-4CA0-A64F-58237C31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D231-0306-4A5B-BBE4-09021EDC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797A-E650-450C-8EF4-EE457A73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EFCC-3DD3-46DC-BCB7-CD5FBB49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4CEC-1EA6-4972-BCB1-4DC8130E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9423-181D-4CC7-8F9B-D865DBCC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1742-E1DD-41F6-A0DB-DD0C4E46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BB7A-9165-4674-ADE9-C4C77DF8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13A4-9D9F-4DE5-AC05-9BE0E990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DFB-5956-4237-A716-0011318C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8BE-511E-41CE-8BAE-0E0A329D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3C97-5130-4398-A802-B7392759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178A-0E15-498A-BE23-E197EBB2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EB6D-71C9-4B2E-ABE3-71D78C76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6CC3-B937-4AFB-864E-567E7330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691D-B27E-4C02-9EE6-0E39ED4AAA8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609A-FE16-424A-B615-68C7AE7C5CA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2612-40FF-4A27-8031-BE7D75201D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hyperlink" Target="http://www.eeppt.com/sucai/" TargetMode="External"/><Relationship Id="rId4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5"/>
          <p:cNvSpPr/>
          <p:nvPr/>
        </p:nvSpPr>
        <p:spPr>
          <a:xfrm>
            <a:off x="5937120" y="1844640"/>
            <a:ext cx="346320" cy="345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"/>
          <p:cNvSpPr/>
          <p:nvPr/>
        </p:nvSpPr>
        <p:spPr>
          <a:xfrm>
            <a:off x="5584680" y="2190600"/>
            <a:ext cx="346320" cy="3463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5"/>
          <p:cNvSpPr/>
          <p:nvPr/>
        </p:nvSpPr>
        <p:spPr>
          <a:xfrm>
            <a:off x="5937120" y="2198520"/>
            <a:ext cx="346320" cy="3463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6296040" y="2190600"/>
            <a:ext cx="345960" cy="3463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6654960" y="2527200"/>
            <a:ext cx="345960" cy="3463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6296040" y="2544840"/>
            <a:ext cx="345960" cy="3459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5"/>
          <p:cNvSpPr/>
          <p:nvPr/>
        </p:nvSpPr>
        <p:spPr>
          <a:xfrm>
            <a:off x="5937120" y="2550960"/>
            <a:ext cx="346320" cy="34632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5584680" y="2544840"/>
            <a:ext cx="346320" cy="345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"/>
          <p:cNvSpPr/>
          <p:nvPr/>
        </p:nvSpPr>
        <p:spPr>
          <a:xfrm>
            <a:off x="5227560" y="2549520"/>
            <a:ext cx="346320" cy="34596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4867200" y="2909880"/>
            <a:ext cx="346320" cy="345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5227560" y="2901960"/>
            <a:ext cx="346320" cy="34596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"/>
          <p:cNvSpPr/>
          <p:nvPr/>
        </p:nvSpPr>
        <p:spPr>
          <a:xfrm>
            <a:off x="5584680" y="2897280"/>
            <a:ext cx="346320" cy="345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5937120" y="2903400"/>
            <a:ext cx="346320" cy="34632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6296040" y="2897280"/>
            <a:ext cx="345960" cy="345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"/>
          <p:cNvSpPr/>
          <p:nvPr/>
        </p:nvSpPr>
        <p:spPr>
          <a:xfrm>
            <a:off x="6654960" y="2886120"/>
            <a:ext cx="345960" cy="34596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"/>
          <p:cNvSpPr/>
          <p:nvPr/>
        </p:nvSpPr>
        <p:spPr>
          <a:xfrm>
            <a:off x="7010280" y="2886120"/>
            <a:ext cx="346320" cy="34596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"/>
          <p:cNvSpPr/>
          <p:nvPr/>
        </p:nvSpPr>
        <p:spPr>
          <a:xfrm>
            <a:off x="7370640" y="3252960"/>
            <a:ext cx="346320" cy="34596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"/>
          <p:cNvSpPr/>
          <p:nvPr/>
        </p:nvSpPr>
        <p:spPr>
          <a:xfrm>
            <a:off x="7010280" y="3246480"/>
            <a:ext cx="346320" cy="345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6654960" y="3243240"/>
            <a:ext cx="345960" cy="34596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6296040" y="3249720"/>
            <a:ext cx="345960" cy="345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5937120" y="3255840"/>
            <a:ext cx="346320" cy="346320"/>
          </a:xfrm>
          <a:prstGeom prst="ellipse">
            <a:avLst/>
          </a:prstGeom>
          <a:blipFill rotWithShape="0">
            <a:blip r:embed="rId2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5584680" y="3249720"/>
            <a:ext cx="346320" cy="345960"/>
          </a:xfrm>
          <a:prstGeom prst="ellipse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5227560" y="3254400"/>
            <a:ext cx="346320" cy="345960"/>
          </a:xfrm>
          <a:prstGeom prst="ellipse">
            <a:avLst/>
          </a:prstGeom>
          <a:blipFill rotWithShape="0">
            <a:blip r:embed="rId2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4867200" y="3262320"/>
            <a:ext cx="346320" cy="345960"/>
          </a:xfrm>
          <a:prstGeom prst="ellipse">
            <a:avLst/>
          </a:prstGeom>
          <a:blipFill rotWithShape="0">
            <a:blip r:embed="rId2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4508640" y="3262320"/>
            <a:ext cx="345960" cy="345960"/>
          </a:xfrm>
          <a:prstGeom prst="ellipse">
            <a:avLst/>
          </a:prstGeom>
          <a:blipFill rotWithShape="0">
            <a:blip r:embed="rId2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"/>
          <p:cNvSpPr/>
          <p:nvPr/>
        </p:nvSpPr>
        <p:spPr>
          <a:xfrm>
            <a:off x="4867200" y="3614760"/>
            <a:ext cx="346320" cy="345960"/>
          </a:xfrm>
          <a:prstGeom prst="ellipse">
            <a:avLst/>
          </a:prstGeom>
          <a:blipFill rotWithShape="0">
            <a:blip r:embed="rId2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5"/>
          <p:cNvSpPr/>
          <p:nvPr/>
        </p:nvSpPr>
        <p:spPr>
          <a:xfrm>
            <a:off x="5227560" y="3606840"/>
            <a:ext cx="346320" cy="345960"/>
          </a:xfrm>
          <a:prstGeom prst="ellipse">
            <a:avLst/>
          </a:prstGeom>
          <a:blipFill rotWithShape="0">
            <a:blip r:embed="rId2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5"/>
          <p:cNvSpPr/>
          <p:nvPr/>
        </p:nvSpPr>
        <p:spPr>
          <a:xfrm>
            <a:off x="5584680" y="3602160"/>
            <a:ext cx="346320" cy="345960"/>
          </a:xfrm>
          <a:prstGeom prst="ellipse">
            <a:avLst/>
          </a:prstGeom>
          <a:blipFill rotWithShape="0">
            <a:blip r:embed="rId2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5937120" y="3608280"/>
            <a:ext cx="346320" cy="346320"/>
          </a:xfrm>
          <a:prstGeom prst="ellipse">
            <a:avLst/>
          </a:prstGeom>
          <a:blipFill rotWithShape="0">
            <a:blip r:embed="rId3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6296040" y="3602160"/>
            <a:ext cx="345960" cy="345960"/>
          </a:xfrm>
          <a:prstGeom prst="ellipse">
            <a:avLst/>
          </a:prstGeom>
          <a:blipFill rotWithShape="0">
            <a:blip r:embed="rId3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5"/>
          <p:cNvSpPr/>
          <p:nvPr/>
        </p:nvSpPr>
        <p:spPr>
          <a:xfrm>
            <a:off x="6654960" y="3602160"/>
            <a:ext cx="345960" cy="345960"/>
          </a:xfrm>
          <a:prstGeom prst="ellipse">
            <a:avLst/>
          </a:prstGeom>
          <a:blipFill rotWithShape="0">
            <a:blip r:embed="rId3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7010280" y="3605040"/>
            <a:ext cx="346320" cy="346320"/>
          </a:xfrm>
          <a:prstGeom prst="ellipse">
            <a:avLst/>
          </a:prstGeom>
          <a:blipFill rotWithShape="0">
            <a:blip r:embed="rId3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6654960" y="3960720"/>
            <a:ext cx="345960" cy="346320"/>
          </a:xfrm>
          <a:prstGeom prst="ellipse">
            <a:avLst/>
          </a:prstGeom>
          <a:blipFill rotWithShape="0">
            <a:blip r:embed="rId3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6296040" y="3954600"/>
            <a:ext cx="345960" cy="345960"/>
          </a:xfrm>
          <a:prstGeom prst="ellipse">
            <a:avLst/>
          </a:prstGeom>
          <a:blipFill rotWithShape="0">
            <a:blip r:embed="rId3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5"/>
          <p:cNvSpPr/>
          <p:nvPr/>
        </p:nvSpPr>
        <p:spPr>
          <a:xfrm>
            <a:off x="5937120" y="3960720"/>
            <a:ext cx="346320" cy="346320"/>
          </a:xfrm>
          <a:prstGeom prst="ellipse">
            <a:avLst/>
          </a:prstGeom>
          <a:blipFill rotWithShape="0">
            <a:blip r:embed="rId3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5584680" y="3954600"/>
            <a:ext cx="346320" cy="345960"/>
          </a:xfrm>
          <a:prstGeom prst="ellipse">
            <a:avLst/>
          </a:prstGeom>
          <a:blipFill rotWithShape="0">
            <a:blip r:embed="rId3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5227560" y="3959280"/>
            <a:ext cx="346320" cy="345960"/>
          </a:xfrm>
          <a:prstGeom prst="ellipse">
            <a:avLst/>
          </a:prstGeom>
          <a:blipFill rotWithShape="0">
            <a:blip r:embed="rId3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5584680" y="4307040"/>
            <a:ext cx="346320" cy="345960"/>
          </a:xfrm>
          <a:prstGeom prst="ellipse">
            <a:avLst/>
          </a:prstGeom>
          <a:blipFill rotWithShape="0">
            <a:blip r:embed="rId3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5937120" y="4314960"/>
            <a:ext cx="346320" cy="345960"/>
          </a:xfrm>
          <a:prstGeom prst="ellipse">
            <a:avLst/>
          </a:prstGeom>
          <a:blipFill rotWithShape="0">
            <a:blip r:embed="rId4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6296040" y="4307040"/>
            <a:ext cx="345960" cy="345960"/>
          </a:xfrm>
          <a:prstGeom prst="ellipse">
            <a:avLst/>
          </a:prstGeom>
          <a:blipFill rotWithShape="0">
            <a:blip r:embed="rId4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5937120" y="4667400"/>
            <a:ext cx="346320" cy="345960"/>
          </a:xfrm>
          <a:prstGeom prst="ellipse">
            <a:avLst/>
          </a:prstGeom>
          <a:blipFill rotWithShape="0">
            <a:blip r:embed="rId4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51"/>
          <p:cNvSpPr/>
          <p:nvPr/>
        </p:nvSpPr>
        <p:spPr>
          <a:xfrm>
            <a:off x="5298480" y="1844640"/>
            <a:ext cx="1625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Intrepid ExtraBold"/>
                <a:ea typeface="方正综艺简体"/>
              </a:rPr>
              <a:t>5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52"/>
          <p:cNvSpPr/>
          <p:nvPr/>
        </p:nvSpPr>
        <p:spPr>
          <a:xfrm>
            <a:off x="5298480" y="1844640"/>
            <a:ext cx="1625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Intrepid ExtraBold"/>
                <a:ea typeface="方正综艺简体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53"/>
          <p:cNvSpPr/>
          <p:nvPr/>
        </p:nvSpPr>
        <p:spPr>
          <a:xfrm>
            <a:off x="5298480" y="1844640"/>
            <a:ext cx="1625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Intrepid ExtraBold"/>
                <a:ea typeface="方正综艺简体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54"/>
          <p:cNvSpPr/>
          <p:nvPr/>
        </p:nvSpPr>
        <p:spPr>
          <a:xfrm>
            <a:off x="5298480" y="1844640"/>
            <a:ext cx="1625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Intrepid ExtraBold"/>
                <a:ea typeface="方正综艺简体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55"/>
          <p:cNvSpPr/>
          <p:nvPr/>
        </p:nvSpPr>
        <p:spPr>
          <a:xfrm>
            <a:off x="5298480" y="1844640"/>
            <a:ext cx="1625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Intrepid ExtraBold"/>
                <a:ea typeface="方正综艺简体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760" y="646272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43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080" y="28116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倒计时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1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3" presetSubtype="16" repeatCount="5000">
                                  <p:stCondLst>
                                    <p:cond delay="1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8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3" presetSubtype="16" repeatCount="5000">
                                  <p:stCondLst>
                                    <p:cond delay="2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5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3" presetSubtype="16" repeatCount="5000">
                                  <p:stCondLst>
                                    <p:cond delay="3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2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3" presetSubtype="16" repeatCount="5000">
                                  <p:stCondLst>
                                    <p:cond delay="4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9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3" presetSubtype="16" repeatCount="500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46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3" presetSubtype="16" repeatCount="5000">
                                  <p:stCondLst>
                                    <p:cond delay="6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53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3" presetSubtype="16" repeatCount="5000">
                                  <p:stCondLst>
                                    <p:cond delay="7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60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3" presetSubtype="16" repeatCount="5000">
                                  <p:stCondLst>
                                    <p:cond delay="8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67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3" presetSubtype="16" repeatCount="5000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74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3" presetSubtype="16" repeatCount="5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81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3" presetSubtype="16" repeatCount="5000">
                                  <p:stCondLst>
                                    <p:cond delay="11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88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3" presetSubtype="16" repeatCount="500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95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3" presetSubtype="16" repeatCount="5000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02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3" presetSubtype="16" repeatCount="5000">
                                  <p:stCondLst>
                                    <p:cond delay="14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09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3" presetSubtype="16" repeatCount="500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16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3" presetSubtype="16" repeatCount="5000">
                                  <p:stCondLst>
                                    <p:cond delay="16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23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23" presetSubtype="16" repeatCount="5000">
                                  <p:stCondLst>
                                    <p:cond delay="17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30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3" presetSubtype="16" repeatCount="5000">
                                  <p:stCondLst>
                                    <p:cond delay="18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37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3" presetSubtype="16" repeatCount="5000">
                                  <p:stCondLst>
                                    <p:cond delay="19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44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23" presetSubtype="16" repeatCount="5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51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23" presetSubtype="16" repeatCount="5000">
                                  <p:stCondLst>
                                    <p:cond delay="21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58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3" presetSubtype="16" repeatCount="5000">
                                  <p:stCondLst>
                                    <p:cond delay="22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65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3" presetSubtype="16" repeatCount="5000">
                                  <p:stCondLst>
                                    <p:cond delay="23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72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23" presetSubtype="16" repeatCount="5000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79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3" presetSubtype="16" repeatCount="5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86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3" presetSubtype="16" repeatCount="5000">
                                  <p:stCondLst>
                                    <p:cond delay="26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93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3" presetSubtype="16" repeatCount="5000">
                                  <p:stCondLst>
                                    <p:cond delay="27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00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3" presetSubtype="16" repeatCount="5000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07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23" presetSubtype="16" repeatCount="5000">
                                  <p:stCondLst>
                                    <p:cond delay="29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14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3" presetSubtype="16" repeatCount="5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21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3" presetSubtype="16" repeatCount="5000">
                                  <p:stCondLst>
                                    <p:cond delay="31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28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23" presetSubtype="16" repeatCount="5000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35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3" presetSubtype="16" repeatCount="5000">
                                  <p:stCondLst>
                                    <p:cond delay="33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42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23" presetSubtype="16" repeatCount="5000">
                                  <p:stCondLst>
                                    <p:cond delay="34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49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3" presetSubtype="16" repeatCount="500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56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3" presetSubtype="16" repeatCount="5000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63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3" presetSubtype="16" repeatCount="5000">
                                  <p:stCondLst>
                                    <p:cond delay="37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70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23" presetSubtype="16" repeatCount="5000">
                                  <p:stCondLst>
                                    <p:cond delay="38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77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23" presetSubtype="16" repeatCount="5000">
                                  <p:stCondLst>
                                    <p:cond delay="39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84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23" presetSubtype="16" repeatCount="5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91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98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05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23" presetSubtype="16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12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23" presetSubtype="16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19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23" presetSubtype="16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26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3F0B-04AB-4BE6-A9BD-C213581C52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07:12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23:17Z</dcterms:modified>
  <cp:revision>1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