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36F1-6031-4F0D-A96B-C07D76AE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6BEE-B721-43EC-A69D-44BC89D8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B93F-A194-43AA-A34A-DC30D01A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A549-903C-4BE6-8485-6B8425E0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6F5-7F2F-4D95-B030-7F1193D0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C94-23A1-4DEF-8E15-93E77AAC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21B-8056-4919-8612-944FFDB0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D11-E341-4DB3-AB4F-10FE7D72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B5D0-B124-4CB6-BADE-CE8AF448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A63-7E25-48B8-8EEE-6A87127B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79AF-6798-45F6-A137-F2366F18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2CE-CDF7-4550-B7B7-06AF4287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E19C-A364-44F1-B605-96EF81BBA7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314e251f95cad1c8ddf1f6927f3e6709c93d5138"/>
          <p:cNvPicPr/>
          <p:nvPr/>
        </p:nvPicPr>
        <p:blipFill>
          <a:blip r:embed="rId1"/>
          <a:stretch/>
        </p:blipFill>
        <p:spPr>
          <a:xfrm>
            <a:off x="0" y="-133200"/>
            <a:ext cx="9217080" cy="6991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79760" y="981000"/>
            <a:ext cx="33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动漫美男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e30e924b899a90193ea50831d950a7b0308f5ac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d52a2834349b033b4c51f76f15ce36d3d439bdad"/>
          <p:cNvPicPr/>
          <p:nvPr/>
        </p:nvPicPr>
        <p:blipFill>
          <a:blip r:embed="rId1"/>
          <a:stretch/>
        </p:blipFill>
        <p:spPr>
          <a:xfrm>
            <a:off x="-1401840" y="0"/>
            <a:ext cx="105458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396720" y="5734080"/>
            <a:ext cx="580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d009b3de9c82d158a6405204800a19d8bd3e42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8b13632762d0f7037e329e6908fa513d2797c587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4d086e061d950a7be15145710ad162d9f2d3c9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d4628535e5dde711daaa4943a7efce1b9d16610e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97AC-220B-4AC3-BC86-BE1AAAD8D2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f703738da97739127a2b8fd4f8198618367ae2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7:15:4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3T09:32:46Z</dcterms:modified>
  <cp:revision>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