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F0A-E3C4-413C-832F-8B05E0FE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37072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5E5-5732-494D-9C79-70718B2A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F62-F458-40EB-8E72-6B1048F5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5A2-25AE-44E0-AB16-2D0341B2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53B0-406B-4BA8-A465-480DBA5F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6325-8CB5-40F1-B915-3A9C422E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818F-15A4-4F99-A298-224F3C29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889B-CD01-462C-9DBD-439838F0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5B8F-A38B-429B-AC78-2F8A8FC6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CAAF-C8FE-43F8-9E31-86850A97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52B9-6075-4BB5-AC8D-A0E6163B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EB4-624D-45B1-BCFB-D3D4544C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3D9A-DDEA-4D6E-BCA0-857F4C86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2E1E-E8B9-4C3F-8513-EE16A81F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7072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99E4-CF83-4500-BC59-C5769F03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595F-DC49-4DEC-A0C8-4F57F2B4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87C6-BB8B-4656-8D27-03ACF10C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B38-F6A7-41DC-967E-5C75081B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34E-94AC-4B8A-816F-BD08868F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D64-1313-40AB-98F8-E399CF66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430-308C-49FE-83F2-2DA97F30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06D-CD83-4551-AF68-ACA22845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004C-F319-4134-B493-FD511F52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3219-200B-430D-9F71-1399A4F0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DF55-4F59-4E70-8706-06955D81CA95}" type="slidenum">
              <a: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83CB-C836-4982-9A1E-DF535C226ACA}" type="slidenum">
              <a: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18960" y="32763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  <a:ea typeface="宋体"/>
              </a:rPr>
              <a:t>Your Subtitle Goes Here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85" name="Picture 4" descr="boy_playing_clarinet_hg_clr"/>
          <p:cNvPicPr/>
          <p:nvPr/>
        </p:nvPicPr>
        <p:blipFill>
          <a:blip r:embed="rId1"/>
          <a:stretch/>
        </p:blipFill>
        <p:spPr>
          <a:xfrm>
            <a:off x="6553080" y="42670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218960" y="2362320"/>
            <a:ext cx="7924680" cy="121896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动漫</a:t>
            </a:r>
            <a:r>
              <a:rPr b="1" lang="zh-CN" sz="40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模板在线下载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whitecell"/>
          <p:cNvPicPr/>
          <p:nvPr/>
        </p:nvPicPr>
        <p:blipFill>
          <a:blip r:embed="rId1"/>
          <a:stretch/>
        </p:blipFill>
        <p:spPr>
          <a:xfrm>
            <a:off x="1143000" y="663480"/>
            <a:ext cx="7829640" cy="5967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  <a:ea typeface="宋体"/>
              </a:rPr>
              <a:t>Your subtopics go here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1" name="Picture 5" descr="girl_playing_violin_hg_clr"/>
          <p:cNvPicPr/>
          <p:nvPr/>
        </p:nvPicPr>
        <p:blipFill>
          <a:blip r:embed="rId2"/>
          <a:stretch/>
        </p:blipFill>
        <p:spPr>
          <a:xfrm>
            <a:off x="7315200" y="48006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4920" y="609300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ppt图片素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2362320"/>
            <a:ext cx="7924680" cy="121896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Transitional Page</a:t>
            </a:r>
            <a:endParaRPr b="1" lang="en-US" sz="7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8960" y="32763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Franklin Gothic Demi"/>
              <a:ea typeface="宋体"/>
            </a:endParaRPr>
          </a:p>
        </p:txBody>
      </p:sp>
      <p:pic>
        <p:nvPicPr>
          <p:cNvPr id="97" name="Picture 4" descr="girl_playing_trumpet_hg_clr"/>
          <p:cNvPicPr/>
          <p:nvPr/>
        </p:nvPicPr>
        <p:blipFill>
          <a:blip r:embed="rId2"/>
          <a:stretch/>
        </p:blipFill>
        <p:spPr>
          <a:xfrm>
            <a:off x="7162920" y="48769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模板下载网站</a:t>
            </a:r>
            <a:r>
              <a:rPr b="0" lang="zh-CN" sz="1400" spc="-1" strike="noStrike">
                <a:solidFill>
                  <a:srgbClr val="e8eff7"/>
                </a:solidFill>
                <a:latin typeface="Franklin Gothic Demi"/>
                <a:ea typeface="宋体"/>
              </a:rPr>
              <a:t>www.eeppt.com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为您提供免费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模板下载，有好看的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模板，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背景图片，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素材，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图表，动态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模板大全，幻灯片模板，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owe</a:t>
            </a:r>
            <a:r>
              <a:rPr b="0" lang="zh-CN" sz="1400" spc="-1" strike="noStrike">
                <a:solidFill>
                  <a:srgbClr val="e8eff7"/>
                </a:solidFill>
                <a:latin typeface="Franklin Gothic Demi"/>
                <a:ea typeface="宋体"/>
              </a:rPr>
              <a:t>rPoint</a:t>
            </a:r>
            <a:r>
              <a:rPr b="0" lang="zh-CN" sz="1400" spc="-1" strike="noStrike">
                <a:solidFill>
                  <a:srgbClr val="e8eff7"/>
                </a:solidFill>
                <a:latin typeface="Franklin Gothic Demi"/>
                <a:ea typeface="宋体"/>
              </a:rPr>
              <a:t>模板等各类</a:t>
            </a:r>
            <a:r>
              <a:rPr b="0" lang="zh-CN" sz="1400" spc="-1" strike="noStrike">
                <a:solidFill>
                  <a:srgbClr val="e8eff7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Franklin Gothic Demi"/>
                <a:ea typeface="宋体"/>
              </a:rPr>
              <a:t>模板免费下载。助您轻松制作出精美</a:t>
            </a:r>
            <a:r>
              <a:rPr b="0" lang="zh-CN" sz="1400" spc="-1" strike="noStrike">
                <a:solidFill>
                  <a:srgbClr val="e8eff7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Franklin Gothic Demi"/>
                <a:ea typeface="宋体"/>
              </a:rPr>
              <a:t>模板！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该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Franklin Gothic Demi"/>
                <a:ea typeface="宋体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143000" y="685800"/>
            <a:ext cx="777240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  <a:ea typeface="宋体"/>
              </a:rPr>
              <a:t>Your subtopics go here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4" name="Picture 5" descr="boy_playing_saxophone_hg_clr"/>
          <p:cNvPicPr/>
          <p:nvPr/>
        </p:nvPicPr>
        <p:blipFill>
          <a:blip r:embed="rId1"/>
          <a:stretch/>
        </p:blipFill>
        <p:spPr>
          <a:xfrm>
            <a:off x="6934320" y="44956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6:16:0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50:3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