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C8D8-3595-48E3-94B3-876465781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D744-2929-4AE2-AA07-42E58DBA4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83ADC1-A428-4CEB-9F48-DA0BAB88C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4A4EA7-3970-4A69-B8AD-0C18BD864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6784C1-8BBA-430A-83BE-3918EFA39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7B0783-22E0-4BC9-8D52-68246BA84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421724-8C62-4EDB-A009-776BBD8C5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29B971-0C7C-4DAD-B000-7C4D88EAC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529523-C815-44B4-BA19-954286B1E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F99548-1725-4BBE-AE1A-8DB459741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71557B-5DCA-4B63-97B9-F4DD0A4E6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7EFD1B-F76A-4634-AFB7-ECEA876E4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6FD7-2C94-49CD-97DA-A99C0494F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465CC9-B868-425F-8B8B-0A692AE7D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C9C1A7-15F2-44C4-8F70-BD625A669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B9CFF8-F432-45F3-AB3D-3B59CCCBD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AFD1E7-D95A-441C-8FC2-34BC8102B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F082E1-AB06-4CC3-ACA9-EE77CA200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596084-C44E-4B98-BDEF-9841770E3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02BD51-725B-404E-8727-D2644EE49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C0DF45-1E90-4FCE-9BD6-EEA9C099D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2B6708-FAEE-4C17-92A9-CDC9B6BDE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AEB3EA-ABF9-45E5-BBDC-83BAAA1F3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4CDE-05D4-4C5D-A044-47F9D32DE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91DD9B-2BDE-4F67-9668-DA10C9624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7ED835-4ACE-4EA5-9E29-9DD1A3B67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0525EF-1F9D-4C1E-A986-4D46C8E70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DFB221-F6F7-44FF-A54D-3C50CB761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F4590F-6F7C-43F6-8B07-88380D268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FED297-7DB3-4B84-A977-7396A6B52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20378D-BB6E-46BF-B892-6C2E210EC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26BC13-5215-41E9-A7D5-1A69A3D13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B0C73F-BDB0-4E40-B5FD-BC0F2B372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1479EA-D429-4A38-BCB5-A6BB6E332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47942-87FB-46EA-9AAD-346CEA4D9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6EFCCD-6C08-4250-A31E-24959C953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1BBCCE-7E10-4FE6-A67C-37802156F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A36567-C8A3-4ADA-80C0-1071C9E5B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1DFA20-CED4-43A6-89F2-110D6B8EA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5C404B-BEDC-4D90-8D59-871011A8F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B4327C-DB63-4603-9B73-E5BE87CD5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6ACD18-A027-4407-98AE-B5658A567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E823AD-25E7-400F-983D-0ACDEAA0C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7CA97E-5627-49D5-9D09-713626C19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E85B37-FB45-4F9E-A395-1FED4581F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E8404-F8D7-4D2E-BB51-C40DD011B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00E53E-E070-44D3-B9EE-F8A63124D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A084E7-93FA-4972-A939-374292D93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62FF54-F35C-4CAB-83A6-9FA799ED9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6E5B7C-DEAE-4D39-B120-73320F13F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3907E4-0D87-412A-8336-EE8E575DA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243621-EAE9-42C8-850E-1EB806B54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B5FCCE-623D-4E18-BB38-64885E0A3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D86F05-CC0E-424D-A277-22D3BA899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2D9356-CBAA-4A84-BF7D-773FA7D35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5F935A-EE53-49DC-A0FD-3F4994B86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23BC7-4FBC-4174-83CF-8E23A8561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5BABF5-C305-4773-B51C-42D9C0E9C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26AE71-A5EE-4DAA-B910-121BF7C58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C90E80-8F83-40D3-8EE1-0A1D013B8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0E9781-19A8-4900-99CB-F3DAFA755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4F849C-83B2-4A6D-9975-0E52ED61A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31BA83-F163-4D89-8593-E911B3EE0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AB90B9-EC62-4010-AC0D-D83FF45BF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4358D-49D5-44B8-9264-35D11275C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B9E65-70C9-4BDD-93C2-B94D41AA6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AC774-C61F-4386-AEC5-C879F578A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45FD2-7D4D-4120-B38D-B9C2E85CC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CAD5-2C78-4A24-A56F-E041266CD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E090B-8FDD-4BCF-89D3-3B5E1FABA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C1798-E1B1-4ACE-BE65-1AC27AF41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2EE21-2253-4ADA-8FC4-96EAAA20B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630B8-55A0-42F9-B7AC-DBB82B0E2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6A021-19EB-46EC-B46A-B920939BE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BB02A1-0DE5-44A2-8BB6-AA0717CD4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4E766D-112D-40D1-91C7-B4480B80A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6D6C4A-E4E2-4F52-A631-C4F667858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4D4654-35DE-4C2C-898C-1D846DBA4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026A4B-6D0D-4503-9326-29CCAF6AC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20DD-C884-4D2C-B60F-60CCD043B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197F74-7DC3-49E6-8326-06DC060EA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A1442E-DE74-4BC2-BF60-A78083BBD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08231F-C643-45EE-A410-96B22ED9D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CEC80B-6025-468C-BB7F-AE792EF63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C3C1BC-8EB6-4291-BBD1-80753169F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FD5B3C-6A87-4288-ADAC-9B8D8F5E0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901F62-DB49-4BB7-9D4A-8D92F9412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0F046A-7A0D-4B58-AB74-638381AAB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105F3F-F8BA-4F72-A92D-7A592C4F2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95B3DB-8A3E-4153-AD90-C62651EB6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51FE-AD35-4493-AB9E-A1E4E88E5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A904A8-7ED7-482E-BFF6-62ACC238D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5058B6-D1CB-4E35-83E3-57A696ECC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6F08BE-11CF-4A67-B82B-BA00D41A3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A343FB-FB00-4758-99B9-AC022CE15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E2940A-FDB9-4B5A-A81E-7CDDADBE8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7BB737-87FF-49B6-B45F-180F7F286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443A97-5739-4BAC-86F9-5D4C9DA40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7F9367-9D73-40D7-A11C-9E11EDB8F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6F7A6E-5A54-4CFE-BA2F-E02357989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B77BDB-A289-4113-9AD2-8755B3DA8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3913-6323-4956-A732-F23E81D97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4328ED-B98A-40A9-81F0-F2CF5EFB5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4539BA-4BA7-4B5C-9A66-AB71239D3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C36107-C887-40E9-AD8C-4C0241562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9406E9-11F8-4F4D-A83A-2513E8481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51DCE3-9731-47C5-A278-572386293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329375-A97B-42C9-BDE5-9F6500203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A7A81D-E1E9-4E86-8196-3C99BB543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DE7682-2126-4787-B837-E35938CA4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A15184-4C1F-474E-8DDA-1A4AFA52E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D08C78-888D-4746-9EE0-E497699B8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7925-8FAA-4C57-A121-6B08CA9BF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5BDCF5-AEDD-44EC-A563-88E0424F2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124A79-CB85-42C8-A458-719A8F495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D3E2DB-DE96-4AFF-9135-1DAEF41C3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96D59F-5B74-49CE-9147-F68940577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77BC16-B427-4778-BF05-0F0A195ED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8557DF-180D-427A-82B9-7F426E262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C25CA1-A2C7-4737-A5CD-DD4580B21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5C830A-6674-45DA-8D80-923139CA4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8FDB5F-01E5-4D5A-BA0E-13EE0816F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82462F-603C-4C9F-B3F1-B4E7224B7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2C79-7EFB-4FCE-B640-B8F4C4951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D3D200-D37E-42FA-BB6D-117885A27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12410B-FB69-46BE-92C1-3C10F2CED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2946B1-D200-4DA7-A1CA-610283DEB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32115A-D767-483E-B1B4-B0B4EFD33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D4FC85-2E57-4452-B032-BEA3DA6BE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8353E0-E6B4-439C-A4AF-B1378285B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0984E2-5137-401A-8049-065EA6251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004803-5858-42A5-8B94-55376BD04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BC7AEF-1E47-4902-9D39-225B8E5EF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120BCF-B1E6-438F-888E-28F94E275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3894-02B8-4ADF-8D7C-9F09DAFC7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25FE76-EBFB-40D0-A218-FE80788DB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DF2EA3-4F41-4E2E-85D7-21E3B75AC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64DFBA-843D-41B4-89D6-D2AB5FE20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77CF0C-D1BE-4D6C-9789-206A89A12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500870-C369-4B34-9899-8EF0BF9EC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52A41A-74E8-463B-90FE-F1AE3E3D1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FC7C29-7C08-4BC8-8E87-A9FC8FC85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E49F0F-BCEC-4E7B-B5BC-D51BB4FB6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FD6210-4859-406D-96C3-A28FBB183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31F6F6-DF7A-4037-A6F9-8D420CD31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77A7-6E5C-4807-8462-B4DB349E9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019BBA-02A6-43CE-A40A-476A98044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85310F-028E-4E43-A2B6-DC353D4BA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C91BD3-76CF-42FD-8527-8BAA18F92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EA98EB-53C4-4A33-BD32-6F66DFD39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33C8EF-8372-4E0E-9EA6-BFC30E7FF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CA9496-EAB4-4610-B3F3-9C61FFCE7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E53B3A-C83A-4E07-B43B-4D64B61D0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A9A120-1956-49A7-98EB-C83E87367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8A954C-7292-454E-82D5-6D5B10129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23E574-14E8-452F-9AF7-C79ED97A4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327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479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76960" y="6356520"/>
            <a:ext cx="327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B3AB0-50D2-44D0-A226-2A81434DC9D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D88E9-9732-4E2F-A89C-4678F7D46D3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8ECCA-D1BF-4A18-9DFB-30CE2F94CA4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FB574-1547-4194-BB57-A86C7D26031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3BBD3-D403-435C-BE2F-980AD5E3E2B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95034-CA18-4A0D-8550-84613D171E9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1C72C-C2DA-4E93-9AA7-D3A6EABF320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7155D-BEE9-4EC5-A0A6-F0730B72503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3F239-FAC2-4024-B2C7-6B4DD850EEC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97655-E56A-4430-88E2-FBF5C624A81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CFD84-452F-4291-912B-897601A9F5B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183AC-88BB-40D1-BF7F-1194D28DFC2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A1DEC-965D-4F28-A2B7-B2314BE97C4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slide" Target="slide3.xml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image" Target="../media/image7.pn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" Target="slide2.xml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10" descr="C:\Users\apple\Desktop\mb\222222222\1.jpg"/>
          <p:cNvPicPr/>
          <p:nvPr/>
        </p:nvPicPr>
        <p:blipFill>
          <a:blip r:embed="rId1"/>
          <a:stretch/>
        </p:blipFill>
        <p:spPr>
          <a:xfrm>
            <a:off x="14400" y="0"/>
            <a:ext cx="12217320" cy="6858000"/>
          </a:xfrm>
          <a:prstGeom prst="rect">
            <a:avLst/>
          </a:prstGeom>
          <a:ln w="0">
            <a:noFill/>
          </a:ln>
        </p:spPr>
      </p:pic>
      <p:sp>
        <p:nvSpPr>
          <p:cNvPr id="534" name="矩形 14"/>
          <p:cNvSpPr/>
          <p:nvPr/>
        </p:nvSpPr>
        <p:spPr>
          <a:xfrm>
            <a:off x="4748760" y="2270160"/>
            <a:ext cx="283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大标宋简体"/>
                <a:ea typeface="方正大标宋简体"/>
              </a:rPr>
              <a:t>THE EARTH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矩形 15"/>
          <p:cNvSpPr/>
          <p:nvPr/>
        </p:nvSpPr>
        <p:spPr>
          <a:xfrm>
            <a:off x="4623120" y="2760840"/>
            <a:ext cx="309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WAS CRYING F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6" name="Picture 12" descr="C:\Users\apple\Desktop\mb\222222222\2.png"/>
          <p:cNvPicPr/>
          <p:nvPr/>
        </p:nvPicPr>
        <p:blipFill>
          <a:blip r:embed="rId2"/>
          <a:stretch/>
        </p:blipFill>
        <p:spPr>
          <a:xfrm>
            <a:off x="4327560" y="3473280"/>
            <a:ext cx="3511440" cy="927360"/>
          </a:xfrm>
          <a:prstGeom prst="rect">
            <a:avLst/>
          </a:prstGeom>
          <a:ln w="0">
            <a:noFill/>
          </a:ln>
        </p:spPr>
      </p:pic>
      <p:sp>
        <p:nvSpPr>
          <p:cNvPr id="537" name="矩形 1"/>
          <p:cNvSpPr/>
          <p:nvPr/>
        </p:nvSpPr>
        <p:spPr>
          <a:xfrm>
            <a:off x="155160" y="6465960"/>
            <a:ext cx="298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矩形 2"/>
          <p:cNvSpPr/>
          <p:nvPr/>
        </p:nvSpPr>
        <p:spPr>
          <a:xfrm>
            <a:off x="3960000" y="1746360"/>
            <a:ext cx="363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地球在喊救命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Picture 9" descr="C:\Users\apple\Desktop\mb\222222222\3.png"/>
          <p:cNvPicPr/>
          <p:nvPr/>
        </p:nvPicPr>
        <p:blipFill>
          <a:blip r:embed="rId1"/>
          <a:stretch/>
        </p:blipFill>
        <p:spPr>
          <a:xfrm>
            <a:off x="9983880" y="0"/>
            <a:ext cx="1011240" cy="884160"/>
          </a:xfrm>
          <a:prstGeom prst="rect">
            <a:avLst/>
          </a:prstGeom>
          <a:ln w="0">
            <a:noFill/>
          </a:ln>
        </p:spPr>
      </p:pic>
      <p:sp>
        <p:nvSpPr>
          <p:cNvPr id="540" name="矩形 10"/>
          <p:cNvSpPr/>
          <p:nvPr/>
        </p:nvSpPr>
        <p:spPr>
          <a:xfrm>
            <a:off x="1392120" y="858960"/>
            <a:ext cx="1968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a6a6a6"/>
                </a:solidFill>
                <a:latin typeface="方正大标宋简体"/>
                <a:ea typeface="方正大标宋简体"/>
              </a:rPr>
              <a:t>DIRECTOR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1" name="Picture 11" descr="C:\Users\apple\Desktop\mb\222222222\4.png"/>
          <p:cNvPicPr/>
          <p:nvPr/>
        </p:nvPicPr>
        <p:blipFill>
          <a:blip r:embed="rId2"/>
          <a:stretch/>
        </p:blipFill>
        <p:spPr>
          <a:xfrm>
            <a:off x="0" y="1089000"/>
            <a:ext cx="1341360" cy="1260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12" descr="C:\Users\apple\Desktop\mb\222222222\5.png"/>
          <p:cNvPicPr/>
          <p:nvPr/>
        </p:nvPicPr>
        <p:blipFill>
          <a:blip r:embed="rId3"/>
          <a:stretch/>
        </p:blipFill>
        <p:spPr>
          <a:xfrm>
            <a:off x="1541520" y="2179800"/>
            <a:ext cx="109440" cy="10944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12" descr="C:\Users\apple\Desktop\mb\222222222\5.png"/>
          <p:cNvPicPr/>
          <p:nvPr/>
        </p:nvPicPr>
        <p:blipFill>
          <a:blip r:embed="rId4"/>
          <a:stretch/>
        </p:blipFill>
        <p:spPr>
          <a:xfrm>
            <a:off x="2022480" y="2641680"/>
            <a:ext cx="109440" cy="10944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12" descr="C:\Users\apple\Desktop\mb\222222222\5.png"/>
          <p:cNvPicPr/>
          <p:nvPr/>
        </p:nvPicPr>
        <p:blipFill>
          <a:blip r:embed="rId5"/>
          <a:stretch/>
        </p:blipFill>
        <p:spPr>
          <a:xfrm>
            <a:off x="2503440" y="3086280"/>
            <a:ext cx="109440" cy="10944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12" descr="C:\Users\apple\Desktop\mb\222222222\5.png"/>
          <p:cNvPicPr/>
          <p:nvPr/>
        </p:nvPicPr>
        <p:blipFill>
          <a:blip r:embed="rId6"/>
          <a:stretch/>
        </p:blipFill>
        <p:spPr>
          <a:xfrm>
            <a:off x="2981160" y="3538440"/>
            <a:ext cx="109800" cy="10980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12" descr="C:\Users\apple\Desktop\mb\222222222\5.png"/>
          <p:cNvPicPr/>
          <p:nvPr/>
        </p:nvPicPr>
        <p:blipFill>
          <a:blip r:embed="rId7"/>
          <a:stretch/>
        </p:blipFill>
        <p:spPr>
          <a:xfrm>
            <a:off x="10531440" y="4307040"/>
            <a:ext cx="109440" cy="10944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12" descr="C:\Users\apple\Desktop\mb\222222222\5.png"/>
          <p:cNvPicPr/>
          <p:nvPr/>
        </p:nvPicPr>
        <p:blipFill>
          <a:blip r:embed="rId8"/>
          <a:stretch/>
        </p:blipFill>
        <p:spPr>
          <a:xfrm>
            <a:off x="10037880" y="4753080"/>
            <a:ext cx="109440" cy="10944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12" descr="C:\Users\apple\Desktop\mb\222222222\5.png"/>
          <p:cNvPicPr/>
          <p:nvPr/>
        </p:nvPicPr>
        <p:blipFill>
          <a:blip r:embed="rId9"/>
          <a:stretch/>
        </p:blipFill>
        <p:spPr>
          <a:xfrm>
            <a:off x="9559800" y="5197320"/>
            <a:ext cx="109800" cy="10980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12" descr="C:\Users\apple\Desktop\mb\222222222\5.png"/>
          <p:cNvPicPr/>
          <p:nvPr/>
        </p:nvPicPr>
        <p:blipFill>
          <a:blip r:embed="rId10"/>
          <a:stretch/>
        </p:blipFill>
        <p:spPr>
          <a:xfrm>
            <a:off x="9090000" y="5657760"/>
            <a:ext cx="109440" cy="109800"/>
          </a:xfrm>
          <a:prstGeom prst="rect">
            <a:avLst/>
          </a:prstGeom>
          <a:ln w="0">
            <a:noFill/>
          </a:ln>
        </p:spPr>
      </p:pic>
      <p:sp>
        <p:nvSpPr>
          <p:cNvPr id="550" name="矩形 20">
            <a:hlinkClick r:id="rId11" action="ppaction://hlinksldjump"/>
          </p:cNvPr>
          <p:cNvSpPr/>
          <p:nvPr/>
        </p:nvSpPr>
        <p:spPr>
          <a:xfrm>
            <a:off x="1708560" y="2030400"/>
            <a:ext cx="24026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a6a6a6"/>
                </a:solidFill>
                <a:latin typeface="微软雅黑"/>
                <a:ea typeface="微软雅黑"/>
              </a:rPr>
              <a:t>The first quarter sale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矩形 21"/>
          <p:cNvSpPr/>
          <p:nvPr/>
        </p:nvSpPr>
        <p:spPr>
          <a:xfrm>
            <a:off x="2181960" y="2506680"/>
            <a:ext cx="50972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a6a6a6"/>
                </a:solidFill>
                <a:latin typeface="微软雅黑"/>
                <a:ea typeface="微软雅黑"/>
              </a:rPr>
              <a:t>The second quarter sales The third quarter sale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矩形 23"/>
          <p:cNvSpPr/>
          <p:nvPr/>
        </p:nvSpPr>
        <p:spPr>
          <a:xfrm>
            <a:off x="2698200" y="2967120"/>
            <a:ext cx="50972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a6a6a6"/>
                </a:solidFill>
                <a:latin typeface="微软雅黑"/>
                <a:ea typeface="微软雅黑"/>
              </a:rPr>
              <a:t>The second quarter sales The third quarter sale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矩形 24"/>
          <p:cNvSpPr/>
          <p:nvPr/>
        </p:nvSpPr>
        <p:spPr>
          <a:xfrm>
            <a:off x="3115800" y="3429000"/>
            <a:ext cx="24026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a6a6a6"/>
                </a:solidFill>
                <a:latin typeface="微软雅黑"/>
                <a:ea typeface="微软雅黑"/>
              </a:rPr>
              <a:t>The first quarter sale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矩形 25"/>
          <p:cNvSpPr/>
          <p:nvPr/>
        </p:nvSpPr>
        <p:spPr>
          <a:xfrm>
            <a:off x="7938720" y="4141800"/>
            <a:ext cx="24026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a6a6a6"/>
                </a:solidFill>
                <a:latin typeface="微软雅黑"/>
                <a:ea typeface="微软雅黑"/>
              </a:rPr>
              <a:t>The first quarter sale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矩形 26"/>
          <p:cNvSpPr/>
          <p:nvPr/>
        </p:nvSpPr>
        <p:spPr>
          <a:xfrm>
            <a:off x="4850640" y="4608360"/>
            <a:ext cx="50972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a6a6a6"/>
                </a:solidFill>
                <a:latin typeface="微软雅黑"/>
                <a:ea typeface="微软雅黑"/>
              </a:rPr>
              <a:t>The second quarter sales The third quarter sale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矩形 27"/>
          <p:cNvSpPr/>
          <p:nvPr/>
        </p:nvSpPr>
        <p:spPr>
          <a:xfrm>
            <a:off x="4349160" y="5070600"/>
            <a:ext cx="50972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a6a6a6"/>
                </a:solidFill>
                <a:latin typeface="微软雅黑"/>
                <a:ea typeface="微软雅黑"/>
              </a:rPr>
              <a:t>The second quarter sales The third quarter sale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矩形 28"/>
          <p:cNvSpPr/>
          <p:nvPr/>
        </p:nvSpPr>
        <p:spPr>
          <a:xfrm>
            <a:off x="6602760" y="5532480"/>
            <a:ext cx="24026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a6a6a6"/>
                </a:solidFill>
                <a:latin typeface="微软雅黑"/>
                <a:ea typeface="微软雅黑"/>
              </a:rPr>
              <a:t>The first quarter sale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8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8" name="Picture 7" descr="C:\Users\apple\Desktop\mb\222222222\6.png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559" name="矩形 6"/>
          <p:cNvSpPr/>
          <p:nvPr/>
        </p:nvSpPr>
        <p:spPr>
          <a:xfrm>
            <a:off x="4572000" y="2625840"/>
            <a:ext cx="3154320" cy="12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6a6a6"/>
                </a:solidFill>
                <a:latin typeface="微软雅黑"/>
                <a:ea typeface="微软雅黑"/>
              </a:rPr>
              <a:t>THE FIRS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a6a6a6"/>
                </a:solidFill>
                <a:latin typeface="微软雅黑"/>
                <a:ea typeface="微软雅黑"/>
              </a:rPr>
              <a:t>QUARTER SALE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8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9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9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79820">
                                      <p:cBhvr>
                                        <p:cTn id="9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Picture 12" descr="C:\Users\apple\Desktop\mb\222222222\5.png"/>
          <p:cNvPicPr/>
          <p:nvPr/>
        </p:nvPicPr>
        <p:blipFill>
          <a:blip r:embed="rId1"/>
          <a:stretch/>
        </p:blipFill>
        <p:spPr>
          <a:xfrm>
            <a:off x="1444680" y="708120"/>
            <a:ext cx="109440" cy="10944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9" descr="C:\Users\apple\Desktop\mb\222222222\3.png"/>
          <p:cNvPicPr/>
          <p:nvPr/>
        </p:nvPicPr>
        <p:blipFill>
          <a:blip r:embed="rId2"/>
          <a:stretch/>
        </p:blipFill>
        <p:spPr>
          <a:xfrm>
            <a:off x="9983880" y="0"/>
            <a:ext cx="1011240" cy="884160"/>
          </a:xfrm>
          <a:prstGeom prst="rect">
            <a:avLst/>
          </a:prstGeom>
          <a:ln w="0">
            <a:noFill/>
          </a:ln>
        </p:spPr>
      </p:pic>
      <p:sp>
        <p:nvSpPr>
          <p:cNvPr id="562" name="矩形 11"/>
          <p:cNvSpPr/>
          <p:nvPr/>
        </p:nvSpPr>
        <p:spPr>
          <a:xfrm>
            <a:off x="1457280" y="4264200"/>
            <a:ext cx="9313920" cy="365040"/>
          </a:xfrm>
          <a:prstGeom prst="rect">
            <a:avLst/>
          </a:prstGeom>
          <a:solidFill>
            <a:srgbClr val="d9d9d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3" name="Picture 10" descr="C:\Users\apple\Desktop\mb\222222222\7.png"/>
          <p:cNvPicPr/>
          <p:nvPr/>
        </p:nvPicPr>
        <p:blipFill>
          <a:blip r:embed="rId3"/>
          <a:stretch/>
        </p:blipFill>
        <p:spPr>
          <a:xfrm>
            <a:off x="1469880" y="2509920"/>
            <a:ext cx="3389400" cy="1633320"/>
          </a:xfrm>
          <a:prstGeom prst="rect">
            <a:avLst/>
          </a:prstGeom>
          <a:ln w="0">
            <a:noFill/>
          </a:ln>
        </p:spPr>
      </p:pic>
      <p:sp>
        <p:nvSpPr>
          <p:cNvPr id="564" name="矩形 13"/>
          <p:cNvSpPr/>
          <p:nvPr/>
        </p:nvSpPr>
        <p:spPr>
          <a:xfrm>
            <a:off x="5070600" y="2592360"/>
            <a:ext cx="55782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6a6a6"/>
                </a:solidFill>
                <a:latin typeface="Times New Roman"/>
                <a:ea typeface="Times New Roman"/>
              </a:rPr>
              <a:t>Ehendae parionsent. Officip iendeles vitaspediti untiunto te soloriam, id et explaccabo. Uptas quatium enihillibus est lacearc hiciass edignisquo bla di ommos modit atument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6a6a6"/>
                </a:solidFill>
                <a:latin typeface="Times New Roman"/>
                <a:ea typeface="Times New Roman"/>
              </a:rPr>
              <a:t>Uptas quatium enihillibus est lacearc hiciass edignisquo bla di ommos modit atument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矩形 14"/>
          <p:cNvSpPr/>
          <p:nvPr/>
        </p:nvSpPr>
        <p:spPr>
          <a:xfrm>
            <a:off x="1625040" y="598320"/>
            <a:ext cx="28951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a6a6a6"/>
                </a:solidFill>
                <a:latin typeface="微软雅黑"/>
                <a:ea typeface="微软雅黑"/>
              </a:rPr>
              <a:t>THE FIRST QUARTER SALE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矩形 15">
            <a:hlinkClick r:id="rId4" action="ppaction://hlinksldjump"/>
          </p:cNvPr>
          <p:cNvSpPr/>
          <p:nvPr/>
        </p:nvSpPr>
        <p:spPr>
          <a:xfrm>
            <a:off x="10702800" y="6288120"/>
            <a:ext cx="107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a0e9"/>
                </a:solidFill>
                <a:latin typeface="方正大标宋简体"/>
                <a:ea typeface="方正大标宋简体"/>
              </a:rPr>
              <a:t>【</a:t>
            </a:r>
            <a:r>
              <a:rPr b="0" lang="en-US" sz="1000" spc="-1" strike="noStrike">
                <a:solidFill>
                  <a:srgbClr val="00a0e9"/>
                </a:solidFill>
                <a:latin typeface="方正大标宋简体"/>
                <a:ea typeface="方正大标宋简体"/>
              </a:rPr>
              <a:t>DIRECTORY</a:t>
            </a:r>
            <a:r>
              <a:rPr b="0" lang="en-US" sz="1000" spc="-1" strike="noStrike">
                <a:solidFill>
                  <a:srgbClr val="00a0e9"/>
                </a:solidFill>
                <a:latin typeface="方正大标宋简体"/>
                <a:ea typeface="方正大标宋简体"/>
              </a:rPr>
              <a:t>】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99224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163188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Rectangle 7"/>
          <p:cNvSpPr/>
          <p:nvPr/>
        </p:nvSpPr>
        <p:spPr>
          <a:xfrm>
            <a:off x="881064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0" name="Picture 9" descr="C:\Users\apple\Desktop\mb\222222222\3.png"/>
          <p:cNvPicPr/>
          <p:nvPr/>
        </p:nvPicPr>
        <p:blipFill>
          <a:blip r:embed="rId1"/>
          <a:stretch/>
        </p:blipFill>
        <p:spPr>
          <a:xfrm>
            <a:off x="9983880" y="0"/>
            <a:ext cx="1011240" cy="88416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12" descr="C:\Users\apple\Desktop\mb\222222222\5.png"/>
          <p:cNvPicPr/>
          <p:nvPr/>
        </p:nvPicPr>
        <p:blipFill>
          <a:blip r:embed="rId2"/>
          <a:stretch/>
        </p:blipFill>
        <p:spPr>
          <a:xfrm>
            <a:off x="1444680" y="708120"/>
            <a:ext cx="109440" cy="109440"/>
          </a:xfrm>
          <a:prstGeom prst="rect">
            <a:avLst/>
          </a:prstGeom>
          <a:ln w="0">
            <a:noFill/>
          </a:ln>
        </p:spPr>
      </p:pic>
      <p:sp>
        <p:nvSpPr>
          <p:cNvPr id="572" name="矩形 9"/>
          <p:cNvSpPr/>
          <p:nvPr/>
        </p:nvSpPr>
        <p:spPr>
          <a:xfrm>
            <a:off x="1705320" y="598320"/>
            <a:ext cx="60616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a6a6a6"/>
                </a:solidFill>
                <a:latin typeface="微软雅黑"/>
                <a:ea typeface="微软雅黑"/>
              </a:rPr>
              <a:t>THE SECOND QUARTER SALES THE THIRD QUARTER SALE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3" name="Picture 9" descr="C:\Users\apple\Desktop\mb\222222222\8.png"/>
          <p:cNvPicPr/>
          <p:nvPr/>
        </p:nvPicPr>
        <p:blipFill>
          <a:blip r:embed="rId3"/>
          <a:stretch/>
        </p:blipFill>
        <p:spPr>
          <a:xfrm>
            <a:off x="1353960" y="1338120"/>
            <a:ext cx="2376720" cy="3668760"/>
          </a:xfrm>
          <a:prstGeom prst="rect">
            <a:avLst/>
          </a:prstGeom>
          <a:ln w="0">
            <a:noFill/>
          </a:ln>
        </p:spPr>
      </p:pic>
      <p:sp>
        <p:nvSpPr>
          <p:cNvPr id="574" name="矩形 12"/>
          <p:cNvSpPr/>
          <p:nvPr/>
        </p:nvSpPr>
        <p:spPr>
          <a:xfrm>
            <a:off x="3738600" y="2470320"/>
            <a:ext cx="7210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6a6a6"/>
                </a:solidFill>
                <a:latin typeface="Times New Roman"/>
                <a:ea typeface="Times New Roman"/>
              </a:rPr>
              <a:t>Ehendae parionsent. Officip iendeles vitaspediti untiunto te soloriam, id et explaccabo. Uptas quatium enihillibus est lacearc hiciass edignisquo bla di ommos modit atument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6a6a6"/>
                </a:solidFill>
                <a:latin typeface="Times New Roman"/>
                <a:ea typeface="Times New Roman"/>
              </a:rPr>
              <a:t>Uptas quatium enihillibus est lacearc hiciass edignisquo bla di ommos modit atument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5" name="Picture 10" descr="C:\Users\apple\Desktop\mb\222222222\9.png"/>
          <p:cNvPicPr/>
          <p:nvPr/>
        </p:nvPicPr>
        <p:blipFill>
          <a:blip r:embed="rId4"/>
          <a:stretch/>
        </p:blipFill>
        <p:spPr>
          <a:xfrm>
            <a:off x="9117000" y="3648240"/>
            <a:ext cx="1657440" cy="1103040"/>
          </a:xfrm>
          <a:prstGeom prst="rect">
            <a:avLst/>
          </a:prstGeom>
          <a:ln w="0">
            <a:noFill/>
          </a:ln>
        </p:spPr>
      </p:pic>
      <p:sp>
        <p:nvSpPr>
          <p:cNvPr id="576" name="矩形 14"/>
          <p:cNvSpPr/>
          <p:nvPr/>
        </p:nvSpPr>
        <p:spPr>
          <a:xfrm>
            <a:off x="3745080" y="3699000"/>
            <a:ext cx="52606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6a6a6"/>
                </a:solidFill>
                <a:latin typeface="Times New Roman"/>
                <a:ea typeface="Times New Roman"/>
              </a:rPr>
              <a:t>Ehendae parionsent. Officip iendeles vitaspediti untiunto te soloriam, id et explaccabo. Uptas quatium enihillibus est lacearc hiciass edignisquo bla di ommos modit atument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6a6a6"/>
                </a:solidFill>
                <a:latin typeface="Times New Roman"/>
                <a:ea typeface="Times New Roman"/>
              </a:rPr>
              <a:t>Uptas quatium enihillibus est lacearc hiciass edignisquo bla d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矩形 16">
            <a:hlinkClick r:id="rId5" action="ppaction://hlinksldjump"/>
          </p:cNvPr>
          <p:cNvSpPr/>
          <p:nvPr/>
        </p:nvSpPr>
        <p:spPr>
          <a:xfrm>
            <a:off x="10702800" y="6288120"/>
            <a:ext cx="107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a0e9"/>
                </a:solidFill>
                <a:latin typeface="方正大标宋简体"/>
                <a:ea typeface="方正大标宋简体"/>
              </a:rPr>
              <a:t>【</a:t>
            </a:r>
            <a:r>
              <a:rPr b="0" lang="en-US" sz="1000" spc="-1" strike="noStrike">
                <a:solidFill>
                  <a:srgbClr val="00a0e9"/>
                </a:solidFill>
                <a:latin typeface="方正大标宋简体"/>
                <a:ea typeface="方正大标宋简体"/>
              </a:rPr>
              <a:t>DIRECTORY</a:t>
            </a:r>
            <a:r>
              <a:rPr b="0" lang="en-US" sz="1000" spc="-1" strike="noStrike">
                <a:solidFill>
                  <a:srgbClr val="00a0e9"/>
                </a:solidFill>
                <a:latin typeface="方正大标宋简体"/>
                <a:ea typeface="方正大标宋简体"/>
              </a:rPr>
              <a:t>】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0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8" name="Picture 5" descr="C:\Users\apple\Desktop\mb\222222222\10.png"/>
          <p:cNvPicPr/>
          <p:nvPr/>
        </p:nvPicPr>
        <p:blipFill>
          <a:blip r:embed="rId1"/>
          <a:stretch/>
        </p:blipFill>
        <p:spPr>
          <a:xfrm>
            <a:off x="5019840" y="3878280"/>
            <a:ext cx="2455560" cy="274680"/>
          </a:xfrm>
          <a:prstGeom prst="rect">
            <a:avLst/>
          </a:prstGeom>
          <a:ln w="0">
            <a:noFill/>
          </a:ln>
        </p:spPr>
      </p:pic>
      <p:pic>
        <p:nvPicPr>
          <p:cNvPr id="579" name="Picture 9" descr="C:\Users\apple\Desktop\mb\222222222\3.png"/>
          <p:cNvPicPr/>
          <p:nvPr/>
        </p:nvPicPr>
        <p:blipFill>
          <a:blip r:embed="rId2"/>
          <a:stretch/>
        </p:blipFill>
        <p:spPr>
          <a:xfrm>
            <a:off x="5759280" y="3884760"/>
            <a:ext cx="1011240" cy="884160"/>
          </a:xfrm>
          <a:prstGeom prst="rect">
            <a:avLst/>
          </a:prstGeom>
          <a:ln w="0">
            <a:noFill/>
          </a:ln>
        </p:spPr>
      </p:pic>
      <p:sp>
        <p:nvSpPr>
          <p:cNvPr id="580" name="矩形 6"/>
          <p:cNvSpPr/>
          <p:nvPr/>
        </p:nvSpPr>
        <p:spPr>
          <a:xfrm>
            <a:off x="4925880" y="2703600"/>
            <a:ext cx="27846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6a6a6"/>
                </a:solidFill>
                <a:latin typeface="微软雅黑"/>
                <a:ea typeface="微软雅黑"/>
              </a:rPr>
              <a:t>THANK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6a6a6"/>
                </a:solidFill>
                <a:latin typeface="微软雅黑"/>
                <a:ea typeface="微软雅黑"/>
              </a:rPr>
              <a:t>FOR WATCH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1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9:31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01:47:42Z</dcterms:modified>
  <cp:revision>0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2</vt:lpwstr>
  </property>
</Properties>
</file>