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901-DE9C-410A-A4DD-8E824456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BEA-3469-44A0-BD4B-9AEE383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DF9-5FC8-4553-A6C6-00A1BC3F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9F4-6530-461B-B3BA-9D603053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894F-6B87-498E-A3D1-7F4CBDD9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E806-59E5-4B63-8B9D-F26B82DF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27E5-1703-4C7C-8453-FFC5A765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9D05-07CE-4843-A743-76CB334D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CB26-935F-4C47-9AF8-FF34808D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A73C-74DB-4DB6-813C-441EB8AB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6F09-26D4-4CFE-B3F8-9A4E3655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4D4-73D8-4969-9457-91ECE0B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C14A-7EE4-40D9-B8C4-49358E01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0999-18AA-4897-BFCE-1446A9B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B310-0942-4EF0-B732-37229808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6E79-A251-4A49-9F1C-C45DA7EF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93E9-6E55-4050-BF68-F47CD789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437-5F89-4ABF-81FB-26159F4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DB9-F122-45E8-9AFB-502A9529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6B6-633D-4C08-B5A6-40B1DFBE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EA2-040E-4332-B87B-142E9693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DAF-38E5-4A42-B8FA-830E312C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5B6-8178-4073-833E-53D6DBE0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A91-6AEB-4DC9-B37D-6C56B134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7B75-2720-4294-AD2F-3C94F534EC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2CF9-DC83-46B8-B150-D0C0520D92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2627280" y="1374840"/>
            <a:ext cx="4230720" cy="154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151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427640" y="3449520"/>
            <a:ext cx="4751280" cy="3435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395280" y="88920"/>
            <a:ext cx="259236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304-8FFE-413D-AB97-A1DD7342A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"/>
          <p:cNvSpPr/>
          <p:nvPr/>
        </p:nvSpPr>
        <p:spPr>
          <a:xfrm>
            <a:off x="281160" y="52848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240" y="0"/>
            <a:ext cx="24112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08000" y="5950080"/>
            <a:ext cx="207792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2:44:01Z</dcterms:modified>
  <cp:revision>7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