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6F7-3442-4145-BD9E-BCA4E77A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44B-D2FE-4E9A-A891-6686B7E5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239-1446-402C-AA07-807EF472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E5D-9980-4BEF-8534-B0AAFC0E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3CB0-A0FD-4CB6-A996-402C0BA2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0CC8-005F-4404-99A6-7CCA8248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D779-1B45-4DAC-8C7E-FB6BB7E8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BE57-E946-4BE8-BE47-22198422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B7B8-093E-46FF-BE70-39D91A96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B6DB-3806-42EB-9EAC-48D5D665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55CE-30F7-4BFE-92E2-42DE0193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03A-E711-4DB0-B9CC-AA6A1F29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78DE-9371-4206-AF14-EB233D1B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1E62-07C6-4FEE-AAA0-769EECBB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E80E-91B0-485A-932B-CE5539C0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C448-6991-42AB-93A7-2D373788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4D13-9000-4A14-9356-93DAE1D0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41E-014F-430F-8317-694F3274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3F4-392F-4037-9C0F-A7C318F1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C3C-5244-45F3-963E-DAF5A267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05D-6DA6-4511-8B89-D648CEFD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DD5-F400-4546-8019-5F6EFFC9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317-D4FC-46EC-8C94-07339E01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85C-2406-477A-8BE1-0002959A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2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8925-F553-43A6-836C-CF34D63808D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2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D531-5B03-4396-A970-DE0D50620E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hyperlink" Target="http://www.eeppt.com/sucai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主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5" name="Oval 5"/>
          <p:cNvSpPr/>
          <p:nvPr/>
        </p:nvSpPr>
        <p:spPr>
          <a:xfrm>
            <a:off x="1403280" y="2637000"/>
            <a:ext cx="1150920" cy="360360"/>
          </a:xfrm>
          <a:prstGeom prst="ellipse">
            <a:avLst/>
          </a:prstGeom>
          <a:solidFill>
            <a:srgbClr val="dac2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汉仪娃娃篆简"/>
                <a:ea typeface="汉仪娃娃篆简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5219640" y="2131920"/>
            <a:ext cx="1297080" cy="505080"/>
          </a:xfrm>
          <a:prstGeom prst="ellipse">
            <a:avLst/>
          </a:prstGeom>
          <a:solidFill>
            <a:srgbClr val="dac2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汉仪娃娃篆简"/>
                <a:ea typeface="汉仪娃娃篆简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3276720" y="2349360"/>
            <a:ext cx="1295280" cy="505080"/>
          </a:xfrm>
          <a:prstGeom prst="ellipse">
            <a:avLst/>
          </a:prstGeom>
          <a:solidFill>
            <a:srgbClr val="dac2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汉仪娃娃篆简"/>
                <a:ea typeface="汉仪娃娃篆简"/>
              </a:rPr>
              <a:t>Powe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743120" y="4083120"/>
            <a:ext cx="376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 rot="21360000">
            <a:off x="2589480" y="300204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b05"/>
                </a:solidFill>
                <a:latin typeface="迷你简启体"/>
                <a:ea typeface="迷你简启体"/>
              </a:rPr>
              <a:t>读书</a:t>
            </a:r>
            <a:r>
              <a:rPr b="0" lang="en-US" sz="4000" spc="-1" strike="noStrike">
                <a:solidFill>
                  <a:srgbClr val="ff9b05"/>
                </a:solidFill>
                <a:latin typeface="迷你简启体"/>
                <a:ea typeface="迷你简启体"/>
              </a:rPr>
              <a:t>PPT</a:t>
            </a:r>
            <a:r>
              <a:rPr b="0" lang="zh-CN" sz="4000" spc="-1" strike="noStrike">
                <a:solidFill>
                  <a:srgbClr val="ff9b05"/>
                </a:solidFill>
                <a:latin typeface="迷你简启体"/>
                <a:ea typeface="迷你简启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50920" y="4467240"/>
            <a:ext cx="532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方正静蕾简体"/>
                <a:ea typeface="方正静蕾简体"/>
              </a:rPr>
              <a:t>坐下来慢慢看</a:t>
            </a:r>
            <a:r>
              <a:rPr b="0" lang="zh-CN" sz="4800" spc="-1" strike="noStrike">
                <a:solidFill>
                  <a:srgbClr val="ff0066"/>
                </a:solidFill>
                <a:latin typeface="方正静蕾简体"/>
                <a:ea typeface="方正静蕾简体"/>
              </a:rPr>
              <a:t>——享受慢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一格书柜"/>
          <p:cNvPicPr/>
          <p:nvPr/>
        </p:nvPicPr>
        <p:blipFill>
          <a:blip r:embed="rId1"/>
          <a:stretch/>
        </p:blipFill>
        <p:spPr>
          <a:xfrm>
            <a:off x="2052720" y="763560"/>
            <a:ext cx="6580080" cy="137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一格书柜"/>
          <p:cNvPicPr/>
          <p:nvPr/>
        </p:nvPicPr>
        <p:blipFill>
          <a:blip r:embed="rId2"/>
          <a:stretch/>
        </p:blipFill>
        <p:spPr>
          <a:xfrm>
            <a:off x="2050920" y="2637000"/>
            <a:ext cx="6581880" cy="136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一格书柜"/>
          <p:cNvPicPr/>
          <p:nvPr/>
        </p:nvPicPr>
        <p:blipFill>
          <a:blip r:embed="rId3"/>
          <a:stretch/>
        </p:blipFill>
        <p:spPr>
          <a:xfrm>
            <a:off x="2052720" y="4437000"/>
            <a:ext cx="6580080" cy="1440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48640" y="239724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迷你简启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732040" y="1185840"/>
            <a:ext cx="54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启体"/>
              </a:rPr>
              <a:t>慢是一种态度，一种心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824200" y="307512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启体"/>
              </a:rPr>
              <a:t>慢是一种回忆，一种思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057920" y="487512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慢是一种方式，一种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未标题-1"/>
          <p:cNvPicPr/>
          <p:nvPr/>
        </p:nvPicPr>
        <p:blipFill>
          <a:blip r:embed="rId4"/>
          <a:stretch/>
        </p:blipFill>
        <p:spPr>
          <a:xfrm>
            <a:off x="279360" y="676440"/>
            <a:ext cx="1295280" cy="145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未标题-1"/>
          <p:cNvPicPr/>
          <p:nvPr/>
        </p:nvPicPr>
        <p:blipFill>
          <a:blip r:embed="rId5"/>
          <a:stretch/>
        </p:blipFill>
        <p:spPr>
          <a:xfrm rot="10740000">
            <a:off x="279000" y="3555720"/>
            <a:ext cx="1295280" cy="1457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2771640" y="6310440"/>
            <a:ext cx="446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摊开的书（背景）"/>
          <p:cNvPicPr/>
          <p:nvPr/>
        </p:nvPicPr>
        <p:blipFill>
          <a:blip r:embed="rId1"/>
          <a:stretch/>
        </p:blipFill>
        <p:spPr>
          <a:xfrm>
            <a:off x="-3240" y="0"/>
            <a:ext cx="91537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 rot="60000">
            <a:off x="1858680" y="1603440"/>
            <a:ext cx="23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慢慢看，一棵树的茂盛与衰败，坐下，如果百年，树的一生就是人的一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记得在乡下，靠着老墙根抽水烟的祖父，偶尔咳嗽几声，现在我把镜头放大，慢慢看，他脱离肉体的忧伤已经二十余年，但似乎只是一袋烟的工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 rot="120000">
            <a:off x="4610160" y="168984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慢慢看。观察一只蚂蚁。小家伙饿了，闻到食物的香。它不急不躁，神秘一呼，散居“天涯海角”的兄弟们便陆续赶来，抬起食物，搬进家门。所谓巨大的快乐，其实很小，有一班好兄弟，有一窗温馨，足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564240" y="506520"/>
            <a:ext cx="16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迷你简启体"/>
              </a:rPr>
              <a:t>过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shujiabi "/>
          <p:cNvPicPr/>
          <p:nvPr/>
        </p:nvPicPr>
        <p:blipFill>
          <a:blip r:embed="rId1"/>
          <a:stretch/>
        </p:blipFill>
        <p:spPr>
          <a:xfrm>
            <a:off x="-79200" y="0"/>
            <a:ext cx="9331200" cy="69944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419640" y="120168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空白笔记本1"/>
          <p:cNvPicPr/>
          <p:nvPr/>
        </p:nvPicPr>
        <p:blipFill>
          <a:blip r:embed="rId2"/>
          <a:stretch/>
        </p:blipFill>
        <p:spPr>
          <a:xfrm rot="240000">
            <a:off x="1547280" y="1987200"/>
            <a:ext cx="7069320" cy="4753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 rot="180000">
            <a:off x="2209680" y="2421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我年轻时，做什么都快。恋爱讲究速度，读书一目十行，写诗一气呵成，连喝茶也是慌不择盏。后来发现以牛饮的姿态对待身边事和人，多少有些亵渎的意味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 rot="240000">
            <a:off x="2093760" y="3719520"/>
            <a:ext cx="60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曾经幻想做一名花匠。一直没做成，最近却认识了一位花匠，人瘦小，故显衣服宽大，话少，见人也少打招呼。他毕业后，在一座以绿色著称的小城任教，校园是一清人祠堂，甚得园林韵味，四时皆有花木养眼怡神，盆栽也常换常新。本以为这一切要靠多人打点，却发现全赖他一人之力。什么月季花、栀子花、金银花、晚饭花、菊花，什么松土、浇水、施肥，摆放盆栽、修剪花枝，很烦人的活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 rot="480000">
            <a:off x="5179680" y="972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迷你简启体"/>
              </a:rPr>
              <a:t>正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shujiabi "/>
          <p:cNvPicPr/>
          <p:nvPr/>
        </p:nvPicPr>
        <p:blipFill>
          <a:blip r:embed="rId1"/>
          <a:stretch/>
        </p:blipFill>
        <p:spPr>
          <a:xfrm>
            <a:off x="-79200" y="0"/>
            <a:ext cx="9331200" cy="69944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419640" y="120168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空白笔记本1"/>
          <p:cNvPicPr/>
          <p:nvPr/>
        </p:nvPicPr>
        <p:blipFill>
          <a:blip r:embed="rId2"/>
          <a:stretch/>
        </p:blipFill>
        <p:spPr>
          <a:xfrm rot="240000">
            <a:off x="1482480" y="1987200"/>
            <a:ext cx="7067520" cy="4753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 rot="180000">
            <a:off x="2288160" y="2421720"/>
            <a:ext cx="54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启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启体"/>
              </a:rPr>
              <a:t>我对小城的花匠充满敬意，因为在这繁华深处，我忘不了名与利，我在乎付出与回报，我做不到像他那样十八年来不问世事如何变迁，只安心侍弄花草的淡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 rot="240000">
            <a:off x="2349360" y="3940200"/>
            <a:ext cx="49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启体"/>
              </a:rPr>
              <a:t>一朵花，是要慢慢看的。《聊斋志异》提供了范例：慢慢看，用心爱，花匠就成了花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 rot="300000">
            <a:off x="5005080" y="50864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 rot="480000">
            <a:off x="5179680" y="972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迷你简启体"/>
              </a:rPr>
              <a:t>正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房门2"/>
          <p:cNvPicPr/>
          <p:nvPr/>
        </p:nvPicPr>
        <p:blipFill>
          <a:blip r:embed="rId1"/>
          <a:stretch/>
        </p:blipFill>
        <p:spPr>
          <a:xfrm>
            <a:off x="1440" y="6480"/>
            <a:ext cx="914904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3564000" y="1917720"/>
            <a:ext cx="1728720" cy="1222200"/>
          </a:xfrm>
          <a:prstGeom prst="ellipse">
            <a:avLst/>
          </a:prstGeom>
          <a:solidFill>
            <a:srgbClr val="dac2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迷你简启体"/>
              </a:rPr>
              <a:t>谢谢参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迷你简启体"/>
              </a:rPr>
              <a:t>欢迎下次再来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771640" y="631044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51:41Z</dcterms:modified>
  <cp:revision>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