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0A242-ECE5-4ED9-8D09-4C8F7394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11493-3874-40A5-8C3B-EF1E26E3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2CF6A-043F-459A-8827-2A7A7E02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05A5C-C12A-420E-9827-537EA8C7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4524C-F58E-4497-BECE-A7F3FF49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780A2-46AE-449C-A6DC-245DA8AD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DD479-88C8-4FD1-BEA3-837AA76A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CEF09-16E9-4869-8EA7-099BC163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013A1-C401-4778-AA8C-5FE1CCE8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4FDB6-CE4F-4C63-99F2-CDA9B3F2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96241-4DBF-4E22-BA5E-658C5F40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AA6F2-4BF0-4286-8C32-45051439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D73F4-E5F1-4BB5-9F32-45EF59EC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A48BE-82D6-401B-835C-EB1525DB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19CB3-A66B-43CE-B280-4E28D737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40BD2-F2A1-4ECB-BFEA-38EE84ED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314F1-00E4-450D-A05E-3EFF5781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156C4-FAAE-4B13-8845-5E51F6AB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AF5AF-E076-4AE2-92A3-773C9537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FA679-C747-4F52-93FB-0D3A3460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4C1BB-9A0C-42BC-9D50-B0B1AF7FE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C3B8E-6B08-4A69-9F41-35B682DB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9E8BE-9992-4891-8711-7EAA71FE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EFA91-08CD-47C9-A1BD-6ECCE0B8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CA0CD-6499-4A67-AE32-ED0C0352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64AB4-EB13-4820-87CE-90E7DF7B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4E58B-6CFE-4E8B-B467-E8E95FC0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2C7DB-4C69-4C70-A6B5-DC53E5E9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9776A-E66E-4E3A-9CAE-E5F49E2A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2C81D-FA81-40FA-B31E-2F82D947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3593-0EF7-4D02-B900-144A9209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94722-B8A4-47B7-9FBB-EA2F55AA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12AD3-61AC-4743-94F9-5AB96B29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30A33-A9AF-403F-B133-81262BC5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697E1-A753-4FE9-A8A7-622D67AF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DF8E4-3354-4899-A749-AED92BFE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BFA9C-B2DB-493A-80AE-7627EA50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077F4-62E6-4483-98F7-9B25DF7D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4EAFA-A9D0-4DB0-8FCA-1F341C84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BA4BC-AB20-4B07-963F-64F2BF78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497B0-E057-40CC-A73D-EBDB7658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880D-D216-484A-B8EB-1ADA36A7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FC5D9-E9EB-41DB-8829-4C79F08C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91CD8-18B3-4A8A-B3A7-0836157D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DAB09-D69F-4765-8FF5-69E5D01B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958F5-4563-4A51-84D6-22F7184D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F373E-4AF4-4659-B983-8DEA0F06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1A759-1467-42BF-A03D-0899BC8F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75DDF-3585-49CC-83AA-A9FC5640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E780C-0F87-4047-B0A1-475BBD0C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DF0E9-8384-4B8B-B8D3-E9D0320B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939AD-75E9-4CC4-B39C-C4C13DC5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F173-8010-4652-902D-20C19D27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FB25F-43E6-4BEF-BA9C-98CB188B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A3BEB-BD71-41EA-B3D4-F149FC52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EBA95-4C7D-4CE1-B143-3FCC82B5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7AE43-64DC-414F-975C-CE91399F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9D049-CFC8-4C64-8C4C-82F80D5A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D8FB0-40D0-49BD-9D9A-9C06417A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BBEA7-18C4-4799-9A1A-C45A3C77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46F460-227E-44F4-B606-A9DEBB31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5E0A8E-AA04-4293-B596-AF9C497C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81819F-9C0B-40E8-84AC-E5725200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A008-59D8-434A-AF64-32441AC7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BF2435-4DC9-4BFE-B7DA-B1C6AF52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6A53E6-BC70-43F7-8943-A53948D6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21044F-4203-42C5-A5F8-5AD31F22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6AF2D2-DC44-4A41-83ED-5AAB3753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52A0A-70CF-4CD6-A1D8-F11BC31C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459167-D47D-47B5-8A19-8AC16E15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CC625D-D39E-4F8B-B20F-18C8A8A9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7E243E-6F20-44D2-99D3-286B67B5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01CC7B-BE01-4BC0-B8CF-427514C9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A479-E7DB-42A2-BC35-2B5A70D1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034F-0FCD-4817-9503-120EFDA0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033D-6A45-4943-B694-E3000AE7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38F1-7C7F-4CDA-8F69-E2D652F0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7392-A360-46EE-B7E0-E58F9676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760C-082D-4D03-AA32-53BA850E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4FAC-F859-4149-86EC-6BF05471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17DB-8E23-4E57-A934-0C6D9D00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9936-426A-4FB1-AE7F-7B475B14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A3BC-43BD-4AC5-BA59-835E07B8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9997-AF14-46CC-9A70-741FFACE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F4D5-822E-4D69-AF07-7263CBDC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99F0-3641-44EC-8BA6-69035411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9143-0D4C-49E4-958F-6C380CDB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3BA6-0D25-4C11-972C-3611D22A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E1F2-EE0B-4849-9932-0CC8D360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3472-DADB-4C7F-9C10-183C39B4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4DE0-0319-418E-8D4F-A33DCC5E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C4B2-9ABE-4019-9A7B-BE279277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89D7-BAD3-43F5-B6D5-5B2DB314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36AE1-3BB3-4B39-AA76-ADF251A4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67A87-86A2-4E47-AC56-EEB79AEF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2359F-1830-4CBB-A50F-A86DD3A1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27810-3456-40DE-BFD4-89CA5C17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70314-EBA2-443D-968D-CCC63D6A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394AD-82BA-41F5-828E-1600DCCA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80668-BC5D-4B2D-9E56-B7DDB5A5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68922-3F2A-43D6-AF75-210E89C4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23460-2FCB-4873-857A-C53B560A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E6A7C-204B-4D9C-9B4F-FCA2ED05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44EDD-EA4E-485A-BDFE-6BB7AC07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84F91-3A07-4EE2-89BB-2D459A43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CEBA0-5E06-4FC4-B95B-DE513830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C0EF4-4124-47C8-A084-E496A6D0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0CC69-BD73-4D39-9E12-E431148F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0362E-1D81-4115-AE46-C838FB1F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1047C-BF31-45CF-84BE-CF6A6BAA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C5324-2FCA-4114-BCDF-6A8177E0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88028-1804-44D1-B4BC-B80C8E01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6F78E-8174-4DD2-8043-043B115F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83820-A183-419C-B1B1-D1DDBCA9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799BD-938E-4529-B04E-B1997412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F390B-1B79-46DE-8150-B7F5F327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ABA73-6CF5-410F-BDFA-E33F8DDE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1C15B-B2B2-42A7-AD64-3E47B0FF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1AE70-33BB-4D7D-B59C-34A0C330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FD591-4D38-4597-B8A0-75435344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D53B7-0939-48D5-A5D1-6F70048C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5CDA5-D001-451A-9377-6DF28AA0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7332E-23BB-4E41-9CA7-FDC8CFD8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9A550-7D4A-4B2C-A84C-6FF16D01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C4CE0-2FD0-4B65-A7DB-050BD02A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85EC1-D2A9-4816-A6BD-33CDE0AA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0FA30-B2F2-48AC-B9E1-8B623892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95ECA-CF55-4EE0-92B4-FE491F16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FA9DB-A863-4BF8-86EF-30896F3D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3EE18-E086-470F-AFD3-B2220BD7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7B205-63DB-4B33-B773-EE0B99C6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E3611-907E-4F90-A69F-658B01EC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E8887-C5D4-499A-872D-2DDF57D1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BA353-12D8-48BB-AD30-1C26566D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EF580-5993-4C18-A663-285A588B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66365-534E-4F8D-A48B-2709D224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0177D-F3CA-42F6-8596-C40912D0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6F156-6355-47E8-BFB4-07EA689F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52669-06D0-4172-AF1D-8ACD76B9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971B9-6A1D-4811-A153-1371CAF5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2FCA1-E951-4F40-8866-A937F9CA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B9F54-60D0-4C41-B9F0-C535B1D2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14CF4-FF9D-4EFB-A619-DF5452EB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7E855-EB63-469C-B187-C96026FD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3BB30-6A79-4420-B517-7158E268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E689A-0FAC-47FB-B528-7D3C5171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BCC74-6714-4C51-BC3D-58289520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634B0-0797-4461-9D2E-21EEC1EC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99336-0C89-4416-987A-AE9AF4E9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3D109-75A0-490B-8A66-15751B0A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0847B-317E-4A5C-B2E1-8440AB39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1E6BF-BE89-46D1-B91B-B535B6DE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78F60-72B8-418A-8E59-122BA8C1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5D736-BBF2-4CB7-9307-8BBA975D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5AC20-8F39-4542-AE24-B38CAB36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2E7C3-59E4-445D-A684-1B9E193F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Administrator\桌面\图片1.jpg"/>
          <p:cNvPicPr/>
          <p:nvPr/>
        </p:nvPicPr>
        <p:blipFill>
          <a:blip r:embed="rId2"/>
          <a:stretch/>
        </p:blipFill>
        <p:spPr>
          <a:xfrm>
            <a:off x="0" y="-23760"/>
            <a:ext cx="9144000" cy="57387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C:\Documents and Settings\Administrator\桌面\2.png"/>
          <p:cNvPicPr/>
          <p:nvPr/>
        </p:nvPicPr>
        <p:blipFill>
          <a:blip r:embed="rId3"/>
          <a:stretch/>
        </p:blipFill>
        <p:spPr>
          <a:xfrm>
            <a:off x="-46080" y="-716040"/>
            <a:ext cx="6781680" cy="68914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0" descr="C:\Documents and Settings\Administrator\桌面\莲 (11).png"/>
          <p:cNvPicPr/>
          <p:nvPr/>
        </p:nvPicPr>
        <p:blipFill>
          <a:blip r:embed="rId4"/>
          <a:srcRect l="22860" t="21438" r="0" b="0"/>
          <a:stretch/>
        </p:blipFill>
        <p:spPr>
          <a:xfrm>
            <a:off x="34920" y="1076400"/>
            <a:ext cx="6415200" cy="47340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5"/>
          <a:stretch/>
        </p:blipFill>
        <p:spPr>
          <a:xfrm>
            <a:off x="1119240" y="165240"/>
            <a:ext cx="3957480" cy="5619600"/>
          </a:xfrm>
          <a:prstGeom prst="rect">
            <a:avLst/>
          </a:prstGeom>
          <a:ln w="0">
            <a:noFill/>
          </a:ln>
        </p:spPr>
      </p:pic>
      <p:sp>
        <p:nvSpPr>
          <p:cNvPr id="4" name="矩形 10"/>
          <p:cNvSpPr/>
          <p:nvPr/>
        </p:nvSpPr>
        <p:spPr>
          <a:xfrm>
            <a:off x="5022720" y="242568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矩形 11"/>
          <p:cNvSpPr/>
          <p:nvPr/>
        </p:nvSpPr>
        <p:spPr>
          <a:xfrm>
            <a:off x="4859280" y="2425680"/>
            <a:ext cx="9540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2" descr="C:\Documents and Settings\Administrator\桌面\2.png"/>
          <p:cNvPicPr/>
          <p:nvPr/>
        </p:nvPicPr>
        <p:blipFill>
          <a:blip r:embed="rId6"/>
          <a:stretch/>
        </p:blipFill>
        <p:spPr>
          <a:xfrm rot="19595400">
            <a:off x="6513480" y="1418760"/>
            <a:ext cx="3017880" cy="325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75D1-20AB-4558-B394-A0C35EC98CAC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0B80-1185-4506-9308-099EDBF0AF84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8D3B-4505-4BDA-9F6E-2DE075322563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829F-F91F-4EBD-B4A9-A92761DD9A0E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85FF-5556-43EA-BADB-CEC8CE4E8FF8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Administrator\桌面\图片1.jpg"/>
          <p:cNvPicPr/>
          <p:nvPr/>
        </p:nvPicPr>
        <p:blipFill>
          <a:blip r:embed="rId2"/>
          <a:stretch/>
        </p:blipFill>
        <p:spPr>
          <a:xfrm>
            <a:off x="0" y="-23760"/>
            <a:ext cx="9144000" cy="5738760"/>
          </a:xfrm>
          <a:prstGeom prst="rect">
            <a:avLst/>
          </a:prstGeom>
          <a:ln w="0">
            <a:noFill/>
          </a:ln>
        </p:spPr>
      </p:pic>
      <p:sp>
        <p:nvSpPr>
          <p:cNvPr id="44" name="矩形 7"/>
          <p:cNvSpPr/>
          <p:nvPr/>
        </p:nvSpPr>
        <p:spPr>
          <a:xfrm>
            <a:off x="395280" y="-92160"/>
            <a:ext cx="8353440" cy="590256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Administrator\桌面\莲.png"/>
          <p:cNvPicPr/>
          <p:nvPr/>
        </p:nvPicPr>
        <p:blipFill>
          <a:blip r:embed="rId4"/>
          <a:stretch/>
        </p:blipFill>
        <p:spPr>
          <a:xfrm>
            <a:off x="706320" y="19080"/>
            <a:ext cx="1792440" cy="766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4656-41B0-4511-8A5B-A8E2ED44BF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C067-C68B-4032-9C10-A11C811C2769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C456-0CB1-42F5-A72F-D7494D047A00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87A7-FD55-4A82-A5BC-FF2B9C7A8403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C8B2-09D3-4D1D-A73F-6EDBE618C353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702C-812E-4D9D-A065-BD447FEC20D4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458C-6FBF-464F-9A31-8CBF709130E5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5D74-07A2-462B-AC6C-7604CCB004F2}" type="slidenum">
              <a:rPr b="0" lang="zh-CN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矩形 3" descr=""/>
          <p:cNvPicPr/>
          <p:nvPr/>
        </p:nvPicPr>
        <p:blipFill>
          <a:blip r:embed="rId1"/>
          <a:stretch/>
        </p:blipFill>
        <p:spPr>
          <a:xfrm>
            <a:off x="4500720" y="2281320"/>
            <a:ext cx="5047920" cy="1530360"/>
          </a:xfrm>
          <a:prstGeom prst="rect">
            <a:avLst/>
          </a:prstGeom>
          <a:ln w="0">
            <a:noFill/>
          </a:ln>
        </p:spPr>
      </p:pic>
      <p:sp>
        <p:nvSpPr>
          <p:cNvPr id="581" name="矩形 3"/>
          <p:cNvSpPr/>
          <p:nvPr/>
        </p:nvSpPr>
        <p:spPr>
          <a:xfrm>
            <a:off x="107640" y="5089680"/>
            <a:ext cx="29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矩形 1"/>
          <p:cNvSpPr/>
          <p:nvPr/>
        </p:nvSpPr>
        <p:spPr>
          <a:xfrm>
            <a:off x="4927320" y="1273320"/>
            <a:ext cx="36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动态墨莲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Box 2055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4" name="Group 3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585" name="Group 4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586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87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8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9" name="Group 8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590" name="Group 9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591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92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3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4" name="Group 13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595" name="Group 14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596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97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8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9" name="Group 18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600" name="Group 19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601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602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3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4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75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75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" dur="75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75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5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5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5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5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5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5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矩形 3"/>
          <p:cNvSpPr/>
          <p:nvPr/>
        </p:nvSpPr>
        <p:spPr>
          <a:xfrm>
            <a:off x="1116000" y="985680"/>
            <a:ext cx="792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0" name="矩形 4" descr=""/>
          <p:cNvPicPr/>
          <p:nvPr/>
        </p:nvPicPr>
        <p:blipFill>
          <a:blip r:embed="rId1"/>
          <a:stretch/>
        </p:blipFill>
        <p:spPr>
          <a:xfrm>
            <a:off x="5132520" y="2425680"/>
            <a:ext cx="4359240" cy="153684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4"/>
          <p:cNvSpPr/>
          <p:nvPr/>
        </p:nvSpPr>
        <p:spPr>
          <a:xfrm>
            <a:off x="1353960" y="523404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52360" y="156960"/>
            <a:ext cx="6839280" cy="47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52480" y="1058400"/>
            <a:ext cx="74390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6834240" y="277920"/>
            <a:ext cx="115740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1:54:08Z</dcterms:modified>
  <cp:revision>0</cp:revision>
  <dc:subject>幻灯片之家 http://www.eeppt.com</dc:subject>
  <dc:title>幻灯片之家 http://www.eeppt.com</dc:title>
</cp:coreProperties>
</file>