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2EA-7FDA-47F8-81B1-A6378DEB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2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2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221-9A2D-4AA7-BDBC-E0C1DD65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304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97A-7842-418F-8690-12F7147A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40720" y="152388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3560" y="152388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40720" y="388800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3560" y="388800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8AD-6781-4C92-A7F6-6438612F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543D-0D91-4065-8A28-9432EE57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9492-3090-4F7F-90C9-38AB937B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F6F6-2A96-4DB9-A5F3-A88C012B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8B21-0BCD-45ED-BE94-FC1BAD2A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2454-C023-4021-A2B9-31F2ADA7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0054-D508-4A41-AAA7-BF647FD7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5F0B-9C64-4308-AC94-00E26621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EAC-4E3F-47FB-BCD0-F007AD65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304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2576-1183-405B-9E45-956D7A5D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2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BB95-F87A-4398-8379-20496639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2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2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AD32-06B7-4386-BFF8-79091D35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304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269E-1A3D-4C7E-BEBE-BD50F3F2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340720" y="152388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53560" y="152388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340720" y="388800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53560" y="388800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9155-635F-4828-A580-43BB1A02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594-AE98-46BD-8653-E32FBA87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F03-DD4E-4EA3-AF31-A3865D87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828-7163-4F3C-8247-296D35BE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A93-AA46-4C92-A0D9-C487BD27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025-DD92-4905-A440-514A0F97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304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211-4E25-4210-B0F2-16F498CD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2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E60-CBB8-4924-A5F3-C67E1763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C781-BCCC-43F9-B019-B9C8BA416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9861-80B0-4673-A6C1-6948F5776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55627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宋体"/>
              </a:rPr>
              <a:t>VIEW FINDER 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58669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400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21320" y="91440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动态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模板国外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624852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624852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56383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ITIONAL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FE4-4958-4224-8D6C-DEE30FC961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5200" y="1523880"/>
            <a:ext cx="2914560" cy="21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2914920" cy="21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93760" y="3862440"/>
            <a:ext cx="291600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52680" y="3862440"/>
            <a:ext cx="291636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5:43:0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4:59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