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38E-1245-4FCD-A829-4092817D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5D2-97DB-40EF-B330-4CACF3A0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BFF68-5BBC-40AD-80D2-32DDF82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D7679-8C20-45D0-B17C-5C069F22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CE206-2EB2-4F44-8A73-CA325EB8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FAD9D-E276-498F-9151-B952451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65123-E8CC-4931-9CDC-AA71DA1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11A48-AF6F-4C12-A61C-86B7411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0D753-44B5-4608-AAF9-11C6A35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46969-F135-4636-8D25-649A481E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4EDE7-680F-4950-B5A6-84E1A368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823F9-5832-4DEF-B25F-42E4BE60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A8B-27CA-45E1-A1DF-774EF6A0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A6ABB-6B28-434D-A7C0-0CB3BB84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04E06-E38E-4AA9-A052-76866796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1C3D5-D6E8-4BD0-988D-9A7FCF9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3C033-CAF7-4557-A670-FDEC997B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AB6B8-8595-4BD7-850B-2F8162B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3D609-EF5F-4CC6-9F82-EA4C3C8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4F3B5-C747-457F-87F7-CBE1DEA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677F3-27CA-4F20-857C-183A094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EE11E-1584-4AA1-AF60-7191413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C1AAD-B454-4251-AC94-A0C0214A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FBB-E7AD-4ED1-87C7-D812FED6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6D012-DE05-4883-85AD-C60515CD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E0BDF-205D-48A6-B437-9F6E8FE6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BC573-20D7-43A4-9BE4-8554C968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E25C7-38C7-400A-94D9-731BA12F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96C21-140F-4A18-BB86-2C27530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E32C6-3E28-4DFD-8BD3-B6B738F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84D2F-C677-431C-BE76-DF04E2C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0E359-C341-43C2-B705-3909D5F4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3FA58-3C06-410C-88F7-53514B7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9E14C-A1CF-4446-9794-C198716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673-7A29-4253-BE54-7F825B7F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DCDD0-DF6C-47B2-9655-EDAC664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70BE5-AEA5-4AD6-BD86-51797FC4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09EE4-7CD3-4B5F-B531-AB705A93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21495-064F-49EE-8CB4-C3E9213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DDA6E-0F75-4F62-B0D4-D4C920A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21529-CAC8-44B5-8D3F-51BE5D5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BD26-8B0E-4DB8-8B93-CCF90E4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D52AB-DCF6-4DF7-A373-0FB0C525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645DF-3B1C-4031-84DC-F7646173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98C46-060F-463C-8950-CCA2CBD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EE5-0D12-408F-800D-205359E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069CB-02EF-4843-864D-2CEEADE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B017-7574-47AC-8433-996623E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CC3CB-2F9B-4E77-B4C1-F9195BA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929A6-A7DF-4734-A5B1-04F3ACA7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5B032-16D8-45EB-B267-B5D19700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929B0-27B9-4F2D-A9D9-ADE5B772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2A738-DD02-45E4-BDED-C99283E9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A64EA-2B3C-4901-A063-A271837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7692D-5C00-4EC0-9E00-3A73A06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24D7C-7EBF-452F-975B-C61BC7D3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7A54-5A56-4073-B7C6-90B8D2C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4C353-1836-40F7-B7F3-DE9E75A1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B4C90-130A-46A9-AEA6-5FD98A5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4AF27-1CCE-4A55-95E7-5C876A5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27D45-3BD9-450C-8E8C-C3FE8B5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91128-9C7E-47FC-8230-FFF500F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33234-4211-44B2-8DF5-CA5B5C4E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37F38-4265-463E-9609-B19F9A59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36A7-F30C-4169-A02D-7CF8763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1AF7-3DF1-4616-AAE4-6D27F86C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FEFE-E249-4FAF-952C-E229C60A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25D8-4BDD-4C89-A3B8-CB954F91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78E-F2F7-452F-9836-F42F6EA7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8ABC-2F48-4DA7-88B5-EA10FBB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D809-36F4-4EB1-97A4-BED90EA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003E-427C-41CD-AE97-457E87C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AB9A-E419-4CA4-9472-075E16B2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1633-1004-4706-A976-5612FAD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2D62-9C8A-411C-B7C3-F16815A4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127A-CBB7-4498-8E2B-9AE410B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22FB-FE02-40D7-8325-83A68E6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BEA3-8DE4-467D-8145-20102324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4D0B-0B89-47EF-870E-EE8ADFA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072-B5D3-47BE-B68C-43A5404C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871D-F31C-40F4-99BD-F6416D53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1FAB-9685-46B7-9207-5AFF5E7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8F9F-FED4-41B4-90C1-625F6FD0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C652-DA05-4C56-80FC-D3FA5C4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0A8B-6106-415F-9B60-E09635C6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4CF9-A370-4C7E-B4DC-00497AF3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8F1E-ACD3-4319-A8B1-40E9A59D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AB2C-2D5E-46F8-B8FF-9E6C6283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7E79-60D0-4A17-BA83-7471B6A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CBDA-3607-432A-BA5F-AB0E652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ABC-173E-45B9-8494-E6546CAB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4CA1-2697-4687-90C1-A04F46F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4DCA-68A0-4A42-9AAC-16C373B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64BF-E00B-4A40-A1DD-214DF2BC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57D7-6921-4DA2-A7BE-D02FE74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1439-8F53-4555-9A50-C17BF63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D4F4-2424-4C1E-A78C-F42C51D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FEC3-879C-431F-A302-D22FD7D4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6190-7482-442F-B52F-F2A80135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88DE-DB03-46C5-8113-D9F83FB9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FAD3-BD0A-4826-BA62-5CF5070F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8FA-FE28-47A9-9DD2-4C4A597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EF4C-4FDE-480A-AA53-2241F4BF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B050-A6DD-472E-BF83-9D2BB5B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A641-C82E-4B84-9E00-6F740ED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F48A-B4F6-446E-A828-9A2B2EB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BC6B-B09A-4874-87CC-DED5006F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6FC2-5F10-4F70-B426-A54FA99E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2EF7-3FEF-43FB-9B97-1AEB379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9E75-AB3A-438A-935F-0B70132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B447-4322-457C-A705-E8315FFC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A556-FEDA-4A5B-9CE8-74F8F2A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D14-E512-4B2A-946A-BD87BD0E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CB23-35D9-4B65-A7BB-82574DE6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2823-CA31-48FA-A810-4050D0DF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3DB4-4AB4-417E-A58B-1E51C8D7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8C64-A6EE-4735-967E-6460147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C311-68B1-4914-A93E-1BC079C9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22A3-A911-4DC7-A703-7D1EEF2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A615-130D-4688-B0D4-1A582725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0FDF-5D08-4C45-97AC-B7F54FA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72220-D13A-48DB-A81C-1599755B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CB9C-8EA2-4290-A622-AE4DD6B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A31-1EDC-4065-9513-7D8DBC5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D3D7-3209-42F5-8475-7E312AC2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B5C2D-9EBF-4405-AC4E-6515144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FEF9-6C7A-404F-B565-02CAAB5A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99CD-8E61-4E1D-847C-CE2CBBC6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DD5D-97BC-4F4D-9DA6-27AE941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01C2-47BC-4E17-ABFD-6B57F536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255F6-B067-4BBA-8B45-4530121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FE4C-FDEB-4687-ADBA-58A03C7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8DD3-2BA7-413F-A26C-94711BAF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660BD-8B8C-4627-A149-898CDCE5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EF7-2E0B-4DF5-AB8C-BE69DCC8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31C4-724A-4194-B5B5-60F6319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B06A-AFFC-4FA3-8C2E-C483140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7EFEA-DCCB-4B21-93CB-6E1D683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C95D-78FF-47BB-A573-3A273907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1506-885C-455A-93BE-630EDD41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D57D-9988-484F-A13B-D3775CA9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51774-C35A-486F-BB1C-D8A1EF7D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BBAD-CC33-4AC9-8FEB-7EB35AA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526BC-85A4-4E97-9C49-8D306D0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DD5DF-AE63-482D-9019-56B385E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734-3E8D-4A6D-9865-81328A7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5D46-D1E5-4273-9901-708C7730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5717-E828-402D-AC20-5802A701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C597-B257-4264-AC12-DBDC4CD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E5C2F-EF3D-431C-887F-CA1F5FB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63F4-CC91-4284-9B80-78AD4AAD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71D6-B1B7-49D7-8B08-C236240E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E52B4-9FD0-456E-8ECD-5A907367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B71DA-EE94-4D59-B137-63D0F548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C1471-F2E5-451A-91F8-9E97677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316A6-FC16-49D7-95C2-6C5AB1EF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4E52-2921-4FF7-8E3D-71EFE0801E7E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4336-818A-4CAF-86FE-A6BDED43328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566-B703-436F-B17D-0E08D6E4161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471F-FC1A-4F73-AD97-3A1D91090A6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6D7B-3A0D-43B0-B32A-9D1EB6822764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0DD8-2AFD-4D80-A493-C230CAAF3E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97D-636A-4583-821D-0D3A05869753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9EEE-2F6A-4861-9C30-40FBAA270B8D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48CA-F9D2-49D0-A8BE-79E9F94D18E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E2CF-9331-4494-A3F9-3647E7517769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5AC-322E-41E2-97C4-C767A95CDF18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8E0B-C5A5-422C-92C9-9BA3DE3E7178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1E4-0105-4083-BDA8-F8222CC83859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6.png"/><Relationship Id="rId32" Type="http://schemas.openxmlformats.org/officeDocument/2006/relationships/image" Target="../media/image15.png"/><Relationship Id="rId33" Type="http://schemas.openxmlformats.org/officeDocument/2006/relationships/image" Target="../media/image14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1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4.png"/><Relationship Id="rId45" Type="http://schemas.openxmlformats.org/officeDocument/2006/relationships/image" Target="../media/image24.png"/><Relationship Id="rId46" Type="http://schemas.openxmlformats.org/officeDocument/2006/relationships/image" Target="../media/image27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7.png"/><Relationship Id="rId50" Type="http://schemas.openxmlformats.org/officeDocument/2006/relationships/image" Target="../media/image24.png"/><Relationship Id="rId51" Type="http://schemas.openxmlformats.org/officeDocument/2006/relationships/image" Target="../media/image24.png"/><Relationship Id="rId52" Type="http://schemas.openxmlformats.org/officeDocument/2006/relationships/image" Target="../media/image24.png"/><Relationship Id="rId53" Type="http://schemas.openxmlformats.org/officeDocument/2006/relationships/image" Target="../media/image24.png"/><Relationship Id="rId54" Type="http://schemas.openxmlformats.org/officeDocument/2006/relationships/image" Target="../media/image27.png"/><Relationship Id="rId55" Type="http://schemas.openxmlformats.org/officeDocument/2006/relationships/image" Target="../media/image24.png"/><Relationship Id="rId56" Type="http://schemas.openxmlformats.org/officeDocument/2006/relationships/image" Target="../media/image26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image" Target="../media/image25.png"/><Relationship Id="rId61" Type="http://schemas.openxmlformats.org/officeDocument/2006/relationships/image" Target="../media/image24.png"/><Relationship Id="rId62" Type="http://schemas.openxmlformats.org/officeDocument/2006/relationships/image" Target="../media/image25.png"/><Relationship Id="rId63" Type="http://schemas.openxmlformats.org/officeDocument/2006/relationships/image" Target="../media/image24.png"/><Relationship Id="rId64" Type="http://schemas.openxmlformats.org/officeDocument/2006/relationships/image" Target="../media/image24.png"/><Relationship Id="rId65" Type="http://schemas.openxmlformats.org/officeDocument/2006/relationships/image" Target="../media/image24.png"/><Relationship Id="rId66" Type="http://schemas.openxmlformats.org/officeDocument/2006/relationships/image" Target="../media/image27.png"/><Relationship Id="rId67" Type="http://schemas.openxmlformats.org/officeDocument/2006/relationships/image" Target="../media/image24.png"/><Relationship Id="rId68" Type="http://schemas.openxmlformats.org/officeDocument/2006/relationships/image" Target="../media/image26.png"/><Relationship Id="rId69" Type="http://schemas.openxmlformats.org/officeDocument/2006/relationships/image" Target="../media/image26.png"/><Relationship Id="rId70" Type="http://schemas.openxmlformats.org/officeDocument/2006/relationships/image" Target="../media/image24.png"/><Relationship Id="rId71" Type="http://schemas.openxmlformats.org/officeDocument/2006/relationships/image" Target="../media/image25.png"/><Relationship Id="rId72" Type="http://schemas.openxmlformats.org/officeDocument/2006/relationships/image" Target="../media/image27.png"/><Relationship Id="rId73" Type="http://schemas.openxmlformats.org/officeDocument/2006/relationships/image" Target="../media/image25.png"/><Relationship Id="rId74" Type="http://schemas.openxmlformats.org/officeDocument/2006/relationships/image" Target="../media/image27.png"/><Relationship Id="rId75" Type="http://schemas.openxmlformats.org/officeDocument/2006/relationships/image" Target="../media/image24.png"/><Relationship Id="rId76" Type="http://schemas.openxmlformats.org/officeDocument/2006/relationships/image" Target="../media/image24.png"/><Relationship Id="rId77" Type="http://schemas.openxmlformats.org/officeDocument/2006/relationships/image" Target="../media/image24.png"/><Relationship Id="rId78" Type="http://schemas.openxmlformats.org/officeDocument/2006/relationships/image" Target="../media/image26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4.png"/><Relationship Id="rId82" Type="http://schemas.openxmlformats.org/officeDocument/2006/relationships/image" Target="../media/image28.png"/><Relationship Id="rId83" Type="http://schemas.openxmlformats.org/officeDocument/2006/relationships/image" Target="../media/image29.png"/><Relationship Id="rId84" Type="http://schemas.openxmlformats.org/officeDocument/2006/relationships/image" Target="../media/image30.png"/><Relationship Id="rId85" Type="http://schemas.openxmlformats.org/officeDocument/2006/relationships/image" Target="../media/image28.png"/><Relationship Id="rId86" Type="http://schemas.openxmlformats.org/officeDocument/2006/relationships/image" Target="../media/image29.png"/><Relationship Id="rId87" Type="http://schemas.openxmlformats.org/officeDocument/2006/relationships/image" Target="../media/image28.png"/><Relationship Id="rId88" Type="http://schemas.openxmlformats.org/officeDocument/2006/relationships/image" Target="../media/image29.png"/><Relationship Id="rId89" Type="http://schemas.openxmlformats.org/officeDocument/2006/relationships/image" Target="../media/image30.png"/><Relationship Id="rId90" Type="http://schemas.openxmlformats.org/officeDocument/2006/relationships/image" Target="../media/image28.png"/><Relationship Id="rId91" Type="http://schemas.openxmlformats.org/officeDocument/2006/relationships/image" Target="../media/image29.png"/><Relationship Id="rId92" Type="http://schemas.openxmlformats.org/officeDocument/2006/relationships/image" Target="../media/image28.png"/><Relationship Id="rId93" Type="http://schemas.openxmlformats.org/officeDocument/2006/relationships/image" Target="../media/image28.png"/><Relationship Id="rId94" Type="http://schemas.openxmlformats.org/officeDocument/2006/relationships/image" Target="../media/image29.png"/><Relationship Id="rId95" Type="http://schemas.openxmlformats.org/officeDocument/2006/relationships/image" Target="../media/image28.png"/><Relationship Id="rId96" Type="http://schemas.openxmlformats.org/officeDocument/2006/relationships/image" Target="../media/image28.png"/><Relationship Id="rId97" Type="http://schemas.openxmlformats.org/officeDocument/2006/relationships/image" Target="../media/image30.png"/><Relationship Id="rId98" Type="http://schemas.openxmlformats.org/officeDocument/2006/relationships/image" Target="../media/image30.png"/><Relationship Id="rId99" Type="http://schemas.openxmlformats.org/officeDocument/2006/relationships/image" Target="../media/image30.png"/><Relationship Id="rId100" Type="http://schemas.openxmlformats.org/officeDocument/2006/relationships/image" Target="../media/image30.png"/><Relationship Id="rId101" Type="http://schemas.openxmlformats.org/officeDocument/2006/relationships/image" Target="../media/image28.png"/><Relationship Id="rId102" Type="http://schemas.openxmlformats.org/officeDocument/2006/relationships/image" Target="../media/image28.png"/><Relationship Id="rId103" Type="http://schemas.openxmlformats.org/officeDocument/2006/relationships/image" Target="../media/image28.png"/><Relationship Id="rId104" Type="http://schemas.openxmlformats.org/officeDocument/2006/relationships/image" Target="../media/image28.png"/><Relationship Id="rId105" Type="http://schemas.openxmlformats.org/officeDocument/2006/relationships/image" Target="../media/image29.png"/><Relationship Id="rId106" Type="http://schemas.openxmlformats.org/officeDocument/2006/relationships/image" Target="../media/image28.png"/><Relationship Id="rId107" Type="http://schemas.openxmlformats.org/officeDocument/2006/relationships/image" Target="../media/image28.png"/><Relationship Id="rId108" Type="http://schemas.openxmlformats.org/officeDocument/2006/relationships/image" Target="../media/image30.png"/><Relationship Id="rId109" Type="http://schemas.openxmlformats.org/officeDocument/2006/relationships/image" Target="../media/image29.png"/><Relationship Id="rId110" Type="http://schemas.openxmlformats.org/officeDocument/2006/relationships/image" Target="../media/image29.png"/><Relationship Id="rId111" Type="http://schemas.openxmlformats.org/officeDocument/2006/relationships/image" Target="../media/image30.png"/><Relationship Id="rId112" Type="http://schemas.openxmlformats.org/officeDocument/2006/relationships/image" Target="../media/image28.png"/><Relationship Id="rId113" Type="http://schemas.openxmlformats.org/officeDocument/2006/relationships/image" Target="../media/image28.png"/><Relationship Id="rId114" Type="http://schemas.openxmlformats.org/officeDocument/2006/relationships/image" Target="../media/image29.png"/><Relationship Id="rId115" Type="http://schemas.openxmlformats.org/officeDocument/2006/relationships/image" Target="../media/image30.png"/><Relationship Id="rId116" Type="http://schemas.openxmlformats.org/officeDocument/2006/relationships/image" Target="../media/image30.png"/><Relationship Id="rId117" Type="http://schemas.openxmlformats.org/officeDocument/2006/relationships/image" Target="../media/image30.png"/><Relationship Id="rId118" Type="http://schemas.openxmlformats.org/officeDocument/2006/relationships/image" Target="../media/image30.png"/><Relationship Id="rId119" Type="http://schemas.openxmlformats.org/officeDocument/2006/relationships/image" Target="../media/image29.png"/><Relationship Id="rId120" Type="http://schemas.openxmlformats.org/officeDocument/2006/relationships/image" Target="../media/image29.png"/><Relationship Id="rId121" Type="http://schemas.openxmlformats.org/officeDocument/2006/relationships/image" Target="../media/image28.png"/><Relationship Id="rId122" Type="http://schemas.openxmlformats.org/officeDocument/2006/relationships/image" Target="../media/image30.png"/><Relationship Id="rId123" Type="http://schemas.openxmlformats.org/officeDocument/2006/relationships/image" Target="../media/image29.png"/><Relationship Id="rId124" Type="http://schemas.openxmlformats.org/officeDocument/2006/relationships/image" Target="../media/image30.png"/><Relationship Id="rId125" Type="http://schemas.openxmlformats.org/officeDocument/2006/relationships/image" Target="../media/image29.png"/><Relationship Id="rId126" Type="http://schemas.openxmlformats.org/officeDocument/2006/relationships/image" Target="../media/image29.png"/><Relationship Id="rId127" Type="http://schemas.openxmlformats.org/officeDocument/2006/relationships/image" Target="../media/image29.png"/><Relationship Id="rId128" Type="http://schemas.openxmlformats.org/officeDocument/2006/relationships/image" Target="../media/image29.png"/><Relationship Id="rId1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87"/>
          <p:cNvSpPr/>
          <p:nvPr/>
        </p:nvSpPr>
        <p:spPr>
          <a:xfrm>
            <a:off x="8329680" y="0"/>
            <a:ext cx="749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4" name="Group 195"/>
          <p:cNvGrpSpPr/>
          <p:nvPr/>
        </p:nvGrpSpPr>
        <p:grpSpPr>
          <a:xfrm>
            <a:off x="1549440" y="-2043000"/>
            <a:ext cx="5545080" cy="5543280"/>
            <a:chOff x="1549440" y="-2043000"/>
            <a:chExt cx="5545080" cy="5543280"/>
          </a:xfrm>
        </p:grpSpPr>
        <p:sp>
          <p:nvSpPr>
            <p:cNvPr id="535" name="Freeform 196"/>
            <p:cNvSpPr/>
            <p:nvPr/>
          </p:nvSpPr>
          <p:spPr>
            <a:xfrm>
              <a:off x="3744720" y="-2001600"/>
              <a:ext cx="1153800" cy="54619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Freeform 197"/>
            <p:cNvSpPr/>
            <p:nvPr/>
          </p:nvSpPr>
          <p:spPr>
            <a:xfrm>
              <a:off x="3295440" y="-1882800"/>
              <a:ext cx="2053080" cy="52239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Freeform 198"/>
            <p:cNvSpPr/>
            <p:nvPr/>
          </p:nvSpPr>
          <p:spPr>
            <a:xfrm>
              <a:off x="2877840" y="-1686600"/>
              <a:ext cx="2888280" cy="48315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Freeform 199"/>
            <p:cNvSpPr/>
            <p:nvPr/>
          </p:nvSpPr>
          <p:spPr>
            <a:xfrm>
              <a:off x="2498760" y="-1421640"/>
              <a:ext cx="3646440" cy="43016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Freeform 200"/>
            <p:cNvSpPr/>
            <p:nvPr/>
          </p:nvSpPr>
          <p:spPr>
            <a:xfrm>
              <a:off x="2170800" y="-1093680"/>
              <a:ext cx="4302360" cy="3645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Freeform 201"/>
            <p:cNvSpPr/>
            <p:nvPr/>
          </p:nvSpPr>
          <p:spPr>
            <a:xfrm>
              <a:off x="1905840" y="-714960"/>
              <a:ext cx="4832280" cy="288828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Freeform 202"/>
            <p:cNvSpPr/>
            <p:nvPr/>
          </p:nvSpPr>
          <p:spPr>
            <a:xfrm>
              <a:off x="1709640" y="-297360"/>
              <a:ext cx="5224680" cy="20530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2" name="Freeform 203"/>
            <p:cNvSpPr/>
            <p:nvPr/>
          </p:nvSpPr>
          <p:spPr>
            <a:xfrm>
              <a:off x="1590480" y="152640"/>
              <a:ext cx="5463000" cy="115272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Freeform 204"/>
            <p:cNvSpPr/>
            <p:nvPr/>
          </p:nvSpPr>
          <p:spPr>
            <a:xfrm>
              <a:off x="1549440" y="611280"/>
              <a:ext cx="5545080" cy="23472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4" name="Freeform 205"/>
            <p:cNvSpPr/>
            <p:nvPr/>
          </p:nvSpPr>
          <p:spPr>
            <a:xfrm>
              <a:off x="4204440" y="-2043000"/>
              <a:ext cx="234720" cy="554328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Freeform 206"/>
            <p:cNvSpPr/>
            <p:nvPr/>
          </p:nvSpPr>
          <p:spPr>
            <a:xfrm>
              <a:off x="1590480" y="152640"/>
              <a:ext cx="5463000" cy="115272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Freeform 207"/>
            <p:cNvSpPr/>
            <p:nvPr/>
          </p:nvSpPr>
          <p:spPr>
            <a:xfrm>
              <a:off x="1709640" y="-297360"/>
              <a:ext cx="5224680" cy="20530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Freeform 208"/>
            <p:cNvSpPr/>
            <p:nvPr/>
          </p:nvSpPr>
          <p:spPr>
            <a:xfrm>
              <a:off x="1905840" y="-714960"/>
              <a:ext cx="4832280" cy="288828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8" name="Freeform 209"/>
            <p:cNvSpPr/>
            <p:nvPr/>
          </p:nvSpPr>
          <p:spPr>
            <a:xfrm>
              <a:off x="2170800" y="-1093680"/>
              <a:ext cx="4302360" cy="3645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Freeform 210"/>
            <p:cNvSpPr/>
            <p:nvPr/>
          </p:nvSpPr>
          <p:spPr>
            <a:xfrm>
              <a:off x="2498760" y="-1421640"/>
              <a:ext cx="3646440" cy="43016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Freeform 211"/>
            <p:cNvSpPr/>
            <p:nvPr/>
          </p:nvSpPr>
          <p:spPr>
            <a:xfrm>
              <a:off x="2877840" y="-1686600"/>
              <a:ext cx="2888280" cy="48315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Freeform 212"/>
            <p:cNvSpPr/>
            <p:nvPr/>
          </p:nvSpPr>
          <p:spPr>
            <a:xfrm>
              <a:off x="3295440" y="-1882800"/>
              <a:ext cx="2053080" cy="52239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Freeform 213"/>
            <p:cNvSpPr/>
            <p:nvPr/>
          </p:nvSpPr>
          <p:spPr>
            <a:xfrm>
              <a:off x="3744720" y="-2001600"/>
              <a:ext cx="1153800" cy="54619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3" name="Group 214"/>
          <p:cNvGrpSpPr/>
          <p:nvPr/>
        </p:nvGrpSpPr>
        <p:grpSpPr>
          <a:xfrm>
            <a:off x="-1906560" y="-1177920"/>
            <a:ext cx="6119640" cy="6119640"/>
            <a:chOff x="-1906560" y="-1177920"/>
            <a:chExt cx="6119640" cy="6119640"/>
          </a:xfrm>
        </p:grpSpPr>
        <p:sp>
          <p:nvSpPr>
            <p:cNvPr id="554" name="Freeform 215"/>
            <p:cNvSpPr/>
            <p:nvPr/>
          </p:nvSpPr>
          <p:spPr>
            <a:xfrm>
              <a:off x="516240" y="-1132560"/>
              <a:ext cx="1273320" cy="603000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Freeform 216"/>
            <p:cNvSpPr/>
            <p:nvPr/>
          </p:nvSpPr>
          <p:spPr>
            <a:xfrm>
              <a:off x="20160" y="-1000800"/>
              <a:ext cx="2265480" cy="57668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Freeform 217"/>
            <p:cNvSpPr/>
            <p:nvPr/>
          </p:nvSpPr>
          <p:spPr>
            <a:xfrm>
              <a:off x="-440280" y="-784440"/>
              <a:ext cx="3187440" cy="533412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7" name="Freeform 218"/>
            <p:cNvSpPr/>
            <p:nvPr/>
          </p:nvSpPr>
          <p:spPr>
            <a:xfrm>
              <a:off x="-858600" y="-491760"/>
              <a:ext cx="4024080" cy="474912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8" name="Freeform 219"/>
            <p:cNvSpPr/>
            <p:nvPr/>
          </p:nvSpPr>
          <p:spPr>
            <a:xfrm>
              <a:off x="-1220400" y="-129960"/>
              <a:ext cx="4748040" cy="402408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9" name="Freeform 220"/>
            <p:cNvSpPr/>
            <p:nvPr/>
          </p:nvSpPr>
          <p:spPr>
            <a:xfrm>
              <a:off x="-1513080" y="288000"/>
              <a:ext cx="5333040" cy="31885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Freeform 221"/>
            <p:cNvSpPr/>
            <p:nvPr/>
          </p:nvSpPr>
          <p:spPr>
            <a:xfrm>
              <a:off x="-1729440" y="748800"/>
              <a:ext cx="5766120" cy="226656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Freeform 222"/>
            <p:cNvSpPr/>
            <p:nvPr/>
          </p:nvSpPr>
          <p:spPr>
            <a:xfrm>
              <a:off x="-1861200" y="1245960"/>
              <a:ext cx="6028920" cy="12726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Freeform 223"/>
            <p:cNvSpPr/>
            <p:nvPr/>
          </p:nvSpPr>
          <p:spPr>
            <a:xfrm>
              <a:off x="-1906560" y="1752120"/>
              <a:ext cx="6119640" cy="25920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Freeform 224"/>
            <p:cNvSpPr/>
            <p:nvPr/>
          </p:nvSpPr>
          <p:spPr>
            <a:xfrm>
              <a:off x="1023480" y="-1177920"/>
              <a:ext cx="259200" cy="611964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1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Freeform 225"/>
            <p:cNvSpPr/>
            <p:nvPr/>
          </p:nvSpPr>
          <p:spPr>
            <a:xfrm>
              <a:off x="-1861200" y="1245960"/>
              <a:ext cx="6028920" cy="12726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1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Freeform 226"/>
            <p:cNvSpPr/>
            <p:nvPr/>
          </p:nvSpPr>
          <p:spPr>
            <a:xfrm>
              <a:off x="-1729440" y="748800"/>
              <a:ext cx="5766120" cy="226656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1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Freeform 227"/>
            <p:cNvSpPr/>
            <p:nvPr/>
          </p:nvSpPr>
          <p:spPr>
            <a:xfrm>
              <a:off x="-1513080" y="288000"/>
              <a:ext cx="5333040" cy="31885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1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Freeform 228"/>
            <p:cNvSpPr/>
            <p:nvPr/>
          </p:nvSpPr>
          <p:spPr>
            <a:xfrm>
              <a:off x="-1220400" y="-129960"/>
              <a:ext cx="4748040" cy="402408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1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Freeform 229"/>
            <p:cNvSpPr/>
            <p:nvPr/>
          </p:nvSpPr>
          <p:spPr>
            <a:xfrm>
              <a:off x="-858600" y="-491760"/>
              <a:ext cx="4024080" cy="474912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1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Freeform 230"/>
            <p:cNvSpPr/>
            <p:nvPr/>
          </p:nvSpPr>
          <p:spPr>
            <a:xfrm>
              <a:off x="-440280" y="-784440"/>
              <a:ext cx="3187440" cy="533412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1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Freeform 231"/>
            <p:cNvSpPr/>
            <p:nvPr/>
          </p:nvSpPr>
          <p:spPr>
            <a:xfrm>
              <a:off x="20160" y="-1000800"/>
              <a:ext cx="2265480" cy="57668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1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Freeform 232"/>
            <p:cNvSpPr/>
            <p:nvPr/>
          </p:nvSpPr>
          <p:spPr>
            <a:xfrm>
              <a:off x="516240" y="-1132560"/>
              <a:ext cx="1273320" cy="603000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1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72" name="Group 233"/>
          <p:cNvGrpSpPr/>
          <p:nvPr/>
        </p:nvGrpSpPr>
        <p:grpSpPr>
          <a:xfrm>
            <a:off x="4392720" y="-241200"/>
            <a:ext cx="4751280" cy="4749840"/>
            <a:chOff x="4392720" y="-241200"/>
            <a:chExt cx="4751280" cy="4749840"/>
          </a:xfrm>
        </p:grpSpPr>
        <p:sp>
          <p:nvSpPr>
            <p:cNvPr id="573" name="Freeform 234"/>
            <p:cNvSpPr/>
            <p:nvPr/>
          </p:nvSpPr>
          <p:spPr>
            <a:xfrm>
              <a:off x="6273720" y="-205920"/>
              <a:ext cx="988560" cy="46803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Freeform 235"/>
            <p:cNvSpPr/>
            <p:nvPr/>
          </p:nvSpPr>
          <p:spPr>
            <a:xfrm>
              <a:off x="5888880" y="-103680"/>
              <a:ext cx="1758960" cy="44762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236"/>
            <p:cNvSpPr/>
            <p:nvPr/>
          </p:nvSpPr>
          <p:spPr>
            <a:xfrm>
              <a:off x="5530680" y="64080"/>
              <a:ext cx="2474640" cy="41400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2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Freeform 237"/>
            <p:cNvSpPr/>
            <p:nvPr/>
          </p:nvSpPr>
          <p:spPr>
            <a:xfrm>
              <a:off x="5205960" y="290880"/>
              <a:ext cx="3124440" cy="36860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2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Freeform 238"/>
            <p:cNvSpPr/>
            <p:nvPr/>
          </p:nvSpPr>
          <p:spPr>
            <a:xfrm>
              <a:off x="4925160" y="572040"/>
              <a:ext cx="3686400" cy="3123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2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Freeform 239"/>
            <p:cNvSpPr/>
            <p:nvPr/>
          </p:nvSpPr>
          <p:spPr>
            <a:xfrm>
              <a:off x="4698000" y="896760"/>
              <a:ext cx="4140720" cy="24746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2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Freeform 240"/>
            <p:cNvSpPr/>
            <p:nvPr/>
          </p:nvSpPr>
          <p:spPr>
            <a:xfrm>
              <a:off x="4529880" y="1254240"/>
              <a:ext cx="4476960" cy="175932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2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Freeform 241"/>
            <p:cNvSpPr/>
            <p:nvPr/>
          </p:nvSpPr>
          <p:spPr>
            <a:xfrm>
              <a:off x="4427640" y="1640160"/>
              <a:ext cx="4681080" cy="9874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2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Freeform 242"/>
            <p:cNvSpPr/>
            <p:nvPr/>
          </p:nvSpPr>
          <p:spPr>
            <a:xfrm>
              <a:off x="4392720" y="2032920"/>
              <a:ext cx="4751280" cy="20088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2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Freeform 243"/>
            <p:cNvSpPr/>
            <p:nvPr/>
          </p:nvSpPr>
          <p:spPr>
            <a:xfrm>
              <a:off x="6667560" y="-241200"/>
              <a:ext cx="201240" cy="474984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2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Freeform 244"/>
            <p:cNvSpPr/>
            <p:nvPr/>
          </p:nvSpPr>
          <p:spPr>
            <a:xfrm>
              <a:off x="4427640" y="1640160"/>
              <a:ext cx="4681080" cy="9874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2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Freeform 245"/>
            <p:cNvSpPr/>
            <p:nvPr/>
          </p:nvSpPr>
          <p:spPr>
            <a:xfrm>
              <a:off x="4529880" y="1254240"/>
              <a:ext cx="4476960" cy="175932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3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Freeform 246"/>
            <p:cNvSpPr/>
            <p:nvPr/>
          </p:nvSpPr>
          <p:spPr>
            <a:xfrm>
              <a:off x="4698000" y="896760"/>
              <a:ext cx="4140720" cy="24746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3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Freeform 247"/>
            <p:cNvSpPr/>
            <p:nvPr/>
          </p:nvSpPr>
          <p:spPr>
            <a:xfrm>
              <a:off x="4925160" y="572040"/>
              <a:ext cx="3686400" cy="31233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3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Freeform 248"/>
            <p:cNvSpPr/>
            <p:nvPr/>
          </p:nvSpPr>
          <p:spPr>
            <a:xfrm>
              <a:off x="5205960" y="290880"/>
              <a:ext cx="3124440" cy="368604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3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Freeform 249"/>
            <p:cNvSpPr/>
            <p:nvPr/>
          </p:nvSpPr>
          <p:spPr>
            <a:xfrm>
              <a:off x="5530680" y="64080"/>
              <a:ext cx="2474640" cy="41400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3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Freeform 250"/>
            <p:cNvSpPr/>
            <p:nvPr/>
          </p:nvSpPr>
          <p:spPr>
            <a:xfrm>
              <a:off x="5888880" y="-103680"/>
              <a:ext cx="1758960" cy="44762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3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Freeform 251"/>
            <p:cNvSpPr/>
            <p:nvPr/>
          </p:nvSpPr>
          <p:spPr>
            <a:xfrm>
              <a:off x="6273720" y="-205920"/>
              <a:ext cx="988560" cy="46803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3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1" name="Group 4"/>
          <p:cNvGrpSpPr/>
          <p:nvPr/>
        </p:nvGrpSpPr>
        <p:grpSpPr>
          <a:xfrm>
            <a:off x="-395640" y="2952720"/>
            <a:ext cx="1873080" cy="2088720"/>
            <a:chOff x="-395640" y="2952720"/>
            <a:chExt cx="1873080" cy="2088720"/>
          </a:xfrm>
        </p:grpSpPr>
        <p:sp>
          <p:nvSpPr>
            <p:cNvPr id="592" name="Freeform 5"/>
            <p:cNvSpPr/>
            <p:nvPr/>
          </p:nvSpPr>
          <p:spPr>
            <a:xfrm flipH="1">
              <a:off x="-396000" y="4307760"/>
              <a:ext cx="1873080" cy="733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-237600" y="3969360"/>
              <a:ext cx="1656720" cy="732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-237600" y="3630600"/>
              <a:ext cx="1561320" cy="68616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Freeform 8"/>
            <p:cNvSpPr/>
            <p:nvPr/>
          </p:nvSpPr>
          <p:spPr>
            <a:xfrm>
              <a:off x="-40320" y="3317400"/>
              <a:ext cx="1193040" cy="5598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Freeform 9"/>
            <p:cNvSpPr/>
            <p:nvPr/>
          </p:nvSpPr>
          <p:spPr>
            <a:xfrm>
              <a:off x="136800" y="2952720"/>
              <a:ext cx="805320" cy="60912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7" name="Group 10"/>
          <p:cNvGrpSpPr/>
          <p:nvPr/>
        </p:nvGrpSpPr>
        <p:grpSpPr>
          <a:xfrm>
            <a:off x="34920" y="2592360"/>
            <a:ext cx="3168720" cy="2673000"/>
            <a:chOff x="34920" y="2592360"/>
            <a:chExt cx="3168720" cy="2673000"/>
          </a:xfrm>
        </p:grpSpPr>
        <p:sp>
          <p:nvSpPr>
            <p:cNvPr id="598" name="Freeform 11"/>
            <p:cNvSpPr/>
            <p:nvPr/>
          </p:nvSpPr>
          <p:spPr>
            <a:xfrm flipH="1">
              <a:off x="34920" y="4326480"/>
              <a:ext cx="3168720" cy="9388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Freeform 12"/>
            <p:cNvSpPr/>
            <p:nvPr/>
          </p:nvSpPr>
          <p:spPr>
            <a:xfrm>
              <a:off x="301320" y="3893400"/>
              <a:ext cx="2802600" cy="93744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301320" y="3459960"/>
              <a:ext cx="2640960" cy="87804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Freeform 14"/>
            <p:cNvSpPr/>
            <p:nvPr/>
          </p:nvSpPr>
          <p:spPr>
            <a:xfrm>
              <a:off x="635040" y="3059280"/>
              <a:ext cx="2018520" cy="7164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Freeform 15"/>
            <p:cNvSpPr/>
            <p:nvPr/>
          </p:nvSpPr>
          <p:spPr>
            <a:xfrm>
              <a:off x="935280" y="2592360"/>
              <a:ext cx="1362600" cy="7797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3" name="Group 16"/>
          <p:cNvGrpSpPr/>
          <p:nvPr/>
        </p:nvGrpSpPr>
        <p:grpSpPr>
          <a:xfrm>
            <a:off x="7667280" y="2808360"/>
            <a:ext cx="2197080" cy="2447640"/>
            <a:chOff x="7667280" y="2808360"/>
            <a:chExt cx="2197080" cy="2447640"/>
          </a:xfrm>
        </p:grpSpPr>
        <p:sp>
          <p:nvSpPr>
            <p:cNvPr id="604" name="Freeform 17"/>
            <p:cNvSpPr/>
            <p:nvPr/>
          </p:nvSpPr>
          <p:spPr>
            <a:xfrm flipH="1">
              <a:off x="7666920" y="4396320"/>
              <a:ext cx="2197080" cy="859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7852320" y="3999600"/>
              <a:ext cx="1943280" cy="858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852320" y="3602880"/>
              <a:ext cx="1831320" cy="8038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8083800" y="3235680"/>
              <a:ext cx="1399320" cy="65592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8291880" y="2808360"/>
              <a:ext cx="944640" cy="71388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9" name="Group 22"/>
          <p:cNvGrpSpPr/>
          <p:nvPr/>
        </p:nvGrpSpPr>
        <p:grpSpPr>
          <a:xfrm>
            <a:off x="6224400" y="3097080"/>
            <a:ext cx="2919240" cy="2463480"/>
            <a:chOff x="6224400" y="3097080"/>
            <a:chExt cx="2919240" cy="2463480"/>
          </a:xfrm>
        </p:grpSpPr>
        <p:sp>
          <p:nvSpPr>
            <p:cNvPr id="610" name="Freeform 23"/>
            <p:cNvSpPr/>
            <p:nvPr/>
          </p:nvSpPr>
          <p:spPr>
            <a:xfrm flipH="1">
              <a:off x="6224040" y="4695120"/>
              <a:ext cx="2919240" cy="86544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Freeform 24"/>
            <p:cNvSpPr/>
            <p:nvPr/>
          </p:nvSpPr>
          <p:spPr>
            <a:xfrm>
              <a:off x="6469920" y="4295880"/>
              <a:ext cx="2581920" cy="8640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6469920" y="3896640"/>
              <a:ext cx="2433240" cy="8092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6777720" y="3527280"/>
              <a:ext cx="1859400" cy="66024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7054200" y="3097080"/>
              <a:ext cx="1255320" cy="7185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5" name="Rectangle 28"/>
          <p:cNvSpPr/>
          <p:nvPr/>
        </p:nvSpPr>
        <p:spPr>
          <a:xfrm>
            <a:off x="4341960" y="6164280"/>
            <a:ext cx="43164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7740720" y="5329080"/>
            <a:ext cx="142920" cy="649440"/>
          </a:xfrm>
          <a:prstGeom prst="rect">
            <a:avLst/>
          </a:prstGeom>
          <a:gradFill rotWithShape="0">
            <a:gsLst>
              <a:gs pos="0">
                <a:srgbClr val="761800">
                  <a:alpha val="0"/>
                </a:srgbClr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Freeform 30"/>
          <p:cNvSpPr/>
          <p:nvPr/>
        </p:nvSpPr>
        <p:spPr>
          <a:xfrm>
            <a:off x="1116000" y="5184720"/>
            <a:ext cx="7128000" cy="1257480"/>
          </a:xfrm>
          <a:custGeom>
            <a:avLst/>
            <a:gdLst/>
            <a:ahLst/>
            <a:rect l="l" t="t" r="r" b="b"/>
            <a:pathLst>
              <a:path w="4115" h="792">
                <a:moveTo>
                  <a:pt x="390" y="421"/>
                </a:moveTo>
                <a:cubicBezTo>
                  <a:pt x="315" y="496"/>
                  <a:pt x="229" y="559"/>
                  <a:pt x="128" y="593"/>
                </a:cubicBezTo>
                <a:cubicBezTo>
                  <a:pt x="97" y="603"/>
                  <a:pt x="70" y="625"/>
                  <a:pt x="39" y="635"/>
                </a:cubicBezTo>
                <a:cubicBezTo>
                  <a:pt x="0" y="663"/>
                  <a:pt x="24" y="641"/>
                  <a:pt x="93" y="641"/>
                </a:cubicBezTo>
                <a:cubicBezTo>
                  <a:pt x="117" y="641"/>
                  <a:pt x="140" y="645"/>
                  <a:pt x="164" y="647"/>
                </a:cubicBezTo>
                <a:cubicBezTo>
                  <a:pt x="207" y="638"/>
                  <a:pt x="183" y="645"/>
                  <a:pt x="229" y="629"/>
                </a:cubicBezTo>
                <a:cubicBezTo>
                  <a:pt x="235" y="627"/>
                  <a:pt x="247" y="623"/>
                  <a:pt x="247" y="623"/>
                </a:cubicBezTo>
                <a:cubicBezTo>
                  <a:pt x="243" y="631"/>
                  <a:pt x="240" y="640"/>
                  <a:pt x="235" y="647"/>
                </a:cubicBezTo>
                <a:cubicBezTo>
                  <a:pt x="230" y="654"/>
                  <a:pt x="209" y="665"/>
                  <a:pt x="217" y="665"/>
                </a:cubicBezTo>
                <a:cubicBezTo>
                  <a:pt x="233" y="665"/>
                  <a:pt x="244" y="646"/>
                  <a:pt x="259" y="641"/>
                </a:cubicBezTo>
                <a:cubicBezTo>
                  <a:pt x="277" y="623"/>
                  <a:pt x="297" y="609"/>
                  <a:pt x="318" y="593"/>
                </a:cubicBezTo>
                <a:cubicBezTo>
                  <a:pt x="320" y="599"/>
                  <a:pt x="326" y="605"/>
                  <a:pt x="324" y="611"/>
                </a:cubicBezTo>
                <a:cubicBezTo>
                  <a:pt x="318" y="627"/>
                  <a:pt x="295" y="653"/>
                  <a:pt x="295" y="653"/>
                </a:cubicBezTo>
                <a:cubicBezTo>
                  <a:pt x="320" y="661"/>
                  <a:pt x="327" y="655"/>
                  <a:pt x="348" y="641"/>
                </a:cubicBezTo>
                <a:cubicBezTo>
                  <a:pt x="352" y="647"/>
                  <a:pt x="353" y="656"/>
                  <a:pt x="360" y="659"/>
                </a:cubicBezTo>
                <a:cubicBezTo>
                  <a:pt x="374" y="665"/>
                  <a:pt x="424" y="607"/>
                  <a:pt x="437" y="599"/>
                </a:cubicBezTo>
                <a:cubicBezTo>
                  <a:pt x="445" y="594"/>
                  <a:pt x="481" y="588"/>
                  <a:pt x="485" y="587"/>
                </a:cubicBezTo>
                <a:cubicBezTo>
                  <a:pt x="480" y="611"/>
                  <a:pt x="479" y="637"/>
                  <a:pt x="467" y="659"/>
                </a:cubicBezTo>
                <a:cubicBezTo>
                  <a:pt x="460" y="671"/>
                  <a:pt x="451" y="682"/>
                  <a:pt x="443" y="694"/>
                </a:cubicBezTo>
                <a:cubicBezTo>
                  <a:pt x="439" y="699"/>
                  <a:pt x="432" y="716"/>
                  <a:pt x="437" y="712"/>
                </a:cubicBezTo>
                <a:cubicBezTo>
                  <a:pt x="475" y="675"/>
                  <a:pt x="463" y="670"/>
                  <a:pt x="508" y="647"/>
                </a:cubicBezTo>
                <a:cubicBezTo>
                  <a:pt x="512" y="641"/>
                  <a:pt x="513" y="629"/>
                  <a:pt x="520" y="629"/>
                </a:cubicBezTo>
                <a:cubicBezTo>
                  <a:pt x="527" y="629"/>
                  <a:pt x="525" y="650"/>
                  <a:pt x="532" y="647"/>
                </a:cubicBezTo>
                <a:cubicBezTo>
                  <a:pt x="555" y="639"/>
                  <a:pt x="566" y="612"/>
                  <a:pt x="586" y="599"/>
                </a:cubicBezTo>
                <a:cubicBezTo>
                  <a:pt x="598" y="580"/>
                  <a:pt x="608" y="551"/>
                  <a:pt x="621" y="587"/>
                </a:cubicBezTo>
                <a:cubicBezTo>
                  <a:pt x="615" y="612"/>
                  <a:pt x="610" y="640"/>
                  <a:pt x="603" y="665"/>
                </a:cubicBezTo>
                <a:cubicBezTo>
                  <a:pt x="601" y="671"/>
                  <a:pt x="601" y="677"/>
                  <a:pt x="598" y="682"/>
                </a:cubicBezTo>
                <a:cubicBezTo>
                  <a:pt x="595" y="688"/>
                  <a:pt x="579" y="703"/>
                  <a:pt x="586" y="700"/>
                </a:cubicBezTo>
                <a:cubicBezTo>
                  <a:pt x="604" y="693"/>
                  <a:pt x="650" y="660"/>
                  <a:pt x="669" y="647"/>
                </a:cubicBezTo>
                <a:cubicBezTo>
                  <a:pt x="682" y="686"/>
                  <a:pt x="665" y="652"/>
                  <a:pt x="693" y="647"/>
                </a:cubicBezTo>
                <a:cubicBezTo>
                  <a:pt x="700" y="646"/>
                  <a:pt x="704" y="655"/>
                  <a:pt x="710" y="659"/>
                </a:cubicBezTo>
                <a:cubicBezTo>
                  <a:pt x="771" y="644"/>
                  <a:pt x="747" y="714"/>
                  <a:pt x="734" y="754"/>
                </a:cubicBezTo>
                <a:cubicBezTo>
                  <a:pt x="745" y="785"/>
                  <a:pt x="733" y="768"/>
                  <a:pt x="764" y="748"/>
                </a:cubicBezTo>
                <a:cubicBezTo>
                  <a:pt x="773" y="742"/>
                  <a:pt x="783" y="740"/>
                  <a:pt x="793" y="736"/>
                </a:cubicBezTo>
                <a:cubicBezTo>
                  <a:pt x="810" y="719"/>
                  <a:pt x="827" y="708"/>
                  <a:pt x="841" y="688"/>
                </a:cubicBezTo>
                <a:cubicBezTo>
                  <a:pt x="861" y="717"/>
                  <a:pt x="862" y="706"/>
                  <a:pt x="889" y="688"/>
                </a:cubicBezTo>
                <a:cubicBezTo>
                  <a:pt x="926" y="701"/>
                  <a:pt x="898" y="723"/>
                  <a:pt x="936" y="736"/>
                </a:cubicBezTo>
                <a:cubicBezTo>
                  <a:pt x="955" y="723"/>
                  <a:pt x="970" y="707"/>
                  <a:pt x="989" y="694"/>
                </a:cubicBezTo>
                <a:cubicBezTo>
                  <a:pt x="1013" y="730"/>
                  <a:pt x="1016" y="702"/>
                  <a:pt x="1025" y="676"/>
                </a:cubicBezTo>
                <a:cubicBezTo>
                  <a:pt x="1055" y="691"/>
                  <a:pt x="1059" y="709"/>
                  <a:pt x="1079" y="736"/>
                </a:cubicBezTo>
                <a:cubicBezTo>
                  <a:pt x="1080" y="738"/>
                  <a:pt x="1089" y="792"/>
                  <a:pt x="1102" y="736"/>
                </a:cubicBezTo>
                <a:cubicBezTo>
                  <a:pt x="1108" y="709"/>
                  <a:pt x="1106" y="681"/>
                  <a:pt x="1108" y="653"/>
                </a:cubicBezTo>
                <a:cubicBezTo>
                  <a:pt x="1133" y="670"/>
                  <a:pt x="1143" y="695"/>
                  <a:pt x="1168" y="712"/>
                </a:cubicBezTo>
                <a:cubicBezTo>
                  <a:pt x="1170" y="704"/>
                  <a:pt x="1172" y="696"/>
                  <a:pt x="1174" y="688"/>
                </a:cubicBezTo>
                <a:cubicBezTo>
                  <a:pt x="1176" y="682"/>
                  <a:pt x="1173" y="671"/>
                  <a:pt x="1179" y="671"/>
                </a:cubicBezTo>
                <a:cubicBezTo>
                  <a:pt x="1187" y="671"/>
                  <a:pt x="1192" y="682"/>
                  <a:pt x="1197" y="688"/>
                </a:cubicBezTo>
                <a:cubicBezTo>
                  <a:pt x="1206" y="699"/>
                  <a:pt x="1221" y="724"/>
                  <a:pt x="1221" y="724"/>
                </a:cubicBezTo>
                <a:cubicBezTo>
                  <a:pt x="1227" y="720"/>
                  <a:pt x="1232" y="712"/>
                  <a:pt x="1239" y="712"/>
                </a:cubicBezTo>
                <a:cubicBezTo>
                  <a:pt x="1246" y="712"/>
                  <a:pt x="1250" y="726"/>
                  <a:pt x="1257" y="724"/>
                </a:cubicBezTo>
                <a:cubicBezTo>
                  <a:pt x="1263" y="722"/>
                  <a:pt x="1259" y="711"/>
                  <a:pt x="1263" y="706"/>
                </a:cubicBezTo>
                <a:cubicBezTo>
                  <a:pt x="1267" y="702"/>
                  <a:pt x="1274" y="702"/>
                  <a:pt x="1280" y="700"/>
                </a:cubicBezTo>
                <a:cubicBezTo>
                  <a:pt x="1284" y="706"/>
                  <a:pt x="1289" y="712"/>
                  <a:pt x="1292" y="718"/>
                </a:cubicBezTo>
                <a:cubicBezTo>
                  <a:pt x="1295" y="724"/>
                  <a:pt x="1293" y="739"/>
                  <a:pt x="1298" y="736"/>
                </a:cubicBezTo>
                <a:cubicBezTo>
                  <a:pt x="1310" y="729"/>
                  <a:pt x="1308" y="705"/>
                  <a:pt x="1322" y="700"/>
                </a:cubicBezTo>
                <a:cubicBezTo>
                  <a:pt x="1328" y="698"/>
                  <a:pt x="1334" y="696"/>
                  <a:pt x="1340" y="694"/>
                </a:cubicBezTo>
                <a:cubicBezTo>
                  <a:pt x="1360" y="708"/>
                  <a:pt x="1370" y="725"/>
                  <a:pt x="1387" y="742"/>
                </a:cubicBezTo>
                <a:cubicBezTo>
                  <a:pt x="1389" y="748"/>
                  <a:pt x="1387" y="762"/>
                  <a:pt x="1393" y="760"/>
                </a:cubicBezTo>
                <a:cubicBezTo>
                  <a:pt x="1403" y="758"/>
                  <a:pt x="1407" y="745"/>
                  <a:pt x="1411" y="736"/>
                </a:cubicBezTo>
                <a:cubicBezTo>
                  <a:pt x="1428" y="698"/>
                  <a:pt x="1428" y="659"/>
                  <a:pt x="1453" y="623"/>
                </a:cubicBezTo>
                <a:cubicBezTo>
                  <a:pt x="1466" y="604"/>
                  <a:pt x="1506" y="581"/>
                  <a:pt x="1506" y="581"/>
                </a:cubicBezTo>
                <a:cubicBezTo>
                  <a:pt x="1520" y="609"/>
                  <a:pt x="1520" y="636"/>
                  <a:pt x="1530" y="665"/>
                </a:cubicBezTo>
                <a:cubicBezTo>
                  <a:pt x="1543" y="646"/>
                  <a:pt x="1559" y="631"/>
                  <a:pt x="1571" y="611"/>
                </a:cubicBezTo>
                <a:cubicBezTo>
                  <a:pt x="1597" y="637"/>
                  <a:pt x="1592" y="646"/>
                  <a:pt x="1601" y="682"/>
                </a:cubicBezTo>
                <a:cubicBezTo>
                  <a:pt x="1608" y="708"/>
                  <a:pt x="1618" y="733"/>
                  <a:pt x="1625" y="760"/>
                </a:cubicBezTo>
                <a:cubicBezTo>
                  <a:pt x="1661" y="724"/>
                  <a:pt x="1651" y="689"/>
                  <a:pt x="1655" y="635"/>
                </a:cubicBezTo>
                <a:cubicBezTo>
                  <a:pt x="1660" y="660"/>
                  <a:pt x="1669" y="676"/>
                  <a:pt x="1678" y="700"/>
                </a:cubicBezTo>
                <a:cubicBezTo>
                  <a:pt x="1681" y="708"/>
                  <a:pt x="1679" y="718"/>
                  <a:pt x="1684" y="724"/>
                </a:cubicBezTo>
                <a:cubicBezTo>
                  <a:pt x="1688" y="729"/>
                  <a:pt x="1696" y="728"/>
                  <a:pt x="1702" y="730"/>
                </a:cubicBezTo>
                <a:cubicBezTo>
                  <a:pt x="1742" y="703"/>
                  <a:pt x="1722" y="752"/>
                  <a:pt x="1761" y="766"/>
                </a:cubicBezTo>
                <a:cubicBezTo>
                  <a:pt x="1775" y="738"/>
                  <a:pt x="1767" y="720"/>
                  <a:pt x="1797" y="730"/>
                </a:cubicBezTo>
                <a:cubicBezTo>
                  <a:pt x="1812" y="776"/>
                  <a:pt x="1823" y="729"/>
                  <a:pt x="1827" y="712"/>
                </a:cubicBezTo>
                <a:cubicBezTo>
                  <a:pt x="1856" y="755"/>
                  <a:pt x="1849" y="717"/>
                  <a:pt x="1862" y="700"/>
                </a:cubicBezTo>
                <a:cubicBezTo>
                  <a:pt x="1867" y="694"/>
                  <a:pt x="1874" y="692"/>
                  <a:pt x="1880" y="688"/>
                </a:cubicBezTo>
                <a:cubicBezTo>
                  <a:pt x="1914" y="699"/>
                  <a:pt x="1920" y="744"/>
                  <a:pt x="1951" y="766"/>
                </a:cubicBezTo>
                <a:cubicBezTo>
                  <a:pt x="1982" y="735"/>
                  <a:pt x="1982" y="702"/>
                  <a:pt x="1987" y="659"/>
                </a:cubicBezTo>
                <a:cubicBezTo>
                  <a:pt x="2017" y="666"/>
                  <a:pt x="2020" y="679"/>
                  <a:pt x="2041" y="700"/>
                </a:cubicBezTo>
                <a:cubicBezTo>
                  <a:pt x="2091" y="682"/>
                  <a:pt x="2014" y="715"/>
                  <a:pt x="2064" y="659"/>
                </a:cubicBezTo>
                <a:cubicBezTo>
                  <a:pt x="2072" y="650"/>
                  <a:pt x="2100" y="647"/>
                  <a:pt x="2100" y="647"/>
                </a:cubicBezTo>
                <a:cubicBezTo>
                  <a:pt x="2130" y="667"/>
                  <a:pt x="2158" y="687"/>
                  <a:pt x="2183" y="712"/>
                </a:cubicBezTo>
                <a:cubicBezTo>
                  <a:pt x="2198" y="667"/>
                  <a:pt x="2195" y="610"/>
                  <a:pt x="2236" y="581"/>
                </a:cubicBezTo>
                <a:cubicBezTo>
                  <a:pt x="2286" y="594"/>
                  <a:pt x="2297" y="651"/>
                  <a:pt x="2326" y="688"/>
                </a:cubicBezTo>
                <a:cubicBezTo>
                  <a:pt x="2339" y="722"/>
                  <a:pt x="2343" y="733"/>
                  <a:pt x="2379" y="742"/>
                </a:cubicBezTo>
                <a:cubicBezTo>
                  <a:pt x="2391" y="740"/>
                  <a:pt x="2409" y="746"/>
                  <a:pt x="2415" y="736"/>
                </a:cubicBezTo>
                <a:cubicBezTo>
                  <a:pt x="2419" y="729"/>
                  <a:pt x="2408" y="659"/>
                  <a:pt x="2385" y="659"/>
                </a:cubicBezTo>
                <a:cubicBezTo>
                  <a:pt x="2378" y="659"/>
                  <a:pt x="2393" y="670"/>
                  <a:pt x="2397" y="676"/>
                </a:cubicBezTo>
                <a:cubicBezTo>
                  <a:pt x="2395" y="664"/>
                  <a:pt x="2385" y="651"/>
                  <a:pt x="2391" y="641"/>
                </a:cubicBezTo>
                <a:cubicBezTo>
                  <a:pt x="2398" y="630"/>
                  <a:pt x="2443" y="672"/>
                  <a:pt x="2450" y="676"/>
                </a:cubicBezTo>
                <a:cubicBezTo>
                  <a:pt x="2466" y="653"/>
                  <a:pt x="2455" y="645"/>
                  <a:pt x="2462" y="617"/>
                </a:cubicBezTo>
                <a:cubicBezTo>
                  <a:pt x="2489" y="626"/>
                  <a:pt x="2509" y="654"/>
                  <a:pt x="2533" y="671"/>
                </a:cubicBezTo>
                <a:cubicBezTo>
                  <a:pt x="2545" y="679"/>
                  <a:pt x="2569" y="694"/>
                  <a:pt x="2569" y="694"/>
                </a:cubicBezTo>
                <a:cubicBezTo>
                  <a:pt x="2585" y="646"/>
                  <a:pt x="2546" y="633"/>
                  <a:pt x="2611" y="611"/>
                </a:cubicBezTo>
                <a:cubicBezTo>
                  <a:pt x="2632" y="633"/>
                  <a:pt x="2659" y="649"/>
                  <a:pt x="2688" y="659"/>
                </a:cubicBezTo>
                <a:cubicBezTo>
                  <a:pt x="2704" y="635"/>
                  <a:pt x="2697" y="625"/>
                  <a:pt x="2688" y="599"/>
                </a:cubicBezTo>
                <a:cubicBezTo>
                  <a:pt x="2694" y="595"/>
                  <a:pt x="2699" y="588"/>
                  <a:pt x="2706" y="587"/>
                </a:cubicBezTo>
                <a:cubicBezTo>
                  <a:pt x="2721" y="584"/>
                  <a:pt x="2734" y="598"/>
                  <a:pt x="2747" y="605"/>
                </a:cubicBezTo>
                <a:cubicBezTo>
                  <a:pt x="2783" y="626"/>
                  <a:pt x="2808" y="663"/>
                  <a:pt x="2842" y="688"/>
                </a:cubicBezTo>
                <a:cubicBezTo>
                  <a:pt x="2857" y="699"/>
                  <a:pt x="2873" y="709"/>
                  <a:pt x="2890" y="718"/>
                </a:cubicBezTo>
                <a:cubicBezTo>
                  <a:pt x="2901" y="724"/>
                  <a:pt x="2925" y="730"/>
                  <a:pt x="2925" y="730"/>
                </a:cubicBezTo>
                <a:cubicBezTo>
                  <a:pt x="2964" y="717"/>
                  <a:pt x="2939" y="680"/>
                  <a:pt x="2925" y="653"/>
                </a:cubicBezTo>
                <a:cubicBezTo>
                  <a:pt x="2922" y="647"/>
                  <a:pt x="2908" y="640"/>
                  <a:pt x="2913" y="635"/>
                </a:cubicBezTo>
                <a:cubicBezTo>
                  <a:pt x="2919" y="629"/>
                  <a:pt x="2929" y="639"/>
                  <a:pt x="2937" y="641"/>
                </a:cubicBezTo>
                <a:cubicBezTo>
                  <a:pt x="2955" y="647"/>
                  <a:pt x="2991" y="659"/>
                  <a:pt x="2991" y="659"/>
                </a:cubicBezTo>
                <a:cubicBezTo>
                  <a:pt x="2993" y="651"/>
                  <a:pt x="2998" y="643"/>
                  <a:pt x="2997" y="635"/>
                </a:cubicBezTo>
                <a:cubicBezTo>
                  <a:pt x="2996" y="624"/>
                  <a:pt x="2979" y="614"/>
                  <a:pt x="2985" y="605"/>
                </a:cubicBezTo>
                <a:cubicBezTo>
                  <a:pt x="2990" y="598"/>
                  <a:pt x="3001" y="613"/>
                  <a:pt x="3008" y="617"/>
                </a:cubicBezTo>
                <a:cubicBezTo>
                  <a:pt x="3025" y="627"/>
                  <a:pt x="3062" y="641"/>
                  <a:pt x="3062" y="641"/>
                </a:cubicBezTo>
                <a:cubicBezTo>
                  <a:pt x="3067" y="638"/>
                  <a:pt x="3098" y="616"/>
                  <a:pt x="3103" y="617"/>
                </a:cubicBezTo>
                <a:cubicBezTo>
                  <a:pt x="3115" y="620"/>
                  <a:pt x="3122" y="635"/>
                  <a:pt x="3133" y="641"/>
                </a:cubicBezTo>
                <a:cubicBezTo>
                  <a:pt x="3142" y="646"/>
                  <a:pt x="3153" y="644"/>
                  <a:pt x="3163" y="647"/>
                </a:cubicBezTo>
                <a:cubicBezTo>
                  <a:pt x="3175" y="650"/>
                  <a:pt x="3198" y="659"/>
                  <a:pt x="3198" y="659"/>
                </a:cubicBezTo>
                <a:cubicBezTo>
                  <a:pt x="3184" y="629"/>
                  <a:pt x="3170" y="631"/>
                  <a:pt x="3157" y="605"/>
                </a:cubicBezTo>
                <a:cubicBezTo>
                  <a:pt x="3154" y="599"/>
                  <a:pt x="3145" y="588"/>
                  <a:pt x="3151" y="587"/>
                </a:cubicBezTo>
                <a:cubicBezTo>
                  <a:pt x="3167" y="585"/>
                  <a:pt x="3198" y="599"/>
                  <a:pt x="3198" y="599"/>
                </a:cubicBezTo>
                <a:cubicBezTo>
                  <a:pt x="3224" y="619"/>
                  <a:pt x="3245" y="621"/>
                  <a:pt x="3276" y="629"/>
                </a:cubicBezTo>
                <a:cubicBezTo>
                  <a:pt x="3311" y="647"/>
                  <a:pt x="3332" y="655"/>
                  <a:pt x="3371" y="665"/>
                </a:cubicBezTo>
                <a:cubicBezTo>
                  <a:pt x="3381" y="636"/>
                  <a:pt x="3360" y="640"/>
                  <a:pt x="3329" y="623"/>
                </a:cubicBezTo>
                <a:cubicBezTo>
                  <a:pt x="3321" y="619"/>
                  <a:pt x="3305" y="620"/>
                  <a:pt x="3305" y="611"/>
                </a:cubicBezTo>
                <a:cubicBezTo>
                  <a:pt x="3305" y="603"/>
                  <a:pt x="3321" y="615"/>
                  <a:pt x="3329" y="617"/>
                </a:cubicBezTo>
                <a:cubicBezTo>
                  <a:pt x="3335" y="619"/>
                  <a:pt x="3341" y="621"/>
                  <a:pt x="3347" y="623"/>
                </a:cubicBezTo>
                <a:cubicBezTo>
                  <a:pt x="3357" y="625"/>
                  <a:pt x="3367" y="626"/>
                  <a:pt x="3377" y="629"/>
                </a:cubicBezTo>
                <a:cubicBezTo>
                  <a:pt x="3389" y="632"/>
                  <a:pt x="3412" y="641"/>
                  <a:pt x="3412" y="641"/>
                </a:cubicBezTo>
                <a:cubicBezTo>
                  <a:pt x="3453" y="631"/>
                  <a:pt x="3439" y="623"/>
                  <a:pt x="3412" y="605"/>
                </a:cubicBezTo>
                <a:cubicBezTo>
                  <a:pt x="3399" y="566"/>
                  <a:pt x="3433" y="582"/>
                  <a:pt x="3460" y="587"/>
                </a:cubicBezTo>
                <a:cubicBezTo>
                  <a:pt x="3466" y="585"/>
                  <a:pt x="3476" y="587"/>
                  <a:pt x="3478" y="581"/>
                </a:cubicBezTo>
                <a:cubicBezTo>
                  <a:pt x="3484" y="567"/>
                  <a:pt x="3448" y="523"/>
                  <a:pt x="3448" y="522"/>
                </a:cubicBezTo>
                <a:cubicBezTo>
                  <a:pt x="3443" y="515"/>
                  <a:pt x="3464" y="526"/>
                  <a:pt x="3472" y="528"/>
                </a:cubicBezTo>
                <a:cubicBezTo>
                  <a:pt x="3478" y="532"/>
                  <a:pt x="3504" y="557"/>
                  <a:pt x="3513" y="534"/>
                </a:cubicBezTo>
                <a:cubicBezTo>
                  <a:pt x="3518" y="523"/>
                  <a:pt x="3488" y="497"/>
                  <a:pt x="3483" y="492"/>
                </a:cubicBezTo>
                <a:cubicBezTo>
                  <a:pt x="3481" y="486"/>
                  <a:pt x="3474" y="479"/>
                  <a:pt x="3478" y="475"/>
                </a:cubicBezTo>
                <a:cubicBezTo>
                  <a:pt x="3482" y="471"/>
                  <a:pt x="3490" y="478"/>
                  <a:pt x="3495" y="481"/>
                </a:cubicBezTo>
                <a:cubicBezTo>
                  <a:pt x="3524" y="497"/>
                  <a:pt x="3554" y="511"/>
                  <a:pt x="3584" y="528"/>
                </a:cubicBezTo>
                <a:cubicBezTo>
                  <a:pt x="3646" y="563"/>
                  <a:pt x="3722" y="571"/>
                  <a:pt x="3792" y="581"/>
                </a:cubicBezTo>
                <a:cubicBezTo>
                  <a:pt x="3802" y="579"/>
                  <a:pt x="3815" y="583"/>
                  <a:pt x="3822" y="576"/>
                </a:cubicBezTo>
                <a:cubicBezTo>
                  <a:pt x="3827" y="572"/>
                  <a:pt x="3810" y="573"/>
                  <a:pt x="3804" y="570"/>
                </a:cubicBezTo>
                <a:cubicBezTo>
                  <a:pt x="3760" y="548"/>
                  <a:pt x="3815" y="568"/>
                  <a:pt x="3763" y="546"/>
                </a:cubicBezTo>
                <a:cubicBezTo>
                  <a:pt x="3707" y="523"/>
                  <a:pt x="3685" y="516"/>
                  <a:pt x="3632" y="498"/>
                </a:cubicBezTo>
                <a:cubicBezTo>
                  <a:pt x="3607" y="489"/>
                  <a:pt x="3581" y="483"/>
                  <a:pt x="3555" y="475"/>
                </a:cubicBezTo>
                <a:cubicBezTo>
                  <a:pt x="3549" y="473"/>
                  <a:pt x="3537" y="469"/>
                  <a:pt x="3537" y="469"/>
                </a:cubicBezTo>
                <a:cubicBezTo>
                  <a:pt x="3531" y="463"/>
                  <a:pt x="3511" y="454"/>
                  <a:pt x="3519" y="451"/>
                </a:cubicBezTo>
                <a:cubicBezTo>
                  <a:pt x="3534" y="445"/>
                  <a:pt x="3551" y="453"/>
                  <a:pt x="3567" y="457"/>
                </a:cubicBezTo>
                <a:cubicBezTo>
                  <a:pt x="3574" y="459"/>
                  <a:pt x="3578" y="466"/>
                  <a:pt x="3584" y="469"/>
                </a:cubicBezTo>
                <a:cubicBezTo>
                  <a:pt x="3610" y="482"/>
                  <a:pt x="3646" y="487"/>
                  <a:pt x="3673" y="498"/>
                </a:cubicBezTo>
                <a:cubicBezTo>
                  <a:pt x="3780" y="541"/>
                  <a:pt x="3891" y="571"/>
                  <a:pt x="4006" y="581"/>
                </a:cubicBezTo>
                <a:cubicBezTo>
                  <a:pt x="4040" y="579"/>
                  <a:pt x="4074" y="581"/>
                  <a:pt x="4107" y="576"/>
                </a:cubicBezTo>
                <a:cubicBezTo>
                  <a:pt x="4115" y="575"/>
                  <a:pt x="4090" y="574"/>
                  <a:pt x="4083" y="570"/>
                </a:cubicBezTo>
                <a:cubicBezTo>
                  <a:pt x="4070" y="564"/>
                  <a:pt x="4061" y="552"/>
                  <a:pt x="4048" y="546"/>
                </a:cubicBezTo>
                <a:cubicBezTo>
                  <a:pt x="4036" y="540"/>
                  <a:pt x="4024" y="534"/>
                  <a:pt x="4012" y="528"/>
                </a:cubicBezTo>
                <a:cubicBezTo>
                  <a:pt x="4002" y="524"/>
                  <a:pt x="3992" y="519"/>
                  <a:pt x="3982" y="516"/>
                </a:cubicBezTo>
                <a:cubicBezTo>
                  <a:pt x="3974" y="513"/>
                  <a:pt x="3951" y="510"/>
                  <a:pt x="3959" y="510"/>
                </a:cubicBezTo>
                <a:cubicBezTo>
                  <a:pt x="3989" y="510"/>
                  <a:pt x="4031" y="524"/>
                  <a:pt x="4059" y="534"/>
                </a:cubicBezTo>
                <a:cubicBezTo>
                  <a:pt x="4039" y="512"/>
                  <a:pt x="4023" y="505"/>
                  <a:pt x="3994" y="498"/>
                </a:cubicBezTo>
                <a:cubicBezTo>
                  <a:pt x="3988" y="494"/>
                  <a:pt x="3974" y="493"/>
                  <a:pt x="3976" y="486"/>
                </a:cubicBezTo>
                <a:cubicBezTo>
                  <a:pt x="3979" y="478"/>
                  <a:pt x="3992" y="482"/>
                  <a:pt x="4000" y="481"/>
                </a:cubicBezTo>
                <a:cubicBezTo>
                  <a:pt x="4030" y="478"/>
                  <a:pt x="4059" y="477"/>
                  <a:pt x="4089" y="475"/>
                </a:cubicBezTo>
                <a:cubicBezTo>
                  <a:pt x="4026" y="459"/>
                  <a:pt x="4058" y="465"/>
                  <a:pt x="3994" y="457"/>
                </a:cubicBezTo>
                <a:cubicBezTo>
                  <a:pt x="3946" y="433"/>
                  <a:pt x="3975" y="451"/>
                  <a:pt x="4030" y="451"/>
                </a:cubicBezTo>
                <a:cubicBezTo>
                  <a:pt x="4048" y="451"/>
                  <a:pt x="4065" y="447"/>
                  <a:pt x="4083" y="445"/>
                </a:cubicBezTo>
                <a:cubicBezTo>
                  <a:pt x="4042" y="418"/>
                  <a:pt x="3994" y="426"/>
                  <a:pt x="3947" y="415"/>
                </a:cubicBezTo>
                <a:cubicBezTo>
                  <a:pt x="3905" y="405"/>
                  <a:pt x="3869" y="384"/>
                  <a:pt x="3828" y="374"/>
                </a:cubicBezTo>
                <a:cubicBezTo>
                  <a:pt x="3804" y="360"/>
                  <a:pt x="3780" y="357"/>
                  <a:pt x="3757" y="344"/>
                </a:cubicBezTo>
                <a:cubicBezTo>
                  <a:pt x="3733" y="330"/>
                  <a:pt x="3696" y="292"/>
                  <a:pt x="3668" y="285"/>
                </a:cubicBezTo>
                <a:cubicBezTo>
                  <a:pt x="3638" y="277"/>
                  <a:pt x="3609" y="267"/>
                  <a:pt x="3578" y="261"/>
                </a:cubicBezTo>
                <a:cubicBezTo>
                  <a:pt x="3556" y="250"/>
                  <a:pt x="3536" y="245"/>
                  <a:pt x="3513" y="237"/>
                </a:cubicBezTo>
                <a:cubicBezTo>
                  <a:pt x="3470" y="172"/>
                  <a:pt x="3446" y="168"/>
                  <a:pt x="3371" y="148"/>
                </a:cubicBezTo>
                <a:cubicBezTo>
                  <a:pt x="3351" y="151"/>
                  <a:pt x="3331" y="161"/>
                  <a:pt x="3311" y="160"/>
                </a:cubicBezTo>
                <a:cubicBezTo>
                  <a:pt x="3215" y="154"/>
                  <a:pt x="3121" y="120"/>
                  <a:pt x="3026" y="106"/>
                </a:cubicBezTo>
                <a:cubicBezTo>
                  <a:pt x="3020" y="104"/>
                  <a:pt x="2990" y="93"/>
                  <a:pt x="2985" y="95"/>
                </a:cubicBezTo>
                <a:cubicBezTo>
                  <a:pt x="2977" y="97"/>
                  <a:pt x="2974" y="108"/>
                  <a:pt x="2967" y="112"/>
                </a:cubicBezTo>
                <a:cubicBezTo>
                  <a:pt x="2956" y="118"/>
                  <a:pt x="2931" y="124"/>
                  <a:pt x="2931" y="124"/>
                </a:cubicBezTo>
                <a:cubicBezTo>
                  <a:pt x="2881" y="119"/>
                  <a:pt x="2880" y="124"/>
                  <a:pt x="2842" y="106"/>
                </a:cubicBezTo>
                <a:cubicBezTo>
                  <a:pt x="2795" y="83"/>
                  <a:pt x="2759" y="46"/>
                  <a:pt x="2706" y="35"/>
                </a:cubicBezTo>
                <a:cubicBezTo>
                  <a:pt x="2694" y="29"/>
                  <a:pt x="2683" y="22"/>
                  <a:pt x="2670" y="17"/>
                </a:cubicBezTo>
                <a:cubicBezTo>
                  <a:pt x="2651" y="10"/>
                  <a:pt x="2611" y="0"/>
                  <a:pt x="2611" y="0"/>
                </a:cubicBezTo>
                <a:cubicBezTo>
                  <a:pt x="2569" y="2"/>
                  <a:pt x="2527" y="0"/>
                  <a:pt x="2486" y="5"/>
                </a:cubicBezTo>
                <a:cubicBezTo>
                  <a:pt x="2419" y="12"/>
                  <a:pt x="2369" y="63"/>
                  <a:pt x="2308" y="83"/>
                </a:cubicBezTo>
                <a:cubicBezTo>
                  <a:pt x="2248" y="59"/>
                  <a:pt x="2188" y="48"/>
                  <a:pt x="2124" y="41"/>
                </a:cubicBezTo>
                <a:cubicBezTo>
                  <a:pt x="2059" y="47"/>
                  <a:pt x="2003" y="61"/>
                  <a:pt x="1940" y="77"/>
                </a:cubicBezTo>
                <a:cubicBezTo>
                  <a:pt x="1911" y="84"/>
                  <a:pt x="1890" y="109"/>
                  <a:pt x="1862" y="118"/>
                </a:cubicBezTo>
                <a:cubicBezTo>
                  <a:pt x="1824" y="105"/>
                  <a:pt x="1850" y="115"/>
                  <a:pt x="1785" y="83"/>
                </a:cubicBezTo>
                <a:cubicBezTo>
                  <a:pt x="1735" y="59"/>
                  <a:pt x="1667" y="52"/>
                  <a:pt x="1613" y="47"/>
                </a:cubicBezTo>
                <a:cubicBezTo>
                  <a:pt x="1488" y="58"/>
                  <a:pt x="1372" y="110"/>
                  <a:pt x="1251" y="142"/>
                </a:cubicBezTo>
                <a:cubicBezTo>
                  <a:pt x="1131" y="134"/>
                  <a:pt x="1099" y="131"/>
                  <a:pt x="960" y="136"/>
                </a:cubicBezTo>
                <a:cubicBezTo>
                  <a:pt x="879" y="190"/>
                  <a:pt x="803" y="185"/>
                  <a:pt x="704" y="190"/>
                </a:cubicBezTo>
                <a:cubicBezTo>
                  <a:pt x="676" y="198"/>
                  <a:pt x="653" y="218"/>
                  <a:pt x="627" y="231"/>
                </a:cubicBezTo>
                <a:cubicBezTo>
                  <a:pt x="597" y="246"/>
                  <a:pt x="559" y="239"/>
                  <a:pt x="532" y="261"/>
                </a:cubicBezTo>
                <a:cubicBezTo>
                  <a:pt x="475" y="306"/>
                  <a:pt x="519" y="289"/>
                  <a:pt x="479" y="302"/>
                </a:cubicBezTo>
                <a:cubicBezTo>
                  <a:pt x="470" y="311"/>
                  <a:pt x="392" y="361"/>
                  <a:pt x="443" y="344"/>
                </a:cubicBezTo>
                <a:cubicBezTo>
                  <a:pt x="457" y="301"/>
                  <a:pt x="401" y="323"/>
                  <a:pt x="372" y="326"/>
                </a:cubicBezTo>
                <a:cubicBezTo>
                  <a:pt x="355" y="351"/>
                  <a:pt x="362" y="362"/>
                  <a:pt x="378" y="386"/>
                </a:cubicBezTo>
                <a:cubicBezTo>
                  <a:pt x="391" y="437"/>
                  <a:pt x="390" y="449"/>
                  <a:pt x="390" y="421"/>
                </a:cubicBez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Freeform 31"/>
          <p:cNvSpPr/>
          <p:nvPr/>
        </p:nvSpPr>
        <p:spPr>
          <a:xfrm flipH="1">
            <a:off x="1618560" y="4032360"/>
            <a:ext cx="604836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Freeform 32"/>
          <p:cNvSpPr/>
          <p:nvPr/>
        </p:nvSpPr>
        <p:spPr>
          <a:xfrm>
            <a:off x="1835280" y="3672000"/>
            <a:ext cx="573552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Freeform 33"/>
          <p:cNvSpPr/>
          <p:nvPr/>
        </p:nvSpPr>
        <p:spPr>
          <a:xfrm>
            <a:off x="2117880" y="4325760"/>
            <a:ext cx="5010120" cy="1209960"/>
          </a:xfrm>
          <a:custGeom>
            <a:avLst/>
            <a:gdLst/>
            <a:ahLst/>
            <a:rect l="l" t="t" r="r" b="b"/>
            <a:pathLst>
              <a:path w="3156" h="762">
                <a:moveTo>
                  <a:pt x="390" y="251"/>
                </a:moveTo>
                <a:cubicBezTo>
                  <a:pt x="373" y="254"/>
                  <a:pt x="353" y="258"/>
                  <a:pt x="336" y="263"/>
                </a:cubicBezTo>
                <a:cubicBezTo>
                  <a:pt x="324" y="267"/>
                  <a:pt x="300" y="275"/>
                  <a:pt x="300" y="275"/>
                </a:cubicBezTo>
                <a:cubicBezTo>
                  <a:pt x="260" y="303"/>
                  <a:pt x="278" y="295"/>
                  <a:pt x="247" y="305"/>
                </a:cubicBezTo>
                <a:cubicBezTo>
                  <a:pt x="221" y="341"/>
                  <a:pt x="192" y="345"/>
                  <a:pt x="152" y="358"/>
                </a:cubicBezTo>
                <a:cubicBezTo>
                  <a:pt x="109" y="344"/>
                  <a:pt x="67" y="354"/>
                  <a:pt x="27" y="370"/>
                </a:cubicBezTo>
                <a:cubicBezTo>
                  <a:pt x="8" y="390"/>
                  <a:pt x="1" y="397"/>
                  <a:pt x="10" y="423"/>
                </a:cubicBezTo>
                <a:cubicBezTo>
                  <a:pt x="82" y="408"/>
                  <a:pt x="0" y="415"/>
                  <a:pt x="45" y="453"/>
                </a:cubicBezTo>
                <a:cubicBezTo>
                  <a:pt x="53" y="460"/>
                  <a:pt x="65" y="449"/>
                  <a:pt x="75" y="447"/>
                </a:cubicBezTo>
                <a:cubicBezTo>
                  <a:pt x="103" y="449"/>
                  <a:pt x="130" y="450"/>
                  <a:pt x="158" y="453"/>
                </a:cubicBezTo>
                <a:cubicBezTo>
                  <a:pt x="164" y="454"/>
                  <a:pt x="170" y="461"/>
                  <a:pt x="176" y="459"/>
                </a:cubicBezTo>
                <a:cubicBezTo>
                  <a:pt x="189" y="455"/>
                  <a:pt x="198" y="440"/>
                  <a:pt x="211" y="435"/>
                </a:cubicBezTo>
                <a:cubicBezTo>
                  <a:pt x="215" y="441"/>
                  <a:pt x="220" y="447"/>
                  <a:pt x="223" y="453"/>
                </a:cubicBezTo>
                <a:cubicBezTo>
                  <a:pt x="226" y="459"/>
                  <a:pt x="223" y="471"/>
                  <a:pt x="229" y="471"/>
                </a:cubicBezTo>
                <a:cubicBezTo>
                  <a:pt x="241" y="471"/>
                  <a:pt x="248" y="458"/>
                  <a:pt x="259" y="453"/>
                </a:cubicBezTo>
                <a:cubicBezTo>
                  <a:pt x="272" y="447"/>
                  <a:pt x="287" y="446"/>
                  <a:pt x="300" y="441"/>
                </a:cubicBezTo>
                <a:cubicBezTo>
                  <a:pt x="349" y="457"/>
                  <a:pt x="301" y="470"/>
                  <a:pt x="366" y="459"/>
                </a:cubicBezTo>
                <a:cubicBezTo>
                  <a:pt x="407" y="432"/>
                  <a:pt x="424" y="394"/>
                  <a:pt x="473" y="370"/>
                </a:cubicBezTo>
                <a:cubicBezTo>
                  <a:pt x="502" y="414"/>
                  <a:pt x="471" y="424"/>
                  <a:pt x="496" y="483"/>
                </a:cubicBezTo>
                <a:cubicBezTo>
                  <a:pt x="500" y="492"/>
                  <a:pt x="516" y="487"/>
                  <a:pt x="526" y="489"/>
                </a:cubicBezTo>
                <a:cubicBezTo>
                  <a:pt x="546" y="518"/>
                  <a:pt x="531" y="521"/>
                  <a:pt x="568" y="530"/>
                </a:cubicBezTo>
                <a:cubicBezTo>
                  <a:pt x="560" y="584"/>
                  <a:pt x="565" y="609"/>
                  <a:pt x="538" y="649"/>
                </a:cubicBezTo>
                <a:cubicBezTo>
                  <a:pt x="546" y="674"/>
                  <a:pt x="543" y="684"/>
                  <a:pt x="586" y="655"/>
                </a:cubicBezTo>
                <a:cubicBezTo>
                  <a:pt x="603" y="643"/>
                  <a:pt x="609" y="596"/>
                  <a:pt x="609" y="596"/>
                </a:cubicBezTo>
                <a:cubicBezTo>
                  <a:pt x="626" y="645"/>
                  <a:pt x="656" y="602"/>
                  <a:pt x="669" y="578"/>
                </a:cubicBezTo>
                <a:cubicBezTo>
                  <a:pt x="686" y="596"/>
                  <a:pt x="691" y="611"/>
                  <a:pt x="704" y="631"/>
                </a:cubicBezTo>
                <a:cubicBezTo>
                  <a:pt x="710" y="656"/>
                  <a:pt x="719" y="675"/>
                  <a:pt x="734" y="696"/>
                </a:cubicBezTo>
                <a:cubicBezTo>
                  <a:pt x="760" y="680"/>
                  <a:pt x="765" y="651"/>
                  <a:pt x="781" y="625"/>
                </a:cubicBezTo>
                <a:cubicBezTo>
                  <a:pt x="789" y="629"/>
                  <a:pt x="799" y="631"/>
                  <a:pt x="805" y="637"/>
                </a:cubicBezTo>
                <a:cubicBezTo>
                  <a:pt x="815" y="647"/>
                  <a:pt x="829" y="673"/>
                  <a:pt x="829" y="673"/>
                </a:cubicBezTo>
                <a:cubicBezTo>
                  <a:pt x="847" y="618"/>
                  <a:pt x="832" y="633"/>
                  <a:pt x="853" y="655"/>
                </a:cubicBezTo>
                <a:cubicBezTo>
                  <a:pt x="860" y="662"/>
                  <a:pt x="868" y="667"/>
                  <a:pt x="876" y="673"/>
                </a:cubicBezTo>
                <a:cubicBezTo>
                  <a:pt x="884" y="669"/>
                  <a:pt x="894" y="667"/>
                  <a:pt x="900" y="661"/>
                </a:cubicBezTo>
                <a:cubicBezTo>
                  <a:pt x="904" y="657"/>
                  <a:pt x="900" y="646"/>
                  <a:pt x="906" y="643"/>
                </a:cubicBezTo>
                <a:cubicBezTo>
                  <a:pt x="913" y="639"/>
                  <a:pt x="939" y="659"/>
                  <a:pt x="942" y="661"/>
                </a:cubicBezTo>
                <a:cubicBezTo>
                  <a:pt x="952" y="659"/>
                  <a:pt x="964" y="661"/>
                  <a:pt x="972" y="655"/>
                </a:cubicBezTo>
                <a:cubicBezTo>
                  <a:pt x="992" y="640"/>
                  <a:pt x="976" y="624"/>
                  <a:pt x="989" y="607"/>
                </a:cubicBezTo>
                <a:cubicBezTo>
                  <a:pt x="997" y="597"/>
                  <a:pt x="1014" y="597"/>
                  <a:pt x="1025" y="590"/>
                </a:cubicBezTo>
                <a:cubicBezTo>
                  <a:pt x="1036" y="557"/>
                  <a:pt x="1049" y="572"/>
                  <a:pt x="1061" y="596"/>
                </a:cubicBezTo>
                <a:cubicBezTo>
                  <a:pt x="1064" y="601"/>
                  <a:pt x="1063" y="609"/>
                  <a:pt x="1067" y="613"/>
                </a:cubicBezTo>
                <a:cubicBezTo>
                  <a:pt x="1071" y="617"/>
                  <a:pt x="1078" y="617"/>
                  <a:pt x="1084" y="619"/>
                </a:cubicBezTo>
                <a:cubicBezTo>
                  <a:pt x="1088" y="613"/>
                  <a:pt x="1091" y="606"/>
                  <a:pt x="1096" y="601"/>
                </a:cubicBezTo>
                <a:cubicBezTo>
                  <a:pt x="1107" y="592"/>
                  <a:pt x="1132" y="578"/>
                  <a:pt x="1132" y="578"/>
                </a:cubicBezTo>
                <a:cubicBezTo>
                  <a:pt x="1146" y="599"/>
                  <a:pt x="1149" y="616"/>
                  <a:pt x="1173" y="625"/>
                </a:cubicBezTo>
                <a:cubicBezTo>
                  <a:pt x="1180" y="623"/>
                  <a:pt x="1224" y="608"/>
                  <a:pt x="1227" y="607"/>
                </a:cubicBezTo>
                <a:cubicBezTo>
                  <a:pt x="1233" y="605"/>
                  <a:pt x="1245" y="601"/>
                  <a:pt x="1245" y="601"/>
                </a:cubicBezTo>
                <a:cubicBezTo>
                  <a:pt x="1255" y="563"/>
                  <a:pt x="1263" y="526"/>
                  <a:pt x="1304" y="512"/>
                </a:cubicBezTo>
                <a:cubicBezTo>
                  <a:pt x="1330" y="478"/>
                  <a:pt x="1364" y="449"/>
                  <a:pt x="1405" y="435"/>
                </a:cubicBezTo>
                <a:cubicBezTo>
                  <a:pt x="1428" y="465"/>
                  <a:pt x="1420" y="482"/>
                  <a:pt x="1435" y="512"/>
                </a:cubicBezTo>
                <a:cubicBezTo>
                  <a:pt x="1444" y="530"/>
                  <a:pt x="1455" y="548"/>
                  <a:pt x="1464" y="566"/>
                </a:cubicBezTo>
                <a:cubicBezTo>
                  <a:pt x="1493" y="547"/>
                  <a:pt x="1479" y="561"/>
                  <a:pt x="1494" y="518"/>
                </a:cubicBezTo>
                <a:cubicBezTo>
                  <a:pt x="1496" y="512"/>
                  <a:pt x="1500" y="501"/>
                  <a:pt x="1500" y="501"/>
                </a:cubicBezTo>
                <a:cubicBezTo>
                  <a:pt x="1508" y="507"/>
                  <a:pt x="1518" y="511"/>
                  <a:pt x="1524" y="518"/>
                </a:cubicBezTo>
                <a:cubicBezTo>
                  <a:pt x="1543" y="540"/>
                  <a:pt x="1536" y="556"/>
                  <a:pt x="1565" y="566"/>
                </a:cubicBezTo>
                <a:cubicBezTo>
                  <a:pt x="1594" y="595"/>
                  <a:pt x="1620" y="638"/>
                  <a:pt x="1654" y="661"/>
                </a:cubicBezTo>
                <a:cubicBezTo>
                  <a:pt x="1670" y="672"/>
                  <a:pt x="1677" y="675"/>
                  <a:pt x="1690" y="691"/>
                </a:cubicBezTo>
                <a:cubicBezTo>
                  <a:pt x="1709" y="715"/>
                  <a:pt x="1718" y="744"/>
                  <a:pt x="1743" y="762"/>
                </a:cubicBezTo>
                <a:cubicBezTo>
                  <a:pt x="1753" y="732"/>
                  <a:pt x="1730" y="685"/>
                  <a:pt x="1720" y="655"/>
                </a:cubicBezTo>
                <a:cubicBezTo>
                  <a:pt x="1718" y="641"/>
                  <a:pt x="1717" y="627"/>
                  <a:pt x="1714" y="613"/>
                </a:cubicBezTo>
                <a:cubicBezTo>
                  <a:pt x="1711" y="601"/>
                  <a:pt x="1702" y="578"/>
                  <a:pt x="1702" y="578"/>
                </a:cubicBezTo>
                <a:cubicBezTo>
                  <a:pt x="1704" y="570"/>
                  <a:pt x="1700" y="554"/>
                  <a:pt x="1708" y="554"/>
                </a:cubicBezTo>
                <a:cubicBezTo>
                  <a:pt x="1717" y="554"/>
                  <a:pt x="1716" y="570"/>
                  <a:pt x="1720" y="578"/>
                </a:cubicBezTo>
                <a:cubicBezTo>
                  <a:pt x="1731" y="597"/>
                  <a:pt x="1733" y="597"/>
                  <a:pt x="1749" y="613"/>
                </a:cubicBezTo>
                <a:cubicBezTo>
                  <a:pt x="1751" y="619"/>
                  <a:pt x="1769" y="678"/>
                  <a:pt x="1773" y="643"/>
                </a:cubicBezTo>
                <a:cubicBezTo>
                  <a:pt x="1777" y="608"/>
                  <a:pt x="1772" y="571"/>
                  <a:pt x="1767" y="536"/>
                </a:cubicBezTo>
                <a:cubicBezTo>
                  <a:pt x="1766" y="527"/>
                  <a:pt x="1751" y="520"/>
                  <a:pt x="1755" y="512"/>
                </a:cubicBezTo>
                <a:cubicBezTo>
                  <a:pt x="1758" y="506"/>
                  <a:pt x="1767" y="520"/>
                  <a:pt x="1773" y="524"/>
                </a:cubicBezTo>
                <a:cubicBezTo>
                  <a:pt x="1816" y="496"/>
                  <a:pt x="1768" y="534"/>
                  <a:pt x="1803" y="453"/>
                </a:cubicBezTo>
                <a:cubicBezTo>
                  <a:pt x="1806" y="447"/>
                  <a:pt x="1805" y="466"/>
                  <a:pt x="1809" y="471"/>
                </a:cubicBezTo>
                <a:cubicBezTo>
                  <a:pt x="1819" y="481"/>
                  <a:pt x="1833" y="487"/>
                  <a:pt x="1844" y="495"/>
                </a:cubicBezTo>
                <a:cubicBezTo>
                  <a:pt x="1873" y="516"/>
                  <a:pt x="1889" y="534"/>
                  <a:pt x="1922" y="542"/>
                </a:cubicBezTo>
                <a:cubicBezTo>
                  <a:pt x="1946" y="554"/>
                  <a:pt x="1955" y="569"/>
                  <a:pt x="1981" y="560"/>
                </a:cubicBezTo>
                <a:cubicBezTo>
                  <a:pt x="1983" y="544"/>
                  <a:pt x="1976" y="523"/>
                  <a:pt x="1987" y="512"/>
                </a:cubicBezTo>
                <a:cubicBezTo>
                  <a:pt x="1995" y="504"/>
                  <a:pt x="2049" y="548"/>
                  <a:pt x="2058" y="554"/>
                </a:cubicBezTo>
                <a:cubicBezTo>
                  <a:pt x="2092" y="531"/>
                  <a:pt x="2063" y="519"/>
                  <a:pt x="2106" y="530"/>
                </a:cubicBezTo>
                <a:cubicBezTo>
                  <a:pt x="2143" y="555"/>
                  <a:pt x="2152" y="561"/>
                  <a:pt x="2201" y="572"/>
                </a:cubicBezTo>
                <a:cubicBezTo>
                  <a:pt x="2254" y="608"/>
                  <a:pt x="2172" y="550"/>
                  <a:pt x="2242" y="613"/>
                </a:cubicBezTo>
                <a:cubicBezTo>
                  <a:pt x="2265" y="633"/>
                  <a:pt x="2294" y="644"/>
                  <a:pt x="2319" y="661"/>
                </a:cubicBezTo>
                <a:cubicBezTo>
                  <a:pt x="2402" y="644"/>
                  <a:pt x="2279" y="679"/>
                  <a:pt x="2355" y="578"/>
                </a:cubicBezTo>
                <a:cubicBezTo>
                  <a:pt x="2363" y="567"/>
                  <a:pt x="2374" y="598"/>
                  <a:pt x="2385" y="607"/>
                </a:cubicBezTo>
                <a:cubicBezTo>
                  <a:pt x="2402" y="621"/>
                  <a:pt x="2423" y="630"/>
                  <a:pt x="2444" y="637"/>
                </a:cubicBezTo>
                <a:cubicBezTo>
                  <a:pt x="2452" y="633"/>
                  <a:pt x="2462" y="632"/>
                  <a:pt x="2468" y="625"/>
                </a:cubicBezTo>
                <a:cubicBezTo>
                  <a:pt x="2473" y="619"/>
                  <a:pt x="2466" y="603"/>
                  <a:pt x="2474" y="601"/>
                </a:cubicBezTo>
                <a:cubicBezTo>
                  <a:pt x="2482" y="599"/>
                  <a:pt x="2485" y="614"/>
                  <a:pt x="2492" y="619"/>
                </a:cubicBezTo>
                <a:cubicBezTo>
                  <a:pt x="2507" y="630"/>
                  <a:pt x="2523" y="639"/>
                  <a:pt x="2539" y="649"/>
                </a:cubicBezTo>
                <a:cubicBezTo>
                  <a:pt x="2557" y="660"/>
                  <a:pt x="2599" y="673"/>
                  <a:pt x="2599" y="673"/>
                </a:cubicBezTo>
                <a:cubicBezTo>
                  <a:pt x="2606" y="642"/>
                  <a:pt x="2599" y="622"/>
                  <a:pt x="2581" y="596"/>
                </a:cubicBezTo>
                <a:cubicBezTo>
                  <a:pt x="2576" y="569"/>
                  <a:pt x="2567" y="549"/>
                  <a:pt x="2575" y="524"/>
                </a:cubicBezTo>
                <a:cubicBezTo>
                  <a:pt x="2589" y="526"/>
                  <a:pt x="2603" y="525"/>
                  <a:pt x="2616" y="530"/>
                </a:cubicBezTo>
                <a:cubicBezTo>
                  <a:pt x="2656" y="546"/>
                  <a:pt x="2687" y="582"/>
                  <a:pt x="2729" y="596"/>
                </a:cubicBezTo>
                <a:cubicBezTo>
                  <a:pt x="2737" y="594"/>
                  <a:pt x="2749" y="597"/>
                  <a:pt x="2753" y="590"/>
                </a:cubicBezTo>
                <a:cubicBezTo>
                  <a:pt x="2781" y="533"/>
                  <a:pt x="2732" y="529"/>
                  <a:pt x="2783" y="542"/>
                </a:cubicBezTo>
                <a:cubicBezTo>
                  <a:pt x="2808" y="555"/>
                  <a:pt x="2831" y="569"/>
                  <a:pt x="2854" y="584"/>
                </a:cubicBezTo>
                <a:cubicBezTo>
                  <a:pt x="2862" y="582"/>
                  <a:pt x="2872" y="583"/>
                  <a:pt x="2878" y="578"/>
                </a:cubicBezTo>
                <a:cubicBezTo>
                  <a:pt x="2883" y="574"/>
                  <a:pt x="2878" y="561"/>
                  <a:pt x="2884" y="560"/>
                </a:cubicBezTo>
                <a:cubicBezTo>
                  <a:pt x="2931" y="556"/>
                  <a:pt x="2979" y="564"/>
                  <a:pt x="3026" y="566"/>
                </a:cubicBezTo>
                <a:cubicBezTo>
                  <a:pt x="3050" y="582"/>
                  <a:pt x="3057" y="585"/>
                  <a:pt x="3085" y="578"/>
                </a:cubicBezTo>
                <a:cubicBezTo>
                  <a:pt x="3034" y="524"/>
                  <a:pt x="3121" y="570"/>
                  <a:pt x="3145" y="578"/>
                </a:cubicBezTo>
                <a:cubicBezTo>
                  <a:pt x="3151" y="559"/>
                  <a:pt x="3156" y="557"/>
                  <a:pt x="3145" y="536"/>
                </a:cubicBezTo>
                <a:cubicBezTo>
                  <a:pt x="3125" y="496"/>
                  <a:pt x="3102" y="497"/>
                  <a:pt x="3145" y="506"/>
                </a:cubicBezTo>
                <a:cubicBezTo>
                  <a:pt x="3105" y="481"/>
                  <a:pt x="3092" y="482"/>
                  <a:pt x="3038" y="477"/>
                </a:cubicBezTo>
                <a:cubicBezTo>
                  <a:pt x="2984" y="466"/>
                  <a:pt x="2960" y="422"/>
                  <a:pt x="2925" y="382"/>
                </a:cubicBezTo>
                <a:cubicBezTo>
                  <a:pt x="2898" y="351"/>
                  <a:pt x="2868" y="324"/>
                  <a:pt x="2842" y="293"/>
                </a:cubicBezTo>
                <a:cubicBezTo>
                  <a:pt x="2812" y="258"/>
                  <a:pt x="2828" y="278"/>
                  <a:pt x="2795" y="257"/>
                </a:cubicBezTo>
                <a:cubicBezTo>
                  <a:pt x="2787" y="252"/>
                  <a:pt x="2779" y="246"/>
                  <a:pt x="2771" y="239"/>
                </a:cubicBezTo>
                <a:cubicBezTo>
                  <a:pt x="2765" y="233"/>
                  <a:pt x="2760" y="226"/>
                  <a:pt x="2753" y="221"/>
                </a:cubicBezTo>
                <a:cubicBezTo>
                  <a:pt x="2706" y="188"/>
                  <a:pt x="2652" y="164"/>
                  <a:pt x="2604" y="132"/>
                </a:cubicBezTo>
                <a:cubicBezTo>
                  <a:pt x="2608" y="140"/>
                  <a:pt x="2611" y="148"/>
                  <a:pt x="2616" y="156"/>
                </a:cubicBezTo>
                <a:cubicBezTo>
                  <a:pt x="2621" y="164"/>
                  <a:pt x="2629" y="171"/>
                  <a:pt x="2634" y="180"/>
                </a:cubicBezTo>
                <a:cubicBezTo>
                  <a:pt x="2648" y="204"/>
                  <a:pt x="2652" y="232"/>
                  <a:pt x="2664" y="257"/>
                </a:cubicBezTo>
                <a:cubicBezTo>
                  <a:pt x="2662" y="273"/>
                  <a:pt x="2674" y="302"/>
                  <a:pt x="2658" y="305"/>
                </a:cubicBezTo>
                <a:cubicBezTo>
                  <a:pt x="2638" y="309"/>
                  <a:pt x="2626" y="281"/>
                  <a:pt x="2610" y="269"/>
                </a:cubicBezTo>
                <a:cubicBezTo>
                  <a:pt x="2604" y="265"/>
                  <a:pt x="2593" y="257"/>
                  <a:pt x="2593" y="257"/>
                </a:cubicBezTo>
                <a:cubicBezTo>
                  <a:pt x="2544" y="306"/>
                  <a:pt x="2615" y="228"/>
                  <a:pt x="2569" y="340"/>
                </a:cubicBezTo>
                <a:cubicBezTo>
                  <a:pt x="2567" y="346"/>
                  <a:pt x="2557" y="336"/>
                  <a:pt x="2551" y="334"/>
                </a:cubicBezTo>
                <a:cubicBezTo>
                  <a:pt x="2543" y="330"/>
                  <a:pt x="2535" y="327"/>
                  <a:pt x="2527" y="322"/>
                </a:cubicBezTo>
                <a:cubicBezTo>
                  <a:pt x="2498" y="304"/>
                  <a:pt x="2472" y="282"/>
                  <a:pt x="2444" y="263"/>
                </a:cubicBezTo>
                <a:cubicBezTo>
                  <a:pt x="2430" y="222"/>
                  <a:pt x="2407" y="193"/>
                  <a:pt x="2367" y="180"/>
                </a:cubicBezTo>
                <a:cubicBezTo>
                  <a:pt x="2333" y="231"/>
                  <a:pt x="2389" y="352"/>
                  <a:pt x="2308" y="293"/>
                </a:cubicBezTo>
                <a:cubicBezTo>
                  <a:pt x="2301" y="288"/>
                  <a:pt x="2296" y="281"/>
                  <a:pt x="2290" y="275"/>
                </a:cubicBezTo>
                <a:cubicBezTo>
                  <a:pt x="2251" y="285"/>
                  <a:pt x="2273" y="290"/>
                  <a:pt x="2242" y="311"/>
                </a:cubicBezTo>
                <a:cubicBezTo>
                  <a:pt x="2201" y="297"/>
                  <a:pt x="2171" y="268"/>
                  <a:pt x="2129" y="257"/>
                </a:cubicBezTo>
                <a:cubicBezTo>
                  <a:pt x="2123" y="263"/>
                  <a:pt x="2116" y="268"/>
                  <a:pt x="2112" y="275"/>
                </a:cubicBezTo>
                <a:cubicBezTo>
                  <a:pt x="2109" y="280"/>
                  <a:pt x="2112" y="293"/>
                  <a:pt x="2106" y="293"/>
                </a:cubicBezTo>
                <a:cubicBezTo>
                  <a:pt x="2101" y="293"/>
                  <a:pt x="2062" y="262"/>
                  <a:pt x="2046" y="257"/>
                </a:cubicBezTo>
                <a:cubicBezTo>
                  <a:pt x="2040" y="261"/>
                  <a:pt x="2031" y="262"/>
                  <a:pt x="2028" y="269"/>
                </a:cubicBezTo>
                <a:cubicBezTo>
                  <a:pt x="2010" y="307"/>
                  <a:pt x="2041" y="311"/>
                  <a:pt x="2005" y="299"/>
                </a:cubicBezTo>
                <a:cubicBezTo>
                  <a:pt x="1962" y="256"/>
                  <a:pt x="1925" y="214"/>
                  <a:pt x="1886" y="168"/>
                </a:cubicBezTo>
                <a:cubicBezTo>
                  <a:pt x="1871" y="151"/>
                  <a:pt x="1844" y="115"/>
                  <a:pt x="1844" y="115"/>
                </a:cubicBezTo>
                <a:cubicBezTo>
                  <a:pt x="1835" y="78"/>
                  <a:pt x="1842" y="97"/>
                  <a:pt x="1815" y="55"/>
                </a:cubicBezTo>
                <a:cubicBezTo>
                  <a:pt x="1811" y="49"/>
                  <a:pt x="1803" y="37"/>
                  <a:pt x="1803" y="37"/>
                </a:cubicBezTo>
                <a:cubicBezTo>
                  <a:pt x="1752" y="140"/>
                  <a:pt x="1817" y="0"/>
                  <a:pt x="1785" y="305"/>
                </a:cubicBezTo>
                <a:cubicBezTo>
                  <a:pt x="1784" y="313"/>
                  <a:pt x="1774" y="292"/>
                  <a:pt x="1767" y="287"/>
                </a:cubicBezTo>
                <a:cubicBezTo>
                  <a:pt x="1752" y="276"/>
                  <a:pt x="1720" y="257"/>
                  <a:pt x="1720" y="257"/>
                </a:cubicBezTo>
                <a:cubicBezTo>
                  <a:pt x="1711" y="284"/>
                  <a:pt x="1718" y="314"/>
                  <a:pt x="1708" y="340"/>
                </a:cubicBezTo>
                <a:cubicBezTo>
                  <a:pt x="1705" y="347"/>
                  <a:pt x="1701" y="327"/>
                  <a:pt x="1696" y="322"/>
                </a:cubicBezTo>
                <a:cubicBezTo>
                  <a:pt x="1689" y="315"/>
                  <a:pt x="1679" y="312"/>
                  <a:pt x="1672" y="305"/>
                </a:cubicBezTo>
                <a:cubicBezTo>
                  <a:pt x="1660" y="294"/>
                  <a:pt x="1637" y="269"/>
                  <a:pt x="1637" y="269"/>
                </a:cubicBezTo>
                <a:cubicBezTo>
                  <a:pt x="1623" y="297"/>
                  <a:pt x="1625" y="326"/>
                  <a:pt x="1607" y="352"/>
                </a:cubicBezTo>
                <a:cubicBezTo>
                  <a:pt x="1605" y="360"/>
                  <a:pt x="1608" y="372"/>
                  <a:pt x="1601" y="376"/>
                </a:cubicBezTo>
                <a:cubicBezTo>
                  <a:pt x="1595" y="379"/>
                  <a:pt x="1589" y="368"/>
                  <a:pt x="1583" y="364"/>
                </a:cubicBezTo>
                <a:cubicBezTo>
                  <a:pt x="1575" y="358"/>
                  <a:pt x="1566" y="353"/>
                  <a:pt x="1559" y="346"/>
                </a:cubicBezTo>
                <a:cubicBezTo>
                  <a:pt x="1551" y="339"/>
                  <a:pt x="1545" y="329"/>
                  <a:pt x="1536" y="322"/>
                </a:cubicBezTo>
                <a:cubicBezTo>
                  <a:pt x="1523" y="312"/>
                  <a:pt x="1507" y="308"/>
                  <a:pt x="1494" y="299"/>
                </a:cubicBezTo>
                <a:cubicBezTo>
                  <a:pt x="1481" y="347"/>
                  <a:pt x="1495" y="309"/>
                  <a:pt x="1482" y="281"/>
                </a:cubicBezTo>
                <a:cubicBezTo>
                  <a:pt x="1479" y="274"/>
                  <a:pt x="1470" y="273"/>
                  <a:pt x="1464" y="269"/>
                </a:cubicBezTo>
                <a:cubicBezTo>
                  <a:pt x="1447" y="287"/>
                  <a:pt x="1438" y="303"/>
                  <a:pt x="1417" y="316"/>
                </a:cubicBezTo>
                <a:cubicBezTo>
                  <a:pt x="1397" y="345"/>
                  <a:pt x="1378" y="347"/>
                  <a:pt x="1346" y="358"/>
                </a:cubicBezTo>
                <a:cubicBezTo>
                  <a:pt x="1344" y="348"/>
                  <a:pt x="1340" y="338"/>
                  <a:pt x="1340" y="328"/>
                </a:cubicBezTo>
                <a:cubicBezTo>
                  <a:pt x="1340" y="312"/>
                  <a:pt x="1351" y="296"/>
                  <a:pt x="1346" y="281"/>
                </a:cubicBezTo>
                <a:cubicBezTo>
                  <a:pt x="1344" y="274"/>
                  <a:pt x="1334" y="288"/>
                  <a:pt x="1328" y="293"/>
                </a:cubicBezTo>
                <a:cubicBezTo>
                  <a:pt x="1321" y="298"/>
                  <a:pt x="1317" y="306"/>
                  <a:pt x="1310" y="311"/>
                </a:cubicBezTo>
                <a:cubicBezTo>
                  <a:pt x="1285" y="330"/>
                  <a:pt x="1257" y="350"/>
                  <a:pt x="1227" y="358"/>
                </a:cubicBezTo>
                <a:cubicBezTo>
                  <a:pt x="1214" y="377"/>
                  <a:pt x="1197" y="386"/>
                  <a:pt x="1179" y="400"/>
                </a:cubicBezTo>
                <a:cubicBezTo>
                  <a:pt x="1168" y="409"/>
                  <a:pt x="1144" y="423"/>
                  <a:pt x="1144" y="423"/>
                </a:cubicBezTo>
                <a:cubicBezTo>
                  <a:pt x="1158" y="355"/>
                  <a:pt x="1140" y="434"/>
                  <a:pt x="1162" y="364"/>
                </a:cubicBezTo>
                <a:cubicBezTo>
                  <a:pt x="1164" y="356"/>
                  <a:pt x="1165" y="348"/>
                  <a:pt x="1167" y="340"/>
                </a:cubicBezTo>
                <a:cubicBezTo>
                  <a:pt x="1169" y="334"/>
                  <a:pt x="1177" y="317"/>
                  <a:pt x="1173" y="322"/>
                </a:cubicBezTo>
                <a:cubicBezTo>
                  <a:pt x="1167" y="329"/>
                  <a:pt x="1165" y="338"/>
                  <a:pt x="1162" y="346"/>
                </a:cubicBezTo>
                <a:cubicBezTo>
                  <a:pt x="1160" y="352"/>
                  <a:pt x="1160" y="359"/>
                  <a:pt x="1156" y="364"/>
                </a:cubicBezTo>
                <a:cubicBezTo>
                  <a:pt x="1119" y="409"/>
                  <a:pt x="1121" y="404"/>
                  <a:pt x="1084" y="423"/>
                </a:cubicBezTo>
                <a:cubicBezTo>
                  <a:pt x="1086" y="393"/>
                  <a:pt x="1099" y="362"/>
                  <a:pt x="1090" y="334"/>
                </a:cubicBezTo>
                <a:cubicBezTo>
                  <a:pt x="1086" y="323"/>
                  <a:pt x="1070" y="345"/>
                  <a:pt x="1061" y="352"/>
                </a:cubicBezTo>
                <a:cubicBezTo>
                  <a:pt x="1015" y="384"/>
                  <a:pt x="1023" y="378"/>
                  <a:pt x="995" y="406"/>
                </a:cubicBezTo>
                <a:cubicBezTo>
                  <a:pt x="997" y="398"/>
                  <a:pt x="1009" y="385"/>
                  <a:pt x="1001" y="382"/>
                </a:cubicBezTo>
                <a:cubicBezTo>
                  <a:pt x="992" y="379"/>
                  <a:pt x="985" y="394"/>
                  <a:pt x="977" y="400"/>
                </a:cubicBezTo>
                <a:cubicBezTo>
                  <a:pt x="942" y="423"/>
                  <a:pt x="958" y="413"/>
                  <a:pt x="924" y="423"/>
                </a:cubicBezTo>
                <a:cubicBezTo>
                  <a:pt x="912" y="427"/>
                  <a:pt x="888" y="435"/>
                  <a:pt x="888" y="435"/>
                </a:cubicBezTo>
                <a:cubicBezTo>
                  <a:pt x="863" y="426"/>
                  <a:pt x="867" y="412"/>
                  <a:pt x="859" y="388"/>
                </a:cubicBezTo>
                <a:cubicBezTo>
                  <a:pt x="844" y="433"/>
                  <a:pt x="843" y="364"/>
                  <a:pt x="841" y="352"/>
                </a:cubicBezTo>
                <a:cubicBezTo>
                  <a:pt x="847" y="335"/>
                  <a:pt x="855" y="314"/>
                  <a:pt x="865" y="299"/>
                </a:cubicBezTo>
                <a:cubicBezTo>
                  <a:pt x="870" y="292"/>
                  <a:pt x="882" y="289"/>
                  <a:pt x="882" y="281"/>
                </a:cubicBezTo>
                <a:cubicBezTo>
                  <a:pt x="882" y="275"/>
                  <a:pt x="871" y="285"/>
                  <a:pt x="865" y="287"/>
                </a:cubicBezTo>
                <a:cubicBezTo>
                  <a:pt x="849" y="303"/>
                  <a:pt x="791" y="345"/>
                  <a:pt x="770" y="352"/>
                </a:cubicBezTo>
                <a:cubicBezTo>
                  <a:pt x="743" y="379"/>
                  <a:pt x="760" y="367"/>
                  <a:pt x="716" y="382"/>
                </a:cubicBezTo>
                <a:cubicBezTo>
                  <a:pt x="710" y="384"/>
                  <a:pt x="698" y="388"/>
                  <a:pt x="698" y="388"/>
                </a:cubicBezTo>
                <a:cubicBezTo>
                  <a:pt x="712" y="339"/>
                  <a:pt x="747" y="300"/>
                  <a:pt x="776" y="257"/>
                </a:cubicBezTo>
                <a:cubicBezTo>
                  <a:pt x="779" y="247"/>
                  <a:pt x="783" y="221"/>
                  <a:pt x="799" y="221"/>
                </a:cubicBezTo>
                <a:cubicBezTo>
                  <a:pt x="806" y="221"/>
                  <a:pt x="792" y="234"/>
                  <a:pt x="787" y="239"/>
                </a:cubicBezTo>
                <a:cubicBezTo>
                  <a:pt x="772" y="256"/>
                  <a:pt x="756" y="271"/>
                  <a:pt x="740" y="287"/>
                </a:cubicBezTo>
                <a:cubicBezTo>
                  <a:pt x="734" y="293"/>
                  <a:pt x="722" y="305"/>
                  <a:pt x="722" y="305"/>
                </a:cubicBezTo>
                <a:cubicBezTo>
                  <a:pt x="729" y="270"/>
                  <a:pt x="740" y="240"/>
                  <a:pt x="758" y="210"/>
                </a:cubicBezTo>
                <a:cubicBezTo>
                  <a:pt x="763" y="201"/>
                  <a:pt x="780" y="195"/>
                  <a:pt x="776" y="186"/>
                </a:cubicBezTo>
                <a:cubicBezTo>
                  <a:pt x="772" y="178"/>
                  <a:pt x="760" y="194"/>
                  <a:pt x="752" y="198"/>
                </a:cubicBezTo>
                <a:cubicBezTo>
                  <a:pt x="725" y="210"/>
                  <a:pt x="704" y="226"/>
                  <a:pt x="675" y="233"/>
                </a:cubicBezTo>
                <a:cubicBezTo>
                  <a:pt x="653" y="247"/>
                  <a:pt x="632" y="251"/>
                  <a:pt x="609" y="263"/>
                </a:cubicBezTo>
                <a:cubicBezTo>
                  <a:pt x="584" y="276"/>
                  <a:pt x="570" y="296"/>
                  <a:pt x="544" y="305"/>
                </a:cubicBezTo>
                <a:cubicBezTo>
                  <a:pt x="548" y="295"/>
                  <a:pt x="552" y="285"/>
                  <a:pt x="556" y="275"/>
                </a:cubicBezTo>
                <a:cubicBezTo>
                  <a:pt x="558" y="269"/>
                  <a:pt x="566" y="261"/>
                  <a:pt x="562" y="257"/>
                </a:cubicBezTo>
                <a:cubicBezTo>
                  <a:pt x="558" y="253"/>
                  <a:pt x="550" y="260"/>
                  <a:pt x="544" y="263"/>
                </a:cubicBezTo>
                <a:cubicBezTo>
                  <a:pt x="476" y="294"/>
                  <a:pt x="519" y="281"/>
                  <a:pt x="473" y="293"/>
                </a:cubicBezTo>
                <a:cubicBezTo>
                  <a:pt x="471" y="287"/>
                  <a:pt x="467" y="281"/>
                  <a:pt x="467" y="275"/>
                </a:cubicBezTo>
                <a:cubicBezTo>
                  <a:pt x="467" y="269"/>
                  <a:pt x="479" y="260"/>
                  <a:pt x="473" y="257"/>
                </a:cubicBezTo>
                <a:cubicBezTo>
                  <a:pt x="467" y="254"/>
                  <a:pt x="461" y="266"/>
                  <a:pt x="455" y="269"/>
                </a:cubicBezTo>
                <a:cubicBezTo>
                  <a:pt x="449" y="272"/>
                  <a:pt x="443" y="273"/>
                  <a:pt x="437" y="275"/>
                </a:cubicBezTo>
                <a:cubicBezTo>
                  <a:pt x="435" y="269"/>
                  <a:pt x="430" y="263"/>
                  <a:pt x="431" y="257"/>
                </a:cubicBezTo>
                <a:cubicBezTo>
                  <a:pt x="436" y="224"/>
                  <a:pt x="459" y="238"/>
                  <a:pt x="425" y="227"/>
                </a:cubicBezTo>
                <a:cubicBezTo>
                  <a:pt x="421" y="233"/>
                  <a:pt x="419" y="242"/>
                  <a:pt x="413" y="245"/>
                </a:cubicBezTo>
                <a:cubicBezTo>
                  <a:pt x="399" y="252"/>
                  <a:pt x="350" y="261"/>
                  <a:pt x="366" y="257"/>
                </a:cubicBezTo>
                <a:cubicBezTo>
                  <a:pt x="374" y="255"/>
                  <a:pt x="382" y="253"/>
                  <a:pt x="390" y="251"/>
                </a:cubicBezTo>
                <a:close/>
              </a:path>
            </a:pathLst>
          </a:cu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Freeform 34"/>
          <p:cNvSpPr/>
          <p:nvPr/>
        </p:nvSpPr>
        <p:spPr>
          <a:xfrm>
            <a:off x="1835280" y="3816360"/>
            <a:ext cx="5627520" cy="960480"/>
          </a:xfrm>
          <a:custGeom>
            <a:avLst/>
            <a:gdLst/>
            <a:ahLst/>
            <a:rect l="l" t="t" r="r" b="b"/>
            <a:pathLst>
              <a:path w="3545" h="605">
                <a:moveTo>
                  <a:pt x="161" y="64"/>
                </a:moveTo>
                <a:cubicBezTo>
                  <a:pt x="102" y="67"/>
                  <a:pt x="34" y="43"/>
                  <a:pt x="0" y="94"/>
                </a:cubicBezTo>
                <a:cubicBezTo>
                  <a:pt x="27" y="112"/>
                  <a:pt x="63" y="123"/>
                  <a:pt x="95" y="129"/>
                </a:cubicBezTo>
                <a:cubicBezTo>
                  <a:pt x="75" y="162"/>
                  <a:pt x="101" y="168"/>
                  <a:pt x="60" y="195"/>
                </a:cubicBezTo>
                <a:cubicBezTo>
                  <a:pt x="110" y="201"/>
                  <a:pt x="127" y="188"/>
                  <a:pt x="137" y="236"/>
                </a:cubicBezTo>
                <a:cubicBezTo>
                  <a:pt x="178" y="210"/>
                  <a:pt x="160" y="218"/>
                  <a:pt x="190" y="207"/>
                </a:cubicBezTo>
                <a:cubicBezTo>
                  <a:pt x="207" y="255"/>
                  <a:pt x="217" y="228"/>
                  <a:pt x="250" y="219"/>
                </a:cubicBezTo>
                <a:cubicBezTo>
                  <a:pt x="273" y="252"/>
                  <a:pt x="238" y="264"/>
                  <a:pt x="226" y="296"/>
                </a:cubicBezTo>
                <a:cubicBezTo>
                  <a:pt x="223" y="303"/>
                  <a:pt x="222" y="311"/>
                  <a:pt x="220" y="319"/>
                </a:cubicBezTo>
                <a:cubicBezTo>
                  <a:pt x="218" y="325"/>
                  <a:pt x="208" y="337"/>
                  <a:pt x="214" y="337"/>
                </a:cubicBezTo>
                <a:cubicBezTo>
                  <a:pt x="221" y="337"/>
                  <a:pt x="280" y="294"/>
                  <a:pt x="285" y="290"/>
                </a:cubicBezTo>
                <a:cubicBezTo>
                  <a:pt x="291" y="286"/>
                  <a:pt x="303" y="278"/>
                  <a:pt x="303" y="278"/>
                </a:cubicBezTo>
                <a:cubicBezTo>
                  <a:pt x="325" y="311"/>
                  <a:pt x="334" y="295"/>
                  <a:pt x="357" y="272"/>
                </a:cubicBezTo>
                <a:cubicBezTo>
                  <a:pt x="363" y="296"/>
                  <a:pt x="370" y="318"/>
                  <a:pt x="374" y="343"/>
                </a:cubicBezTo>
                <a:cubicBezTo>
                  <a:pt x="405" y="333"/>
                  <a:pt x="423" y="310"/>
                  <a:pt x="440" y="284"/>
                </a:cubicBezTo>
                <a:cubicBezTo>
                  <a:pt x="472" y="292"/>
                  <a:pt x="473" y="300"/>
                  <a:pt x="481" y="331"/>
                </a:cubicBezTo>
                <a:cubicBezTo>
                  <a:pt x="483" y="347"/>
                  <a:pt x="477" y="367"/>
                  <a:pt x="487" y="379"/>
                </a:cubicBezTo>
                <a:cubicBezTo>
                  <a:pt x="498" y="392"/>
                  <a:pt x="537" y="337"/>
                  <a:pt x="541" y="331"/>
                </a:cubicBezTo>
                <a:cubicBezTo>
                  <a:pt x="578" y="360"/>
                  <a:pt x="572" y="376"/>
                  <a:pt x="564" y="426"/>
                </a:cubicBezTo>
                <a:cubicBezTo>
                  <a:pt x="563" y="430"/>
                  <a:pt x="552" y="467"/>
                  <a:pt x="553" y="468"/>
                </a:cubicBezTo>
                <a:cubicBezTo>
                  <a:pt x="558" y="474"/>
                  <a:pt x="568" y="464"/>
                  <a:pt x="576" y="462"/>
                </a:cubicBezTo>
                <a:cubicBezTo>
                  <a:pt x="584" y="456"/>
                  <a:pt x="592" y="449"/>
                  <a:pt x="600" y="444"/>
                </a:cubicBezTo>
                <a:cubicBezTo>
                  <a:pt x="608" y="439"/>
                  <a:pt x="619" y="439"/>
                  <a:pt x="624" y="432"/>
                </a:cubicBezTo>
                <a:cubicBezTo>
                  <a:pt x="674" y="366"/>
                  <a:pt x="605" y="418"/>
                  <a:pt x="654" y="385"/>
                </a:cubicBezTo>
                <a:cubicBezTo>
                  <a:pt x="692" y="395"/>
                  <a:pt x="685" y="381"/>
                  <a:pt x="701" y="349"/>
                </a:cubicBezTo>
                <a:cubicBezTo>
                  <a:pt x="707" y="351"/>
                  <a:pt x="715" y="350"/>
                  <a:pt x="719" y="355"/>
                </a:cubicBezTo>
                <a:cubicBezTo>
                  <a:pt x="726" y="365"/>
                  <a:pt x="731" y="391"/>
                  <a:pt x="731" y="391"/>
                </a:cubicBezTo>
                <a:cubicBezTo>
                  <a:pt x="772" y="363"/>
                  <a:pt x="758" y="379"/>
                  <a:pt x="778" y="349"/>
                </a:cubicBezTo>
                <a:cubicBezTo>
                  <a:pt x="806" y="391"/>
                  <a:pt x="804" y="388"/>
                  <a:pt x="850" y="373"/>
                </a:cubicBezTo>
                <a:cubicBezTo>
                  <a:pt x="884" y="349"/>
                  <a:pt x="875" y="345"/>
                  <a:pt x="921" y="337"/>
                </a:cubicBezTo>
                <a:cubicBezTo>
                  <a:pt x="952" y="358"/>
                  <a:pt x="949" y="413"/>
                  <a:pt x="956" y="450"/>
                </a:cubicBezTo>
                <a:cubicBezTo>
                  <a:pt x="1002" y="435"/>
                  <a:pt x="980" y="397"/>
                  <a:pt x="1016" y="373"/>
                </a:cubicBezTo>
                <a:cubicBezTo>
                  <a:pt x="1040" y="381"/>
                  <a:pt x="1039" y="395"/>
                  <a:pt x="1063" y="403"/>
                </a:cubicBezTo>
                <a:cubicBezTo>
                  <a:pt x="1067" y="397"/>
                  <a:pt x="1072" y="391"/>
                  <a:pt x="1075" y="385"/>
                </a:cubicBezTo>
                <a:cubicBezTo>
                  <a:pt x="1078" y="379"/>
                  <a:pt x="1075" y="367"/>
                  <a:pt x="1081" y="367"/>
                </a:cubicBezTo>
                <a:cubicBezTo>
                  <a:pt x="1089" y="367"/>
                  <a:pt x="1092" y="380"/>
                  <a:pt x="1099" y="385"/>
                </a:cubicBezTo>
                <a:cubicBezTo>
                  <a:pt x="1110" y="394"/>
                  <a:pt x="1135" y="409"/>
                  <a:pt x="1135" y="409"/>
                </a:cubicBezTo>
                <a:cubicBezTo>
                  <a:pt x="1157" y="443"/>
                  <a:pt x="1171" y="438"/>
                  <a:pt x="1206" y="426"/>
                </a:cubicBezTo>
                <a:cubicBezTo>
                  <a:pt x="1214" y="450"/>
                  <a:pt x="1222" y="459"/>
                  <a:pt x="1247" y="450"/>
                </a:cubicBezTo>
                <a:cubicBezTo>
                  <a:pt x="1277" y="460"/>
                  <a:pt x="1269" y="479"/>
                  <a:pt x="1301" y="468"/>
                </a:cubicBezTo>
                <a:cubicBezTo>
                  <a:pt x="1307" y="462"/>
                  <a:pt x="1311" y="447"/>
                  <a:pt x="1319" y="450"/>
                </a:cubicBezTo>
                <a:cubicBezTo>
                  <a:pt x="1332" y="456"/>
                  <a:pt x="1330" y="478"/>
                  <a:pt x="1342" y="486"/>
                </a:cubicBezTo>
                <a:cubicBezTo>
                  <a:pt x="1348" y="490"/>
                  <a:pt x="1354" y="494"/>
                  <a:pt x="1360" y="498"/>
                </a:cubicBezTo>
                <a:cubicBezTo>
                  <a:pt x="1363" y="496"/>
                  <a:pt x="1389" y="476"/>
                  <a:pt x="1396" y="480"/>
                </a:cubicBezTo>
                <a:cubicBezTo>
                  <a:pt x="1402" y="483"/>
                  <a:pt x="1398" y="493"/>
                  <a:pt x="1402" y="498"/>
                </a:cubicBezTo>
                <a:cubicBezTo>
                  <a:pt x="1407" y="504"/>
                  <a:pt x="1414" y="506"/>
                  <a:pt x="1420" y="510"/>
                </a:cubicBezTo>
                <a:cubicBezTo>
                  <a:pt x="1441" y="475"/>
                  <a:pt x="1440" y="468"/>
                  <a:pt x="1467" y="504"/>
                </a:cubicBezTo>
                <a:cubicBezTo>
                  <a:pt x="1477" y="532"/>
                  <a:pt x="1465" y="546"/>
                  <a:pt x="1497" y="557"/>
                </a:cubicBezTo>
                <a:cubicBezTo>
                  <a:pt x="1517" y="527"/>
                  <a:pt x="1516" y="496"/>
                  <a:pt x="1526" y="462"/>
                </a:cubicBezTo>
                <a:cubicBezTo>
                  <a:pt x="1553" y="480"/>
                  <a:pt x="1567" y="500"/>
                  <a:pt x="1592" y="515"/>
                </a:cubicBezTo>
                <a:cubicBezTo>
                  <a:pt x="1608" y="470"/>
                  <a:pt x="1653" y="493"/>
                  <a:pt x="1687" y="504"/>
                </a:cubicBezTo>
                <a:cubicBezTo>
                  <a:pt x="1707" y="502"/>
                  <a:pt x="1729" y="508"/>
                  <a:pt x="1746" y="498"/>
                </a:cubicBezTo>
                <a:cubicBezTo>
                  <a:pt x="1774" y="482"/>
                  <a:pt x="1681" y="442"/>
                  <a:pt x="1740" y="462"/>
                </a:cubicBezTo>
                <a:cubicBezTo>
                  <a:pt x="1746" y="468"/>
                  <a:pt x="1751" y="475"/>
                  <a:pt x="1758" y="480"/>
                </a:cubicBezTo>
                <a:cubicBezTo>
                  <a:pt x="1764" y="485"/>
                  <a:pt x="1772" y="498"/>
                  <a:pt x="1776" y="492"/>
                </a:cubicBezTo>
                <a:cubicBezTo>
                  <a:pt x="1779" y="487"/>
                  <a:pt x="1767" y="452"/>
                  <a:pt x="1764" y="444"/>
                </a:cubicBezTo>
                <a:cubicBezTo>
                  <a:pt x="1779" y="344"/>
                  <a:pt x="1759" y="448"/>
                  <a:pt x="1782" y="379"/>
                </a:cubicBezTo>
                <a:cubicBezTo>
                  <a:pt x="1787" y="363"/>
                  <a:pt x="1789" y="322"/>
                  <a:pt x="1800" y="308"/>
                </a:cubicBezTo>
                <a:cubicBezTo>
                  <a:pt x="1804" y="303"/>
                  <a:pt x="1811" y="304"/>
                  <a:pt x="1817" y="302"/>
                </a:cubicBezTo>
                <a:cubicBezTo>
                  <a:pt x="1834" y="327"/>
                  <a:pt x="1843" y="354"/>
                  <a:pt x="1859" y="379"/>
                </a:cubicBezTo>
                <a:cubicBezTo>
                  <a:pt x="1863" y="395"/>
                  <a:pt x="1870" y="410"/>
                  <a:pt x="1871" y="426"/>
                </a:cubicBezTo>
                <a:cubicBezTo>
                  <a:pt x="1873" y="450"/>
                  <a:pt x="1873" y="474"/>
                  <a:pt x="1877" y="498"/>
                </a:cubicBezTo>
                <a:cubicBezTo>
                  <a:pt x="1879" y="510"/>
                  <a:pt x="1882" y="523"/>
                  <a:pt x="1889" y="533"/>
                </a:cubicBezTo>
                <a:cubicBezTo>
                  <a:pt x="1897" y="545"/>
                  <a:pt x="1912" y="569"/>
                  <a:pt x="1912" y="569"/>
                </a:cubicBezTo>
                <a:cubicBezTo>
                  <a:pt x="1918" y="563"/>
                  <a:pt x="1926" y="558"/>
                  <a:pt x="1930" y="551"/>
                </a:cubicBezTo>
                <a:cubicBezTo>
                  <a:pt x="1934" y="544"/>
                  <a:pt x="1929" y="522"/>
                  <a:pt x="1936" y="527"/>
                </a:cubicBezTo>
                <a:cubicBezTo>
                  <a:pt x="1947" y="534"/>
                  <a:pt x="1944" y="551"/>
                  <a:pt x="1948" y="563"/>
                </a:cubicBezTo>
                <a:cubicBezTo>
                  <a:pt x="1950" y="570"/>
                  <a:pt x="1956" y="575"/>
                  <a:pt x="1960" y="581"/>
                </a:cubicBezTo>
                <a:cubicBezTo>
                  <a:pt x="1968" y="575"/>
                  <a:pt x="1978" y="571"/>
                  <a:pt x="1984" y="563"/>
                </a:cubicBezTo>
                <a:cubicBezTo>
                  <a:pt x="1988" y="558"/>
                  <a:pt x="1984" y="545"/>
                  <a:pt x="1990" y="545"/>
                </a:cubicBezTo>
                <a:cubicBezTo>
                  <a:pt x="2008" y="545"/>
                  <a:pt x="2021" y="593"/>
                  <a:pt x="2025" y="605"/>
                </a:cubicBezTo>
                <a:cubicBezTo>
                  <a:pt x="2029" y="592"/>
                  <a:pt x="2039" y="582"/>
                  <a:pt x="2043" y="569"/>
                </a:cubicBezTo>
                <a:cubicBezTo>
                  <a:pt x="2047" y="557"/>
                  <a:pt x="2046" y="545"/>
                  <a:pt x="2049" y="533"/>
                </a:cubicBezTo>
                <a:cubicBezTo>
                  <a:pt x="2052" y="521"/>
                  <a:pt x="2061" y="498"/>
                  <a:pt x="2061" y="498"/>
                </a:cubicBezTo>
                <a:cubicBezTo>
                  <a:pt x="2063" y="464"/>
                  <a:pt x="2058" y="430"/>
                  <a:pt x="2067" y="397"/>
                </a:cubicBezTo>
                <a:cubicBezTo>
                  <a:pt x="2069" y="390"/>
                  <a:pt x="2079" y="404"/>
                  <a:pt x="2085" y="409"/>
                </a:cubicBezTo>
                <a:cubicBezTo>
                  <a:pt x="2091" y="414"/>
                  <a:pt x="2096" y="421"/>
                  <a:pt x="2102" y="426"/>
                </a:cubicBezTo>
                <a:cubicBezTo>
                  <a:pt x="2122" y="443"/>
                  <a:pt x="2146" y="458"/>
                  <a:pt x="2168" y="474"/>
                </a:cubicBezTo>
                <a:cubicBezTo>
                  <a:pt x="2162" y="458"/>
                  <a:pt x="2158" y="441"/>
                  <a:pt x="2150" y="426"/>
                </a:cubicBezTo>
                <a:cubicBezTo>
                  <a:pt x="2147" y="420"/>
                  <a:pt x="2132" y="405"/>
                  <a:pt x="2138" y="409"/>
                </a:cubicBezTo>
                <a:cubicBezTo>
                  <a:pt x="2187" y="446"/>
                  <a:pt x="2216" y="502"/>
                  <a:pt x="2281" y="515"/>
                </a:cubicBezTo>
                <a:cubicBezTo>
                  <a:pt x="2326" y="546"/>
                  <a:pt x="2314" y="553"/>
                  <a:pt x="2322" y="504"/>
                </a:cubicBezTo>
                <a:cubicBezTo>
                  <a:pt x="2351" y="517"/>
                  <a:pt x="2356" y="529"/>
                  <a:pt x="2388" y="521"/>
                </a:cubicBezTo>
                <a:cubicBezTo>
                  <a:pt x="2390" y="511"/>
                  <a:pt x="2385" y="498"/>
                  <a:pt x="2393" y="492"/>
                </a:cubicBezTo>
                <a:cubicBezTo>
                  <a:pt x="2399" y="488"/>
                  <a:pt x="2404" y="505"/>
                  <a:pt x="2411" y="504"/>
                </a:cubicBezTo>
                <a:cubicBezTo>
                  <a:pt x="2418" y="503"/>
                  <a:pt x="2419" y="492"/>
                  <a:pt x="2423" y="486"/>
                </a:cubicBezTo>
                <a:cubicBezTo>
                  <a:pt x="2394" y="429"/>
                  <a:pt x="2346" y="390"/>
                  <a:pt x="2310" y="337"/>
                </a:cubicBezTo>
                <a:cubicBezTo>
                  <a:pt x="2342" y="329"/>
                  <a:pt x="2362" y="338"/>
                  <a:pt x="2388" y="355"/>
                </a:cubicBezTo>
                <a:cubicBezTo>
                  <a:pt x="2424" y="342"/>
                  <a:pt x="2459" y="365"/>
                  <a:pt x="2488" y="385"/>
                </a:cubicBezTo>
                <a:cubicBezTo>
                  <a:pt x="2547" y="370"/>
                  <a:pt x="2476" y="396"/>
                  <a:pt x="2518" y="343"/>
                </a:cubicBezTo>
                <a:cubicBezTo>
                  <a:pt x="2524" y="336"/>
                  <a:pt x="2540" y="354"/>
                  <a:pt x="2554" y="361"/>
                </a:cubicBezTo>
                <a:cubicBezTo>
                  <a:pt x="2562" y="365"/>
                  <a:pt x="2588" y="371"/>
                  <a:pt x="2595" y="373"/>
                </a:cubicBezTo>
                <a:cubicBezTo>
                  <a:pt x="2627" y="362"/>
                  <a:pt x="2605" y="354"/>
                  <a:pt x="2637" y="343"/>
                </a:cubicBezTo>
                <a:cubicBezTo>
                  <a:pt x="2647" y="345"/>
                  <a:pt x="2657" y="346"/>
                  <a:pt x="2667" y="349"/>
                </a:cubicBezTo>
                <a:cubicBezTo>
                  <a:pt x="2679" y="352"/>
                  <a:pt x="2702" y="361"/>
                  <a:pt x="2702" y="361"/>
                </a:cubicBezTo>
                <a:cubicBezTo>
                  <a:pt x="2731" y="390"/>
                  <a:pt x="2733" y="402"/>
                  <a:pt x="2773" y="414"/>
                </a:cubicBezTo>
                <a:cubicBezTo>
                  <a:pt x="2771" y="396"/>
                  <a:pt x="2771" y="379"/>
                  <a:pt x="2768" y="361"/>
                </a:cubicBezTo>
                <a:cubicBezTo>
                  <a:pt x="2767" y="355"/>
                  <a:pt x="2758" y="348"/>
                  <a:pt x="2762" y="343"/>
                </a:cubicBezTo>
                <a:cubicBezTo>
                  <a:pt x="2766" y="339"/>
                  <a:pt x="2773" y="347"/>
                  <a:pt x="2779" y="349"/>
                </a:cubicBezTo>
                <a:cubicBezTo>
                  <a:pt x="2804" y="360"/>
                  <a:pt x="2817" y="379"/>
                  <a:pt x="2839" y="391"/>
                </a:cubicBezTo>
                <a:cubicBezTo>
                  <a:pt x="2850" y="397"/>
                  <a:pt x="2874" y="403"/>
                  <a:pt x="2874" y="403"/>
                </a:cubicBezTo>
                <a:cubicBezTo>
                  <a:pt x="2885" y="370"/>
                  <a:pt x="2887" y="356"/>
                  <a:pt x="2916" y="337"/>
                </a:cubicBezTo>
                <a:cubicBezTo>
                  <a:pt x="2936" y="344"/>
                  <a:pt x="2958" y="355"/>
                  <a:pt x="2975" y="367"/>
                </a:cubicBezTo>
                <a:cubicBezTo>
                  <a:pt x="2982" y="372"/>
                  <a:pt x="2986" y="381"/>
                  <a:pt x="2993" y="385"/>
                </a:cubicBezTo>
                <a:cubicBezTo>
                  <a:pt x="3004" y="391"/>
                  <a:pt x="3029" y="397"/>
                  <a:pt x="3029" y="397"/>
                </a:cubicBezTo>
                <a:cubicBezTo>
                  <a:pt x="3039" y="395"/>
                  <a:pt x="3052" y="398"/>
                  <a:pt x="3059" y="391"/>
                </a:cubicBezTo>
                <a:cubicBezTo>
                  <a:pt x="3074" y="376"/>
                  <a:pt x="3025" y="363"/>
                  <a:pt x="3070" y="379"/>
                </a:cubicBezTo>
                <a:cubicBezTo>
                  <a:pt x="3086" y="426"/>
                  <a:pt x="3067" y="373"/>
                  <a:pt x="3070" y="367"/>
                </a:cubicBezTo>
                <a:cubicBezTo>
                  <a:pt x="3073" y="361"/>
                  <a:pt x="3082" y="371"/>
                  <a:pt x="3088" y="373"/>
                </a:cubicBezTo>
                <a:cubicBezTo>
                  <a:pt x="3096" y="375"/>
                  <a:pt x="3104" y="377"/>
                  <a:pt x="3112" y="379"/>
                </a:cubicBezTo>
                <a:cubicBezTo>
                  <a:pt x="3198" y="373"/>
                  <a:pt x="3280" y="378"/>
                  <a:pt x="3367" y="373"/>
                </a:cubicBezTo>
                <a:cubicBezTo>
                  <a:pt x="3359" y="367"/>
                  <a:pt x="3352" y="360"/>
                  <a:pt x="3344" y="355"/>
                </a:cubicBezTo>
                <a:cubicBezTo>
                  <a:pt x="3339" y="352"/>
                  <a:pt x="3324" y="355"/>
                  <a:pt x="3326" y="349"/>
                </a:cubicBezTo>
                <a:cubicBezTo>
                  <a:pt x="3329" y="342"/>
                  <a:pt x="3341" y="344"/>
                  <a:pt x="3349" y="343"/>
                </a:cubicBezTo>
                <a:cubicBezTo>
                  <a:pt x="3379" y="340"/>
                  <a:pt x="3409" y="339"/>
                  <a:pt x="3439" y="337"/>
                </a:cubicBezTo>
                <a:cubicBezTo>
                  <a:pt x="3433" y="333"/>
                  <a:pt x="3416" y="331"/>
                  <a:pt x="3421" y="325"/>
                </a:cubicBezTo>
                <a:cubicBezTo>
                  <a:pt x="3443" y="298"/>
                  <a:pt x="3512" y="293"/>
                  <a:pt x="3540" y="290"/>
                </a:cubicBezTo>
                <a:cubicBezTo>
                  <a:pt x="3517" y="275"/>
                  <a:pt x="3494" y="275"/>
                  <a:pt x="3468" y="266"/>
                </a:cubicBezTo>
                <a:cubicBezTo>
                  <a:pt x="3488" y="264"/>
                  <a:pt x="3508" y="263"/>
                  <a:pt x="3528" y="260"/>
                </a:cubicBezTo>
                <a:cubicBezTo>
                  <a:pt x="3534" y="259"/>
                  <a:pt x="3545" y="260"/>
                  <a:pt x="3545" y="254"/>
                </a:cubicBezTo>
                <a:cubicBezTo>
                  <a:pt x="3545" y="245"/>
                  <a:pt x="3510" y="236"/>
                  <a:pt x="3492" y="230"/>
                </a:cubicBezTo>
                <a:cubicBezTo>
                  <a:pt x="3436" y="211"/>
                  <a:pt x="3379" y="195"/>
                  <a:pt x="3320" y="183"/>
                </a:cubicBezTo>
                <a:cubicBezTo>
                  <a:pt x="3267" y="157"/>
                  <a:pt x="3210" y="131"/>
                  <a:pt x="3154" y="112"/>
                </a:cubicBezTo>
                <a:cubicBezTo>
                  <a:pt x="3136" y="106"/>
                  <a:pt x="3118" y="100"/>
                  <a:pt x="3100" y="94"/>
                </a:cubicBezTo>
                <a:cubicBezTo>
                  <a:pt x="3094" y="92"/>
                  <a:pt x="3082" y="88"/>
                  <a:pt x="3082" y="88"/>
                </a:cubicBezTo>
                <a:cubicBezTo>
                  <a:pt x="3060" y="95"/>
                  <a:pt x="3043" y="108"/>
                  <a:pt x="3023" y="118"/>
                </a:cubicBezTo>
                <a:cubicBezTo>
                  <a:pt x="2940" y="115"/>
                  <a:pt x="2875" y="113"/>
                  <a:pt x="2797" y="100"/>
                </a:cubicBezTo>
                <a:cubicBezTo>
                  <a:pt x="2724" y="105"/>
                  <a:pt x="2653" y="109"/>
                  <a:pt x="2583" y="129"/>
                </a:cubicBezTo>
                <a:cubicBezTo>
                  <a:pt x="2553" y="150"/>
                  <a:pt x="2519" y="152"/>
                  <a:pt x="2483" y="159"/>
                </a:cubicBezTo>
                <a:cubicBezTo>
                  <a:pt x="2230" y="156"/>
                  <a:pt x="2072" y="151"/>
                  <a:pt x="1847" y="141"/>
                </a:cubicBezTo>
                <a:cubicBezTo>
                  <a:pt x="1806" y="133"/>
                  <a:pt x="1722" y="124"/>
                  <a:pt x="1722" y="124"/>
                </a:cubicBezTo>
                <a:cubicBezTo>
                  <a:pt x="1661" y="108"/>
                  <a:pt x="1609" y="70"/>
                  <a:pt x="1550" y="52"/>
                </a:cubicBezTo>
                <a:cubicBezTo>
                  <a:pt x="1523" y="44"/>
                  <a:pt x="1442" y="41"/>
                  <a:pt x="1431" y="40"/>
                </a:cubicBezTo>
                <a:cubicBezTo>
                  <a:pt x="1391" y="0"/>
                  <a:pt x="1423" y="2"/>
                  <a:pt x="1354" y="11"/>
                </a:cubicBezTo>
                <a:cubicBezTo>
                  <a:pt x="1311" y="26"/>
                  <a:pt x="1328" y="15"/>
                  <a:pt x="1301" y="40"/>
                </a:cubicBezTo>
                <a:cubicBezTo>
                  <a:pt x="1294" y="60"/>
                  <a:pt x="1298" y="61"/>
                  <a:pt x="1277" y="70"/>
                </a:cubicBezTo>
                <a:cubicBezTo>
                  <a:pt x="1265" y="75"/>
                  <a:pt x="1241" y="82"/>
                  <a:pt x="1241" y="82"/>
                </a:cubicBezTo>
                <a:cubicBezTo>
                  <a:pt x="937" y="63"/>
                  <a:pt x="1114" y="71"/>
                  <a:pt x="707" y="64"/>
                </a:cubicBezTo>
                <a:cubicBezTo>
                  <a:pt x="674" y="53"/>
                  <a:pt x="640" y="50"/>
                  <a:pt x="606" y="46"/>
                </a:cubicBezTo>
                <a:cubicBezTo>
                  <a:pt x="567" y="30"/>
                  <a:pt x="528" y="30"/>
                  <a:pt x="487" y="23"/>
                </a:cubicBezTo>
                <a:cubicBezTo>
                  <a:pt x="432" y="25"/>
                  <a:pt x="376" y="26"/>
                  <a:pt x="321" y="29"/>
                </a:cubicBezTo>
                <a:cubicBezTo>
                  <a:pt x="274" y="32"/>
                  <a:pt x="179" y="40"/>
                  <a:pt x="179" y="40"/>
                </a:cubicBezTo>
                <a:cubicBezTo>
                  <a:pt x="173" y="42"/>
                  <a:pt x="167" y="43"/>
                  <a:pt x="161" y="46"/>
                </a:cubicBezTo>
                <a:cubicBezTo>
                  <a:pt x="143" y="55"/>
                  <a:pt x="99" y="89"/>
                  <a:pt x="161" y="64"/>
                </a:cubicBezTo>
                <a:close/>
              </a:path>
            </a:pathLst>
          </a:custGeom>
          <a:gradFill rotWithShape="0">
            <a:gsLst>
              <a:gs pos="0">
                <a:srgbClr val="000f00"/>
              </a:gs>
              <a:gs pos="50000">
                <a:srgbClr val="005e00"/>
              </a:gs>
              <a:gs pos="100000">
                <a:srgbClr val="000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35"/>
          <p:cNvSpPr/>
          <p:nvPr/>
        </p:nvSpPr>
        <p:spPr>
          <a:xfrm>
            <a:off x="1808280" y="2635200"/>
            <a:ext cx="5699160" cy="1895400"/>
          </a:xfrm>
          <a:custGeom>
            <a:avLst/>
            <a:gdLst/>
            <a:ahLst/>
            <a:rect l="l" t="t" r="r" b="b"/>
            <a:pathLst>
              <a:path w="3590" h="1194">
                <a:moveTo>
                  <a:pt x="1026" y="167"/>
                </a:moveTo>
                <a:cubicBezTo>
                  <a:pt x="974" y="184"/>
                  <a:pt x="944" y="236"/>
                  <a:pt x="889" y="250"/>
                </a:cubicBezTo>
                <a:cubicBezTo>
                  <a:pt x="874" y="272"/>
                  <a:pt x="857" y="281"/>
                  <a:pt x="836" y="297"/>
                </a:cubicBezTo>
                <a:cubicBezTo>
                  <a:pt x="827" y="325"/>
                  <a:pt x="789" y="340"/>
                  <a:pt x="764" y="357"/>
                </a:cubicBezTo>
                <a:cubicBezTo>
                  <a:pt x="766" y="363"/>
                  <a:pt x="772" y="368"/>
                  <a:pt x="770" y="374"/>
                </a:cubicBezTo>
                <a:cubicBezTo>
                  <a:pt x="766" y="386"/>
                  <a:pt x="711" y="426"/>
                  <a:pt x="699" y="434"/>
                </a:cubicBezTo>
                <a:cubicBezTo>
                  <a:pt x="686" y="454"/>
                  <a:pt x="672" y="461"/>
                  <a:pt x="652" y="475"/>
                </a:cubicBezTo>
                <a:cubicBezTo>
                  <a:pt x="646" y="471"/>
                  <a:pt x="641" y="462"/>
                  <a:pt x="634" y="463"/>
                </a:cubicBezTo>
                <a:cubicBezTo>
                  <a:pt x="624" y="464"/>
                  <a:pt x="619" y="477"/>
                  <a:pt x="610" y="481"/>
                </a:cubicBezTo>
                <a:cubicBezTo>
                  <a:pt x="572" y="498"/>
                  <a:pt x="520" y="503"/>
                  <a:pt x="479" y="517"/>
                </a:cubicBezTo>
                <a:cubicBezTo>
                  <a:pt x="469" y="548"/>
                  <a:pt x="471" y="570"/>
                  <a:pt x="444" y="588"/>
                </a:cubicBezTo>
                <a:cubicBezTo>
                  <a:pt x="420" y="586"/>
                  <a:pt x="376" y="567"/>
                  <a:pt x="355" y="594"/>
                </a:cubicBezTo>
                <a:cubicBezTo>
                  <a:pt x="351" y="599"/>
                  <a:pt x="354" y="608"/>
                  <a:pt x="349" y="612"/>
                </a:cubicBezTo>
                <a:cubicBezTo>
                  <a:pt x="339" y="619"/>
                  <a:pt x="325" y="620"/>
                  <a:pt x="313" y="624"/>
                </a:cubicBezTo>
                <a:cubicBezTo>
                  <a:pt x="307" y="626"/>
                  <a:pt x="295" y="630"/>
                  <a:pt x="295" y="630"/>
                </a:cubicBezTo>
                <a:cubicBezTo>
                  <a:pt x="247" y="598"/>
                  <a:pt x="271" y="640"/>
                  <a:pt x="236" y="654"/>
                </a:cubicBezTo>
                <a:cubicBezTo>
                  <a:pt x="207" y="666"/>
                  <a:pt x="180" y="665"/>
                  <a:pt x="153" y="683"/>
                </a:cubicBezTo>
                <a:cubicBezTo>
                  <a:pt x="151" y="677"/>
                  <a:pt x="153" y="668"/>
                  <a:pt x="147" y="665"/>
                </a:cubicBezTo>
                <a:cubicBezTo>
                  <a:pt x="129" y="656"/>
                  <a:pt x="93" y="695"/>
                  <a:pt x="93" y="695"/>
                </a:cubicBezTo>
                <a:cubicBezTo>
                  <a:pt x="85" y="691"/>
                  <a:pt x="78" y="686"/>
                  <a:pt x="70" y="683"/>
                </a:cubicBezTo>
                <a:cubicBezTo>
                  <a:pt x="58" y="678"/>
                  <a:pt x="34" y="671"/>
                  <a:pt x="34" y="671"/>
                </a:cubicBezTo>
                <a:cubicBezTo>
                  <a:pt x="0" y="682"/>
                  <a:pt x="24" y="684"/>
                  <a:pt x="34" y="713"/>
                </a:cubicBezTo>
                <a:cubicBezTo>
                  <a:pt x="2" y="761"/>
                  <a:pt x="15" y="766"/>
                  <a:pt x="64" y="778"/>
                </a:cubicBezTo>
                <a:cubicBezTo>
                  <a:pt x="87" y="812"/>
                  <a:pt x="96" y="808"/>
                  <a:pt x="141" y="814"/>
                </a:cubicBezTo>
                <a:cubicBezTo>
                  <a:pt x="156" y="891"/>
                  <a:pt x="175" y="878"/>
                  <a:pt x="254" y="885"/>
                </a:cubicBezTo>
                <a:cubicBezTo>
                  <a:pt x="265" y="918"/>
                  <a:pt x="280" y="908"/>
                  <a:pt x="313" y="903"/>
                </a:cubicBezTo>
                <a:cubicBezTo>
                  <a:pt x="343" y="883"/>
                  <a:pt x="336" y="899"/>
                  <a:pt x="367" y="909"/>
                </a:cubicBezTo>
                <a:cubicBezTo>
                  <a:pt x="395" y="907"/>
                  <a:pt x="425" y="891"/>
                  <a:pt x="450" y="903"/>
                </a:cubicBezTo>
                <a:cubicBezTo>
                  <a:pt x="464" y="910"/>
                  <a:pt x="444" y="940"/>
                  <a:pt x="456" y="950"/>
                </a:cubicBezTo>
                <a:cubicBezTo>
                  <a:pt x="468" y="960"/>
                  <a:pt x="487" y="946"/>
                  <a:pt x="503" y="944"/>
                </a:cubicBezTo>
                <a:cubicBezTo>
                  <a:pt x="505" y="952"/>
                  <a:pt x="502" y="964"/>
                  <a:pt x="509" y="968"/>
                </a:cubicBezTo>
                <a:cubicBezTo>
                  <a:pt x="515" y="971"/>
                  <a:pt x="576" y="946"/>
                  <a:pt x="586" y="944"/>
                </a:cubicBezTo>
                <a:cubicBezTo>
                  <a:pt x="621" y="923"/>
                  <a:pt x="592" y="932"/>
                  <a:pt x="610" y="950"/>
                </a:cubicBezTo>
                <a:cubicBezTo>
                  <a:pt x="616" y="956"/>
                  <a:pt x="626" y="958"/>
                  <a:pt x="634" y="962"/>
                </a:cubicBezTo>
                <a:cubicBezTo>
                  <a:pt x="656" y="960"/>
                  <a:pt x="677" y="959"/>
                  <a:pt x="699" y="956"/>
                </a:cubicBezTo>
                <a:cubicBezTo>
                  <a:pt x="705" y="955"/>
                  <a:pt x="711" y="947"/>
                  <a:pt x="717" y="950"/>
                </a:cubicBezTo>
                <a:cubicBezTo>
                  <a:pt x="723" y="953"/>
                  <a:pt x="719" y="963"/>
                  <a:pt x="723" y="968"/>
                </a:cubicBezTo>
                <a:cubicBezTo>
                  <a:pt x="728" y="974"/>
                  <a:pt x="735" y="976"/>
                  <a:pt x="741" y="980"/>
                </a:cubicBezTo>
                <a:cubicBezTo>
                  <a:pt x="791" y="971"/>
                  <a:pt x="824" y="943"/>
                  <a:pt x="871" y="927"/>
                </a:cubicBezTo>
                <a:cubicBezTo>
                  <a:pt x="876" y="953"/>
                  <a:pt x="884" y="978"/>
                  <a:pt x="889" y="1004"/>
                </a:cubicBezTo>
                <a:cubicBezTo>
                  <a:pt x="922" y="982"/>
                  <a:pt x="939" y="950"/>
                  <a:pt x="978" y="939"/>
                </a:cubicBezTo>
                <a:cubicBezTo>
                  <a:pt x="999" y="968"/>
                  <a:pt x="1007" y="1002"/>
                  <a:pt x="1038" y="1022"/>
                </a:cubicBezTo>
                <a:cubicBezTo>
                  <a:pt x="1069" y="1011"/>
                  <a:pt x="1064" y="990"/>
                  <a:pt x="1085" y="1022"/>
                </a:cubicBezTo>
                <a:cubicBezTo>
                  <a:pt x="1091" y="1050"/>
                  <a:pt x="1099" y="1084"/>
                  <a:pt x="1127" y="1093"/>
                </a:cubicBezTo>
                <a:cubicBezTo>
                  <a:pt x="1133" y="1089"/>
                  <a:pt x="1139" y="1086"/>
                  <a:pt x="1144" y="1081"/>
                </a:cubicBezTo>
                <a:cubicBezTo>
                  <a:pt x="1150" y="1075"/>
                  <a:pt x="1154" y="1063"/>
                  <a:pt x="1162" y="1063"/>
                </a:cubicBezTo>
                <a:cubicBezTo>
                  <a:pt x="1164" y="1063"/>
                  <a:pt x="1189" y="1112"/>
                  <a:pt x="1192" y="1117"/>
                </a:cubicBezTo>
                <a:cubicBezTo>
                  <a:pt x="1202" y="1115"/>
                  <a:pt x="1213" y="1116"/>
                  <a:pt x="1222" y="1111"/>
                </a:cubicBezTo>
                <a:cubicBezTo>
                  <a:pt x="1239" y="1101"/>
                  <a:pt x="1230" y="1089"/>
                  <a:pt x="1239" y="1075"/>
                </a:cubicBezTo>
                <a:cubicBezTo>
                  <a:pt x="1244" y="1068"/>
                  <a:pt x="1251" y="1063"/>
                  <a:pt x="1257" y="1057"/>
                </a:cubicBezTo>
                <a:cubicBezTo>
                  <a:pt x="1284" y="1111"/>
                  <a:pt x="1266" y="1095"/>
                  <a:pt x="1299" y="1117"/>
                </a:cubicBezTo>
                <a:cubicBezTo>
                  <a:pt x="1326" y="1099"/>
                  <a:pt x="1328" y="1093"/>
                  <a:pt x="1352" y="1117"/>
                </a:cubicBezTo>
                <a:cubicBezTo>
                  <a:pt x="1362" y="1146"/>
                  <a:pt x="1373" y="1143"/>
                  <a:pt x="1394" y="1123"/>
                </a:cubicBezTo>
                <a:cubicBezTo>
                  <a:pt x="1400" y="1129"/>
                  <a:pt x="1404" y="1140"/>
                  <a:pt x="1412" y="1140"/>
                </a:cubicBezTo>
                <a:cubicBezTo>
                  <a:pt x="1429" y="1140"/>
                  <a:pt x="1440" y="1092"/>
                  <a:pt x="1447" y="1081"/>
                </a:cubicBezTo>
                <a:cubicBezTo>
                  <a:pt x="1452" y="1060"/>
                  <a:pt x="1451" y="1055"/>
                  <a:pt x="1465" y="1039"/>
                </a:cubicBezTo>
                <a:cubicBezTo>
                  <a:pt x="1476" y="1027"/>
                  <a:pt x="1501" y="1004"/>
                  <a:pt x="1501" y="1004"/>
                </a:cubicBezTo>
                <a:cubicBezTo>
                  <a:pt x="1512" y="1025"/>
                  <a:pt x="1520" y="1047"/>
                  <a:pt x="1530" y="1069"/>
                </a:cubicBezTo>
                <a:cubicBezTo>
                  <a:pt x="1532" y="1093"/>
                  <a:pt x="1528" y="1117"/>
                  <a:pt x="1536" y="1140"/>
                </a:cubicBezTo>
                <a:cubicBezTo>
                  <a:pt x="1544" y="1164"/>
                  <a:pt x="1595" y="1165"/>
                  <a:pt x="1614" y="1170"/>
                </a:cubicBezTo>
                <a:cubicBezTo>
                  <a:pt x="1622" y="1168"/>
                  <a:pt x="1631" y="1169"/>
                  <a:pt x="1637" y="1164"/>
                </a:cubicBezTo>
                <a:cubicBezTo>
                  <a:pt x="1648" y="1155"/>
                  <a:pt x="1661" y="1129"/>
                  <a:pt x="1661" y="1129"/>
                </a:cubicBezTo>
                <a:cubicBezTo>
                  <a:pt x="1669" y="1095"/>
                  <a:pt x="1667" y="1061"/>
                  <a:pt x="1679" y="1028"/>
                </a:cubicBezTo>
                <a:cubicBezTo>
                  <a:pt x="1713" y="1060"/>
                  <a:pt x="1714" y="1072"/>
                  <a:pt x="1732" y="1022"/>
                </a:cubicBezTo>
                <a:cubicBezTo>
                  <a:pt x="1739" y="978"/>
                  <a:pt x="1742" y="971"/>
                  <a:pt x="1768" y="933"/>
                </a:cubicBezTo>
                <a:cubicBezTo>
                  <a:pt x="1776" y="921"/>
                  <a:pt x="1792" y="897"/>
                  <a:pt x="1792" y="897"/>
                </a:cubicBezTo>
                <a:cubicBezTo>
                  <a:pt x="1811" y="903"/>
                  <a:pt x="1826" y="915"/>
                  <a:pt x="1845" y="921"/>
                </a:cubicBezTo>
                <a:cubicBezTo>
                  <a:pt x="1881" y="909"/>
                  <a:pt x="1859" y="886"/>
                  <a:pt x="1893" y="909"/>
                </a:cubicBezTo>
                <a:cubicBezTo>
                  <a:pt x="1909" y="941"/>
                  <a:pt x="1919" y="976"/>
                  <a:pt x="1940" y="1004"/>
                </a:cubicBezTo>
                <a:cubicBezTo>
                  <a:pt x="1956" y="1002"/>
                  <a:pt x="1972" y="997"/>
                  <a:pt x="1988" y="998"/>
                </a:cubicBezTo>
                <a:cubicBezTo>
                  <a:pt x="2053" y="1003"/>
                  <a:pt x="2091" y="1096"/>
                  <a:pt x="2154" y="1117"/>
                </a:cubicBezTo>
                <a:cubicBezTo>
                  <a:pt x="2152" y="1111"/>
                  <a:pt x="2140" y="1064"/>
                  <a:pt x="2130" y="1093"/>
                </a:cubicBezTo>
                <a:cubicBezTo>
                  <a:pt x="2122" y="1118"/>
                  <a:pt x="2204" y="1151"/>
                  <a:pt x="2219" y="1158"/>
                </a:cubicBezTo>
                <a:cubicBezTo>
                  <a:pt x="2244" y="1169"/>
                  <a:pt x="2277" y="1180"/>
                  <a:pt x="2302" y="1188"/>
                </a:cubicBezTo>
                <a:cubicBezTo>
                  <a:pt x="2308" y="1190"/>
                  <a:pt x="2320" y="1194"/>
                  <a:pt x="2320" y="1194"/>
                </a:cubicBezTo>
                <a:cubicBezTo>
                  <a:pt x="2332" y="1192"/>
                  <a:pt x="2345" y="1194"/>
                  <a:pt x="2356" y="1188"/>
                </a:cubicBezTo>
                <a:cubicBezTo>
                  <a:pt x="2382" y="1173"/>
                  <a:pt x="2335" y="1120"/>
                  <a:pt x="2320" y="1105"/>
                </a:cubicBezTo>
                <a:cubicBezTo>
                  <a:pt x="2316" y="1095"/>
                  <a:pt x="2312" y="1085"/>
                  <a:pt x="2308" y="1075"/>
                </a:cubicBezTo>
                <a:cubicBezTo>
                  <a:pt x="2304" y="1067"/>
                  <a:pt x="2305" y="1051"/>
                  <a:pt x="2296" y="1051"/>
                </a:cubicBezTo>
                <a:cubicBezTo>
                  <a:pt x="2288" y="1051"/>
                  <a:pt x="2302" y="1067"/>
                  <a:pt x="2302" y="1075"/>
                </a:cubicBezTo>
                <a:cubicBezTo>
                  <a:pt x="2302" y="1081"/>
                  <a:pt x="2300" y="1062"/>
                  <a:pt x="2296" y="1057"/>
                </a:cubicBezTo>
                <a:cubicBezTo>
                  <a:pt x="2292" y="1051"/>
                  <a:pt x="2285" y="1049"/>
                  <a:pt x="2279" y="1045"/>
                </a:cubicBezTo>
                <a:cubicBezTo>
                  <a:pt x="2272" y="1024"/>
                  <a:pt x="2261" y="980"/>
                  <a:pt x="2261" y="980"/>
                </a:cubicBezTo>
                <a:cubicBezTo>
                  <a:pt x="2272" y="923"/>
                  <a:pt x="2274" y="929"/>
                  <a:pt x="2326" y="944"/>
                </a:cubicBezTo>
                <a:cubicBezTo>
                  <a:pt x="2344" y="956"/>
                  <a:pt x="2362" y="962"/>
                  <a:pt x="2380" y="974"/>
                </a:cubicBezTo>
                <a:cubicBezTo>
                  <a:pt x="2393" y="1014"/>
                  <a:pt x="2375" y="975"/>
                  <a:pt x="2403" y="998"/>
                </a:cubicBezTo>
                <a:cubicBezTo>
                  <a:pt x="2409" y="1003"/>
                  <a:pt x="2409" y="1011"/>
                  <a:pt x="2415" y="1016"/>
                </a:cubicBezTo>
                <a:cubicBezTo>
                  <a:pt x="2427" y="1026"/>
                  <a:pt x="2443" y="1031"/>
                  <a:pt x="2457" y="1039"/>
                </a:cubicBezTo>
                <a:cubicBezTo>
                  <a:pt x="2466" y="986"/>
                  <a:pt x="2459" y="1004"/>
                  <a:pt x="2504" y="1016"/>
                </a:cubicBezTo>
                <a:cubicBezTo>
                  <a:pt x="2532" y="1035"/>
                  <a:pt x="2542" y="1040"/>
                  <a:pt x="2576" y="1034"/>
                </a:cubicBezTo>
                <a:cubicBezTo>
                  <a:pt x="2584" y="975"/>
                  <a:pt x="2576" y="1004"/>
                  <a:pt x="2623" y="1016"/>
                </a:cubicBezTo>
                <a:cubicBezTo>
                  <a:pt x="2650" y="1034"/>
                  <a:pt x="2651" y="1045"/>
                  <a:pt x="2671" y="1016"/>
                </a:cubicBezTo>
                <a:cubicBezTo>
                  <a:pt x="2673" y="1010"/>
                  <a:pt x="2670" y="1000"/>
                  <a:pt x="2676" y="998"/>
                </a:cubicBezTo>
                <a:cubicBezTo>
                  <a:pt x="2683" y="996"/>
                  <a:pt x="2688" y="1007"/>
                  <a:pt x="2694" y="1010"/>
                </a:cubicBezTo>
                <a:cubicBezTo>
                  <a:pt x="2711" y="1019"/>
                  <a:pt x="2729" y="1028"/>
                  <a:pt x="2748" y="1034"/>
                </a:cubicBezTo>
                <a:cubicBezTo>
                  <a:pt x="2762" y="1030"/>
                  <a:pt x="2777" y="1029"/>
                  <a:pt x="2789" y="1022"/>
                </a:cubicBezTo>
                <a:cubicBezTo>
                  <a:pt x="2795" y="1018"/>
                  <a:pt x="2795" y="1009"/>
                  <a:pt x="2801" y="1004"/>
                </a:cubicBezTo>
                <a:cubicBezTo>
                  <a:pt x="2806" y="1000"/>
                  <a:pt x="2813" y="1000"/>
                  <a:pt x="2819" y="998"/>
                </a:cubicBezTo>
                <a:cubicBezTo>
                  <a:pt x="2845" y="1015"/>
                  <a:pt x="2859" y="1030"/>
                  <a:pt x="2890" y="1039"/>
                </a:cubicBezTo>
                <a:cubicBezTo>
                  <a:pt x="2908" y="1014"/>
                  <a:pt x="2915" y="1015"/>
                  <a:pt x="2944" y="1022"/>
                </a:cubicBezTo>
                <a:cubicBezTo>
                  <a:pt x="2950" y="1026"/>
                  <a:pt x="2955" y="1034"/>
                  <a:pt x="2962" y="1034"/>
                </a:cubicBezTo>
                <a:cubicBezTo>
                  <a:pt x="2974" y="1034"/>
                  <a:pt x="2997" y="1022"/>
                  <a:pt x="2997" y="1022"/>
                </a:cubicBezTo>
                <a:cubicBezTo>
                  <a:pt x="3013" y="1024"/>
                  <a:pt x="3029" y="1025"/>
                  <a:pt x="3045" y="1028"/>
                </a:cubicBezTo>
                <a:cubicBezTo>
                  <a:pt x="3051" y="1029"/>
                  <a:pt x="3056" y="1035"/>
                  <a:pt x="3062" y="1034"/>
                </a:cubicBezTo>
                <a:cubicBezTo>
                  <a:pt x="3081" y="1032"/>
                  <a:pt x="3120" y="1015"/>
                  <a:pt x="3140" y="1010"/>
                </a:cubicBezTo>
                <a:cubicBezTo>
                  <a:pt x="3152" y="1007"/>
                  <a:pt x="3163" y="1002"/>
                  <a:pt x="3175" y="998"/>
                </a:cubicBezTo>
                <a:cubicBezTo>
                  <a:pt x="3181" y="996"/>
                  <a:pt x="3193" y="992"/>
                  <a:pt x="3193" y="992"/>
                </a:cubicBezTo>
                <a:cubicBezTo>
                  <a:pt x="3197" y="995"/>
                  <a:pt x="3221" y="1013"/>
                  <a:pt x="3229" y="1010"/>
                </a:cubicBezTo>
                <a:cubicBezTo>
                  <a:pt x="3269" y="996"/>
                  <a:pt x="3251" y="984"/>
                  <a:pt x="3282" y="980"/>
                </a:cubicBezTo>
                <a:cubicBezTo>
                  <a:pt x="3306" y="977"/>
                  <a:pt x="3329" y="976"/>
                  <a:pt x="3353" y="974"/>
                </a:cubicBezTo>
                <a:cubicBezTo>
                  <a:pt x="3398" y="952"/>
                  <a:pt x="3421" y="913"/>
                  <a:pt x="3472" y="903"/>
                </a:cubicBezTo>
                <a:cubicBezTo>
                  <a:pt x="3494" y="859"/>
                  <a:pt x="3521" y="853"/>
                  <a:pt x="3561" y="832"/>
                </a:cubicBezTo>
                <a:cubicBezTo>
                  <a:pt x="3589" y="791"/>
                  <a:pt x="3590" y="810"/>
                  <a:pt x="3579" y="778"/>
                </a:cubicBezTo>
                <a:cubicBezTo>
                  <a:pt x="3567" y="782"/>
                  <a:pt x="3552" y="799"/>
                  <a:pt x="3543" y="790"/>
                </a:cubicBezTo>
                <a:cubicBezTo>
                  <a:pt x="3513" y="758"/>
                  <a:pt x="3476" y="757"/>
                  <a:pt x="3437" y="743"/>
                </a:cubicBezTo>
                <a:cubicBezTo>
                  <a:pt x="3373" y="759"/>
                  <a:pt x="3453" y="743"/>
                  <a:pt x="3389" y="743"/>
                </a:cubicBezTo>
                <a:cubicBezTo>
                  <a:pt x="3383" y="743"/>
                  <a:pt x="3329" y="752"/>
                  <a:pt x="3318" y="754"/>
                </a:cubicBezTo>
                <a:cubicBezTo>
                  <a:pt x="3292" y="729"/>
                  <a:pt x="3284" y="725"/>
                  <a:pt x="3247" y="719"/>
                </a:cubicBezTo>
                <a:cubicBezTo>
                  <a:pt x="3233" y="676"/>
                  <a:pt x="3256" y="726"/>
                  <a:pt x="3193" y="707"/>
                </a:cubicBezTo>
                <a:cubicBezTo>
                  <a:pt x="3178" y="702"/>
                  <a:pt x="3182" y="674"/>
                  <a:pt x="3169" y="665"/>
                </a:cubicBezTo>
                <a:cubicBezTo>
                  <a:pt x="3151" y="652"/>
                  <a:pt x="3099" y="651"/>
                  <a:pt x="3080" y="648"/>
                </a:cubicBezTo>
                <a:cubicBezTo>
                  <a:pt x="3068" y="590"/>
                  <a:pt x="3054" y="599"/>
                  <a:pt x="2991" y="588"/>
                </a:cubicBezTo>
                <a:cubicBezTo>
                  <a:pt x="2978" y="581"/>
                  <a:pt x="2959" y="582"/>
                  <a:pt x="2950" y="570"/>
                </a:cubicBezTo>
                <a:cubicBezTo>
                  <a:pt x="2908" y="517"/>
                  <a:pt x="2981" y="572"/>
                  <a:pt x="2926" y="535"/>
                </a:cubicBezTo>
                <a:cubicBezTo>
                  <a:pt x="2917" y="507"/>
                  <a:pt x="2913" y="500"/>
                  <a:pt x="2884" y="493"/>
                </a:cubicBezTo>
                <a:cubicBezTo>
                  <a:pt x="2862" y="495"/>
                  <a:pt x="2840" y="504"/>
                  <a:pt x="2819" y="499"/>
                </a:cubicBezTo>
                <a:cubicBezTo>
                  <a:pt x="2810" y="497"/>
                  <a:pt x="2816" y="458"/>
                  <a:pt x="2807" y="440"/>
                </a:cubicBezTo>
                <a:cubicBezTo>
                  <a:pt x="2797" y="420"/>
                  <a:pt x="2743" y="418"/>
                  <a:pt x="2730" y="416"/>
                </a:cubicBezTo>
                <a:cubicBezTo>
                  <a:pt x="2710" y="355"/>
                  <a:pt x="2741" y="445"/>
                  <a:pt x="2712" y="380"/>
                </a:cubicBezTo>
                <a:cubicBezTo>
                  <a:pt x="2691" y="334"/>
                  <a:pt x="2714" y="354"/>
                  <a:pt x="2682" y="333"/>
                </a:cubicBezTo>
                <a:cubicBezTo>
                  <a:pt x="2658" y="294"/>
                  <a:pt x="2626" y="247"/>
                  <a:pt x="2581" y="232"/>
                </a:cubicBezTo>
                <a:cubicBezTo>
                  <a:pt x="2518" y="167"/>
                  <a:pt x="2477" y="124"/>
                  <a:pt x="2391" y="95"/>
                </a:cubicBezTo>
                <a:cubicBezTo>
                  <a:pt x="2385" y="97"/>
                  <a:pt x="2378" y="97"/>
                  <a:pt x="2374" y="101"/>
                </a:cubicBezTo>
                <a:cubicBezTo>
                  <a:pt x="2370" y="106"/>
                  <a:pt x="2374" y="117"/>
                  <a:pt x="2368" y="119"/>
                </a:cubicBezTo>
                <a:cubicBezTo>
                  <a:pt x="2349" y="126"/>
                  <a:pt x="2328" y="123"/>
                  <a:pt x="2308" y="125"/>
                </a:cubicBezTo>
                <a:cubicBezTo>
                  <a:pt x="2246" y="141"/>
                  <a:pt x="2247" y="110"/>
                  <a:pt x="2207" y="83"/>
                </a:cubicBezTo>
                <a:cubicBezTo>
                  <a:pt x="2194" y="63"/>
                  <a:pt x="2180" y="50"/>
                  <a:pt x="2160" y="36"/>
                </a:cubicBezTo>
                <a:cubicBezTo>
                  <a:pt x="2160" y="35"/>
                  <a:pt x="2142" y="0"/>
                  <a:pt x="2130" y="12"/>
                </a:cubicBezTo>
                <a:cubicBezTo>
                  <a:pt x="2121" y="21"/>
                  <a:pt x="2118" y="48"/>
                  <a:pt x="2118" y="48"/>
                </a:cubicBezTo>
                <a:cubicBezTo>
                  <a:pt x="2104" y="39"/>
                  <a:pt x="2090" y="23"/>
                  <a:pt x="2071" y="42"/>
                </a:cubicBezTo>
                <a:cubicBezTo>
                  <a:pt x="2059" y="54"/>
                  <a:pt x="2047" y="89"/>
                  <a:pt x="2047" y="89"/>
                </a:cubicBezTo>
                <a:cubicBezTo>
                  <a:pt x="2024" y="56"/>
                  <a:pt x="2004" y="25"/>
                  <a:pt x="1964" y="12"/>
                </a:cubicBezTo>
                <a:cubicBezTo>
                  <a:pt x="1944" y="14"/>
                  <a:pt x="1924" y="12"/>
                  <a:pt x="1905" y="18"/>
                </a:cubicBezTo>
                <a:cubicBezTo>
                  <a:pt x="1898" y="20"/>
                  <a:pt x="1900" y="36"/>
                  <a:pt x="1893" y="36"/>
                </a:cubicBezTo>
                <a:cubicBezTo>
                  <a:pt x="1886" y="36"/>
                  <a:pt x="1887" y="22"/>
                  <a:pt x="1881" y="18"/>
                </a:cubicBezTo>
                <a:cubicBezTo>
                  <a:pt x="1870" y="11"/>
                  <a:pt x="1845" y="6"/>
                  <a:pt x="1845" y="6"/>
                </a:cubicBezTo>
                <a:cubicBezTo>
                  <a:pt x="1795" y="21"/>
                  <a:pt x="1743" y="61"/>
                  <a:pt x="1715" y="107"/>
                </a:cubicBezTo>
                <a:cubicBezTo>
                  <a:pt x="1703" y="82"/>
                  <a:pt x="1696" y="69"/>
                  <a:pt x="1673" y="54"/>
                </a:cubicBezTo>
                <a:cubicBezTo>
                  <a:pt x="1629" y="65"/>
                  <a:pt x="1595" y="99"/>
                  <a:pt x="1554" y="119"/>
                </a:cubicBezTo>
                <a:cubicBezTo>
                  <a:pt x="1520" y="108"/>
                  <a:pt x="1541" y="100"/>
                  <a:pt x="1519" y="78"/>
                </a:cubicBezTo>
                <a:cubicBezTo>
                  <a:pt x="1505" y="64"/>
                  <a:pt x="1495" y="65"/>
                  <a:pt x="1477" y="60"/>
                </a:cubicBezTo>
                <a:cubicBezTo>
                  <a:pt x="1407" y="77"/>
                  <a:pt x="1338" y="122"/>
                  <a:pt x="1287" y="173"/>
                </a:cubicBezTo>
                <a:cubicBezTo>
                  <a:pt x="1285" y="155"/>
                  <a:pt x="1291" y="134"/>
                  <a:pt x="1281" y="119"/>
                </a:cubicBezTo>
                <a:cubicBezTo>
                  <a:pt x="1277" y="112"/>
                  <a:pt x="1264" y="121"/>
                  <a:pt x="1257" y="125"/>
                </a:cubicBezTo>
                <a:cubicBezTo>
                  <a:pt x="1232" y="141"/>
                  <a:pt x="1223" y="168"/>
                  <a:pt x="1198" y="184"/>
                </a:cubicBezTo>
                <a:cubicBezTo>
                  <a:pt x="1194" y="176"/>
                  <a:pt x="1189" y="169"/>
                  <a:pt x="1186" y="161"/>
                </a:cubicBezTo>
                <a:cubicBezTo>
                  <a:pt x="1181" y="149"/>
                  <a:pt x="1174" y="125"/>
                  <a:pt x="1174" y="125"/>
                </a:cubicBezTo>
                <a:cubicBezTo>
                  <a:pt x="1153" y="132"/>
                  <a:pt x="1121" y="167"/>
                  <a:pt x="1121" y="167"/>
                </a:cubicBezTo>
                <a:cubicBezTo>
                  <a:pt x="1087" y="145"/>
                  <a:pt x="1113" y="132"/>
                  <a:pt x="1079" y="143"/>
                </a:cubicBezTo>
                <a:cubicBezTo>
                  <a:pt x="1071" y="149"/>
                  <a:pt x="1065" y="158"/>
                  <a:pt x="1055" y="161"/>
                </a:cubicBezTo>
                <a:cubicBezTo>
                  <a:pt x="1026" y="169"/>
                  <a:pt x="1045" y="127"/>
                  <a:pt x="1032" y="178"/>
                </a:cubicBezTo>
                <a:cubicBezTo>
                  <a:pt x="1015" y="173"/>
                  <a:pt x="962" y="154"/>
                  <a:pt x="1026" y="167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36"/>
          <p:cNvSpPr/>
          <p:nvPr/>
        </p:nvSpPr>
        <p:spPr>
          <a:xfrm>
            <a:off x="2398680" y="1816200"/>
            <a:ext cx="4356000" cy="1546200"/>
          </a:xfrm>
          <a:custGeom>
            <a:avLst/>
            <a:gdLst/>
            <a:ahLst/>
            <a:rect l="l" t="t" r="r" b="b"/>
            <a:pathLst>
              <a:path w="2744" h="974">
                <a:moveTo>
                  <a:pt x="850" y="118"/>
                </a:moveTo>
                <a:cubicBezTo>
                  <a:pt x="835" y="179"/>
                  <a:pt x="754" y="199"/>
                  <a:pt x="707" y="231"/>
                </a:cubicBezTo>
                <a:cubicBezTo>
                  <a:pt x="727" y="271"/>
                  <a:pt x="712" y="267"/>
                  <a:pt x="677" y="285"/>
                </a:cubicBezTo>
                <a:cubicBezTo>
                  <a:pt x="670" y="296"/>
                  <a:pt x="667" y="309"/>
                  <a:pt x="660" y="320"/>
                </a:cubicBezTo>
                <a:cubicBezTo>
                  <a:pt x="635" y="356"/>
                  <a:pt x="541" y="390"/>
                  <a:pt x="499" y="398"/>
                </a:cubicBezTo>
                <a:cubicBezTo>
                  <a:pt x="505" y="402"/>
                  <a:pt x="519" y="402"/>
                  <a:pt x="517" y="409"/>
                </a:cubicBezTo>
                <a:cubicBezTo>
                  <a:pt x="515" y="418"/>
                  <a:pt x="501" y="417"/>
                  <a:pt x="493" y="421"/>
                </a:cubicBezTo>
                <a:cubicBezTo>
                  <a:pt x="468" y="432"/>
                  <a:pt x="448" y="442"/>
                  <a:pt x="422" y="451"/>
                </a:cubicBezTo>
                <a:cubicBezTo>
                  <a:pt x="407" y="456"/>
                  <a:pt x="375" y="463"/>
                  <a:pt x="375" y="463"/>
                </a:cubicBezTo>
                <a:cubicBezTo>
                  <a:pt x="347" y="481"/>
                  <a:pt x="295" y="472"/>
                  <a:pt x="339" y="487"/>
                </a:cubicBezTo>
                <a:cubicBezTo>
                  <a:pt x="295" y="498"/>
                  <a:pt x="262" y="500"/>
                  <a:pt x="214" y="504"/>
                </a:cubicBezTo>
                <a:cubicBezTo>
                  <a:pt x="158" y="523"/>
                  <a:pt x="254" y="499"/>
                  <a:pt x="208" y="540"/>
                </a:cubicBezTo>
                <a:cubicBezTo>
                  <a:pt x="199" y="548"/>
                  <a:pt x="185" y="548"/>
                  <a:pt x="173" y="552"/>
                </a:cubicBezTo>
                <a:cubicBezTo>
                  <a:pt x="166" y="554"/>
                  <a:pt x="161" y="561"/>
                  <a:pt x="155" y="564"/>
                </a:cubicBezTo>
                <a:cubicBezTo>
                  <a:pt x="131" y="576"/>
                  <a:pt x="98" y="578"/>
                  <a:pt x="72" y="582"/>
                </a:cubicBezTo>
                <a:cubicBezTo>
                  <a:pt x="30" y="596"/>
                  <a:pt x="48" y="591"/>
                  <a:pt x="18" y="599"/>
                </a:cubicBezTo>
                <a:cubicBezTo>
                  <a:pt x="45" y="640"/>
                  <a:pt x="25" y="596"/>
                  <a:pt x="12" y="629"/>
                </a:cubicBezTo>
                <a:cubicBezTo>
                  <a:pt x="0" y="658"/>
                  <a:pt x="53" y="650"/>
                  <a:pt x="101" y="653"/>
                </a:cubicBezTo>
                <a:cubicBezTo>
                  <a:pt x="93" y="659"/>
                  <a:pt x="53" y="686"/>
                  <a:pt x="78" y="700"/>
                </a:cubicBezTo>
                <a:cubicBezTo>
                  <a:pt x="88" y="706"/>
                  <a:pt x="101" y="704"/>
                  <a:pt x="113" y="706"/>
                </a:cubicBezTo>
                <a:cubicBezTo>
                  <a:pt x="124" y="752"/>
                  <a:pt x="122" y="717"/>
                  <a:pt x="161" y="730"/>
                </a:cubicBezTo>
                <a:cubicBezTo>
                  <a:pt x="174" y="769"/>
                  <a:pt x="155" y="730"/>
                  <a:pt x="208" y="754"/>
                </a:cubicBezTo>
                <a:cubicBezTo>
                  <a:pt x="215" y="757"/>
                  <a:pt x="215" y="767"/>
                  <a:pt x="220" y="772"/>
                </a:cubicBezTo>
                <a:cubicBezTo>
                  <a:pt x="225" y="777"/>
                  <a:pt x="232" y="780"/>
                  <a:pt x="238" y="784"/>
                </a:cubicBezTo>
                <a:cubicBezTo>
                  <a:pt x="242" y="780"/>
                  <a:pt x="262" y="755"/>
                  <a:pt x="274" y="760"/>
                </a:cubicBezTo>
                <a:cubicBezTo>
                  <a:pt x="281" y="763"/>
                  <a:pt x="280" y="773"/>
                  <a:pt x="286" y="778"/>
                </a:cubicBezTo>
                <a:cubicBezTo>
                  <a:pt x="291" y="782"/>
                  <a:pt x="297" y="782"/>
                  <a:pt x="303" y="784"/>
                </a:cubicBezTo>
                <a:cubicBezTo>
                  <a:pt x="321" y="766"/>
                  <a:pt x="333" y="756"/>
                  <a:pt x="357" y="748"/>
                </a:cubicBezTo>
                <a:cubicBezTo>
                  <a:pt x="390" y="770"/>
                  <a:pt x="365" y="783"/>
                  <a:pt x="398" y="772"/>
                </a:cubicBezTo>
                <a:cubicBezTo>
                  <a:pt x="404" y="766"/>
                  <a:pt x="408" y="757"/>
                  <a:pt x="416" y="754"/>
                </a:cubicBezTo>
                <a:cubicBezTo>
                  <a:pt x="437" y="747"/>
                  <a:pt x="448" y="783"/>
                  <a:pt x="452" y="795"/>
                </a:cubicBezTo>
                <a:cubicBezTo>
                  <a:pt x="485" y="784"/>
                  <a:pt x="494" y="756"/>
                  <a:pt x="517" y="736"/>
                </a:cubicBezTo>
                <a:cubicBezTo>
                  <a:pt x="528" y="727"/>
                  <a:pt x="553" y="712"/>
                  <a:pt x="553" y="712"/>
                </a:cubicBezTo>
                <a:cubicBezTo>
                  <a:pt x="578" y="720"/>
                  <a:pt x="574" y="730"/>
                  <a:pt x="582" y="754"/>
                </a:cubicBezTo>
                <a:cubicBezTo>
                  <a:pt x="588" y="752"/>
                  <a:pt x="595" y="752"/>
                  <a:pt x="600" y="748"/>
                </a:cubicBezTo>
                <a:cubicBezTo>
                  <a:pt x="606" y="743"/>
                  <a:pt x="605" y="730"/>
                  <a:pt x="612" y="730"/>
                </a:cubicBezTo>
                <a:cubicBezTo>
                  <a:pt x="620" y="730"/>
                  <a:pt x="623" y="743"/>
                  <a:pt x="630" y="748"/>
                </a:cubicBezTo>
                <a:cubicBezTo>
                  <a:pt x="635" y="752"/>
                  <a:pt x="642" y="752"/>
                  <a:pt x="648" y="754"/>
                </a:cubicBezTo>
                <a:cubicBezTo>
                  <a:pt x="710" y="733"/>
                  <a:pt x="665" y="736"/>
                  <a:pt x="695" y="760"/>
                </a:cubicBezTo>
                <a:cubicBezTo>
                  <a:pt x="700" y="764"/>
                  <a:pt x="707" y="764"/>
                  <a:pt x="713" y="766"/>
                </a:cubicBezTo>
                <a:cubicBezTo>
                  <a:pt x="717" y="760"/>
                  <a:pt x="728" y="736"/>
                  <a:pt x="743" y="742"/>
                </a:cubicBezTo>
                <a:cubicBezTo>
                  <a:pt x="771" y="754"/>
                  <a:pt x="770" y="781"/>
                  <a:pt x="784" y="801"/>
                </a:cubicBezTo>
                <a:cubicBezTo>
                  <a:pt x="802" y="827"/>
                  <a:pt x="836" y="838"/>
                  <a:pt x="862" y="855"/>
                </a:cubicBezTo>
                <a:cubicBezTo>
                  <a:pt x="891" y="845"/>
                  <a:pt x="877" y="855"/>
                  <a:pt x="891" y="813"/>
                </a:cubicBezTo>
                <a:cubicBezTo>
                  <a:pt x="893" y="807"/>
                  <a:pt x="897" y="795"/>
                  <a:pt x="897" y="795"/>
                </a:cubicBezTo>
                <a:cubicBezTo>
                  <a:pt x="931" y="818"/>
                  <a:pt x="931" y="877"/>
                  <a:pt x="968" y="890"/>
                </a:cubicBezTo>
                <a:cubicBezTo>
                  <a:pt x="985" y="880"/>
                  <a:pt x="985" y="874"/>
                  <a:pt x="1004" y="884"/>
                </a:cubicBezTo>
                <a:cubicBezTo>
                  <a:pt x="1017" y="891"/>
                  <a:pt x="1040" y="908"/>
                  <a:pt x="1040" y="908"/>
                </a:cubicBezTo>
                <a:cubicBezTo>
                  <a:pt x="1073" y="861"/>
                  <a:pt x="1055" y="858"/>
                  <a:pt x="1087" y="879"/>
                </a:cubicBezTo>
                <a:cubicBezTo>
                  <a:pt x="1113" y="870"/>
                  <a:pt x="1121" y="850"/>
                  <a:pt x="1147" y="837"/>
                </a:cubicBezTo>
                <a:cubicBezTo>
                  <a:pt x="1186" y="796"/>
                  <a:pt x="1166" y="796"/>
                  <a:pt x="1200" y="807"/>
                </a:cubicBezTo>
                <a:cubicBezTo>
                  <a:pt x="1227" y="847"/>
                  <a:pt x="1238" y="801"/>
                  <a:pt x="1265" y="784"/>
                </a:cubicBezTo>
                <a:cubicBezTo>
                  <a:pt x="1284" y="755"/>
                  <a:pt x="1292" y="723"/>
                  <a:pt x="1313" y="694"/>
                </a:cubicBezTo>
                <a:cubicBezTo>
                  <a:pt x="1359" y="709"/>
                  <a:pt x="1348" y="685"/>
                  <a:pt x="1378" y="665"/>
                </a:cubicBezTo>
                <a:cubicBezTo>
                  <a:pt x="1404" y="685"/>
                  <a:pt x="1411" y="696"/>
                  <a:pt x="1443" y="689"/>
                </a:cubicBezTo>
                <a:cubicBezTo>
                  <a:pt x="1476" y="698"/>
                  <a:pt x="1476" y="723"/>
                  <a:pt x="1497" y="748"/>
                </a:cubicBezTo>
                <a:cubicBezTo>
                  <a:pt x="1502" y="753"/>
                  <a:pt x="1509" y="755"/>
                  <a:pt x="1515" y="760"/>
                </a:cubicBezTo>
                <a:cubicBezTo>
                  <a:pt x="1522" y="765"/>
                  <a:pt x="1528" y="771"/>
                  <a:pt x="1533" y="778"/>
                </a:cubicBezTo>
                <a:cubicBezTo>
                  <a:pt x="1542" y="789"/>
                  <a:pt x="1546" y="803"/>
                  <a:pt x="1556" y="813"/>
                </a:cubicBezTo>
                <a:cubicBezTo>
                  <a:pt x="1570" y="827"/>
                  <a:pt x="1598" y="855"/>
                  <a:pt x="1598" y="855"/>
                </a:cubicBezTo>
                <a:cubicBezTo>
                  <a:pt x="1610" y="853"/>
                  <a:pt x="1623" y="855"/>
                  <a:pt x="1633" y="849"/>
                </a:cubicBezTo>
                <a:cubicBezTo>
                  <a:pt x="1638" y="846"/>
                  <a:pt x="1633" y="830"/>
                  <a:pt x="1639" y="831"/>
                </a:cubicBezTo>
                <a:cubicBezTo>
                  <a:pt x="1650" y="833"/>
                  <a:pt x="1654" y="848"/>
                  <a:pt x="1663" y="855"/>
                </a:cubicBezTo>
                <a:cubicBezTo>
                  <a:pt x="1686" y="875"/>
                  <a:pt x="1705" y="894"/>
                  <a:pt x="1734" y="902"/>
                </a:cubicBezTo>
                <a:cubicBezTo>
                  <a:pt x="1779" y="936"/>
                  <a:pt x="1829" y="956"/>
                  <a:pt x="1883" y="974"/>
                </a:cubicBezTo>
                <a:cubicBezTo>
                  <a:pt x="1868" y="952"/>
                  <a:pt x="1854" y="946"/>
                  <a:pt x="1829" y="938"/>
                </a:cubicBezTo>
                <a:cubicBezTo>
                  <a:pt x="1821" y="932"/>
                  <a:pt x="1808" y="930"/>
                  <a:pt x="1806" y="920"/>
                </a:cubicBezTo>
                <a:cubicBezTo>
                  <a:pt x="1803" y="904"/>
                  <a:pt x="1830" y="916"/>
                  <a:pt x="1841" y="920"/>
                </a:cubicBezTo>
                <a:cubicBezTo>
                  <a:pt x="1875" y="945"/>
                  <a:pt x="1912" y="960"/>
                  <a:pt x="1954" y="968"/>
                </a:cubicBezTo>
                <a:cubicBezTo>
                  <a:pt x="2016" y="961"/>
                  <a:pt x="2018" y="968"/>
                  <a:pt x="1990" y="926"/>
                </a:cubicBezTo>
                <a:cubicBezTo>
                  <a:pt x="1988" y="914"/>
                  <a:pt x="1979" y="901"/>
                  <a:pt x="1984" y="890"/>
                </a:cubicBezTo>
                <a:cubicBezTo>
                  <a:pt x="1986" y="884"/>
                  <a:pt x="2000" y="902"/>
                  <a:pt x="2002" y="896"/>
                </a:cubicBezTo>
                <a:cubicBezTo>
                  <a:pt x="2005" y="888"/>
                  <a:pt x="1996" y="879"/>
                  <a:pt x="1990" y="873"/>
                </a:cubicBezTo>
                <a:cubicBezTo>
                  <a:pt x="1978" y="861"/>
                  <a:pt x="1940" y="836"/>
                  <a:pt x="1924" y="825"/>
                </a:cubicBezTo>
                <a:cubicBezTo>
                  <a:pt x="1907" y="799"/>
                  <a:pt x="1886" y="782"/>
                  <a:pt x="1907" y="748"/>
                </a:cubicBezTo>
                <a:cubicBezTo>
                  <a:pt x="1911" y="741"/>
                  <a:pt x="1922" y="744"/>
                  <a:pt x="1930" y="742"/>
                </a:cubicBezTo>
                <a:cubicBezTo>
                  <a:pt x="1926" y="736"/>
                  <a:pt x="1922" y="730"/>
                  <a:pt x="1919" y="724"/>
                </a:cubicBezTo>
                <a:cubicBezTo>
                  <a:pt x="1916" y="718"/>
                  <a:pt x="1907" y="707"/>
                  <a:pt x="1913" y="706"/>
                </a:cubicBezTo>
                <a:cubicBezTo>
                  <a:pt x="1925" y="704"/>
                  <a:pt x="1936" y="714"/>
                  <a:pt x="1948" y="718"/>
                </a:cubicBezTo>
                <a:cubicBezTo>
                  <a:pt x="1975" y="728"/>
                  <a:pt x="1998" y="741"/>
                  <a:pt x="2025" y="748"/>
                </a:cubicBezTo>
                <a:cubicBezTo>
                  <a:pt x="2027" y="742"/>
                  <a:pt x="2033" y="736"/>
                  <a:pt x="2031" y="730"/>
                </a:cubicBezTo>
                <a:cubicBezTo>
                  <a:pt x="2022" y="697"/>
                  <a:pt x="1998" y="712"/>
                  <a:pt x="2031" y="700"/>
                </a:cubicBezTo>
                <a:cubicBezTo>
                  <a:pt x="2061" y="701"/>
                  <a:pt x="2180" y="682"/>
                  <a:pt x="2209" y="730"/>
                </a:cubicBezTo>
                <a:cubicBezTo>
                  <a:pt x="2213" y="744"/>
                  <a:pt x="2209" y="764"/>
                  <a:pt x="2221" y="772"/>
                </a:cubicBezTo>
                <a:cubicBezTo>
                  <a:pt x="2231" y="779"/>
                  <a:pt x="2257" y="784"/>
                  <a:pt x="2257" y="784"/>
                </a:cubicBezTo>
                <a:cubicBezTo>
                  <a:pt x="2271" y="782"/>
                  <a:pt x="2286" y="784"/>
                  <a:pt x="2299" y="778"/>
                </a:cubicBezTo>
                <a:cubicBezTo>
                  <a:pt x="2305" y="775"/>
                  <a:pt x="2298" y="762"/>
                  <a:pt x="2304" y="760"/>
                </a:cubicBezTo>
                <a:cubicBezTo>
                  <a:pt x="2315" y="757"/>
                  <a:pt x="2345" y="768"/>
                  <a:pt x="2358" y="772"/>
                </a:cubicBezTo>
                <a:cubicBezTo>
                  <a:pt x="2414" y="767"/>
                  <a:pt x="2462" y="752"/>
                  <a:pt x="2518" y="742"/>
                </a:cubicBezTo>
                <a:cubicBezTo>
                  <a:pt x="2617" y="759"/>
                  <a:pt x="2641" y="732"/>
                  <a:pt x="2720" y="706"/>
                </a:cubicBezTo>
                <a:cubicBezTo>
                  <a:pt x="2674" y="691"/>
                  <a:pt x="2721" y="681"/>
                  <a:pt x="2738" y="677"/>
                </a:cubicBezTo>
                <a:cubicBezTo>
                  <a:pt x="2724" y="675"/>
                  <a:pt x="2707" y="680"/>
                  <a:pt x="2696" y="671"/>
                </a:cubicBezTo>
                <a:cubicBezTo>
                  <a:pt x="2685" y="662"/>
                  <a:pt x="2741" y="637"/>
                  <a:pt x="2744" y="635"/>
                </a:cubicBezTo>
                <a:cubicBezTo>
                  <a:pt x="2684" y="595"/>
                  <a:pt x="2618" y="588"/>
                  <a:pt x="2548" y="582"/>
                </a:cubicBezTo>
                <a:cubicBezTo>
                  <a:pt x="2484" y="561"/>
                  <a:pt x="2564" y="591"/>
                  <a:pt x="2548" y="570"/>
                </a:cubicBezTo>
                <a:cubicBezTo>
                  <a:pt x="2540" y="559"/>
                  <a:pt x="2525" y="557"/>
                  <a:pt x="2512" y="552"/>
                </a:cubicBezTo>
                <a:cubicBezTo>
                  <a:pt x="2463" y="534"/>
                  <a:pt x="2409" y="525"/>
                  <a:pt x="2358" y="516"/>
                </a:cubicBezTo>
                <a:cubicBezTo>
                  <a:pt x="2389" y="495"/>
                  <a:pt x="2370" y="484"/>
                  <a:pt x="2340" y="469"/>
                </a:cubicBezTo>
                <a:cubicBezTo>
                  <a:pt x="2301" y="449"/>
                  <a:pt x="2264" y="442"/>
                  <a:pt x="2221" y="433"/>
                </a:cubicBezTo>
                <a:cubicBezTo>
                  <a:pt x="2223" y="427"/>
                  <a:pt x="2224" y="421"/>
                  <a:pt x="2227" y="415"/>
                </a:cubicBezTo>
                <a:cubicBezTo>
                  <a:pt x="2230" y="409"/>
                  <a:pt x="2240" y="405"/>
                  <a:pt x="2239" y="398"/>
                </a:cubicBezTo>
                <a:cubicBezTo>
                  <a:pt x="2237" y="387"/>
                  <a:pt x="2203" y="382"/>
                  <a:pt x="2198" y="380"/>
                </a:cubicBezTo>
                <a:cubicBezTo>
                  <a:pt x="2186" y="376"/>
                  <a:pt x="2162" y="368"/>
                  <a:pt x="2162" y="368"/>
                </a:cubicBezTo>
                <a:cubicBezTo>
                  <a:pt x="2168" y="364"/>
                  <a:pt x="2175" y="362"/>
                  <a:pt x="2180" y="356"/>
                </a:cubicBezTo>
                <a:cubicBezTo>
                  <a:pt x="2211" y="317"/>
                  <a:pt x="2119" y="305"/>
                  <a:pt x="2097" y="297"/>
                </a:cubicBezTo>
                <a:cubicBezTo>
                  <a:pt x="2101" y="291"/>
                  <a:pt x="2110" y="286"/>
                  <a:pt x="2109" y="279"/>
                </a:cubicBezTo>
                <a:cubicBezTo>
                  <a:pt x="2108" y="274"/>
                  <a:pt x="2067" y="255"/>
                  <a:pt x="2067" y="255"/>
                </a:cubicBezTo>
                <a:cubicBezTo>
                  <a:pt x="2048" y="247"/>
                  <a:pt x="2008" y="231"/>
                  <a:pt x="2008" y="231"/>
                </a:cubicBezTo>
                <a:cubicBezTo>
                  <a:pt x="2064" y="192"/>
                  <a:pt x="1987" y="159"/>
                  <a:pt x="1954" y="148"/>
                </a:cubicBezTo>
                <a:cubicBezTo>
                  <a:pt x="1952" y="142"/>
                  <a:pt x="1948" y="136"/>
                  <a:pt x="1948" y="130"/>
                </a:cubicBezTo>
                <a:cubicBezTo>
                  <a:pt x="1948" y="124"/>
                  <a:pt x="1956" y="119"/>
                  <a:pt x="1954" y="113"/>
                </a:cubicBezTo>
                <a:cubicBezTo>
                  <a:pt x="1950" y="102"/>
                  <a:pt x="1902" y="89"/>
                  <a:pt x="1901" y="89"/>
                </a:cubicBezTo>
                <a:cubicBezTo>
                  <a:pt x="1841" y="77"/>
                  <a:pt x="1784" y="56"/>
                  <a:pt x="1723" y="47"/>
                </a:cubicBezTo>
                <a:cubicBezTo>
                  <a:pt x="1733" y="12"/>
                  <a:pt x="1711" y="18"/>
                  <a:pt x="1681" y="12"/>
                </a:cubicBezTo>
                <a:cubicBezTo>
                  <a:pt x="1493" y="20"/>
                  <a:pt x="1593" y="28"/>
                  <a:pt x="1509" y="0"/>
                </a:cubicBezTo>
                <a:cubicBezTo>
                  <a:pt x="1460" y="20"/>
                  <a:pt x="1443" y="69"/>
                  <a:pt x="1402" y="83"/>
                </a:cubicBezTo>
                <a:cubicBezTo>
                  <a:pt x="1358" y="116"/>
                  <a:pt x="1347" y="95"/>
                  <a:pt x="1301" y="83"/>
                </a:cubicBezTo>
                <a:cubicBezTo>
                  <a:pt x="1282" y="78"/>
                  <a:pt x="1242" y="71"/>
                  <a:pt x="1242" y="71"/>
                </a:cubicBezTo>
                <a:cubicBezTo>
                  <a:pt x="1184" y="42"/>
                  <a:pt x="1118" y="62"/>
                  <a:pt x="1057" y="77"/>
                </a:cubicBezTo>
                <a:cubicBezTo>
                  <a:pt x="1017" y="105"/>
                  <a:pt x="1054" y="83"/>
                  <a:pt x="962" y="95"/>
                </a:cubicBezTo>
                <a:cubicBezTo>
                  <a:pt x="943" y="97"/>
                  <a:pt x="928" y="113"/>
                  <a:pt x="909" y="118"/>
                </a:cubicBezTo>
                <a:cubicBezTo>
                  <a:pt x="903" y="122"/>
                  <a:pt x="898" y="127"/>
                  <a:pt x="891" y="130"/>
                </a:cubicBezTo>
                <a:cubicBezTo>
                  <a:pt x="880" y="135"/>
                  <a:pt x="856" y="142"/>
                  <a:pt x="856" y="142"/>
                </a:cubicBezTo>
                <a:cubicBezTo>
                  <a:pt x="831" y="134"/>
                  <a:pt x="834" y="141"/>
                  <a:pt x="850" y="11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37"/>
          <p:cNvSpPr/>
          <p:nvPr/>
        </p:nvSpPr>
        <p:spPr>
          <a:xfrm>
            <a:off x="3068640" y="627120"/>
            <a:ext cx="2941560" cy="1684440"/>
          </a:xfrm>
          <a:custGeom>
            <a:avLst/>
            <a:gdLst/>
            <a:ahLst/>
            <a:rect l="l" t="t" r="r" b="b"/>
            <a:pathLst>
              <a:path w="1853" h="1061">
                <a:moveTo>
                  <a:pt x="915" y="0"/>
                </a:moveTo>
                <a:cubicBezTo>
                  <a:pt x="899" y="48"/>
                  <a:pt x="868" y="88"/>
                  <a:pt x="843" y="131"/>
                </a:cubicBezTo>
                <a:cubicBezTo>
                  <a:pt x="834" y="146"/>
                  <a:pt x="824" y="159"/>
                  <a:pt x="814" y="173"/>
                </a:cubicBezTo>
                <a:cubicBezTo>
                  <a:pt x="806" y="185"/>
                  <a:pt x="778" y="196"/>
                  <a:pt x="778" y="196"/>
                </a:cubicBezTo>
                <a:cubicBezTo>
                  <a:pt x="767" y="228"/>
                  <a:pt x="715" y="267"/>
                  <a:pt x="689" y="291"/>
                </a:cubicBezTo>
                <a:cubicBezTo>
                  <a:pt x="673" y="372"/>
                  <a:pt x="679" y="340"/>
                  <a:pt x="635" y="404"/>
                </a:cubicBezTo>
                <a:cubicBezTo>
                  <a:pt x="627" y="416"/>
                  <a:pt x="600" y="428"/>
                  <a:pt x="600" y="428"/>
                </a:cubicBezTo>
                <a:cubicBezTo>
                  <a:pt x="592" y="453"/>
                  <a:pt x="587" y="467"/>
                  <a:pt x="564" y="481"/>
                </a:cubicBezTo>
                <a:cubicBezTo>
                  <a:pt x="562" y="489"/>
                  <a:pt x="563" y="499"/>
                  <a:pt x="558" y="505"/>
                </a:cubicBezTo>
                <a:cubicBezTo>
                  <a:pt x="554" y="510"/>
                  <a:pt x="506" y="527"/>
                  <a:pt x="499" y="529"/>
                </a:cubicBezTo>
                <a:cubicBezTo>
                  <a:pt x="488" y="536"/>
                  <a:pt x="472" y="538"/>
                  <a:pt x="463" y="547"/>
                </a:cubicBezTo>
                <a:cubicBezTo>
                  <a:pt x="459" y="551"/>
                  <a:pt x="461" y="560"/>
                  <a:pt x="457" y="565"/>
                </a:cubicBezTo>
                <a:cubicBezTo>
                  <a:pt x="448" y="574"/>
                  <a:pt x="433" y="575"/>
                  <a:pt x="422" y="582"/>
                </a:cubicBezTo>
                <a:cubicBezTo>
                  <a:pt x="424" y="588"/>
                  <a:pt x="432" y="596"/>
                  <a:pt x="428" y="600"/>
                </a:cubicBezTo>
                <a:cubicBezTo>
                  <a:pt x="419" y="609"/>
                  <a:pt x="404" y="608"/>
                  <a:pt x="392" y="612"/>
                </a:cubicBezTo>
                <a:cubicBezTo>
                  <a:pt x="340" y="629"/>
                  <a:pt x="283" y="651"/>
                  <a:pt x="238" y="683"/>
                </a:cubicBezTo>
                <a:cubicBezTo>
                  <a:pt x="213" y="721"/>
                  <a:pt x="151" y="763"/>
                  <a:pt x="107" y="778"/>
                </a:cubicBezTo>
                <a:cubicBezTo>
                  <a:pt x="90" y="804"/>
                  <a:pt x="60" y="807"/>
                  <a:pt x="30" y="814"/>
                </a:cubicBezTo>
                <a:cubicBezTo>
                  <a:pt x="32" y="820"/>
                  <a:pt x="32" y="828"/>
                  <a:pt x="36" y="832"/>
                </a:cubicBezTo>
                <a:cubicBezTo>
                  <a:pt x="40" y="836"/>
                  <a:pt x="57" y="832"/>
                  <a:pt x="54" y="838"/>
                </a:cubicBezTo>
                <a:cubicBezTo>
                  <a:pt x="46" y="856"/>
                  <a:pt x="18" y="873"/>
                  <a:pt x="0" y="885"/>
                </a:cubicBezTo>
                <a:cubicBezTo>
                  <a:pt x="43" y="914"/>
                  <a:pt x="55" y="862"/>
                  <a:pt x="71" y="909"/>
                </a:cubicBezTo>
                <a:cubicBezTo>
                  <a:pt x="77" y="907"/>
                  <a:pt x="109" y="896"/>
                  <a:pt x="113" y="897"/>
                </a:cubicBezTo>
                <a:cubicBezTo>
                  <a:pt x="120" y="899"/>
                  <a:pt x="119" y="911"/>
                  <a:pt x="125" y="915"/>
                </a:cubicBezTo>
                <a:cubicBezTo>
                  <a:pt x="132" y="920"/>
                  <a:pt x="141" y="919"/>
                  <a:pt x="149" y="921"/>
                </a:cubicBezTo>
                <a:cubicBezTo>
                  <a:pt x="184" y="909"/>
                  <a:pt x="222" y="890"/>
                  <a:pt x="255" y="873"/>
                </a:cubicBezTo>
                <a:cubicBezTo>
                  <a:pt x="261" y="891"/>
                  <a:pt x="265" y="891"/>
                  <a:pt x="255" y="909"/>
                </a:cubicBezTo>
                <a:cubicBezTo>
                  <a:pt x="234" y="949"/>
                  <a:pt x="216" y="950"/>
                  <a:pt x="250" y="939"/>
                </a:cubicBezTo>
                <a:cubicBezTo>
                  <a:pt x="271" y="923"/>
                  <a:pt x="291" y="909"/>
                  <a:pt x="309" y="891"/>
                </a:cubicBezTo>
                <a:cubicBezTo>
                  <a:pt x="349" y="931"/>
                  <a:pt x="310" y="885"/>
                  <a:pt x="333" y="933"/>
                </a:cubicBezTo>
                <a:cubicBezTo>
                  <a:pt x="339" y="946"/>
                  <a:pt x="356" y="968"/>
                  <a:pt x="356" y="968"/>
                </a:cubicBezTo>
                <a:cubicBezTo>
                  <a:pt x="362" y="966"/>
                  <a:pt x="370" y="967"/>
                  <a:pt x="374" y="962"/>
                </a:cubicBezTo>
                <a:cubicBezTo>
                  <a:pt x="381" y="952"/>
                  <a:pt x="386" y="927"/>
                  <a:pt x="386" y="927"/>
                </a:cubicBezTo>
                <a:cubicBezTo>
                  <a:pt x="408" y="958"/>
                  <a:pt x="410" y="968"/>
                  <a:pt x="445" y="980"/>
                </a:cubicBezTo>
                <a:cubicBezTo>
                  <a:pt x="459" y="938"/>
                  <a:pt x="450" y="955"/>
                  <a:pt x="469" y="927"/>
                </a:cubicBezTo>
                <a:cubicBezTo>
                  <a:pt x="531" y="948"/>
                  <a:pt x="522" y="1016"/>
                  <a:pt x="576" y="1034"/>
                </a:cubicBezTo>
                <a:cubicBezTo>
                  <a:pt x="598" y="1001"/>
                  <a:pt x="578" y="990"/>
                  <a:pt x="618" y="1010"/>
                </a:cubicBezTo>
                <a:cubicBezTo>
                  <a:pt x="634" y="1038"/>
                  <a:pt x="633" y="1061"/>
                  <a:pt x="665" y="1052"/>
                </a:cubicBezTo>
                <a:cubicBezTo>
                  <a:pt x="678" y="1014"/>
                  <a:pt x="698" y="1023"/>
                  <a:pt x="730" y="1034"/>
                </a:cubicBezTo>
                <a:cubicBezTo>
                  <a:pt x="744" y="1012"/>
                  <a:pt x="764" y="982"/>
                  <a:pt x="784" y="968"/>
                </a:cubicBezTo>
                <a:cubicBezTo>
                  <a:pt x="810" y="931"/>
                  <a:pt x="816" y="947"/>
                  <a:pt x="849" y="962"/>
                </a:cubicBezTo>
                <a:cubicBezTo>
                  <a:pt x="892" y="982"/>
                  <a:pt x="842" y="951"/>
                  <a:pt x="885" y="980"/>
                </a:cubicBezTo>
                <a:cubicBezTo>
                  <a:pt x="901" y="1027"/>
                  <a:pt x="882" y="979"/>
                  <a:pt x="897" y="927"/>
                </a:cubicBezTo>
                <a:cubicBezTo>
                  <a:pt x="899" y="920"/>
                  <a:pt x="909" y="919"/>
                  <a:pt x="915" y="915"/>
                </a:cubicBezTo>
                <a:cubicBezTo>
                  <a:pt x="946" y="931"/>
                  <a:pt x="969" y="955"/>
                  <a:pt x="998" y="974"/>
                </a:cubicBezTo>
                <a:cubicBezTo>
                  <a:pt x="1003" y="959"/>
                  <a:pt x="995" y="933"/>
                  <a:pt x="1010" y="927"/>
                </a:cubicBezTo>
                <a:cubicBezTo>
                  <a:pt x="1019" y="923"/>
                  <a:pt x="1026" y="938"/>
                  <a:pt x="1033" y="945"/>
                </a:cubicBezTo>
                <a:cubicBezTo>
                  <a:pt x="1045" y="956"/>
                  <a:pt x="1069" y="980"/>
                  <a:pt x="1069" y="980"/>
                </a:cubicBezTo>
                <a:cubicBezTo>
                  <a:pt x="1075" y="978"/>
                  <a:pt x="1081" y="972"/>
                  <a:pt x="1087" y="974"/>
                </a:cubicBezTo>
                <a:cubicBezTo>
                  <a:pt x="1094" y="977"/>
                  <a:pt x="1094" y="987"/>
                  <a:pt x="1099" y="992"/>
                </a:cubicBezTo>
                <a:cubicBezTo>
                  <a:pt x="1113" y="1006"/>
                  <a:pt x="1129" y="1018"/>
                  <a:pt x="1146" y="1028"/>
                </a:cubicBezTo>
                <a:cubicBezTo>
                  <a:pt x="1178" y="1046"/>
                  <a:pt x="1256" y="1045"/>
                  <a:pt x="1277" y="1046"/>
                </a:cubicBezTo>
                <a:cubicBezTo>
                  <a:pt x="1298" y="1050"/>
                  <a:pt x="1332" y="1059"/>
                  <a:pt x="1336" y="1046"/>
                </a:cubicBezTo>
                <a:cubicBezTo>
                  <a:pt x="1338" y="1039"/>
                  <a:pt x="1323" y="1039"/>
                  <a:pt x="1318" y="1034"/>
                </a:cubicBezTo>
                <a:cubicBezTo>
                  <a:pt x="1273" y="995"/>
                  <a:pt x="1328" y="1034"/>
                  <a:pt x="1283" y="1004"/>
                </a:cubicBezTo>
                <a:cubicBezTo>
                  <a:pt x="1281" y="996"/>
                  <a:pt x="1271" y="986"/>
                  <a:pt x="1277" y="980"/>
                </a:cubicBezTo>
                <a:cubicBezTo>
                  <a:pt x="1277" y="980"/>
                  <a:pt x="1338" y="997"/>
                  <a:pt x="1342" y="998"/>
                </a:cubicBezTo>
                <a:cubicBezTo>
                  <a:pt x="1338" y="988"/>
                  <a:pt x="1335" y="977"/>
                  <a:pt x="1330" y="968"/>
                </a:cubicBezTo>
                <a:cubicBezTo>
                  <a:pt x="1323" y="956"/>
                  <a:pt x="1306" y="933"/>
                  <a:pt x="1306" y="933"/>
                </a:cubicBezTo>
                <a:cubicBezTo>
                  <a:pt x="1323" y="883"/>
                  <a:pt x="1319" y="953"/>
                  <a:pt x="1336" y="903"/>
                </a:cubicBezTo>
                <a:cubicBezTo>
                  <a:pt x="1334" y="897"/>
                  <a:pt x="1326" y="889"/>
                  <a:pt x="1330" y="885"/>
                </a:cubicBezTo>
                <a:cubicBezTo>
                  <a:pt x="1334" y="881"/>
                  <a:pt x="1342" y="888"/>
                  <a:pt x="1348" y="891"/>
                </a:cubicBezTo>
                <a:cubicBezTo>
                  <a:pt x="1425" y="926"/>
                  <a:pt x="1371" y="906"/>
                  <a:pt x="1413" y="921"/>
                </a:cubicBezTo>
                <a:cubicBezTo>
                  <a:pt x="1421" y="919"/>
                  <a:pt x="1432" y="921"/>
                  <a:pt x="1437" y="915"/>
                </a:cubicBezTo>
                <a:cubicBezTo>
                  <a:pt x="1482" y="863"/>
                  <a:pt x="1422" y="888"/>
                  <a:pt x="1467" y="873"/>
                </a:cubicBezTo>
                <a:cubicBezTo>
                  <a:pt x="1510" y="882"/>
                  <a:pt x="1486" y="875"/>
                  <a:pt x="1532" y="891"/>
                </a:cubicBezTo>
                <a:cubicBezTo>
                  <a:pt x="1544" y="895"/>
                  <a:pt x="1568" y="903"/>
                  <a:pt x="1568" y="903"/>
                </a:cubicBezTo>
                <a:cubicBezTo>
                  <a:pt x="1603" y="891"/>
                  <a:pt x="1656" y="911"/>
                  <a:pt x="1692" y="915"/>
                </a:cubicBezTo>
                <a:cubicBezTo>
                  <a:pt x="1708" y="913"/>
                  <a:pt x="1726" y="917"/>
                  <a:pt x="1740" y="909"/>
                </a:cubicBezTo>
                <a:cubicBezTo>
                  <a:pt x="1745" y="906"/>
                  <a:pt x="1738" y="896"/>
                  <a:pt x="1734" y="891"/>
                </a:cubicBezTo>
                <a:cubicBezTo>
                  <a:pt x="1726" y="880"/>
                  <a:pt x="1710" y="877"/>
                  <a:pt x="1698" y="873"/>
                </a:cubicBezTo>
                <a:cubicBezTo>
                  <a:pt x="1723" y="865"/>
                  <a:pt x="1823" y="890"/>
                  <a:pt x="1853" y="897"/>
                </a:cubicBezTo>
                <a:cubicBezTo>
                  <a:pt x="1841" y="889"/>
                  <a:pt x="1829" y="881"/>
                  <a:pt x="1817" y="873"/>
                </a:cubicBezTo>
                <a:cubicBezTo>
                  <a:pt x="1811" y="869"/>
                  <a:pt x="1799" y="862"/>
                  <a:pt x="1799" y="862"/>
                </a:cubicBezTo>
                <a:cubicBezTo>
                  <a:pt x="1779" y="832"/>
                  <a:pt x="1747" y="809"/>
                  <a:pt x="1722" y="784"/>
                </a:cubicBezTo>
                <a:cubicBezTo>
                  <a:pt x="1690" y="752"/>
                  <a:pt x="1720" y="767"/>
                  <a:pt x="1687" y="755"/>
                </a:cubicBezTo>
                <a:cubicBezTo>
                  <a:pt x="1664" y="732"/>
                  <a:pt x="1635" y="721"/>
                  <a:pt x="1603" y="713"/>
                </a:cubicBezTo>
                <a:cubicBezTo>
                  <a:pt x="1553" y="687"/>
                  <a:pt x="1496" y="680"/>
                  <a:pt x="1449" y="648"/>
                </a:cubicBezTo>
                <a:cubicBezTo>
                  <a:pt x="1434" y="604"/>
                  <a:pt x="1473" y="620"/>
                  <a:pt x="1502" y="624"/>
                </a:cubicBezTo>
                <a:cubicBezTo>
                  <a:pt x="1483" y="611"/>
                  <a:pt x="1465" y="601"/>
                  <a:pt x="1443" y="594"/>
                </a:cubicBezTo>
                <a:cubicBezTo>
                  <a:pt x="1425" y="567"/>
                  <a:pt x="1430" y="561"/>
                  <a:pt x="1461" y="553"/>
                </a:cubicBezTo>
                <a:cubicBezTo>
                  <a:pt x="1420" y="512"/>
                  <a:pt x="1465" y="552"/>
                  <a:pt x="1425" y="529"/>
                </a:cubicBezTo>
                <a:cubicBezTo>
                  <a:pt x="1413" y="522"/>
                  <a:pt x="1390" y="505"/>
                  <a:pt x="1390" y="505"/>
                </a:cubicBezTo>
                <a:cubicBezTo>
                  <a:pt x="1388" y="499"/>
                  <a:pt x="1384" y="493"/>
                  <a:pt x="1384" y="487"/>
                </a:cubicBezTo>
                <a:cubicBezTo>
                  <a:pt x="1384" y="481"/>
                  <a:pt x="1393" y="475"/>
                  <a:pt x="1390" y="470"/>
                </a:cubicBezTo>
                <a:cubicBezTo>
                  <a:pt x="1382" y="454"/>
                  <a:pt x="1354" y="450"/>
                  <a:pt x="1342" y="440"/>
                </a:cubicBezTo>
                <a:cubicBezTo>
                  <a:pt x="1329" y="429"/>
                  <a:pt x="1318" y="416"/>
                  <a:pt x="1306" y="404"/>
                </a:cubicBezTo>
                <a:cubicBezTo>
                  <a:pt x="1290" y="388"/>
                  <a:pt x="1253" y="363"/>
                  <a:pt x="1253" y="363"/>
                </a:cubicBezTo>
                <a:cubicBezTo>
                  <a:pt x="1232" y="332"/>
                  <a:pt x="1222" y="333"/>
                  <a:pt x="1259" y="315"/>
                </a:cubicBezTo>
                <a:cubicBezTo>
                  <a:pt x="1231" y="301"/>
                  <a:pt x="1213" y="296"/>
                  <a:pt x="1182" y="291"/>
                </a:cubicBezTo>
                <a:cubicBezTo>
                  <a:pt x="1191" y="265"/>
                  <a:pt x="1186" y="259"/>
                  <a:pt x="1164" y="244"/>
                </a:cubicBezTo>
                <a:cubicBezTo>
                  <a:pt x="1143" y="182"/>
                  <a:pt x="1148" y="200"/>
                  <a:pt x="1105" y="155"/>
                </a:cubicBezTo>
                <a:cubicBezTo>
                  <a:pt x="1103" y="149"/>
                  <a:pt x="1098" y="143"/>
                  <a:pt x="1099" y="137"/>
                </a:cubicBezTo>
                <a:cubicBezTo>
                  <a:pt x="1100" y="130"/>
                  <a:pt x="1112" y="126"/>
                  <a:pt x="1111" y="119"/>
                </a:cubicBezTo>
                <a:cubicBezTo>
                  <a:pt x="1108" y="104"/>
                  <a:pt x="1039" y="77"/>
                  <a:pt x="1027" y="72"/>
                </a:cubicBezTo>
                <a:cubicBezTo>
                  <a:pt x="1006" y="38"/>
                  <a:pt x="975" y="32"/>
                  <a:pt x="944" y="12"/>
                </a:cubicBezTo>
                <a:cubicBezTo>
                  <a:pt x="938" y="14"/>
                  <a:pt x="932" y="19"/>
                  <a:pt x="926" y="18"/>
                </a:cubicBezTo>
                <a:cubicBezTo>
                  <a:pt x="914" y="17"/>
                  <a:pt x="879" y="9"/>
                  <a:pt x="891" y="6"/>
                </a:cubicBezTo>
                <a:cubicBezTo>
                  <a:pt x="899" y="4"/>
                  <a:pt x="907" y="2"/>
                  <a:pt x="915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38"/>
          <p:cNvSpPr/>
          <p:nvPr/>
        </p:nvSpPr>
        <p:spPr>
          <a:xfrm>
            <a:off x="2622600" y="2422440"/>
            <a:ext cx="3620880" cy="746280"/>
          </a:xfrm>
          <a:custGeom>
            <a:avLst/>
            <a:gdLst/>
            <a:ahLst/>
            <a:rect l="l" t="t" r="r" b="b"/>
            <a:pathLst>
              <a:path w="2281" h="470">
                <a:moveTo>
                  <a:pt x="446" y="102"/>
                </a:moveTo>
                <a:cubicBezTo>
                  <a:pt x="416" y="122"/>
                  <a:pt x="384" y="119"/>
                  <a:pt x="351" y="132"/>
                </a:cubicBezTo>
                <a:cubicBezTo>
                  <a:pt x="312" y="147"/>
                  <a:pt x="273" y="160"/>
                  <a:pt x="232" y="167"/>
                </a:cubicBezTo>
                <a:cubicBezTo>
                  <a:pt x="219" y="175"/>
                  <a:pt x="202" y="175"/>
                  <a:pt x="190" y="185"/>
                </a:cubicBezTo>
                <a:cubicBezTo>
                  <a:pt x="181" y="192"/>
                  <a:pt x="187" y="224"/>
                  <a:pt x="173" y="227"/>
                </a:cubicBezTo>
                <a:cubicBezTo>
                  <a:pt x="136" y="236"/>
                  <a:pt x="98" y="231"/>
                  <a:pt x="60" y="233"/>
                </a:cubicBezTo>
                <a:cubicBezTo>
                  <a:pt x="52" y="235"/>
                  <a:pt x="44" y="237"/>
                  <a:pt x="36" y="239"/>
                </a:cubicBezTo>
                <a:cubicBezTo>
                  <a:pt x="24" y="243"/>
                  <a:pt x="0" y="251"/>
                  <a:pt x="0" y="251"/>
                </a:cubicBezTo>
                <a:cubicBezTo>
                  <a:pt x="25" y="275"/>
                  <a:pt x="37" y="274"/>
                  <a:pt x="72" y="280"/>
                </a:cubicBezTo>
                <a:cubicBezTo>
                  <a:pt x="111" y="266"/>
                  <a:pt x="70" y="274"/>
                  <a:pt x="95" y="292"/>
                </a:cubicBezTo>
                <a:cubicBezTo>
                  <a:pt x="105" y="299"/>
                  <a:pt x="131" y="304"/>
                  <a:pt x="131" y="304"/>
                </a:cubicBezTo>
                <a:cubicBezTo>
                  <a:pt x="133" y="310"/>
                  <a:pt x="131" y="319"/>
                  <a:pt x="137" y="322"/>
                </a:cubicBezTo>
                <a:cubicBezTo>
                  <a:pt x="143" y="325"/>
                  <a:pt x="149" y="316"/>
                  <a:pt x="155" y="316"/>
                </a:cubicBezTo>
                <a:cubicBezTo>
                  <a:pt x="168" y="316"/>
                  <a:pt x="189" y="324"/>
                  <a:pt x="202" y="328"/>
                </a:cubicBezTo>
                <a:cubicBezTo>
                  <a:pt x="222" y="321"/>
                  <a:pt x="236" y="311"/>
                  <a:pt x="256" y="304"/>
                </a:cubicBezTo>
                <a:cubicBezTo>
                  <a:pt x="270" y="346"/>
                  <a:pt x="256" y="336"/>
                  <a:pt x="285" y="346"/>
                </a:cubicBezTo>
                <a:cubicBezTo>
                  <a:pt x="310" y="329"/>
                  <a:pt x="311" y="304"/>
                  <a:pt x="327" y="280"/>
                </a:cubicBezTo>
                <a:cubicBezTo>
                  <a:pt x="370" y="294"/>
                  <a:pt x="328" y="316"/>
                  <a:pt x="374" y="292"/>
                </a:cubicBezTo>
                <a:cubicBezTo>
                  <a:pt x="383" y="264"/>
                  <a:pt x="393" y="264"/>
                  <a:pt x="416" y="280"/>
                </a:cubicBezTo>
                <a:cubicBezTo>
                  <a:pt x="463" y="264"/>
                  <a:pt x="457" y="299"/>
                  <a:pt x="469" y="334"/>
                </a:cubicBezTo>
                <a:cubicBezTo>
                  <a:pt x="486" y="317"/>
                  <a:pt x="497" y="300"/>
                  <a:pt x="517" y="286"/>
                </a:cubicBezTo>
                <a:cubicBezTo>
                  <a:pt x="550" y="336"/>
                  <a:pt x="539" y="324"/>
                  <a:pt x="600" y="334"/>
                </a:cubicBezTo>
                <a:cubicBezTo>
                  <a:pt x="606" y="338"/>
                  <a:pt x="612" y="350"/>
                  <a:pt x="618" y="346"/>
                </a:cubicBezTo>
                <a:cubicBezTo>
                  <a:pt x="631" y="339"/>
                  <a:pt x="642" y="310"/>
                  <a:pt x="642" y="310"/>
                </a:cubicBezTo>
                <a:cubicBezTo>
                  <a:pt x="648" y="312"/>
                  <a:pt x="655" y="312"/>
                  <a:pt x="659" y="316"/>
                </a:cubicBezTo>
                <a:cubicBezTo>
                  <a:pt x="669" y="326"/>
                  <a:pt x="683" y="352"/>
                  <a:pt x="683" y="352"/>
                </a:cubicBezTo>
                <a:cubicBezTo>
                  <a:pt x="690" y="380"/>
                  <a:pt x="697" y="414"/>
                  <a:pt x="725" y="423"/>
                </a:cubicBezTo>
                <a:cubicBezTo>
                  <a:pt x="729" y="415"/>
                  <a:pt x="735" y="408"/>
                  <a:pt x="737" y="399"/>
                </a:cubicBezTo>
                <a:cubicBezTo>
                  <a:pt x="751" y="332"/>
                  <a:pt x="723" y="320"/>
                  <a:pt x="760" y="346"/>
                </a:cubicBezTo>
                <a:cubicBezTo>
                  <a:pt x="777" y="393"/>
                  <a:pt x="814" y="427"/>
                  <a:pt x="861" y="441"/>
                </a:cubicBezTo>
                <a:cubicBezTo>
                  <a:pt x="881" y="447"/>
                  <a:pt x="915" y="470"/>
                  <a:pt x="915" y="470"/>
                </a:cubicBezTo>
                <a:cubicBezTo>
                  <a:pt x="928" y="420"/>
                  <a:pt x="913" y="407"/>
                  <a:pt x="968" y="393"/>
                </a:cubicBezTo>
                <a:cubicBezTo>
                  <a:pt x="994" y="353"/>
                  <a:pt x="960" y="395"/>
                  <a:pt x="1022" y="369"/>
                </a:cubicBezTo>
                <a:cubicBezTo>
                  <a:pt x="1041" y="361"/>
                  <a:pt x="1057" y="316"/>
                  <a:pt x="1057" y="316"/>
                </a:cubicBezTo>
                <a:cubicBezTo>
                  <a:pt x="1064" y="276"/>
                  <a:pt x="1068" y="237"/>
                  <a:pt x="1075" y="197"/>
                </a:cubicBezTo>
                <a:cubicBezTo>
                  <a:pt x="1112" y="209"/>
                  <a:pt x="1115" y="245"/>
                  <a:pt x="1134" y="274"/>
                </a:cubicBezTo>
                <a:cubicBezTo>
                  <a:pt x="1148" y="233"/>
                  <a:pt x="1142" y="251"/>
                  <a:pt x="1152" y="221"/>
                </a:cubicBezTo>
                <a:cubicBezTo>
                  <a:pt x="1156" y="209"/>
                  <a:pt x="1164" y="185"/>
                  <a:pt x="1164" y="185"/>
                </a:cubicBezTo>
                <a:cubicBezTo>
                  <a:pt x="1170" y="191"/>
                  <a:pt x="1174" y="203"/>
                  <a:pt x="1182" y="203"/>
                </a:cubicBezTo>
                <a:cubicBezTo>
                  <a:pt x="1188" y="203"/>
                  <a:pt x="1186" y="191"/>
                  <a:pt x="1188" y="185"/>
                </a:cubicBezTo>
                <a:cubicBezTo>
                  <a:pt x="1190" y="175"/>
                  <a:pt x="1192" y="166"/>
                  <a:pt x="1194" y="156"/>
                </a:cubicBezTo>
                <a:cubicBezTo>
                  <a:pt x="1198" y="140"/>
                  <a:pt x="1206" y="108"/>
                  <a:pt x="1206" y="108"/>
                </a:cubicBezTo>
                <a:cubicBezTo>
                  <a:pt x="1236" y="152"/>
                  <a:pt x="1254" y="206"/>
                  <a:pt x="1271" y="257"/>
                </a:cubicBezTo>
                <a:cubicBezTo>
                  <a:pt x="1275" y="268"/>
                  <a:pt x="1304" y="309"/>
                  <a:pt x="1313" y="322"/>
                </a:cubicBezTo>
                <a:cubicBezTo>
                  <a:pt x="1317" y="314"/>
                  <a:pt x="1323" y="307"/>
                  <a:pt x="1325" y="298"/>
                </a:cubicBezTo>
                <a:cubicBezTo>
                  <a:pt x="1328" y="286"/>
                  <a:pt x="1320" y="269"/>
                  <a:pt x="1330" y="262"/>
                </a:cubicBezTo>
                <a:cubicBezTo>
                  <a:pt x="1337" y="257"/>
                  <a:pt x="1337" y="279"/>
                  <a:pt x="1342" y="286"/>
                </a:cubicBezTo>
                <a:cubicBezTo>
                  <a:pt x="1355" y="304"/>
                  <a:pt x="1372" y="322"/>
                  <a:pt x="1390" y="334"/>
                </a:cubicBezTo>
                <a:cubicBezTo>
                  <a:pt x="1419" y="314"/>
                  <a:pt x="1440" y="328"/>
                  <a:pt x="1467" y="346"/>
                </a:cubicBezTo>
                <a:cubicBezTo>
                  <a:pt x="1469" y="340"/>
                  <a:pt x="1467" y="328"/>
                  <a:pt x="1473" y="328"/>
                </a:cubicBezTo>
                <a:cubicBezTo>
                  <a:pt x="1488" y="328"/>
                  <a:pt x="1514" y="366"/>
                  <a:pt x="1526" y="375"/>
                </a:cubicBezTo>
                <a:cubicBezTo>
                  <a:pt x="1563" y="363"/>
                  <a:pt x="1577" y="388"/>
                  <a:pt x="1610" y="399"/>
                </a:cubicBezTo>
                <a:cubicBezTo>
                  <a:pt x="1634" y="416"/>
                  <a:pt x="1659" y="420"/>
                  <a:pt x="1687" y="429"/>
                </a:cubicBezTo>
                <a:cubicBezTo>
                  <a:pt x="1696" y="401"/>
                  <a:pt x="1686" y="400"/>
                  <a:pt x="1675" y="375"/>
                </a:cubicBezTo>
                <a:cubicBezTo>
                  <a:pt x="1670" y="364"/>
                  <a:pt x="1663" y="340"/>
                  <a:pt x="1663" y="340"/>
                </a:cubicBezTo>
                <a:cubicBezTo>
                  <a:pt x="1696" y="329"/>
                  <a:pt x="1689" y="303"/>
                  <a:pt x="1693" y="268"/>
                </a:cubicBezTo>
                <a:cubicBezTo>
                  <a:pt x="1770" y="278"/>
                  <a:pt x="1764" y="281"/>
                  <a:pt x="1776" y="209"/>
                </a:cubicBezTo>
                <a:cubicBezTo>
                  <a:pt x="1807" y="230"/>
                  <a:pt x="1847" y="248"/>
                  <a:pt x="1883" y="257"/>
                </a:cubicBezTo>
                <a:cubicBezTo>
                  <a:pt x="1911" y="248"/>
                  <a:pt x="1894" y="237"/>
                  <a:pt x="1883" y="215"/>
                </a:cubicBezTo>
                <a:cubicBezTo>
                  <a:pt x="1880" y="209"/>
                  <a:pt x="1864" y="199"/>
                  <a:pt x="1871" y="197"/>
                </a:cubicBezTo>
                <a:cubicBezTo>
                  <a:pt x="1883" y="194"/>
                  <a:pt x="1895" y="204"/>
                  <a:pt x="1906" y="209"/>
                </a:cubicBezTo>
                <a:cubicBezTo>
                  <a:pt x="1926" y="218"/>
                  <a:pt x="1946" y="229"/>
                  <a:pt x="1966" y="239"/>
                </a:cubicBezTo>
                <a:cubicBezTo>
                  <a:pt x="2019" y="266"/>
                  <a:pt x="2056" y="315"/>
                  <a:pt x="2114" y="334"/>
                </a:cubicBezTo>
                <a:cubicBezTo>
                  <a:pt x="2168" y="316"/>
                  <a:pt x="2083" y="351"/>
                  <a:pt x="2126" y="286"/>
                </a:cubicBezTo>
                <a:cubicBezTo>
                  <a:pt x="2132" y="278"/>
                  <a:pt x="2146" y="290"/>
                  <a:pt x="2156" y="292"/>
                </a:cubicBezTo>
                <a:cubicBezTo>
                  <a:pt x="2158" y="293"/>
                  <a:pt x="2214" y="323"/>
                  <a:pt x="2221" y="322"/>
                </a:cubicBezTo>
                <a:cubicBezTo>
                  <a:pt x="2228" y="321"/>
                  <a:pt x="2228" y="309"/>
                  <a:pt x="2233" y="304"/>
                </a:cubicBezTo>
                <a:cubicBezTo>
                  <a:pt x="2248" y="289"/>
                  <a:pt x="2260" y="290"/>
                  <a:pt x="2281" y="286"/>
                </a:cubicBezTo>
                <a:cubicBezTo>
                  <a:pt x="2273" y="263"/>
                  <a:pt x="2281" y="269"/>
                  <a:pt x="2257" y="262"/>
                </a:cubicBezTo>
                <a:cubicBezTo>
                  <a:pt x="2243" y="258"/>
                  <a:pt x="2215" y="251"/>
                  <a:pt x="2215" y="251"/>
                </a:cubicBezTo>
                <a:cubicBezTo>
                  <a:pt x="2209" y="247"/>
                  <a:pt x="2204" y="242"/>
                  <a:pt x="2197" y="239"/>
                </a:cubicBezTo>
                <a:cubicBezTo>
                  <a:pt x="2190" y="236"/>
                  <a:pt x="2181" y="237"/>
                  <a:pt x="2174" y="233"/>
                </a:cubicBezTo>
                <a:cubicBezTo>
                  <a:pt x="2120" y="201"/>
                  <a:pt x="2076" y="145"/>
                  <a:pt x="2025" y="108"/>
                </a:cubicBezTo>
                <a:cubicBezTo>
                  <a:pt x="2007" y="95"/>
                  <a:pt x="1961" y="61"/>
                  <a:pt x="1936" y="61"/>
                </a:cubicBezTo>
                <a:cubicBezTo>
                  <a:pt x="1929" y="61"/>
                  <a:pt x="1961" y="72"/>
                  <a:pt x="1954" y="72"/>
                </a:cubicBezTo>
                <a:cubicBezTo>
                  <a:pt x="1888" y="72"/>
                  <a:pt x="1828" y="32"/>
                  <a:pt x="1764" y="19"/>
                </a:cubicBezTo>
                <a:cubicBezTo>
                  <a:pt x="1762" y="31"/>
                  <a:pt x="1764" y="44"/>
                  <a:pt x="1758" y="55"/>
                </a:cubicBezTo>
                <a:cubicBezTo>
                  <a:pt x="1755" y="60"/>
                  <a:pt x="1742" y="55"/>
                  <a:pt x="1740" y="61"/>
                </a:cubicBezTo>
                <a:cubicBezTo>
                  <a:pt x="1733" y="77"/>
                  <a:pt x="1736" y="96"/>
                  <a:pt x="1734" y="114"/>
                </a:cubicBezTo>
                <a:cubicBezTo>
                  <a:pt x="1702" y="90"/>
                  <a:pt x="1676" y="76"/>
                  <a:pt x="1651" y="43"/>
                </a:cubicBezTo>
                <a:cubicBezTo>
                  <a:pt x="1649" y="49"/>
                  <a:pt x="1644" y="55"/>
                  <a:pt x="1645" y="61"/>
                </a:cubicBezTo>
                <a:cubicBezTo>
                  <a:pt x="1646" y="68"/>
                  <a:pt x="1663" y="82"/>
                  <a:pt x="1657" y="78"/>
                </a:cubicBezTo>
                <a:cubicBezTo>
                  <a:pt x="1594" y="31"/>
                  <a:pt x="1645" y="51"/>
                  <a:pt x="1604" y="37"/>
                </a:cubicBezTo>
                <a:cubicBezTo>
                  <a:pt x="1592" y="72"/>
                  <a:pt x="1606" y="104"/>
                  <a:pt x="1615" y="138"/>
                </a:cubicBezTo>
                <a:cubicBezTo>
                  <a:pt x="1613" y="164"/>
                  <a:pt x="1617" y="190"/>
                  <a:pt x="1610" y="215"/>
                </a:cubicBezTo>
                <a:cubicBezTo>
                  <a:pt x="1608" y="222"/>
                  <a:pt x="1603" y="203"/>
                  <a:pt x="1598" y="197"/>
                </a:cubicBezTo>
                <a:cubicBezTo>
                  <a:pt x="1582" y="178"/>
                  <a:pt x="1567" y="168"/>
                  <a:pt x="1544" y="162"/>
                </a:cubicBezTo>
                <a:cubicBezTo>
                  <a:pt x="1517" y="187"/>
                  <a:pt x="1510" y="226"/>
                  <a:pt x="1503" y="262"/>
                </a:cubicBezTo>
                <a:cubicBezTo>
                  <a:pt x="1487" y="241"/>
                  <a:pt x="1480" y="223"/>
                  <a:pt x="1455" y="215"/>
                </a:cubicBezTo>
                <a:cubicBezTo>
                  <a:pt x="1447" y="207"/>
                  <a:pt x="1440" y="197"/>
                  <a:pt x="1431" y="191"/>
                </a:cubicBezTo>
                <a:cubicBezTo>
                  <a:pt x="1416" y="181"/>
                  <a:pt x="1384" y="167"/>
                  <a:pt x="1384" y="167"/>
                </a:cubicBezTo>
                <a:cubicBezTo>
                  <a:pt x="1356" y="131"/>
                  <a:pt x="1322" y="98"/>
                  <a:pt x="1283" y="72"/>
                </a:cubicBezTo>
                <a:cubicBezTo>
                  <a:pt x="1271" y="64"/>
                  <a:pt x="1255" y="66"/>
                  <a:pt x="1241" y="61"/>
                </a:cubicBezTo>
                <a:cubicBezTo>
                  <a:pt x="1221" y="40"/>
                  <a:pt x="1209" y="28"/>
                  <a:pt x="1200" y="1"/>
                </a:cubicBezTo>
                <a:cubicBezTo>
                  <a:pt x="1194" y="3"/>
                  <a:pt x="1187" y="3"/>
                  <a:pt x="1182" y="7"/>
                </a:cubicBezTo>
                <a:cubicBezTo>
                  <a:pt x="1176" y="12"/>
                  <a:pt x="1177" y="22"/>
                  <a:pt x="1170" y="25"/>
                </a:cubicBezTo>
                <a:cubicBezTo>
                  <a:pt x="1159" y="29"/>
                  <a:pt x="1128" y="5"/>
                  <a:pt x="1117" y="1"/>
                </a:cubicBezTo>
                <a:cubicBezTo>
                  <a:pt x="1090" y="15"/>
                  <a:pt x="1068" y="33"/>
                  <a:pt x="1039" y="43"/>
                </a:cubicBezTo>
                <a:cubicBezTo>
                  <a:pt x="1035" y="49"/>
                  <a:pt x="1032" y="56"/>
                  <a:pt x="1028" y="61"/>
                </a:cubicBezTo>
                <a:cubicBezTo>
                  <a:pt x="992" y="105"/>
                  <a:pt x="1017" y="55"/>
                  <a:pt x="1004" y="13"/>
                </a:cubicBezTo>
                <a:cubicBezTo>
                  <a:pt x="1002" y="6"/>
                  <a:pt x="992" y="5"/>
                  <a:pt x="986" y="1"/>
                </a:cubicBezTo>
                <a:cubicBezTo>
                  <a:pt x="941" y="16"/>
                  <a:pt x="949" y="18"/>
                  <a:pt x="921" y="55"/>
                </a:cubicBezTo>
                <a:cubicBezTo>
                  <a:pt x="901" y="113"/>
                  <a:pt x="850" y="149"/>
                  <a:pt x="808" y="191"/>
                </a:cubicBezTo>
                <a:cubicBezTo>
                  <a:pt x="784" y="175"/>
                  <a:pt x="785" y="166"/>
                  <a:pt x="778" y="138"/>
                </a:cubicBezTo>
                <a:cubicBezTo>
                  <a:pt x="766" y="142"/>
                  <a:pt x="755" y="146"/>
                  <a:pt x="743" y="150"/>
                </a:cubicBezTo>
                <a:cubicBezTo>
                  <a:pt x="737" y="152"/>
                  <a:pt x="725" y="156"/>
                  <a:pt x="725" y="156"/>
                </a:cubicBezTo>
                <a:cubicBezTo>
                  <a:pt x="719" y="154"/>
                  <a:pt x="709" y="156"/>
                  <a:pt x="707" y="150"/>
                </a:cubicBezTo>
                <a:cubicBezTo>
                  <a:pt x="704" y="138"/>
                  <a:pt x="708" y="125"/>
                  <a:pt x="713" y="114"/>
                </a:cubicBezTo>
                <a:cubicBezTo>
                  <a:pt x="719" y="101"/>
                  <a:pt x="729" y="90"/>
                  <a:pt x="737" y="78"/>
                </a:cubicBezTo>
                <a:cubicBezTo>
                  <a:pt x="740" y="73"/>
                  <a:pt x="749" y="60"/>
                  <a:pt x="743" y="61"/>
                </a:cubicBezTo>
                <a:cubicBezTo>
                  <a:pt x="725" y="64"/>
                  <a:pt x="710" y="74"/>
                  <a:pt x="695" y="84"/>
                </a:cubicBezTo>
                <a:cubicBezTo>
                  <a:pt x="689" y="88"/>
                  <a:pt x="683" y="92"/>
                  <a:pt x="677" y="96"/>
                </a:cubicBezTo>
                <a:cubicBezTo>
                  <a:pt x="668" y="70"/>
                  <a:pt x="686" y="52"/>
                  <a:pt x="695" y="25"/>
                </a:cubicBezTo>
                <a:cubicBezTo>
                  <a:pt x="697" y="18"/>
                  <a:pt x="720" y="10"/>
                  <a:pt x="713" y="13"/>
                </a:cubicBezTo>
                <a:cubicBezTo>
                  <a:pt x="696" y="20"/>
                  <a:pt x="665" y="37"/>
                  <a:pt x="665" y="37"/>
                </a:cubicBezTo>
                <a:cubicBezTo>
                  <a:pt x="650" y="61"/>
                  <a:pt x="637" y="59"/>
                  <a:pt x="612" y="67"/>
                </a:cubicBezTo>
                <a:cubicBezTo>
                  <a:pt x="614" y="57"/>
                  <a:pt x="615" y="47"/>
                  <a:pt x="618" y="37"/>
                </a:cubicBezTo>
                <a:cubicBezTo>
                  <a:pt x="621" y="27"/>
                  <a:pt x="636" y="16"/>
                  <a:pt x="630" y="7"/>
                </a:cubicBezTo>
                <a:cubicBezTo>
                  <a:pt x="625" y="0"/>
                  <a:pt x="614" y="15"/>
                  <a:pt x="606" y="19"/>
                </a:cubicBezTo>
                <a:cubicBezTo>
                  <a:pt x="577" y="32"/>
                  <a:pt x="547" y="45"/>
                  <a:pt x="517" y="55"/>
                </a:cubicBezTo>
                <a:cubicBezTo>
                  <a:pt x="503" y="65"/>
                  <a:pt x="484" y="70"/>
                  <a:pt x="475" y="84"/>
                </a:cubicBezTo>
                <a:cubicBezTo>
                  <a:pt x="471" y="90"/>
                  <a:pt x="469" y="97"/>
                  <a:pt x="463" y="102"/>
                </a:cubicBezTo>
                <a:cubicBezTo>
                  <a:pt x="458" y="106"/>
                  <a:pt x="452" y="106"/>
                  <a:pt x="446" y="108"/>
                </a:cubicBezTo>
                <a:cubicBezTo>
                  <a:pt x="423" y="92"/>
                  <a:pt x="421" y="94"/>
                  <a:pt x="446" y="102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99cc00"/>
              </a:gs>
              <a:gs pos="100000">
                <a:srgbClr val="00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Freeform 39"/>
          <p:cNvSpPr/>
          <p:nvPr/>
        </p:nvSpPr>
        <p:spPr>
          <a:xfrm>
            <a:off x="1982880" y="3308400"/>
            <a:ext cx="5099040" cy="982440"/>
          </a:xfrm>
          <a:custGeom>
            <a:avLst/>
            <a:gdLst/>
            <a:ahLst/>
            <a:rect l="l" t="t" r="r" b="b"/>
            <a:pathLst>
              <a:path w="3212" h="619">
                <a:moveTo>
                  <a:pt x="552" y="138"/>
                </a:moveTo>
                <a:cubicBezTo>
                  <a:pt x="532" y="145"/>
                  <a:pt x="518" y="155"/>
                  <a:pt x="498" y="162"/>
                </a:cubicBezTo>
                <a:cubicBezTo>
                  <a:pt x="477" y="177"/>
                  <a:pt x="415" y="224"/>
                  <a:pt x="391" y="227"/>
                </a:cubicBezTo>
                <a:cubicBezTo>
                  <a:pt x="350" y="232"/>
                  <a:pt x="308" y="231"/>
                  <a:pt x="267" y="233"/>
                </a:cubicBezTo>
                <a:cubicBezTo>
                  <a:pt x="235" y="241"/>
                  <a:pt x="223" y="280"/>
                  <a:pt x="190" y="286"/>
                </a:cubicBezTo>
                <a:cubicBezTo>
                  <a:pt x="137" y="296"/>
                  <a:pt x="54" y="300"/>
                  <a:pt x="0" y="304"/>
                </a:cubicBezTo>
                <a:cubicBezTo>
                  <a:pt x="37" y="343"/>
                  <a:pt x="57" y="335"/>
                  <a:pt x="118" y="340"/>
                </a:cubicBezTo>
                <a:cubicBezTo>
                  <a:pt x="113" y="348"/>
                  <a:pt x="89" y="370"/>
                  <a:pt x="124" y="370"/>
                </a:cubicBezTo>
                <a:cubicBezTo>
                  <a:pt x="137" y="370"/>
                  <a:pt x="160" y="358"/>
                  <a:pt x="160" y="358"/>
                </a:cubicBezTo>
                <a:cubicBezTo>
                  <a:pt x="162" y="370"/>
                  <a:pt x="158" y="384"/>
                  <a:pt x="166" y="393"/>
                </a:cubicBezTo>
                <a:cubicBezTo>
                  <a:pt x="170" y="398"/>
                  <a:pt x="178" y="389"/>
                  <a:pt x="184" y="387"/>
                </a:cubicBezTo>
                <a:cubicBezTo>
                  <a:pt x="198" y="383"/>
                  <a:pt x="225" y="376"/>
                  <a:pt x="225" y="376"/>
                </a:cubicBezTo>
                <a:cubicBezTo>
                  <a:pt x="229" y="382"/>
                  <a:pt x="234" y="387"/>
                  <a:pt x="237" y="393"/>
                </a:cubicBezTo>
                <a:cubicBezTo>
                  <a:pt x="240" y="399"/>
                  <a:pt x="237" y="408"/>
                  <a:pt x="243" y="411"/>
                </a:cubicBezTo>
                <a:cubicBezTo>
                  <a:pt x="249" y="414"/>
                  <a:pt x="255" y="407"/>
                  <a:pt x="261" y="405"/>
                </a:cubicBezTo>
                <a:cubicBezTo>
                  <a:pt x="269" y="403"/>
                  <a:pt x="277" y="401"/>
                  <a:pt x="285" y="399"/>
                </a:cubicBezTo>
                <a:cubicBezTo>
                  <a:pt x="306" y="414"/>
                  <a:pt x="305" y="427"/>
                  <a:pt x="326" y="441"/>
                </a:cubicBezTo>
                <a:cubicBezTo>
                  <a:pt x="346" y="431"/>
                  <a:pt x="364" y="418"/>
                  <a:pt x="385" y="411"/>
                </a:cubicBezTo>
                <a:cubicBezTo>
                  <a:pt x="392" y="431"/>
                  <a:pt x="396" y="451"/>
                  <a:pt x="403" y="471"/>
                </a:cubicBezTo>
                <a:cubicBezTo>
                  <a:pt x="438" y="462"/>
                  <a:pt x="433" y="452"/>
                  <a:pt x="451" y="423"/>
                </a:cubicBezTo>
                <a:cubicBezTo>
                  <a:pt x="471" y="391"/>
                  <a:pt x="493" y="358"/>
                  <a:pt x="516" y="328"/>
                </a:cubicBezTo>
                <a:cubicBezTo>
                  <a:pt x="540" y="364"/>
                  <a:pt x="533" y="401"/>
                  <a:pt x="546" y="441"/>
                </a:cubicBezTo>
                <a:cubicBezTo>
                  <a:pt x="567" y="420"/>
                  <a:pt x="582" y="394"/>
                  <a:pt x="599" y="370"/>
                </a:cubicBezTo>
                <a:cubicBezTo>
                  <a:pt x="625" y="395"/>
                  <a:pt x="624" y="426"/>
                  <a:pt x="635" y="459"/>
                </a:cubicBezTo>
                <a:cubicBezTo>
                  <a:pt x="676" y="439"/>
                  <a:pt x="693" y="395"/>
                  <a:pt x="718" y="358"/>
                </a:cubicBezTo>
                <a:cubicBezTo>
                  <a:pt x="724" y="349"/>
                  <a:pt x="726" y="338"/>
                  <a:pt x="730" y="328"/>
                </a:cubicBezTo>
                <a:cubicBezTo>
                  <a:pt x="734" y="316"/>
                  <a:pt x="742" y="292"/>
                  <a:pt x="742" y="292"/>
                </a:cubicBezTo>
                <a:cubicBezTo>
                  <a:pt x="750" y="304"/>
                  <a:pt x="767" y="329"/>
                  <a:pt x="771" y="340"/>
                </a:cubicBezTo>
                <a:cubicBezTo>
                  <a:pt x="786" y="384"/>
                  <a:pt x="782" y="443"/>
                  <a:pt x="825" y="471"/>
                </a:cubicBezTo>
                <a:cubicBezTo>
                  <a:pt x="829" y="463"/>
                  <a:pt x="834" y="455"/>
                  <a:pt x="837" y="447"/>
                </a:cubicBezTo>
                <a:cubicBezTo>
                  <a:pt x="842" y="435"/>
                  <a:pt x="849" y="411"/>
                  <a:pt x="849" y="411"/>
                </a:cubicBezTo>
                <a:cubicBezTo>
                  <a:pt x="879" y="427"/>
                  <a:pt x="882" y="446"/>
                  <a:pt x="902" y="476"/>
                </a:cubicBezTo>
                <a:cubicBezTo>
                  <a:pt x="906" y="482"/>
                  <a:pt x="914" y="494"/>
                  <a:pt x="914" y="494"/>
                </a:cubicBezTo>
                <a:cubicBezTo>
                  <a:pt x="916" y="491"/>
                  <a:pt x="939" y="457"/>
                  <a:pt x="950" y="459"/>
                </a:cubicBezTo>
                <a:cubicBezTo>
                  <a:pt x="957" y="460"/>
                  <a:pt x="956" y="471"/>
                  <a:pt x="961" y="476"/>
                </a:cubicBezTo>
                <a:cubicBezTo>
                  <a:pt x="966" y="481"/>
                  <a:pt x="973" y="484"/>
                  <a:pt x="979" y="488"/>
                </a:cubicBezTo>
                <a:cubicBezTo>
                  <a:pt x="993" y="468"/>
                  <a:pt x="996" y="449"/>
                  <a:pt x="1009" y="429"/>
                </a:cubicBezTo>
                <a:cubicBezTo>
                  <a:pt x="1028" y="454"/>
                  <a:pt x="1041" y="480"/>
                  <a:pt x="1057" y="506"/>
                </a:cubicBezTo>
                <a:cubicBezTo>
                  <a:pt x="1068" y="545"/>
                  <a:pt x="1063" y="544"/>
                  <a:pt x="1104" y="536"/>
                </a:cubicBezTo>
                <a:cubicBezTo>
                  <a:pt x="1149" y="542"/>
                  <a:pt x="1150" y="539"/>
                  <a:pt x="1163" y="577"/>
                </a:cubicBezTo>
                <a:cubicBezTo>
                  <a:pt x="1192" y="567"/>
                  <a:pt x="1186" y="545"/>
                  <a:pt x="1193" y="518"/>
                </a:cubicBezTo>
                <a:cubicBezTo>
                  <a:pt x="1204" y="540"/>
                  <a:pt x="1221" y="554"/>
                  <a:pt x="1229" y="577"/>
                </a:cubicBezTo>
                <a:cubicBezTo>
                  <a:pt x="1260" y="567"/>
                  <a:pt x="1251" y="556"/>
                  <a:pt x="1264" y="530"/>
                </a:cubicBezTo>
                <a:cubicBezTo>
                  <a:pt x="1270" y="517"/>
                  <a:pt x="1288" y="494"/>
                  <a:pt x="1288" y="494"/>
                </a:cubicBezTo>
                <a:cubicBezTo>
                  <a:pt x="1304" y="520"/>
                  <a:pt x="1306" y="544"/>
                  <a:pt x="1330" y="560"/>
                </a:cubicBezTo>
                <a:cubicBezTo>
                  <a:pt x="1348" y="533"/>
                  <a:pt x="1350" y="501"/>
                  <a:pt x="1365" y="471"/>
                </a:cubicBezTo>
                <a:cubicBezTo>
                  <a:pt x="1375" y="475"/>
                  <a:pt x="1387" y="475"/>
                  <a:pt x="1395" y="482"/>
                </a:cubicBezTo>
                <a:cubicBezTo>
                  <a:pt x="1400" y="486"/>
                  <a:pt x="1397" y="495"/>
                  <a:pt x="1401" y="500"/>
                </a:cubicBezTo>
                <a:cubicBezTo>
                  <a:pt x="1413" y="518"/>
                  <a:pt x="1428" y="541"/>
                  <a:pt x="1448" y="548"/>
                </a:cubicBezTo>
                <a:cubicBezTo>
                  <a:pt x="1459" y="580"/>
                  <a:pt x="1450" y="560"/>
                  <a:pt x="1478" y="601"/>
                </a:cubicBezTo>
                <a:cubicBezTo>
                  <a:pt x="1482" y="607"/>
                  <a:pt x="1490" y="619"/>
                  <a:pt x="1490" y="619"/>
                </a:cubicBezTo>
                <a:cubicBezTo>
                  <a:pt x="1516" y="580"/>
                  <a:pt x="1500" y="511"/>
                  <a:pt x="1520" y="482"/>
                </a:cubicBezTo>
                <a:cubicBezTo>
                  <a:pt x="1525" y="475"/>
                  <a:pt x="1535" y="478"/>
                  <a:pt x="1543" y="476"/>
                </a:cubicBezTo>
                <a:cubicBezTo>
                  <a:pt x="1586" y="448"/>
                  <a:pt x="1572" y="440"/>
                  <a:pt x="1591" y="476"/>
                </a:cubicBezTo>
                <a:cubicBezTo>
                  <a:pt x="1593" y="484"/>
                  <a:pt x="1589" y="500"/>
                  <a:pt x="1597" y="500"/>
                </a:cubicBezTo>
                <a:cubicBezTo>
                  <a:pt x="1606" y="500"/>
                  <a:pt x="1606" y="484"/>
                  <a:pt x="1609" y="476"/>
                </a:cubicBezTo>
                <a:cubicBezTo>
                  <a:pt x="1614" y="461"/>
                  <a:pt x="1617" y="445"/>
                  <a:pt x="1621" y="429"/>
                </a:cubicBezTo>
                <a:cubicBezTo>
                  <a:pt x="1634" y="379"/>
                  <a:pt x="1655" y="300"/>
                  <a:pt x="1710" y="286"/>
                </a:cubicBezTo>
                <a:cubicBezTo>
                  <a:pt x="1727" y="312"/>
                  <a:pt x="1750" y="333"/>
                  <a:pt x="1769" y="358"/>
                </a:cubicBezTo>
                <a:cubicBezTo>
                  <a:pt x="1792" y="390"/>
                  <a:pt x="1800" y="411"/>
                  <a:pt x="1834" y="429"/>
                </a:cubicBezTo>
                <a:cubicBezTo>
                  <a:pt x="1866" y="418"/>
                  <a:pt x="1854" y="404"/>
                  <a:pt x="1864" y="376"/>
                </a:cubicBezTo>
                <a:cubicBezTo>
                  <a:pt x="1889" y="391"/>
                  <a:pt x="1898" y="415"/>
                  <a:pt x="1918" y="435"/>
                </a:cubicBezTo>
                <a:cubicBezTo>
                  <a:pt x="1934" y="452"/>
                  <a:pt x="1953" y="467"/>
                  <a:pt x="1971" y="482"/>
                </a:cubicBezTo>
                <a:cubicBezTo>
                  <a:pt x="1991" y="500"/>
                  <a:pt x="2011" y="534"/>
                  <a:pt x="2036" y="542"/>
                </a:cubicBezTo>
                <a:cubicBezTo>
                  <a:pt x="2058" y="498"/>
                  <a:pt x="2038" y="468"/>
                  <a:pt x="2007" y="435"/>
                </a:cubicBezTo>
                <a:cubicBezTo>
                  <a:pt x="1989" y="382"/>
                  <a:pt x="2018" y="462"/>
                  <a:pt x="1983" y="393"/>
                </a:cubicBezTo>
                <a:cubicBezTo>
                  <a:pt x="1977" y="382"/>
                  <a:pt x="1971" y="358"/>
                  <a:pt x="1971" y="358"/>
                </a:cubicBezTo>
                <a:cubicBezTo>
                  <a:pt x="1973" y="340"/>
                  <a:pt x="1968" y="320"/>
                  <a:pt x="1977" y="304"/>
                </a:cubicBezTo>
                <a:cubicBezTo>
                  <a:pt x="1981" y="298"/>
                  <a:pt x="1990" y="311"/>
                  <a:pt x="1995" y="316"/>
                </a:cubicBezTo>
                <a:cubicBezTo>
                  <a:pt x="2079" y="394"/>
                  <a:pt x="2018" y="349"/>
                  <a:pt x="2072" y="387"/>
                </a:cubicBezTo>
                <a:cubicBezTo>
                  <a:pt x="2086" y="408"/>
                  <a:pt x="2096" y="415"/>
                  <a:pt x="2119" y="423"/>
                </a:cubicBezTo>
                <a:cubicBezTo>
                  <a:pt x="2132" y="384"/>
                  <a:pt x="2142" y="403"/>
                  <a:pt x="2167" y="423"/>
                </a:cubicBezTo>
                <a:cubicBezTo>
                  <a:pt x="2190" y="442"/>
                  <a:pt x="2216" y="456"/>
                  <a:pt x="2244" y="465"/>
                </a:cubicBezTo>
                <a:cubicBezTo>
                  <a:pt x="2248" y="459"/>
                  <a:pt x="2255" y="454"/>
                  <a:pt x="2256" y="447"/>
                </a:cubicBezTo>
                <a:cubicBezTo>
                  <a:pt x="2261" y="407"/>
                  <a:pt x="2233" y="423"/>
                  <a:pt x="2268" y="411"/>
                </a:cubicBezTo>
                <a:cubicBezTo>
                  <a:pt x="2294" y="428"/>
                  <a:pt x="2297" y="441"/>
                  <a:pt x="2315" y="411"/>
                </a:cubicBezTo>
                <a:cubicBezTo>
                  <a:pt x="2317" y="401"/>
                  <a:pt x="2314" y="388"/>
                  <a:pt x="2321" y="381"/>
                </a:cubicBezTo>
                <a:cubicBezTo>
                  <a:pt x="2327" y="375"/>
                  <a:pt x="2347" y="394"/>
                  <a:pt x="2363" y="405"/>
                </a:cubicBezTo>
                <a:cubicBezTo>
                  <a:pt x="2393" y="426"/>
                  <a:pt x="2417" y="447"/>
                  <a:pt x="2452" y="459"/>
                </a:cubicBezTo>
                <a:cubicBezTo>
                  <a:pt x="2510" y="449"/>
                  <a:pt x="2522" y="471"/>
                  <a:pt x="2565" y="500"/>
                </a:cubicBezTo>
                <a:cubicBezTo>
                  <a:pt x="2609" y="489"/>
                  <a:pt x="2591" y="476"/>
                  <a:pt x="2571" y="447"/>
                </a:cubicBezTo>
                <a:cubicBezTo>
                  <a:pt x="2601" y="437"/>
                  <a:pt x="2597" y="451"/>
                  <a:pt x="2624" y="459"/>
                </a:cubicBezTo>
                <a:cubicBezTo>
                  <a:pt x="2638" y="463"/>
                  <a:pt x="2652" y="463"/>
                  <a:pt x="2666" y="465"/>
                </a:cubicBezTo>
                <a:cubicBezTo>
                  <a:pt x="2697" y="475"/>
                  <a:pt x="2707" y="483"/>
                  <a:pt x="2743" y="488"/>
                </a:cubicBezTo>
                <a:cubicBezTo>
                  <a:pt x="2757" y="449"/>
                  <a:pt x="2721" y="453"/>
                  <a:pt x="2767" y="441"/>
                </a:cubicBezTo>
                <a:cubicBezTo>
                  <a:pt x="2820" y="468"/>
                  <a:pt x="2797" y="459"/>
                  <a:pt x="2832" y="471"/>
                </a:cubicBezTo>
                <a:cubicBezTo>
                  <a:pt x="2858" y="431"/>
                  <a:pt x="2815" y="446"/>
                  <a:pt x="2862" y="423"/>
                </a:cubicBezTo>
                <a:cubicBezTo>
                  <a:pt x="2914" y="440"/>
                  <a:pt x="2831" y="414"/>
                  <a:pt x="2915" y="435"/>
                </a:cubicBezTo>
                <a:cubicBezTo>
                  <a:pt x="2927" y="438"/>
                  <a:pt x="2951" y="447"/>
                  <a:pt x="2951" y="447"/>
                </a:cubicBezTo>
                <a:cubicBezTo>
                  <a:pt x="3134" y="439"/>
                  <a:pt x="3105" y="455"/>
                  <a:pt x="3040" y="423"/>
                </a:cubicBezTo>
                <a:cubicBezTo>
                  <a:pt x="3103" y="402"/>
                  <a:pt x="3001" y="434"/>
                  <a:pt x="3176" y="411"/>
                </a:cubicBezTo>
                <a:cubicBezTo>
                  <a:pt x="3189" y="409"/>
                  <a:pt x="3199" y="397"/>
                  <a:pt x="3212" y="393"/>
                </a:cubicBezTo>
                <a:cubicBezTo>
                  <a:pt x="3119" y="362"/>
                  <a:pt x="3020" y="347"/>
                  <a:pt x="2927" y="316"/>
                </a:cubicBezTo>
                <a:cubicBezTo>
                  <a:pt x="2921" y="314"/>
                  <a:pt x="2951" y="325"/>
                  <a:pt x="2945" y="322"/>
                </a:cubicBezTo>
                <a:cubicBezTo>
                  <a:pt x="2860" y="284"/>
                  <a:pt x="2761" y="275"/>
                  <a:pt x="2684" y="221"/>
                </a:cubicBezTo>
                <a:cubicBezTo>
                  <a:pt x="2663" y="190"/>
                  <a:pt x="2643" y="180"/>
                  <a:pt x="2612" y="162"/>
                </a:cubicBezTo>
                <a:cubicBezTo>
                  <a:pt x="2596" y="153"/>
                  <a:pt x="2581" y="142"/>
                  <a:pt x="2565" y="132"/>
                </a:cubicBezTo>
                <a:cubicBezTo>
                  <a:pt x="2559" y="128"/>
                  <a:pt x="2547" y="120"/>
                  <a:pt x="2547" y="120"/>
                </a:cubicBezTo>
                <a:cubicBezTo>
                  <a:pt x="2577" y="165"/>
                  <a:pt x="2539" y="110"/>
                  <a:pt x="2577" y="156"/>
                </a:cubicBezTo>
                <a:cubicBezTo>
                  <a:pt x="2582" y="162"/>
                  <a:pt x="2594" y="169"/>
                  <a:pt x="2589" y="174"/>
                </a:cubicBezTo>
                <a:cubicBezTo>
                  <a:pt x="2583" y="180"/>
                  <a:pt x="2573" y="170"/>
                  <a:pt x="2565" y="168"/>
                </a:cubicBezTo>
                <a:cubicBezTo>
                  <a:pt x="2544" y="154"/>
                  <a:pt x="2529" y="151"/>
                  <a:pt x="2505" y="144"/>
                </a:cubicBezTo>
                <a:cubicBezTo>
                  <a:pt x="2493" y="140"/>
                  <a:pt x="2470" y="132"/>
                  <a:pt x="2470" y="132"/>
                </a:cubicBezTo>
                <a:cubicBezTo>
                  <a:pt x="2468" y="138"/>
                  <a:pt x="2463" y="144"/>
                  <a:pt x="2464" y="150"/>
                </a:cubicBezTo>
                <a:cubicBezTo>
                  <a:pt x="2468" y="176"/>
                  <a:pt x="2496" y="197"/>
                  <a:pt x="2511" y="215"/>
                </a:cubicBezTo>
                <a:cubicBezTo>
                  <a:pt x="2532" y="240"/>
                  <a:pt x="2552" y="265"/>
                  <a:pt x="2571" y="292"/>
                </a:cubicBezTo>
                <a:cubicBezTo>
                  <a:pt x="2575" y="298"/>
                  <a:pt x="2559" y="283"/>
                  <a:pt x="2553" y="280"/>
                </a:cubicBezTo>
                <a:cubicBezTo>
                  <a:pt x="2545" y="276"/>
                  <a:pt x="2537" y="273"/>
                  <a:pt x="2529" y="269"/>
                </a:cubicBezTo>
                <a:cubicBezTo>
                  <a:pt x="2491" y="231"/>
                  <a:pt x="2434" y="221"/>
                  <a:pt x="2387" y="197"/>
                </a:cubicBezTo>
                <a:cubicBezTo>
                  <a:pt x="2351" y="179"/>
                  <a:pt x="2312" y="157"/>
                  <a:pt x="2274" y="144"/>
                </a:cubicBezTo>
                <a:cubicBezTo>
                  <a:pt x="2288" y="187"/>
                  <a:pt x="2275" y="173"/>
                  <a:pt x="2304" y="191"/>
                </a:cubicBezTo>
                <a:cubicBezTo>
                  <a:pt x="2331" y="229"/>
                  <a:pt x="2314" y="208"/>
                  <a:pt x="2357" y="251"/>
                </a:cubicBezTo>
                <a:cubicBezTo>
                  <a:pt x="2365" y="259"/>
                  <a:pt x="2341" y="235"/>
                  <a:pt x="2333" y="227"/>
                </a:cubicBezTo>
                <a:cubicBezTo>
                  <a:pt x="2329" y="223"/>
                  <a:pt x="2321" y="223"/>
                  <a:pt x="2315" y="221"/>
                </a:cubicBezTo>
                <a:cubicBezTo>
                  <a:pt x="2270" y="187"/>
                  <a:pt x="2226" y="159"/>
                  <a:pt x="2173" y="138"/>
                </a:cubicBezTo>
                <a:cubicBezTo>
                  <a:pt x="2180" y="165"/>
                  <a:pt x="2193" y="175"/>
                  <a:pt x="2209" y="197"/>
                </a:cubicBezTo>
                <a:cubicBezTo>
                  <a:pt x="2211" y="203"/>
                  <a:pt x="2212" y="209"/>
                  <a:pt x="2214" y="215"/>
                </a:cubicBezTo>
                <a:cubicBezTo>
                  <a:pt x="2216" y="221"/>
                  <a:pt x="2226" y="233"/>
                  <a:pt x="2220" y="233"/>
                </a:cubicBezTo>
                <a:cubicBezTo>
                  <a:pt x="2214" y="233"/>
                  <a:pt x="2177" y="196"/>
                  <a:pt x="2161" y="191"/>
                </a:cubicBezTo>
                <a:cubicBezTo>
                  <a:pt x="2159" y="207"/>
                  <a:pt x="2169" y="231"/>
                  <a:pt x="2155" y="239"/>
                </a:cubicBezTo>
                <a:cubicBezTo>
                  <a:pt x="2144" y="246"/>
                  <a:pt x="2140" y="218"/>
                  <a:pt x="2131" y="209"/>
                </a:cubicBezTo>
                <a:cubicBezTo>
                  <a:pt x="2113" y="192"/>
                  <a:pt x="2092" y="178"/>
                  <a:pt x="2072" y="162"/>
                </a:cubicBezTo>
                <a:cubicBezTo>
                  <a:pt x="2064" y="156"/>
                  <a:pt x="2048" y="144"/>
                  <a:pt x="2048" y="144"/>
                </a:cubicBezTo>
                <a:cubicBezTo>
                  <a:pt x="2046" y="152"/>
                  <a:pt x="2042" y="160"/>
                  <a:pt x="2042" y="168"/>
                </a:cubicBezTo>
                <a:cubicBezTo>
                  <a:pt x="2042" y="174"/>
                  <a:pt x="2054" y="185"/>
                  <a:pt x="2048" y="185"/>
                </a:cubicBezTo>
                <a:cubicBezTo>
                  <a:pt x="2031" y="185"/>
                  <a:pt x="2017" y="168"/>
                  <a:pt x="2001" y="162"/>
                </a:cubicBezTo>
                <a:cubicBezTo>
                  <a:pt x="1977" y="138"/>
                  <a:pt x="1977" y="124"/>
                  <a:pt x="1947" y="144"/>
                </a:cubicBezTo>
                <a:cubicBezTo>
                  <a:pt x="1937" y="174"/>
                  <a:pt x="1926" y="203"/>
                  <a:pt x="1918" y="233"/>
                </a:cubicBezTo>
                <a:cubicBezTo>
                  <a:pt x="1908" y="195"/>
                  <a:pt x="1888" y="163"/>
                  <a:pt x="1876" y="126"/>
                </a:cubicBezTo>
                <a:cubicBezTo>
                  <a:pt x="1870" y="128"/>
                  <a:pt x="1861" y="126"/>
                  <a:pt x="1858" y="132"/>
                </a:cubicBezTo>
                <a:cubicBezTo>
                  <a:pt x="1852" y="145"/>
                  <a:pt x="1863" y="165"/>
                  <a:pt x="1852" y="174"/>
                </a:cubicBezTo>
                <a:cubicBezTo>
                  <a:pt x="1844" y="180"/>
                  <a:pt x="1835" y="163"/>
                  <a:pt x="1828" y="156"/>
                </a:cubicBezTo>
                <a:cubicBezTo>
                  <a:pt x="1812" y="141"/>
                  <a:pt x="1797" y="124"/>
                  <a:pt x="1781" y="108"/>
                </a:cubicBezTo>
                <a:cubicBezTo>
                  <a:pt x="1747" y="74"/>
                  <a:pt x="1720" y="45"/>
                  <a:pt x="1692" y="7"/>
                </a:cubicBezTo>
                <a:cubicBezTo>
                  <a:pt x="1677" y="82"/>
                  <a:pt x="1700" y="167"/>
                  <a:pt x="1656" y="233"/>
                </a:cubicBezTo>
                <a:cubicBezTo>
                  <a:pt x="1645" y="153"/>
                  <a:pt x="1657" y="218"/>
                  <a:pt x="1644" y="174"/>
                </a:cubicBezTo>
                <a:cubicBezTo>
                  <a:pt x="1640" y="160"/>
                  <a:pt x="1633" y="132"/>
                  <a:pt x="1633" y="132"/>
                </a:cubicBezTo>
                <a:cubicBezTo>
                  <a:pt x="1613" y="152"/>
                  <a:pt x="1603" y="175"/>
                  <a:pt x="1585" y="197"/>
                </a:cubicBezTo>
                <a:cubicBezTo>
                  <a:pt x="1578" y="219"/>
                  <a:pt x="1562" y="229"/>
                  <a:pt x="1555" y="251"/>
                </a:cubicBezTo>
                <a:cubicBezTo>
                  <a:pt x="1543" y="216"/>
                  <a:pt x="1546" y="180"/>
                  <a:pt x="1537" y="144"/>
                </a:cubicBezTo>
                <a:cubicBezTo>
                  <a:pt x="1542" y="129"/>
                  <a:pt x="1551" y="111"/>
                  <a:pt x="1537" y="96"/>
                </a:cubicBezTo>
                <a:cubicBezTo>
                  <a:pt x="1533" y="91"/>
                  <a:pt x="1534" y="108"/>
                  <a:pt x="1532" y="114"/>
                </a:cubicBezTo>
                <a:cubicBezTo>
                  <a:pt x="1526" y="134"/>
                  <a:pt x="1502" y="168"/>
                  <a:pt x="1502" y="168"/>
                </a:cubicBezTo>
                <a:cubicBezTo>
                  <a:pt x="1476" y="129"/>
                  <a:pt x="1512" y="103"/>
                  <a:pt x="1460" y="90"/>
                </a:cubicBezTo>
                <a:cubicBezTo>
                  <a:pt x="1434" y="116"/>
                  <a:pt x="1405" y="139"/>
                  <a:pt x="1371" y="150"/>
                </a:cubicBezTo>
                <a:cubicBezTo>
                  <a:pt x="1373" y="136"/>
                  <a:pt x="1382" y="121"/>
                  <a:pt x="1377" y="108"/>
                </a:cubicBezTo>
                <a:cubicBezTo>
                  <a:pt x="1374" y="101"/>
                  <a:pt x="1364" y="115"/>
                  <a:pt x="1359" y="120"/>
                </a:cubicBezTo>
                <a:cubicBezTo>
                  <a:pt x="1352" y="127"/>
                  <a:pt x="1348" y="137"/>
                  <a:pt x="1342" y="144"/>
                </a:cubicBezTo>
                <a:cubicBezTo>
                  <a:pt x="1320" y="170"/>
                  <a:pt x="1285" y="204"/>
                  <a:pt x="1252" y="215"/>
                </a:cubicBezTo>
                <a:cubicBezTo>
                  <a:pt x="1198" y="256"/>
                  <a:pt x="1223" y="242"/>
                  <a:pt x="1181" y="263"/>
                </a:cubicBezTo>
                <a:cubicBezTo>
                  <a:pt x="1183" y="253"/>
                  <a:pt x="1183" y="242"/>
                  <a:pt x="1187" y="233"/>
                </a:cubicBezTo>
                <a:cubicBezTo>
                  <a:pt x="1203" y="197"/>
                  <a:pt x="1255" y="168"/>
                  <a:pt x="1199" y="191"/>
                </a:cubicBezTo>
                <a:cubicBezTo>
                  <a:pt x="1193" y="193"/>
                  <a:pt x="1187" y="195"/>
                  <a:pt x="1181" y="197"/>
                </a:cubicBezTo>
                <a:cubicBezTo>
                  <a:pt x="1177" y="189"/>
                  <a:pt x="1170" y="183"/>
                  <a:pt x="1169" y="174"/>
                </a:cubicBezTo>
                <a:cubicBezTo>
                  <a:pt x="1165" y="149"/>
                  <a:pt x="1209" y="118"/>
                  <a:pt x="1157" y="144"/>
                </a:cubicBezTo>
                <a:cubicBezTo>
                  <a:pt x="1138" y="165"/>
                  <a:pt x="1141" y="163"/>
                  <a:pt x="1116" y="180"/>
                </a:cubicBezTo>
                <a:cubicBezTo>
                  <a:pt x="1104" y="188"/>
                  <a:pt x="1080" y="203"/>
                  <a:pt x="1080" y="203"/>
                </a:cubicBezTo>
                <a:cubicBezTo>
                  <a:pt x="1087" y="170"/>
                  <a:pt x="1099" y="140"/>
                  <a:pt x="1110" y="108"/>
                </a:cubicBezTo>
                <a:cubicBezTo>
                  <a:pt x="1113" y="99"/>
                  <a:pt x="1099" y="124"/>
                  <a:pt x="1092" y="132"/>
                </a:cubicBezTo>
                <a:cubicBezTo>
                  <a:pt x="1086" y="138"/>
                  <a:pt x="1081" y="146"/>
                  <a:pt x="1074" y="150"/>
                </a:cubicBezTo>
                <a:cubicBezTo>
                  <a:pt x="1043" y="167"/>
                  <a:pt x="1000" y="183"/>
                  <a:pt x="967" y="191"/>
                </a:cubicBezTo>
                <a:cubicBezTo>
                  <a:pt x="956" y="147"/>
                  <a:pt x="970" y="119"/>
                  <a:pt x="997" y="85"/>
                </a:cubicBezTo>
                <a:cubicBezTo>
                  <a:pt x="1005" y="43"/>
                  <a:pt x="1000" y="65"/>
                  <a:pt x="1015" y="19"/>
                </a:cubicBezTo>
                <a:cubicBezTo>
                  <a:pt x="1017" y="13"/>
                  <a:pt x="1014" y="33"/>
                  <a:pt x="1009" y="37"/>
                </a:cubicBezTo>
                <a:cubicBezTo>
                  <a:pt x="991" y="51"/>
                  <a:pt x="975" y="67"/>
                  <a:pt x="956" y="79"/>
                </a:cubicBezTo>
                <a:cubicBezTo>
                  <a:pt x="894" y="120"/>
                  <a:pt x="831" y="155"/>
                  <a:pt x="760" y="180"/>
                </a:cubicBezTo>
                <a:cubicBezTo>
                  <a:pt x="790" y="130"/>
                  <a:pt x="837" y="84"/>
                  <a:pt x="878" y="43"/>
                </a:cubicBezTo>
                <a:cubicBezTo>
                  <a:pt x="884" y="37"/>
                  <a:pt x="868" y="56"/>
                  <a:pt x="861" y="61"/>
                </a:cubicBezTo>
                <a:cubicBezTo>
                  <a:pt x="840" y="76"/>
                  <a:pt x="825" y="94"/>
                  <a:pt x="801" y="102"/>
                </a:cubicBezTo>
                <a:cubicBezTo>
                  <a:pt x="803" y="84"/>
                  <a:pt x="803" y="66"/>
                  <a:pt x="807" y="49"/>
                </a:cubicBezTo>
                <a:cubicBezTo>
                  <a:pt x="809" y="40"/>
                  <a:pt x="815" y="33"/>
                  <a:pt x="819" y="25"/>
                </a:cubicBezTo>
                <a:cubicBezTo>
                  <a:pt x="823" y="19"/>
                  <a:pt x="836" y="12"/>
                  <a:pt x="831" y="7"/>
                </a:cubicBezTo>
                <a:cubicBezTo>
                  <a:pt x="824" y="0"/>
                  <a:pt x="811" y="25"/>
                  <a:pt x="795" y="37"/>
                </a:cubicBezTo>
                <a:cubicBezTo>
                  <a:pt x="788" y="42"/>
                  <a:pt x="779" y="44"/>
                  <a:pt x="771" y="49"/>
                </a:cubicBezTo>
                <a:cubicBezTo>
                  <a:pt x="759" y="56"/>
                  <a:pt x="736" y="73"/>
                  <a:pt x="736" y="73"/>
                </a:cubicBezTo>
                <a:cubicBezTo>
                  <a:pt x="747" y="41"/>
                  <a:pt x="744" y="59"/>
                  <a:pt x="724" y="73"/>
                </a:cubicBezTo>
                <a:cubicBezTo>
                  <a:pt x="711" y="82"/>
                  <a:pt x="696" y="88"/>
                  <a:pt x="682" y="96"/>
                </a:cubicBezTo>
                <a:cubicBezTo>
                  <a:pt x="686" y="88"/>
                  <a:pt x="691" y="81"/>
                  <a:pt x="694" y="73"/>
                </a:cubicBezTo>
                <a:cubicBezTo>
                  <a:pt x="697" y="67"/>
                  <a:pt x="706" y="55"/>
                  <a:pt x="700" y="55"/>
                </a:cubicBezTo>
                <a:cubicBezTo>
                  <a:pt x="692" y="55"/>
                  <a:pt x="689" y="68"/>
                  <a:pt x="682" y="73"/>
                </a:cubicBezTo>
                <a:cubicBezTo>
                  <a:pt x="669" y="83"/>
                  <a:pt x="655" y="92"/>
                  <a:pt x="641" y="102"/>
                </a:cubicBezTo>
                <a:cubicBezTo>
                  <a:pt x="616" y="119"/>
                  <a:pt x="583" y="138"/>
                  <a:pt x="552" y="13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99cc00"/>
              </a:gs>
              <a:gs pos="100000">
                <a:srgbClr val="00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Freeform 40"/>
          <p:cNvSpPr/>
          <p:nvPr/>
        </p:nvSpPr>
        <p:spPr>
          <a:xfrm>
            <a:off x="3375000" y="2965320"/>
            <a:ext cx="3676680" cy="12034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c6554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Freeform 41"/>
          <p:cNvSpPr/>
          <p:nvPr/>
        </p:nvSpPr>
        <p:spPr>
          <a:xfrm>
            <a:off x="2987640" y="4176720"/>
            <a:ext cx="4176720" cy="12952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Freeform 42"/>
          <p:cNvSpPr/>
          <p:nvPr/>
        </p:nvSpPr>
        <p:spPr>
          <a:xfrm>
            <a:off x="3635280" y="2160720"/>
            <a:ext cx="2665440" cy="79200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Rectangle 43"/>
          <p:cNvSpPr/>
          <p:nvPr/>
        </p:nvSpPr>
        <p:spPr>
          <a:xfrm>
            <a:off x="1547640" y="5040360"/>
            <a:ext cx="142920" cy="64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Rectangle 44"/>
          <p:cNvSpPr/>
          <p:nvPr/>
        </p:nvSpPr>
        <p:spPr>
          <a:xfrm>
            <a:off x="468360" y="4897440"/>
            <a:ext cx="14292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2" name="Group 47"/>
          <p:cNvGrpSpPr/>
          <p:nvPr/>
        </p:nvGrpSpPr>
        <p:grpSpPr>
          <a:xfrm>
            <a:off x="4213080" y="44280"/>
            <a:ext cx="863640" cy="820800"/>
            <a:chOff x="4213080" y="44280"/>
            <a:chExt cx="863640" cy="820800"/>
          </a:xfrm>
        </p:grpSpPr>
        <p:sp>
          <p:nvSpPr>
            <p:cNvPr id="633" name="AutoShape 48"/>
            <p:cNvSpPr/>
            <p:nvPr/>
          </p:nvSpPr>
          <p:spPr>
            <a:xfrm>
              <a:off x="4213080" y="44280"/>
              <a:ext cx="863640" cy="820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24" y="3810"/>
                  </a:lnTo>
                  <a:lnTo>
                    <a:pt x="5000" y="0"/>
                  </a:lnTo>
                  <a:lnTo>
                    <a:pt x="6176" y="3810"/>
                  </a:lnTo>
                  <a:lnTo>
                    <a:pt x="10000" y="3810"/>
                  </a:lnTo>
                  <a:lnTo>
                    <a:pt x="6912" y="6190"/>
                  </a:lnTo>
                  <a:lnTo>
                    <a:pt x="8088" y="10000"/>
                  </a:lnTo>
                  <a:lnTo>
                    <a:pt x="5000" y="7640"/>
                  </a:lnTo>
                  <a:lnTo>
                    <a:pt x="1912" y="10000"/>
                  </a:lnTo>
                  <a:lnTo>
                    <a:pt x="3088" y="6190"/>
                  </a:lnTo>
                  <a:lnTo>
                    <a:pt x="0" y="3810"/>
                  </a:lnTo>
                  <a:close/>
                </a:path>
              </a:pathLst>
            </a:cu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18900000"/>
            </a:gradFill>
            <a:ln w="0">
              <a:noFill/>
            </a:ln>
            <a:effectLst>
              <a:outerShdw dist="80486" dir="6510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AutoShape 49"/>
            <p:cNvSpPr/>
            <p:nvPr/>
          </p:nvSpPr>
          <p:spPr>
            <a:xfrm>
              <a:off x="4357440" y="190440"/>
              <a:ext cx="574920" cy="546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08"/>
                  </a:moveTo>
                  <a:lnTo>
                    <a:pt x="3812" y="3808"/>
                  </a:lnTo>
                  <a:lnTo>
                    <a:pt x="5000" y="0"/>
                  </a:lnTo>
                  <a:lnTo>
                    <a:pt x="6188" y="3808"/>
                  </a:lnTo>
                  <a:lnTo>
                    <a:pt x="10000" y="3808"/>
                  </a:lnTo>
                  <a:lnTo>
                    <a:pt x="6906" y="6192"/>
                  </a:lnTo>
                  <a:lnTo>
                    <a:pt x="8094" y="10000"/>
                  </a:lnTo>
                  <a:lnTo>
                    <a:pt x="5000" y="7645"/>
                  </a:lnTo>
                  <a:lnTo>
                    <a:pt x="1906" y="10000"/>
                  </a:lnTo>
                  <a:lnTo>
                    <a:pt x="3094" y="6192"/>
                  </a:lnTo>
                  <a:lnTo>
                    <a:pt x="0" y="3808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35" name="Group 5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36" name="Oval 5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5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53"/>
            <p:cNvSpPr/>
            <p:nvPr/>
          </p:nvSpPr>
          <p:spPr>
            <a:xfrm>
              <a:off x="3994920" y="58950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54"/>
            <p:cNvSpPr/>
            <p:nvPr/>
          </p:nvSpPr>
          <p:spPr>
            <a:xfrm>
              <a:off x="3852720" y="5667120"/>
              <a:ext cx="21492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0" name="Group 55"/>
          <p:cNvGrpSpPr/>
          <p:nvPr/>
        </p:nvGrpSpPr>
        <p:grpSpPr>
          <a:xfrm>
            <a:off x="6659640" y="5589720"/>
            <a:ext cx="360360" cy="360360"/>
            <a:chOff x="6659640" y="5589720"/>
            <a:chExt cx="360360" cy="360360"/>
          </a:xfrm>
        </p:grpSpPr>
        <p:sp>
          <p:nvSpPr>
            <p:cNvPr id="641" name="Oval 56"/>
            <p:cNvSpPr/>
            <p:nvPr/>
          </p:nvSpPr>
          <p:spPr>
            <a:xfrm>
              <a:off x="6659640" y="5589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57"/>
            <p:cNvSpPr/>
            <p:nvPr/>
          </p:nvSpPr>
          <p:spPr>
            <a:xfrm>
              <a:off x="6720120" y="564876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58"/>
            <p:cNvSpPr/>
            <p:nvPr/>
          </p:nvSpPr>
          <p:spPr>
            <a:xfrm rot="19651800">
              <a:off x="6727680" y="564984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Oval 59"/>
            <p:cNvSpPr/>
            <p:nvPr/>
          </p:nvSpPr>
          <p:spPr>
            <a:xfrm>
              <a:off x="6838920" y="578484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5" name="Group 60"/>
          <p:cNvGrpSpPr/>
          <p:nvPr/>
        </p:nvGrpSpPr>
        <p:grpSpPr>
          <a:xfrm>
            <a:off x="4859280" y="5373720"/>
            <a:ext cx="432000" cy="431640"/>
            <a:chOff x="4859280" y="5373720"/>
            <a:chExt cx="432000" cy="431640"/>
          </a:xfrm>
        </p:grpSpPr>
        <p:sp>
          <p:nvSpPr>
            <p:cNvPr id="646" name="Oval 61"/>
            <p:cNvSpPr/>
            <p:nvPr/>
          </p:nvSpPr>
          <p:spPr>
            <a:xfrm>
              <a:off x="4859280" y="537372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7" name="Oval 62"/>
            <p:cNvSpPr/>
            <p:nvPr/>
          </p:nvSpPr>
          <p:spPr>
            <a:xfrm>
              <a:off x="4932000" y="544464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Oval 63"/>
            <p:cNvSpPr/>
            <p:nvPr/>
          </p:nvSpPr>
          <p:spPr>
            <a:xfrm rot="19651800">
              <a:off x="4941000" y="5446080"/>
              <a:ext cx="20592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Oval 64"/>
            <p:cNvSpPr/>
            <p:nvPr/>
          </p:nvSpPr>
          <p:spPr>
            <a:xfrm>
              <a:off x="5074560" y="560772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0" name="Group 6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51" name="Oval 6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Oval 67"/>
            <p:cNvSpPr/>
            <p:nvPr/>
          </p:nvSpPr>
          <p:spPr>
            <a:xfrm>
              <a:off x="2922120" y="569232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Oval 68"/>
            <p:cNvSpPr/>
            <p:nvPr/>
          </p:nvSpPr>
          <p:spPr>
            <a:xfrm>
              <a:off x="3064680" y="58554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Oval 69"/>
            <p:cNvSpPr/>
            <p:nvPr/>
          </p:nvSpPr>
          <p:spPr>
            <a:xfrm rot="20684400">
              <a:off x="2922120" y="5697360"/>
              <a:ext cx="21528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5" name="Group 70"/>
          <p:cNvGrpSpPr/>
          <p:nvPr/>
        </p:nvGrpSpPr>
        <p:grpSpPr>
          <a:xfrm>
            <a:off x="5508720" y="5445000"/>
            <a:ext cx="360360" cy="360360"/>
            <a:chOff x="5508720" y="5445000"/>
            <a:chExt cx="360360" cy="360360"/>
          </a:xfrm>
        </p:grpSpPr>
        <p:sp>
          <p:nvSpPr>
            <p:cNvPr id="656" name="Oval 71"/>
            <p:cNvSpPr/>
            <p:nvPr/>
          </p:nvSpPr>
          <p:spPr>
            <a:xfrm>
              <a:off x="5508720" y="544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Oval 72"/>
            <p:cNvSpPr/>
            <p:nvPr/>
          </p:nvSpPr>
          <p:spPr>
            <a:xfrm>
              <a:off x="5569200" y="550404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Oval 73"/>
            <p:cNvSpPr/>
            <p:nvPr/>
          </p:nvSpPr>
          <p:spPr>
            <a:xfrm rot="19651800">
              <a:off x="5576760" y="55051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Oval 74"/>
            <p:cNvSpPr/>
            <p:nvPr/>
          </p:nvSpPr>
          <p:spPr>
            <a:xfrm>
              <a:off x="5688000" y="56401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0" name="Group 75"/>
          <p:cNvGrpSpPr/>
          <p:nvPr/>
        </p:nvGrpSpPr>
        <p:grpSpPr>
          <a:xfrm>
            <a:off x="4067280" y="5300640"/>
            <a:ext cx="360360" cy="360360"/>
            <a:chOff x="4067280" y="5300640"/>
            <a:chExt cx="360360" cy="360360"/>
          </a:xfrm>
        </p:grpSpPr>
        <p:sp>
          <p:nvSpPr>
            <p:cNvPr id="661" name="Oval 76"/>
            <p:cNvSpPr/>
            <p:nvPr/>
          </p:nvSpPr>
          <p:spPr>
            <a:xfrm>
              <a:off x="4067280" y="5300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Oval 77"/>
            <p:cNvSpPr/>
            <p:nvPr/>
          </p:nvSpPr>
          <p:spPr>
            <a:xfrm>
              <a:off x="4127760" y="535968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Oval 78"/>
            <p:cNvSpPr/>
            <p:nvPr/>
          </p:nvSpPr>
          <p:spPr>
            <a:xfrm rot="19651800">
              <a:off x="4135320" y="53607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Oval 79"/>
            <p:cNvSpPr/>
            <p:nvPr/>
          </p:nvSpPr>
          <p:spPr>
            <a:xfrm>
              <a:off x="4246560" y="54957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5" name="Group 8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66" name="Oval 8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Oval 8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Oval 83"/>
            <p:cNvSpPr/>
            <p:nvPr/>
          </p:nvSpPr>
          <p:spPr>
            <a:xfrm>
              <a:off x="3994920" y="58950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Oval 84"/>
            <p:cNvSpPr/>
            <p:nvPr/>
          </p:nvSpPr>
          <p:spPr>
            <a:xfrm>
              <a:off x="3852720" y="5667120"/>
              <a:ext cx="21492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0" name="Group 8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71" name="Oval 8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2" name="Oval 87"/>
            <p:cNvSpPr/>
            <p:nvPr/>
          </p:nvSpPr>
          <p:spPr>
            <a:xfrm>
              <a:off x="2922120" y="569232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Oval 88"/>
            <p:cNvSpPr/>
            <p:nvPr/>
          </p:nvSpPr>
          <p:spPr>
            <a:xfrm>
              <a:off x="3064680" y="58554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Oval 89"/>
            <p:cNvSpPr/>
            <p:nvPr/>
          </p:nvSpPr>
          <p:spPr>
            <a:xfrm rot="20684400">
              <a:off x="2922120" y="5697360"/>
              <a:ext cx="21528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5" name="Group 90"/>
          <p:cNvGrpSpPr/>
          <p:nvPr/>
        </p:nvGrpSpPr>
        <p:grpSpPr>
          <a:xfrm>
            <a:off x="2197080" y="5283360"/>
            <a:ext cx="432000" cy="431640"/>
            <a:chOff x="2197080" y="5283360"/>
            <a:chExt cx="432000" cy="431640"/>
          </a:xfrm>
        </p:grpSpPr>
        <p:sp>
          <p:nvSpPr>
            <p:cNvPr id="676" name="Oval 91"/>
            <p:cNvSpPr/>
            <p:nvPr/>
          </p:nvSpPr>
          <p:spPr>
            <a:xfrm>
              <a:off x="2197080" y="528336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7" name="Oval 92"/>
            <p:cNvSpPr/>
            <p:nvPr/>
          </p:nvSpPr>
          <p:spPr>
            <a:xfrm>
              <a:off x="2269800" y="535428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8" name="Oval 93"/>
            <p:cNvSpPr/>
            <p:nvPr/>
          </p:nvSpPr>
          <p:spPr>
            <a:xfrm>
              <a:off x="2412360" y="551736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Oval 94"/>
            <p:cNvSpPr/>
            <p:nvPr/>
          </p:nvSpPr>
          <p:spPr>
            <a:xfrm>
              <a:off x="2269800" y="5289480"/>
              <a:ext cx="21528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0" name="Group 95"/>
          <p:cNvGrpSpPr/>
          <p:nvPr/>
        </p:nvGrpSpPr>
        <p:grpSpPr>
          <a:xfrm>
            <a:off x="6218280" y="4586400"/>
            <a:ext cx="431640" cy="431640"/>
            <a:chOff x="6218280" y="4586400"/>
            <a:chExt cx="431640" cy="431640"/>
          </a:xfrm>
        </p:grpSpPr>
        <p:sp>
          <p:nvSpPr>
            <p:cNvPr id="681" name="Oval 96"/>
            <p:cNvSpPr/>
            <p:nvPr/>
          </p:nvSpPr>
          <p:spPr>
            <a:xfrm>
              <a:off x="6218280" y="45864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Oval 97"/>
            <p:cNvSpPr/>
            <p:nvPr/>
          </p:nvSpPr>
          <p:spPr>
            <a:xfrm>
              <a:off x="6291000" y="4657320"/>
              <a:ext cx="28584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Oval 98"/>
            <p:cNvSpPr/>
            <p:nvPr/>
          </p:nvSpPr>
          <p:spPr>
            <a:xfrm>
              <a:off x="6433200" y="482040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Oval 99"/>
            <p:cNvSpPr/>
            <p:nvPr/>
          </p:nvSpPr>
          <p:spPr>
            <a:xfrm>
              <a:off x="6291000" y="4592520"/>
              <a:ext cx="21492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5" name="Group 100"/>
          <p:cNvGrpSpPr/>
          <p:nvPr/>
        </p:nvGrpSpPr>
        <p:grpSpPr>
          <a:xfrm>
            <a:off x="3024360" y="3773520"/>
            <a:ext cx="301320" cy="301680"/>
            <a:chOff x="3024360" y="3773520"/>
            <a:chExt cx="301320" cy="301680"/>
          </a:xfrm>
        </p:grpSpPr>
        <p:sp>
          <p:nvSpPr>
            <p:cNvPr id="686" name="Oval 101"/>
            <p:cNvSpPr/>
            <p:nvPr/>
          </p:nvSpPr>
          <p:spPr>
            <a:xfrm>
              <a:off x="3024360" y="377352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Oval 102"/>
            <p:cNvSpPr/>
            <p:nvPr/>
          </p:nvSpPr>
          <p:spPr>
            <a:xfrm>
              <a:off x="3075120" y="382284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Oval 103"/>
            <p:cNvSpPr/>
            <p:nvPr/>
          </p:nvSpPr>
          <p:spPr>
            <a:xfrm>
              <a:off x="3174480" y="393696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Oval 104"/>
            <p:cNvSpPr/>
            <p:nvPr/>
          </p:nvSpPr>
          <p:spPr>
            <a:xfrm>
              <a:off x="3075120" y="3777840"/>
              <a:ext cx="150120" cy="15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0" name="Group 105"/>
          <p:cNvGrpSpPr/>
          <p:nvPr/>
        </p:nvGrpSpPr>
        <p:grpSpPr>
          <a:xfrm>
            <a:off x="2719440" y="3313080"/>
            <a:ext cx="330120" cy="344520"/>
            <a:chOff x="2719440" y="3313080"/>
            <a:chExt cx="330120" cy="344520"/>
          </a:xfrm>
        </p:grpSpPr>
        <p:sp>
          <p:nvSpPr>
            <p:cNvPr id="691" name="Oval 106"/>
            <p:cNvSpPr/>
            <p:nvPr/>
          </p:nvSpPr>
          <p:spPr>
            <a:xfrm>
              <a:off x="2719440" y="3313080"/>
              <a:ext cx="330120" cy="344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Oval 107"/>
            <p:cNvSpPr/>
            <p:nvPr/>
          </p:nvSpPr>
          <p:spPr>
            <a:xfrm>
              <a:off x="2774880" y="3369600"/>
              <a:ext cx="218520" cy="228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Oval 108"/>
            <p:cNvSpPr/>
            <p:nvPr/>
          </p:nvSpPr>
          <p:spPr>
            <a:xfrm>
              <a:off x="2883960" y="3499920"/>
              <a:ext cx="1098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Oval 109"/>
            <p:cNvSpPr/>
            <p:nvPr/>
          </p:nvSpPr>
          <p:spPr>
            <a:xfrm rot="20684400">
              <a:off x="2774880" y="3373560"/>
              <a:ext cx="1645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5" name="Group 110"/>
          <p:cNvGrpSpPr/>
          <p:nvPr/>
        </p:nvGrpSpPr>
        <p:grpSpPr>
          <a:xfrm>
            <a:off x="4361040" y="3308400"/>
            <a:ext cx="301320" cy="301680"/>
            <a:chOff x="4361040" y="3308400"/>
            <a:chExt cx="301320" cy="301680"/>
          </a:xfrm>
        </p:grpSpPr>
        <p:sp>
          <p:nvSpPr>
            <p:cNvPr id="696" name="Oval 111"/>
            <p:cNvSpPr/>
            <p:nvPr/>
          </p:nvSpPr>
          <p:spPr>
            <a:xfrm>
              <a:off x="4361040" y="330840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Oval 112"/>
            <p:cNvSpPr/>
            <p:nvPr/>
          </p:nvSpPr>
          <p:spPr>
            <a:xfrm>
              <a:off x="4411800" y="335772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8" name="Oval 113"/>
            <p:cNvSpPr/>
            <p:nvPr/>
          </p:nvSpPr>
          <p:spPr>
            <a:xfrm>
              <a:off x="4511160" y="347184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Oval 114"/>
            <p:cNvSpPr/>
            <p:nvPr/>
          </p:nvSpPr>
          <p:spPr>
            <a:xfrm>
              <a:off x="4411800" y="3312720"/>
              <a:ext cx="150120" cy="15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0" name="Group 115"/>
          <p:cNvGrpSpPr/>
          <p:nvPr/>
        </p:nvGrpSpPr>
        <p:grpSpPr>
          <a:xfrm>
            <a:off x="5234040" y="2905200"/>
            <a:ext cx="360360" cy="360360"/>
            <a:chOff x="5234040" y="2905200"/>
            <a:chExt cx="360360" cy="360360"/>
          </a:xfrm>
        </p:grpSpPr>
        <p:sp>
          <p:nvSpPr>
            <p:cNvPr id="701" name="Oval 116"/>
            <p:cNvSpPr/>
            <p:nvPr/>
          </p:nvSpPr>
          <p:spPr>
            <a:xfrm>
              <a:off x="5234040" y="2905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Oval 117"/>
            <p:cNvSpPr/>
            <p:nvPr/>
          </p:nvSpPr>
          <p:spPr>
            <a:xfrm>
              <a:off x="5294520" y="296424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Oval 118"/>
            <p:cNvSpPr/>
            <p:nvPr/>
          </p:nvSpPr>
          <p:spPr>
            <a:xfrm rot="19651800">
              <a:off x="5302080" y="29653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Oval 119"/>
            <p:cNvSpPr/>
            <p:nvPr/>
          </p:nvSpPr>
          <p:spPr>
            <a:xfrm>
              <a:off x="5413320" y="31003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5" name="Group 120"/>
          <p:cNvGrpSpPr/>
          <p:nvPr/>
        </p:nvGrpSpPr>
        <p:grpSpPr>
          <a:xfrm>
            <a:off x="4435560" y="2021040"/>
            <a:ext cx="360360" cy="360360"/>
            <a:chOff x="4435560" y="2021040"/>
            <a:chExt cx="360360" cy="360360"/>
          </a:xfrm>
        </p:grpSpPr>
        <p:sp>
          <p:nvSpPr>
            <p:cNvPr id="706" name="Oval 121"/>
            <p:cNvSpPr/>
            <p:nvPr/>
          </p:nvSpPr>
          <p:spPr>
            <a:xfrm>
              <a:off x="4435560" y="2021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Oval 122"/>
            <p:cNvSpPr/>
            <p:nvPr/>
          </p:nvSpPr>
          <p:spPr>
            <a:xfrm>
              <a:off x="4496040" y="2080080"/>
              <a:ext cx="238680" cy="239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Oval 123"/>
            <p:cNvSpPr/>
            <p:nvPr/>
          </p:nvSpPr>
          <p:spPr>
            <a:xfrm rot="19651800">
              <a:off x="4503600" y="20811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Oval 124"/>
            <p:cNvSpPr/>
            <p:nvPr/>
          </p:nvSpPr>
          <p:spPr>
            <a:xfrm>
              <a:off x="4614840" y="22161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0" name="Group 125"/>
          <p:cNvGrpSpPr/>
          <p:nvPr/>
        </p:nvGrpSpPr>
        <p:grpSpPr>
          <a:xfrm>
            <a:off x="5135400" y="2035080"/>
            <a:ext cx="432000" cy="432000"/>
            <a:chOff x="5135400" y="2035080"/>
            <a:chExt cx="432000" cy="432000"/>
          </a:xfrm>
        </p:grpSpPr>
        <p:sp>
          <p:nvSpPr>
            <p:cNvPr id="711" name="Oval 126"/>
            <p:cNvSpPr/>
            <p:nvPr/>
          </p:nvSpPr>
          <p:spPr>
            <a:xfrm>
              <a:off x="5135400" y="2035080"/>
              <a:ext cx="432000" cy="432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Oval 127"/>
            <p:cNvSpPr/>
            <p:nvPr/>
          </p:nvSpPr>
          <p:spPr>
            <a:xfrm>
              <a:off x="5208120" y="2106000"/>
              <a:ext cx="28620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Oval 128"/>
            <p:cNvSpPr/>
            <p:nvPr/>
          </p:nvSpPr>
          <p:spPr>
            <a:xfrm rot="19651800">
              <a:off x="5217120" y="2107440"/>
              <a:ext cx="20592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Oval 129"/>
            <p:cNvSpPr/>
            <p:nvPr/>
          </p:nvSpPr>
          <p:spPr>
            <a:xfrm>
              <a:off x="5350680" y="2269080"/>
              <a:ext cx="1436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5" name="Group 135"/>
          <p:cNvGrpSpPr/>
          <p:nvPr/>
        </p:nvGrpSpPr>
        <p:grpSpPr>
          <a:xfrm>
            <a:off x="3548160" y="1728720"/>
            <a:ext cx="358560" cy="358920"/>
            <a:chOff x="3548160" y="1728720"/>
            <a:chExt cx="358560" cy="358920"/>
          </a:xfrm>
        </p:grpSpPr>
        <p:sp>
          <p:nvSpPr>
            <p:cNvPr id="716" name="Oval 136"/>
            <p:cNvSpPr/>
            <p:nvPr/>
          </p:nvSpPr>
          <p:spPr>
            <a:xfrm>
              <a:off x="3548160" y="1728720"/>
              <a:ext cx="358560" cy="35892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Oval 137"/>
            <p:cNvSpPr/>
            <p:nvPr/>
          </p:nvSpPr>
          <p:spPr>
            <a:xfrm>
              <a:off x="3608280" y="1787400"/>
              <a:ext cx="237600" cy="237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Oval 138"/>
            <p:cNvSpPr/>
            <p:nvPr/>
          </p:nvSpPr>
          <p:spPr>
            <a:xfrm rot="19651800">
              <a:off x="3615840" y="1789200"/>
              <a:ext cx="170640" cy="11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Oval 139"/>
            <p:cNvSpPr/>
            <p:nvPr/>
          </p:nvSpPr>
          <p:spPr>
            <a:xfrm>
              <a:off x="3726720" y="19231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20" name="Group 145"/>
          <p:cNvGrpSpPr/>
          <p:nvPr/>
        </p:nvGrpSpPr>
        <p:grpSpPr>
          <a:xfrm>
            <a:off x="4897440" y="4199040"/>
            <a:ext cx="301680" cy="301680"/>
            <a:chOff x="4897440" y="4199040"/>
            <a:chExt cx="301680" cy="301680"/>
          </a:xfrm>
        </p:grpSpPr>
        <p:sp>
          <p:nvSpPr>
            <p:cNvPr id="721" name="Oval 146"/>
            <p:cNvSpPr/>
            <p:nvPr/>
          </p:nvSpPr>
          <p:spPr>
            <a:xfrm>
              <a:off x="4897440" y="4199040"/>
              <a:ext cx="301680" cy="3016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Oval 147"/>
            <p:cNvSpPr/>
            <p:nvPr/>
          </p:nvSpPr>
          <p:spPr>
            <a:xfrm>
              <a:off x="4948200" y="4248360"/>
              <a:ext cx="19980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Oval 148"/>
            <p:cNvSpPr/>
            <p:nvPr/>
          </p:nvSpPr>
          <p:spPr>
            <a:xfrm>
              <a:off x="5047560" y="4362480"/>
              <a:ext cx="10044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Oval 149"/>
            <p:cNvSpPr/>
            <p:nvPr/>
          </p:nvSpPr>
          <p:spPr>
            <a:xfrm rot="20684400">
              <a:off x="4947840" y="4251960"/>
              <a:ext cx="1501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725" name="Picture 150" descr="灯光6"/>
          <p:cNvPicPr/>
          <p:nvPr/>
        </p:nvPicPr>
        <p:blipFill>
          <a:blip r:embed="rId38"/>
          <a:stretch/>
        </p:blipFill>
        <p:spPr>
          <a:xfrm>
            <a:off x="5994360" y="2597040"/>
            <a:ext cx="558720" cy="647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1" descr="灯光1"/>
          <p:cNvPicPr/>
          <p:nvPr/>
        </p:nvPicPr>
        <p:blipFill>
          <a:blip r:embed="rId39"/>
          <a:stretch/>
        </p:blipFill>
        <p:spPr>
          <a:xfrm>
            <a:off x="6792840" y="395460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52" descr="灯光2"/>
          <p:cNvPicPr/>
          <p:nvPr/>
        </p:nvPicPr>
        <p:blipFill>
          <a:blip r:embed="rId40"/>
          <a:stretch/>
        </p:blipFill>
        <p:spPr>
          <a:xfrm>
            <a:off x="6470640" y="5048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53" descr="灯光3"/>
          <p:cNvPicPr/>
          <p:nvPr/>
        </p:nvPicPr>
        <p:blipFill>
          <a:blip r:embed="rId41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54" descr="灯光4"/>
          <p:cNvPicPr/>
          <p:nvPr/>
        </p:nvPicPr>
        <p:blipFill>
          <a:blip r:embed="rId42"/>
          <a:stretch/>
        </p:blipFill>
        <p:spPr>
          <a:xfrm>
            <a:off x="4383000" y="4422600"/>
            <a:ext cx="623880" cy="6242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5" descr="灯光5"/>
          <p:cNvPicPr/>
          <p:nvPr/>
        </p:nvPicPr>
        <p:blipFill>
          <a:blip r:embed="rId43"/>
          <a:stretch/>
        </p:blipFill>
        <p:spPr>
          <a:xfrm>
            <a:off x="6864480" y="51735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56" descr="灯光2"/>
          <p:cNvPicPr/>
          <p:nvPr/>
        </p:nvPicPr>
        <p:blipFill>
          <a:blip r:embed="rId44"/>
          <a:stretch/>
        </p:blipFill>
        <p:spPr>
          <a:xfrm>
            <a:off x="5934240" y="4859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57" descr="灯光2"/>
          <p:cNvPicPr/>
          <p:nvPr/>
        </p:nvPicPr>
        <p:blipFill>
          <a:blip r:embed="rId45"/>
          <a:stretch/>
        </p:blipFill>
        <p:spPr>
          <a:xfrm>
            <a:off x="4495680" y="5251320"/>
            <a:ext cx="392400" cy="392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8" descr="灯光5"/>
          <p:cNvPicPr/>
          <p:nvPr/>
        </p:nvPicPr>
        <p:blipFill>
          <a:blip r:embed="rId46"/>
          <a:stretch/>
        </p:blipFill>
        <p:spPr>
          <a:xfrm>
            <a:off x="4978440" y="46656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59" descr="灯光2"/>
          <p:cNvPicPr/>
          <p:nvPr/>
        </p:nvPicPr>
        <p:blipFill>
          <a:blip r:embed="rId47"/>
          <a:stretch/>
        </p:blipFill>
        <p:spPr>
          <a:xfrm>
            <a:off x="4133880" y="440856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60" descr="灯光3"/>
          <p:cNvPicPr/>
          <p:nvPr/>
        </p:nvPicPr>
        <p:blipFill>
          <a:blip r:embed="rId48"/>
          <a:stretch/>
        </p:blipFill>
        <p:spPr>
          <a:xfrm>
            <a:off x="3711600" y="430524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1" descr="灯光5"/>
          <p:cNvPicPr/>
          <p:nvPr/>
        </p:nvPicPr>
        <p:blipFill>
          <a:blip r:embed="rId49"/>
          <a:stretch/>
        </p:blipFill>
        <p:spPr>
          <a:xfrm>
            <a:off x="3470400" y="43783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62" descr="灯光2"/>
          <p:cNvPicPr/>
          <p:nvPr/>
        </p:nvPicPr>
        <p:blipFill>
          <a:blip r:embed="rId50"/>
          <a:stretch/>
        </p:blipFill>
        <p:spPr>
          <a:xfrm>
            <a:off x="3000240" y="4133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63" descr="灯光2"/>
          <p:cNvPicPr/>
          <p:nvPr/>
        </p:nvPicPr>
        <p:blipFill>
          <a:blip r:embed="rId51"/>
          <a:stretch/>
        </p:blipFill>
        <p:spPr>
          <a:xfrm>
            <a:off x="2781360" y="39736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64" descr="灯光2"/>
          <p:cNvPicPr/>
          <p:nvPr/>
        </p:nvPicPr>
        <p:blipFill>
          <a:blip r:embed="rId52"/>
          <a:stretch/>
        </p:blipFill>
        <p:spPr>
          <a:xfrm>
            <a:off x="3056040" y="461160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65" descr="灯光2"/>
          <p:cNvPicPr/>
          <p:nvPr/>
        </p:nvPicPr>
        <p:blipFill>
          <a:blip r:embed="rId53"/>
          <a:stretch/>
        </p:blipFill>
        <p:spPr>
          <a:xfrm>
            <a:off x="1763640" y="49165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66" descr="灯光5"/>
          <p:cNvPicPr/>
          <p:nvPr/>
        </p:nvPicPr>
        <p:blipFill>
          <a:blip r:embed="rId54"/>
          <a:stretch/>
        </p:blipFill>
        <p:spPr>
          <a:xfrm>
            <a:off x="2338560" y="394344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67" descr="灯光2"/>
          <p:cNvPicPr/>
          <p:nvPr/>
        </p:nvPicPr>
        <p:blipFill>
          <a:blip r:embed="rId55"/>
          <a:stretch/>
        </p:blipFill>
        <p:spPr>
          <a:xfrm>
            <a:off x="1941480" y="33782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69" descr="灯光4"/>
          <p:cNvPicPr/>
          <p:nvPr/>
        </p:nvPicPr>
        <p:blipFill>
          <a:blip r:embed="rId56"/>
          <a:stretch/>
        </p:blipFill>
        <p:spPr>
          <a:xfrm>
            <a:off x="2249640" y="316080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70" descr="灯光1"/>
          <p:cNvPicPr/>
          <p:nvPr/>
        </p:nvPicPr>
        <p:blipFill>
          <a:blip r:embed="rId57"/>
          <a:stretch/>
        </p:blipFill>
        <p:spPr>
          <a:xfrm>
            <a:off x="4832280" y="3402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71" descr="灯光1"/>
          <p:cNvPicPr/>
          <p:nvPr/>
        </p:nvPicPr>
        <p:blipFill>
          <a:blip r:embed="rId58"/>
          <a:stretch/>
        </p:blipFill>
        <p:spPr>
          <a:xfrm>
            <a:off x="3757680" y="21985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72" descr="灯光2"/>
          <p:cNvPicPr/>
          <p:nvPr/>
        </p:nvPicPr>
        <p:blipFill>
          <a:blip r:embed="rId59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73" descr="灯光3"/>
          <p:cNvPicPr/>
          <p:nvPr/>
        </p:nvPicPr>
        <p:blipFill>
          <a:blip r:embed="rId60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74" descr="灯光2"/>
          <p:cNvPicPr/>
          <p:nvPr/>
        </p:nvPicPr>
        <p:blipFill>
          <a:blip r:embed="rId61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75" descr="灯光3"/>
          <p:cNvPicPr/>
          <p:nvPr/>
        </p:nvPicPr>
        <p:blipFill>
          <a:blip r:embed="rId62"/>
          <a:stretch/>
        </p:blipFill>
        <p:spPr>
          <a:xfrm>
            <a:off x="4843440" y="2449440"/>
            <a:ext cx="349200" cy="333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76" descr="灯光2"/>
          <p:cNvPicPr/>
          <p:nvPr/>
        </p:nvPicPr>
        <p:blipFill>
          <a:blip r:embed="rId63"/>
          <a:stretch/>
        </p:blipFill>
        <p:spPr>
          <a:xfrm>
            <a:off x="4630680" y="146196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77" descr="灯光2"/>
          <p:cNvPicPr/>
          <p:nvPr/>
        </p:nvPicPr>
        <p:blipFill>
          <a:blip r:embed="rId64"/>
          <a:stretch/>
        </p:blipFill>
        <p:spPr>
          <a:xfrm>
            <a:off x="4065480" y="16938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78" descr="灯光2"/>
          <p:cNvPicPr/>
          <p:nvPr/>
        </p:nvPicPr>
        <p:blipFill>
          <a:blip r:embed="rId65"/>
          <a:stretch/>
        </p:blipFill>
        <p:spPr>
          <a:xfrm>
            <a:off x="2978280" y="182412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79" descr="灯光5"/>
          <p:cNvPicPr/>
          <p:nvPr/>
        </p:nvPicPr>
        <p:blipFill>
          <a:blip r:embed="rId66"/>
          <a:stretch/>
        </p:blipFill>
        <p:spPr>
          <a:xfrm>
            <a:off x="4413240" y="230040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80" descr="灯光2"/>
          <p:cNvPicPr/>
          <p:nvPr/>
        </p:nvPicPr>
        <p:blipFill>
          <a:blip r:embed="rId67"/>
          <a:stretch/>
        </p:blipFill>
        <p:spPr>
          <a:xfrm>
            <a:off x="3143160" y="27241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81" descr="灯光4"/>
          <p:cNvPicPr/>
          <p:nvPr/>
        </p:nvPicPr>
        <p:blipFill>
          <a:blip r:embed="rId68"/>
          <a:stretch/>
        </p:blipFill>
        <p:spPr>
          <a:xfrm>
            <a:off x="2438280" y="2536920"/>
            <a:ext cx="768600" cy="768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82" descr="灯光4"/>
          <p:cNvPicPr/>
          <p:nvPr/>
        </p:nvPicPr>
        <p:blipFill>
          <a:blip r:embed="rId69"/>
          <a:stretch/>
        </p:blipFill>
        <p:spPr>
          <a:xfrm>
            <a:off x="3365640" y="28558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83" descr="灯光2"/>
          <p:cNvPicPr/>
          <p:nvPr/>
        </p:nvPicPr>
        <p:blipFill>
          <a:blip r:embed="rId70"/>
          <a:stretch/>
        </p:blipFill>
        <p:spPr>
          <a:xfrm>
            <a:off x="6151680" y="3624120"/>
            <a:ext cx="550800" cy="55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84" descr="灯光3"/>
          <p:cNvPicPr/>
          <p:nvPr/>
        </p:nvPicPr>
        <p:blipFill>
          <a:blip r:embed="rId71"/>
          <a:stretch/>
        </p:blipFill>
        <p:spPr>
          <a:xfrm>
            <a:off x="5643720" y="346068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85" descr="灯光5"/>
          <p:cNvPicPr/>
          <p:nvPr/>
        </p:nvPicPr>
        <p:blipFill>
          <a:blip r:embed="rId72"/>
          <a:stretch/>
        </p:blipFill>
        <p:spPr>
          <a:xfrm>
            <a:off x="3875040" y="320040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86" descr="灯光3"/>
          <p:cNvPicPr/>
          <p:nvPr/>
        </p:nvPicPr>
        <p:blipFill>
          <a:blip r:embed="rId73"/>
          <a:stretch/>
        </p:blipFill>
        <p:spPr>
          <a:xfrm>
            <a:off x="4060800" y="2244600"/>
            <a:ext cx="425520" cy="406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87" descr="灯光5"/>
          <p:cNvPicPr/>
          <p:nvPr/>
        </p:nvPicPr>
        <p:blipFill>
          <a:blip r:embed="rId74"/>
          <a:stretch/>
        </p:blipFill>
        <p:spPr>
          <a:xfrm>
            <a:off x="3322800" y="195264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88" descr="灯光2"/>
          <p:cNvPicPr/>
          <p:nvPr/>
        </p:nvPicPr>
        <p:blipFill>
          <a:blip r:embed="rId75"/>
          <a:stretch/>
        </p:blipFill>
        <p:spPr>
          <a:xfrm>
            <a:off x="3925800" y="278280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89" descr="灯光2"/>
          <p:cNvPicPr/>
          <p:nvPr/>
        </p:nvPicPr>
        <p:blipFill>
          <a:blip r:embed="rId76"/>
          <a:stretch/>
        </p:blipFill>
        <p:spPr>
          <a:xfrm>
            <a:off x="4826160" y="30574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0" descr="灯光2"/>
          <p:cNvPicPr/>
          <p:nvPr/>
        </p:nvPicPr>
        <p:blipFill>
          <a:blip r:embed="rId77"/>
          <a:stretch/>
        </p:blipFill>
        <p:spPr>
          <a:xfrm>
            <a:off x="3578400" y="50896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91" descr="灯光4"/>
          <p:cNvPicPr/>
          <p:nvPr/>
        </p:nvPicPr>
        <p:blipFill>
          <a:blip r:embed="rId78"/>
          <a:stretch/>
        </p:blipFill>
        <p:spPr>
          <a:xfrm>
            <a:off x="5661000" y="31320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92" descr="灯光4"/>
          <p:cNvPicPr/>
          <p:nvPr/>
        </p:nvPicPr>
        <p:blipFill>
          <a:blip r:embed="rId79"/>
          <a:stretch/>
        </p:blipFill>
        <p:spPr>
          <a:xfrm>
            <a:off x="5979960" y="55134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93" descr="灯光4"/>
          <p:cNvPicPr/>
          <p:nvPr/>
        </p:nvPicPr>
        <p:blipFill>
          <a:blip r:embed="rId80"/>
          <a:stretch/>
        </p:blipFill>
        <p:spPr>
          <a:xfrm>
            <a:off x="3062160" y="5237280"/>
            <a:ext cx="479520" cy="47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94" descr="灯光2"/>
          <p:cNvPicPr/>
          <p:nvPr/>
        </p:nvPicPr>
        <p:blipFill>
          <a:blip r:embed="rId81"/>
          <a:stretch/>
        </p:blipFill>
        <p:spPr>
          <a:xfrm>
            <a:off x="4367160" y="-274680"/>
            <a:ext cx="550800" cy="549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52" descr="雪花3"/>
          <p:cNvPicPr/>
          <p:nvPr/>
        </p:nvPicPr>
        <p:blipFill>
          <a:blip r:embed="rId82"/>
          <a:stretch/>
        </p:blipFill>
        <p:spPr>
          <a:xfrm>
            <a:off x="2195640" y="-386064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3" descr="雪花1"/>
          <p:cNvPicPr/>
          <p:nvPr/>
        </p:nvPicPr>
        <p:blipFill>
          <a:blip r:embed="rId83"/>
          <a:stretch/>
        </p:blipFill>
        <p:spPr>
          <a:xfrm>
            <a:off x="0" y="-35290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54" descr="雪花2"/>
          <p:cNvPicPr/>
          <p:nvPr/>
        </p:nvPicPr>
        <p:blipFill>
          <a:blip r:embed="rId84"/>
          <a:stretch/>
        </p:blipFill>
        <p:spPr>
          <a:xfrm>
            <a:off x="722160" y="-47260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55" descr="雪花3"/>
          <p:cNvPicPr/>
          <p:nvPr/>
        </p:nvPicPr>
        <p:blipFill>
          <a:blip r:embed="rId85"/>
          <a:stretch/>
        </p:blipFill>
        <p:spPr>
          <a:xfrm>
            <a:off x="222120" y="-4324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56" descr="雪花1"/>
          <p:cNvPicPr/>
          <p:nvPr/>
        </p:nvPicPr>
        <p:blipFill>
          <a:blip r:embed="rId86"/>
          <a:stretch/>
        </p:blipFill>
        <p:spPr>
          <a:xfrm>
            <a:off x="0" y="-17859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57" descr="雪花3"/>
          <p:cNvPicPr/>
          <p:nvPr/>
        </p:nvPicPr>
        <p:blipFill>
          <a:blip r:embed="rId87"/>
          <a:stretch/>
        </p:blipFill>
        <p:spPr>
          <a:xfrm>
            <a:off x="1703520" y="-393228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59" descr="雪花1"/>
          <p:cNvPicPr/>
          <p:nvPr/>
        </p:nvPicPr>
        <p:blipFill>
          <a:blip r:embed="rId88"/>
          <a:stretch/>
        </p:blipFill>
        <p:spPr>
          <a:xfrm>
            <a:off x="3992400" y="-2744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61" descr="雪花2"/>
          <p:cNvPicPr/>
          <p:nvPr/>
        </p:nvPicPr>
        <p:blipFill>
          <a:blip r:embed="rId89"/>
          <a:stretch/>
        </p:blipFill>
        <p:spPr>
          <a:xfrm>
            <a:off x="5326200" y="-401940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62" descr="雪花3"/>
          <p:cNvPicPr/>
          <p:nvPr/>
        </p:nvPicPr>
        <p:blipFill>
          <a:blip r:embed="rId90"/>
          <a:stretch/>
        </p:blipFill>
        <p:spPr>
          <a:xfrm>
            <a:off x="5586480" y="-31622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63" descr="雪花1"/>
          <p:cNvPicPr/>
          <p:nvPr/>
        </p:nvPicPr>
        <p:blipFill>
          <a:blip r:embed="rId91"/>
          <a:stretch/>
        </p:blipFill>
        <p:spPr>
          <a:xfrm>
            <a:off x="5329080" y="-22953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4" descr="雪花3"/>
          <p:cNvPicPr/>
          <p:nvPr/>
        </p:nvPicPr>
        <p:blipFill>
          <a:blip r:embed="rId92"/>
          <a:stretch/>
        </p:blipFill>
        <p:spPr>
          <a:xfrm>
            <a:off x="4849920" y="-4389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65" descr="雪花3"/>
          <p:cNvPicPr/>
          <p:nvPr/>
        </p:nvPicPr>
        <p:blipFill>
          <a:blip r:embed="rId93"/>
          <a:stretch/>
        </p:blipFill>
        <p:spPr>
          <a:xfrm>
            <a:off x="6531120" y="-2647800"/>
            <a:ext cx="581040" cy="7236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66" descr="雪花1"/>
          <p:cNvPicPr/>
          <p:nvPr/>
        </p:nvPicPr>
        <p:blipFill>
          <a:blip r:embed="rId94"/>
          <a:stretch/>
        </p:blipFill>
        <p:spPr>
          <a:xfrm>
            <a:off x="6548400" y="-1990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7" descr="雪花3"/>
          <p:cNvPicPr/>
          <p:nvPr/>
        </p:nvPicPr>
        <p:blipFill>
          <a:blip r:embed="rId95"/>
          <a:stretch/>
        </p:blipFill>
        <p:spPr>
          <a:xfrm>
            <a:off x="7178760" y="-2943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68" descr="雪花3"/>
          <p:cNvPicPr/>
          <p:nvPr/>
        </p:nvPicPr>
        <p:blipFill>
          <a:blip r:embed="rId96"/>
          <a:stretch/>
        </p:blipFill>
        <p:spPr>
          <a:xfrm>
            <a:off x="-433440" y="-5676840"/>
            <a:ext cx="866880" cy="8683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70" descr="雪花2"/>
          <p:cNvPicPr/>
          <p:nvPr/>
        </p:nvPicPr>
        <p:blipFill>
          <a:blip r:embed="rId97"/>
          <a:stretch/>
        </p:blipFill>
        <p:spPr>
          <a:xfrm>
            <a:off x="6881760" y="-40384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71" descr="雪花2"/>
          <p:cNvPicPr/>
          <p:nvPr/>
        </p:nvPicPr>
        <p:blipFill>
          <a:blip r:embed="rId98"/>
          <a:stretch/>
        </p:blipFill>
        <p:spPr>
          <a:xfrm>
            <a:off x="3098880" y="-30160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72" descr="雪花2"/>
          <p:cNvPicPr/>
          <p:nvPr/>
        </p:nvPicPr>
        <p:blipFill>
          <a:blip r:embed="rId99"/>
          <a:stretch/>
        </p:blipFill>
        <p:spPr>
          <a:xfrm>
            <a:off x="5815080" y="-44308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73" descr="雪花2"/>
          <p:cNvPicPr/>
          <p:nvPr/>
        </p:nvPicPr>
        <p:blipFill>
          <a:blip r:embed="rId100"/>
          <a:stretch/>
        </p:blipFill>
        <p:spPr>
          <a:xfrm>
            <a:off x="1162080" y="-19620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74" descr="雪花3"/>
          <p:cNvPicPr/>
          <p:nvPr/>
        </p:nvPicPr>
        <p:blipFill>
          <a:blip r:embed="rId101"/>
          <a:stretch/>
        </p:blipFill>
        <p:spPr>
          <a:xfrm>
            <a:off x="2311560" y="-23367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75" descr="雪花3"/>
          <p:cNvPicPr/>
          <p:nvPr/>
        </p:nvPicPr>
        <p:blipFill>
          <a:blip r:embed="rId102"/>
          <a:stretch/>
        </p:blipFill>
        <p:spPr>
          <a:xfrm>
            <a:off x="1924200" y="-123336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76" descr="雪花3"/>
          <p:cNvPicPr/>
          <p:nvPr/>
        </p:nvPicPr>
        <p:blipFill>
          <a:blip r:embed="rId103"/>
          <a:stretch/>
        </p:blipFill>
        <p:spPr>
          <a:xfrm>
            <a:off x="2895480" y="-1044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77" descr="雪花3"/>
          <p:cNvPicPr/>
          <p:nvPr/>
        </p:nvPicPr>
        <p:blipFill>
          <a:blip r:embed="rId104"/>
          <a:stretch/>
        </p:blipFill>
        <p:spPr>
          <a:xfrm>
            <a:off x="3478320" y="-1479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78" descr="雪花1"/>
          <p:cNvPicPr/>
          <p:nvPr/>
        </p:nvPicPr>
        <p:blipFill>
          <a:blip r:embed="rId105"/>
          <a:stretch/>
        </p:blipFill>
        <p:spPr>
          <a:xfrm>
            <a:off x="1930320" y="-722160"/>
            <a:ext cx="723960" cy="7221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79" descr="雪花3"/>
          <p:cNvPicPr/>
          <p:nvPr/>
        </p:nvPicPr>
        <p:blipFill>
          <a:blip r:embed="rId106"/>
          <a:stretch/>
        </p:blipFill>
        <p:spPr>
          <a:xfrm>
            <a:off x="4303800" y="-2103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80" descr="雪花3"/>
          <p:cNvPicPr/>
          <p:nvPr/>
        </p:nvPicPr>
        <p:blipFill>
          <a:blip r:embed="rId107"/>
          <a:stretch/>
        </p:blipFill>
        <p:spPr>
          <a:xfrm>
            <a:off x="5403960" y="-14508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81" descr="雪花2"/>
          <p:cNvPicPr/>
          <p:nvPr/>
        </p:nvPicPr>
        <p:blipFill>
          <a:blip r:embed="rId108"/>
          <a:stretch/>
        </p:blipFill>
        <p:spPr>
          <a:xfrm>
            <a:off x="6824520" y="-11066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82" descr="雪花1"/>
          <p:cNvPicPr/>
          <p:nvPr/>
        </p:nvPicPr>
        <p:blipFill>
          <a:blip r:embed="rId109"/>
          <a:stretch/>
        </p:blipFill>
        <p:spPr>
          <a:xfrm>
            <a:off x="5952960" y="-10605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83" descr="雪花1"/>
          <p:cNvPicPr/>
          <p:nvPr/>
        </p:nvPicPr>
        <p:blipFill>
          <a:blip r:embed="rId110"/>
          <a:stretch/>
        </p:blipFill>
        <p:spPr>
          <a:xfrm>
            <a:off x="3092400" y="-4195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84" descr="雪花2"/>
          <p:cNvPicPr/>
          <p:nvPr/>
        </p:nvPicPr>
        <p:blipFill>
          <a:blip r:embed="rId111"/>
          <a:stretch/>
        </p:blipFill>
        <p:spPr>
          <a:xfrm>
            <a:off x="3792600" y="-4729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85" descr="雪花3"/>
          <p:cNvPicPr/>
          <p:nvPr/>
        </p:nvPicPr>
        <p:blipFill>
          <a:blip r:embed="rId112"/>
          <a:stretch/>
        </p:blipFill>
        <p:spPr>
          <a:xfrm>
            <a:off x="3962520" y="-438300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86" descr="雪花3"/>
          <p:cNvPicPr/>
          <p:nvPr/>
        </p:nvPicPr>
        <p:blipFill>
          <a:blip r:embed="rId113"/>
          <a:stretch/>
        </p:blipFill>
        <p:spPr>
          <a:xfrm>
            <a:off x="1793880" y="-32796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87" descr="雪花1"/>
          <p:cNvPicPr/>
          <p:nvPr/>
        </p:nvPicPr>
        <p:blipFill>
          <a:blip r:embed="rId114"/>
          <a:stretch/>
        </p:blipFill>
        <p:spPr>
          <a:xfrm>
            <a:off x="2060640" y="-49658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88" descr="雪花2"/>
          <p:cNvPicPr/>
          <p:nvPr/>
        </p:nvPicPr>
        <p:blipFill>
          <a:blip r:embed="rId115"/>
          <a:stretch/>
        </p:blipFill>
        <p:spPr>
          <a:xfrm>
            <a:off x="5249880" y="-5540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89" descr="雪花2"/>
          <p:cNvPicPr/>
          <p:nvPr/>
        </p:nvPicPr>
        <p:blipFill>
          <a:blip r:embed="rId116"/>
          <a:stretch/>
        </p:blipFill>
        <p:spPr>
          <a:xfrm>
            <a:off x="4630680" y="-56196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90" descr="雪花2"/>
          <p:cNvPicPr/>
          <p:nvPr/>
        </p:nvPicPr>
        <p:blipFill>
          <a:blip r:embed="rId117"/>
          <a:stretch/>
        </p:blipFill>
        <p:spPr>
          <a:xfrm>
            <a:off x="3935520" y="-608472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91" descr="雪花2"/>
          <p:cNvPicPr/>
          <p:nvPr/>
        </p:nvPicPr>
        <p:blipFill>
          <a:blip r:embed="rId118"/>
          <a:stretch/>
        </p:blipFill>
        <p:spPr>
          <a:xfrm>
            <a:off x="6489720" y="-64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293" descr="雪花1"/>
          <p:cNvPicPr/>
          <p:nvPr/>
        </p:nvPicPr>
        <p:blipFill>
          <a:blip r:embed="rId119"/>
          <a:stretch/>
        </p:blipFill>
        <p:spPr>
          <a:xfrm>
            <a:off x="7980480" y="-2381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95" descr="雪花1"/>
          <p:cNvPicPr/>
          <p:nvPr/>
        </p:nvPicPr>
        <p:blipFill>
          <a:blip r:embed="rId120"/>
          <a:stretch/>
        </p:blipFill>
        <p:spPr>
          <a:xfrm>
            <a:off x="8420040" y="-3819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296" descr="雪花3"/>
          <p:cNvPicPr/>
          <p:nvPr/>
        </p:nvPicPr>
        <p:blipFill>
          <a:blip r:embed="rId121"/>
          <a:stretch/>
        </p:blipFill>
        <p:spPr>
          <a:xfrm>
            <a:off x="6858000" y="-3314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99" descr="雪花2"/>
          <p:cNvPicPr/>
          <p:nvPr/>
        </p:nvPicPr>
        <p:blipFill>
          <a:blip r:embed="rId122"/>
          <a:stretch/>
        </p:blipFill>
        <p:spPr>
          <a:xfrm>
            <a:off x="8782200" y="-233532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00" descr="雪花1"/>
          <p:cNvPicPr/>
          <p:nvPr/>
        </p:nvPicPr>
        <p:blipFill>
          <a:blip r:embed="rId123"/>
          <a:stretch/>
        </p:blipFill>
        <p:spPr>
          <a:xfrm>
            <a:off x="7689960" y="-1603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01" descr="雪花2"/>
          <p:cNvPicPr/>
          <p:nvPr/>
        </p:nvPicPr>
        <p:blipFill>
          <a:blip r:embed="rId124"/>
          <a:stretch/>
        </p:blipFill>
        <p:spPr>
          <a:xfrm>
            <a:off x="8782200" y="-113508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02" descr="雪花1"/>
          <p:cNvPicPr/>
          <p:nvPr/>
        </p:nvPicPr>
        <p:blipFill>
          <a:blip r:embed="rId125"/>
          <a:stretch/>
        </p:blipFill>
        <p:spPr>
          <a:xfrm>
            <a:off x="7980480" y="-9810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03" descr="雪花1"/>
          <p:cNvPicPr/>
          <p:nvPr/>
        </p:nvPicPr>
        <p:blipFill>
          <a:blip r:embed="rId126"/>
          <a:stretch/>
        </p:blipFill>
        <p:spPr>
          <a:xfrm>
            <a:off x="6837480" y="-55245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04" descr="雪花1"/>
          <p:cNvPicPr/>
          <p:nvPr/>
        </p:nvPicPr>
        <p:blipFill>
          <a:blip r:embed="rId127"/>
          <a:stretch/>
        </p:blipFill>
        <p:spPr>
          <a:xfrm>
            <a:off x="1000080" y="-30430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05" descr="雪花1"/>
          <p:cNvPicPr/>
          <p:nvPr/>
        </p:nvPicPr>
        <p:blipFill>
          <a:blip r:embed="rId128"/>
          <a:stretch/>
        </p:blipFill>
        <p:spPr>
          <a:xfrm>
            <a:off x="4950000" y="-6653160"/>
            <a:ext cx="723600" cy="723960"/>
          </a:xfrm>
          <a:prstGeom prst="rect">
            <a:avLst/>
          </a:prstGeom>
          <a:ln w="0">
            <a:noFill/>
          </a:ln>
        </p:spPr>
      </p:pic>
      <p:sp>
        <p:nvSpPr>
          <p:cNvPr id="816" name="矩形 1"/>
          <p:cNvSpPr/>
          <p:nvPr/>
        </p:nvSpPr>
        <p:spPr>
          <a:xfrm>
            <a:off x="466920" y="635328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矩形 2"/>
          <p:cNvSpPr/>
          <p:nvPr/>
        </p:nvSpPr>
        <p:spPr>
          <a:xfrm>
            <a:off x="2472840" y="172404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动态圣诞树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C 0.00087 0.1412 0.00139 0.28333 0.00278 0.42546 C 0.00295 0.45602 0.00695 0.48287 0.01545 0.51111 C 0.01545 0.53935 0.03525 0.72708 0.00278 0.80833 C -0.00104 0.83194 -0.00972 0.85277 -0.01823 0.87407 C -0.02083 0.88125 -0.02118 0.89004 -0.02274 0.89745 C -0.01389 0.90555 -0.01875 0.90416 -0.01007 0.90416 E">
                                      <p:cBhvr>
                                        <p:cTn id="158" dur="3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-0.00116 C -0.02031 0.04838 -0.04358 -0.00439999999999999 -0.03229 0.12245 C -0.02882 0.16481 -0.00799 0.20694 0.00208 0.24884 C 0.00556 0.35602 0.00885 0.46365 0.01927 0.57106 C 0.02153 0.59676 0.03125 0.62361 0.03646 0.6493 C 0.04149 0.67708 0.03854 0.66782 0.05365 0.6912 C 0.05538 0.69421 0.05938 0.70046 0.05938 0.70069 C 0.05469 0.78102 0.04878 0.86134 0.04219 0.94166 C 0.03542 1.01805 0.03646 0.92824 0.03646 0.96273 E">
                                      <p:cBhvr>
                                        <p:cTn id="161" dur="5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7.40741E-006 C 0.01754 0.09306 -0.00277 0.16899 -0.01874 0.25417 C -0.02204 0.38334 -0.02638 0.51297 -0.01562 0.64167 C -0.01701 0.66945 -0.02065 0.69723 -0.02187 0.72501 C -0.02795 0.87408 -0.01423 0.81505 -0.02812 0.87084 C -0.02552 0.91505 -0.02309 0.95626 -0.03124 1.00001 C -0.03576 1.10278 -0.03437 1.04723 -0.03437 1.16667 E">
                                      <p:cBhvr>
                                        <p:cTn id="164" dur="3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2.77556E-017 C 0.00468 0.07546 -0.00365 0.08495 0.01718 0.13356 C 0.01944 0.15556 0.01909 0.16458 0.02899 0.18125 C 0.03541 0.24051 0.03524 0.30023 0.04375 0.35903 C 0.0427 0.45046 0.04253 0.5419 0.04079 0.6331 C 0.04027 0.65995 0.02361 0.68495 0.01128 0.70486 C 0.00677 0.71227 0.00277 0.72037 -0.00053 0.72894 C -0.00296 0.73565 -0.00625 0.74954 -0.00625 0.74954 C -0.00539 0.76759 -0.004 0.78588 -0.00348 0.80417 C -0.00209 0.84653 -0.00226 0.88866 -0.00053 0.93079 C -0.00018 0.93912 0.0052 0.94653 0.00538 0.95486 C 0.00625 0.98796 0.00538 1.02106 0.00538 1.05417 E">
                                      <p:cBhvr>
                                        <p:cTn id="167" dur="5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2963E-006 C 0.00104 0.06667 -0.02049 0.17339 0.01563 0.23751 C 0.01667 0.25302 0.01667 0.26829 0.01875 0.28334 C 0.01997 0.2919 0.025 0.30834 0.025 0.30834 C 0.03264 0.39978 0.03889 0.49075 0.025 0.58334 C 0.02691 0.64607 0.03003 0.72848 0.04063 0.79167 C 0.04514 0.81899 0.05278 0.84445 0.05938 0.87084 C 0.05833 0.90695 0.05885 0.94329 0.05625 0.97917 C 0.05521 0.99491 0.04896 1.00255 0.04688 1.01667 C 0.04288 1.04306 0.04497 1.03056 0.04063 1.05417 C 0.04531 1.15996 0.04219 1.18565 0.0625 1.26667 C 0.06146 1.27917 0.06128 1.2919 0.05938 1.30417 C 0.05747 1.31714 0.05156 1.32871 0.05 1.34167 C 0.04896 1.35001 0.04861 1.35857 0.04688 1.36667 C 0.04479 1.3764 0.03854 1.38751 0.03438 1.39584 C 0.03177 1.42362 0.02535 1.44769 0.02188 1.47501 C 0.01736 1.51181 0.01875 1.50302 0.01875 1.54584 E">
                                      <p:cBhvr>
                                        <p:cTn id="170" dur="2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C 0.00052 0.03079 -0.00833 0.16945 0.0125 0.225 C 0.01615 0.25463 0.01858 0.31158 0.025 0.3375 C 0.02396 0.46922 0.02396 0.60139 0.02188 0.73311 C 0.02153 0.75996 0.00955 0.79098 0.00313 0.81644 C -0.00069 0.83148 -0.00625 0.86227 -0.00625 0.86227 C -0.00833 1.00278 0.03455 1.15787 -0.0125 1.28334 C -0.01458 1.28889 -0.01719 1.29398 -0.01875 1.29977 C -0.02674 1.32801 -0.01736 1.30533 -0.025 1.32917 C -0.02691 1.33496 -0.02899 1.34051 -0.03125 1.34561 C -0.03316 1.35023 -0.03594 1.35371 -0.0375 1.35834 C -0.04184 1.3713 -0.04219 1.38936 -0.05 1.4 E">
                                      <p:cBhvr>
                                        <p:cTn id="173" dur="3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C -0.00886 0.14236 0.00208 -0.0456 -0.00625 0.275 C -0.0066 0.29167 -0.01198 0.31319 -0.01563 0.32917 C -0.01754 0.3375 -0.0198 0.34583 -0.02188 0.35417 C -0.02292 0.35833 -0.025 0.36667 -0.025 0.36667 C -0.02327 0.51157 -0.01823 0.58426 -0.02188 0.70833 C -0.02622 0.85579 -0.01823 0.79699 -0.02813 0.8625 C -0.02518 0.95278 -0.02483 1.04306 -0.02188 1.13333 C -0.02136 1.14977 -0.00834 1.15718 -0.00313 1.17083 C 0.00156 1.18356 2.5E-006 1.18889 2.5E-006 1.20417 E">
                                      <p:cBhvr>
                                        <p:cTn id="176" dur="5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C -0.00244 0.19815 0.00503 0.22315 -0.02188 0.36644 C -0.02466 0.55995 -0.01407 0.51644 -0.03125 0.6081 C -0.03021 0.70694 -0.02969 0.80532 -0.02813 0.90394 C -0.02744 0.94699 -0.03334 0.98958 -0.01563 1.025 C -0.00469 1.09792 -0.00695 1.06667 -0.0125 1.17917 C -0.0132 1.19352 -0.02813 1.21644 -0.02813 1.21644 C -0.0349 1.25324 -0.02518 1.2169 -0.04063 1.24167 C -0.04775 1.25301 -0.05139 1.27014 -0.05625 1.28333 C -0.06198 1.29838 -0.06875 1.29907 -0.06875 1.32083 C -0.06875 1.34699 -0.06875 1.37361 -0.06875 1.4 E">
                                      <p:cBhvr>
                                        <p:cTn id="179" dur="3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C -0.00903 0.07268 -8.33333E-007 -0.01019 -8.33333E-007 0.15416 C -8.33333E-007 0.18078 -0.00104 0.3456 -0.00625 0.41227 C -0.00833 0.43865 -0.01892 0.46296 -0.025 0.4875 C -0.02396 0.56389 -0.02483 0.64027 -0.02187 0.71666 C -0.0217 0.72176 -0.01597 0.72407 -0.01562 0.72916 C -0.00399 0.92152 -0.02205 0.81921 -0.00937 0.8875 C -0.01076 1.03032 -0.01562 1.17083 -0.01562 1.3125 E">
                                      <p:cBhvr>
                                        <p:cTn id="182" dur="3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2.59259E-006 C 0.0033 0.08518 0.00434 0.17014 0.00521 0.25532 C 0.00642 0.40254 0.01666 0.55023 0.00521 0.69699 C 0.00347 0.71713 -0.00538 0.73889 -0.00834 0.75926 C -0.00712 0.77453 -0.00365 0.79004 -0.00295 0.80578 C 0.0026 0.96504 -0.01389 0.90509 0.00243 0.96134 C 0.00191 0.9949 0.01909 1.13981 -0.0165 1.20115 C -0.02031 1.21805 -0.02188 1.22268 -0.02188 1.24166 E">
                                      <p:cBhvr>
                                        <p:cTn id="185" dur="3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8 -7.40741E-007 C 0.01441 0.40579 -0.03386 0.0588 -0.03386 1.04167 E">
                                      <p:cBhvr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2 -2.22222E-006 C -0.01511 0.06412 -0.01372 0.12801 -0.01146 0.19167 C -0.00868 0.2713 -0.01337 0.35162 0.02187 0.42732 C 0.01996 0.48727 0.02118 0.54722 0.01632 0.60718 C 0.01562 0.61574 0.0052 0.63125 0.0052 0.63148 C -0.0007 0.66551 -0.01303 0.69838 -0.02813 0.73125 C -0.03542 0.82338 -0.02813 0.91482 -0.02257 1.00695 C -0.02848 1.15093 -0.02813 1.10023 -0.02813 1.15903 E">
                                      <p:cBhvr>
                                        <p:cTn id="191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C -0.00157 0.05926 0.00208 0.13681 -0.01563 0.19583 C -0.01667 0.20417 -0.01719 0.21273 -0.01875 0.22083 C -0.02032 0.2294 -0.025 0.24583 -0.025 0.24583 C -0.02448 0.29329 -0.04289 0.51481 -0.00625 0.61227 C -0.00521 0.6206 -0.00452 0.62917 -0.00313 0.6375 C -0.00139 0.64861 0.00312 0.6706 0.00312 0.6706 C 0.00208 0.72083 0.0019 0.77083 1.66667E-006 0.82083 C -0.00035 0.83056 -0.00452 0.84051 -0.00625 0.85 C -0.01268 0.88403 -0.00608 0.85764 -0.0125 0.8875 C -0.01771 0.91134 -0.02657 0.93333 -0.03125 0.9581 C -0.03282 1.00995 -0.03143 1.05556 -0.04063 1.10417 C -0.04167 1.16806 -0.04688 1.23171 -0.04688 1.2956 C -0.04688 1.34306 -0.0382 1.38681 -0.0375 1.43333 C -0.03664 1.50116 -0.0375 1.56921 -0.0375 1.63727 E">
                                      <p:cBhvr>
                                        <p:cTn id="194" dur="5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87 0.0868 -0.01284 0.19004 0.01042 0.278 C 0.01129 0.29444 0.01111 0.31087 0.01302 0.32685 C 0.01511 0.34606 0.01875 0.34421 0.02344 0.35972 C 0.02466 0.36388 0.02448 0.36828 0.02604 0.37291 C 0.04723 0.43703 0.02674 0.37222 0.0441 0.4118 C 0.06337 0.45509 0.04028 0.40856 0.05191 0.43796 C 0.06198 0.46342 0.05313 0.43287 0.05973 0.45763 C 0.05886 0.47847 0.0592 0.49907 0.05712 0.51967 C 0.0566 0.52361 0.0533 0.52615 0.05191 0.52962 C 0.04636 0.54375 0.04341 0.55856 0.03629 0.57199 C 0.01216 0.69375 0.03316 0.56875 0.02865 0.90231 C 0.02761 0.97106 0.03177 0.95254 0.02344 0.98402 C 0.02431 1.00925 0.02066 1.06712 0.03368 1.09189 C 0.03664 1.11018 0.03854 1.12939 0.0415 1.14722 C 0.04271 1.15439 0.04497 1.16064 0.0467 1.16689 C 0.04757 1.17037 0.04931 1.17708 0.04931 1.17708 C 0.04653 1.1875 0.04462 1.1949 0.03629 1.2 E">
                                      <p:cBhvr>
                                        <p:cTn id="197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39977 C 0.00104 -0.39144 -0.00017 -0.38264 -0.00313 -0.37477 C -0.00521 -0.36922 -0.00781 -0.36389 -0.00938 -0.35811 C -0.01458 -0.33936 -0.01406 -0.31875 -0.01875 -0.29977 C -0.01719 -0.17709 -0.02136 -0.05764 -0.00625 0.06273 C -0.00139 0.70995 -0.00313 0.3405 -0.00313 1.17106 E">
                                      <p:cBhvr>
                                        <p:cTn id="200" dur="5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9259E-006 C -0.00104 0.22639 -0.00121 0.45278 -0.00312 0.67916 C -0.00399 0.77245 -0.0375 0.85694 -0.04687 0.94722 C -0.04479 1.03889 -0.04392 1.1199 -0.02812 1.20671 C -0.02517 1.37453 0.00018 1.7125 -0.02812 1.82963 C -0.02916 1.84421 -0.02934 1.85879 -0.03125 1.87291 C -0.03333 1.88796 -0.03802 1.90162 -0.04062 1.9162 C -0.04166 1.93356 -0.04166 1.95115 -0.04375 1.96805 C -0.04687 1.99375 -0.05625 2.01134 -0.05625 2.0375 E">
                                      <p:cBhvr>
                                        <p:cTn id="203" dur="3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024 -3.33333E-006 C -0.01389 0.02778 -0.01944 0.05186 -0.02517 0.07778 C -0.02708 0.08658 -0.03003 0.1051 -0.03003 0.10533 C -0.03854 0.21574 -0.04913 0.33912 -0.02517 0.44306 C -0.01961 0.46667 -0.01041 0.48148 -0.00277 0.50232 C -0.00069 0.52107 0.00226 0.53866 0.00469 0.55718 C 0.00382 0.57709 0.00365 0.59676 0.00226 0.61667 C 0.00122 0.6301 -0.00173 0.63264 -0.00521 0.64398 C -0.01198 0.66551 -0.01684 0.6838 -0.02014 0.70764 C -0.01892 0.76412 -0.0151 0.82037 -0.0151 0.87686 C -0.0151 0.9257 -0.01562 0.97477 -0.01771 1.02315 C -0.01805 1.03264 -0.02257 1.05047 -0.02257 1.0507 C -0.0217 1.06273 -0.02239 1.0757 -0.02014 1.08704 C -0.01666 1.10324 -0.00729 1.11389 -0.00034 1.12338 C 0.00052 1.12824 0.00052 1.13357 0.00226 1.13727 C 0.00417 1.14167 0.0092 1.14121 0.00973 1.1463 C 0.01111 1.16366 -0.00052 1.17801 -0.00521 1.1875 C -0.02552 1.23033 -0.00139 1.18195 -0.01771 1.22408 C -0.02448 1.2419 -0.02534 1.23218 -0.03003 1.25162 C -0.03993 1.29283 -0.0375 1.32732 -0.0375 1.375 E">
                                      <p:cBhvr>
                                        <p:cTn id="206" dur="5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C 0.00312 0.17361 -0.02205 0.28518 0.03437 0.42176 C 0.03333 0.47569 0.03385 0.52986 0.03125 0.58356 C 0.02951 0.62315 0.0085 0.65602 -0.00139 0.6919 C -0.00035 0.78541 0.00017 0.8794 0.00156 0.97291 C 0.00312 1.09791 0.00746 1.34791 0.00746 1.34815 C 0.00659 1.3625 0.00833 1.37754 0.00451 1.39097 C 0.00173 1.40162 -0.02188 1.40879 -0.02813 1.41643 E">
                                      <p:cBhvr>
                                        <p:cTn id="209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6296E-006 C -0.00208 0.12639 -0.00451 0.25278 -0.00624 0.37917 C -0.00763 0.48333 -0.00659 0.5875 -0.00937 0.69167 C -0.00972 0.70278 -0.01354 0.71366 -0.01562 0.725 C -0.01666 0.73032 -0.01874 0.74167 -0.01874 0.74167 C -0.01979 0.76088 -0.02152 0.78056 -0.02187 0.79977 C -0.02361 0.89282 -0.02204 0.98611 -0.02499 1.07917 C -0.02499 1.07917 -0.03281 1.11042 -0.03437 1.11644 C -0.03802 1.13125 -0.04149 1.15116 -0.04374 1.16644 C -0.0526 1.22569 -0.06371 1.28403 -0.07812 1.34167 C -0.07708 1.36806 -0.0776 1.39444 -0.07499 1.42083 C -0.07447 1.42569 -0.07048 1.4287 -0.06874 1.43333 C -0.06319 1.44838 -0.05312 1.47917 -0.05312 1.47917 C -0.0427 1.57685 -0.04999 1.49838 -0.04999 1.71644 E">
                                      <p:cBhvr>
                                        <p:cTn id="212" dur="3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77778E-006 C -0.00104 0.1486 -0.00139 0.29722 -0.00312 0.4456 C -0.00365 0.48356 -0.00243 0.54328 -0.0125 0.58333 C -0.01615 0.6655 -0.01128 0.63101 -0.02187 0.68749 C -0.02448 0.70138 -0.03437 0.71504 -0.03437 0.72916 C -0.03542 0.90555 -0.03437 1.08194 -0.03437 1.25833 E">
                                      <p:cBhvr>
                                        <p:cTn id="214" dur="5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908 C -0.00937 0.54398 0.00608 -0.29977 -0.00937 0.84653 C -0.01007 0.89977 -0.0092 0.89144 -0.01562 0.92315 C -0.01771 0.97315 -0.01979 1.02292 -0.02187 1.07269 C -0.02205 1.07662 -0.02448 1.08009 -0.025 1.08426 C -0.02552 1.08912 -0.025 1.09421 -0.025 1.09977 E">
                                      <p:cBhvr>
                                        <p:cTn id="216" dur="3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0.00087 0.04746 -0.00434 0.13009 0.00659 0.18704 C 0.00573 0.20972 0.00555 0.23195 0.00434 0.2544 C 0.00312 0.27778 -0.00486 0.2963 -0.00834 0.31829 C -0.01389 0.35463 -0.00903 0.33889 -0.01684 0.35926 C -0.02604 0.47616 -0.02066 0.39792 -0.01684 0.66667 C -0.01632 0.69607 -0.00434 0.72547 -0.00417 0.75625 C -0.00347 0.8375 -0.00417 0.91852 -0.00417 1 E">
                                      <p:cBhvr>
                                        <p:cTn id="218" dur="5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00122 0.4625 0.00313 0.925 0.00313 1.3875 E">
                                      <p:cBhvr>
                                        <p:cTn id="220" dur="3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-0.00035 0.03611 0.00086 0.75532 -0.0125 0.81134 C -0.01355 0.83148 -0.01407 0.85185 -0.01563 0.87199 C -0.01702 0.89004 -0.02362 0.90347 -0.02813 0.91967 C -0.03073 0.92963 -0.03195 0.94027 -0.03438 0.95023 C -0.0323 1.01504 -0.02952 1.04143 -0.025 1.09768 C -0.02726 1.17037 -0.03056 1.24213 -0.03438 1.31458 C -0.03594 1.34236 -0.04671 1.37407 -0.04688 1.40138 C -0.04792 1.56342 -0.04688 1.72546 -0.04688 1.8875 E">
                                      <p:cBhvr>
                                        <p:cTn id="223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C 0.00156 0.12755 -0.000529999999999999 0.23681 0.0125 0.35833 C 0.01145 0.45417 0.01093 0.55 0.00937 0.64583 C 0.00833 0.71088 0.01041 0.75139 -0.00938 0.80417 C -0.02483 0.90718 -0.01198 1.01296 -0.025 1.11667 C -0.02605 1.18611 -0.02518 1.25556 -0.02813 1.325 C -0.0283 1.33125 -0.03264 1.33588 -0.03438 1.34167 C -0.04271 1.36921 -0.04375 1.3794 -0.04375 1.40833 E">
                                      <p:cBhvr>
                                        <p:cTn id="226" dur="3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C 0.00104 0.00972 0.00104 0.01968 0.00313 0.02917 C 0.00417 0.03403 0.00764 0.03727 0.00938 0.04167 C 0.01076 0.0456 0.01094 0.05023 0.0125 0.05417 C 0.01615 0.06296 0.02083 0.07083 0.025 0.07917 C 0.02691 0.08287 0.02674 0.08773 0.02813 0.09167 C 0.02986 0.09606 0.03247 0.09977 0.03438 0.10417 C 0.03663 0.10949 0.03889 0.11505 0.04063 0.12083 C 0.04306 0.12894 0.04688 0.14583 0.04688 0.14583 C 0.06285 0.38056 0.05278 0.21528 0.04688 0.7706 C 0.0467 0.78218 0.04288 0.79282 0.04063 0.80417 C 0.03889 0.8125 0.03438 0.82917 0.03438 0.82917 C 0.03542 0.84167 0.03594 0.85417 0.0375 0.86667 C 0.03941 0.88241 0.04149 0.87708 0.04688 0.89167 C 0.04913 0.89769 0.05208 0.91551 0.05313 0.92083 C 0.05208 1.02778 0.05399 1.13495 0.05 1.24167 C 0.04965 1.24954 0.02899 1.27106 0.02813 1.27917 C 0.02552 1.30116 0.02813 1.32361 0.02813 1.34583 E">
                                      <p:cBhvr>
                                        <p:cTn id="229" dur="5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3704E-006 C -0.00104 0.00973 -0.00104 0.01968 -0.00312 0.02917 C -0.00417 0.03403 -0.00764 0.03728 -0.00937 0.04167 C -0.01389 0.05255 -0.01962 0.06297 -0.02187 0.07501 C -0.02292 0.08056 -0.02326 0.08635 -0.025 0.09167 C -0.02656 0.0963 -0.02951 0.09978 -0.03125 0.10417 C -0.04219 0.13357 -0.04549 0.16505 -0.05312 0.19584 C -0.05625 0.66968 -0.02812 0.5088 -0.0625 0.69167 C -0.06562 0.70788 -0.07413 0.72153 -0.07812 0.73751 C -0.07917 0.81528 -0.0783 0.89306 -0.08125 0.97084 C -0.08177 0.98427 -0.10608 1.0257 -0.10625 1.05001 C -0.10729 1.19167 -0.10625 1.33334 -0.10625 1.47501 E">
                                      <p:cBhvr>
                                        <p:cTn id="232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125 C 0.0342 0.0213 0.03125 0.02801 0.03125 0.03773 C 0.03125 0.17662 0.03385 0.31528 0.0375 0.4537 C 0.0375 0.45648 0.03958 0.45926 0.04062 0.46204 C 0.03698 0.49445 0.03767 0.49259 0.01875 0.51782 C 0.00521 0.58982 -0.00035 0.53611 0.0125 0.67662 C 0.01319 0.68426 0.03246 0.69792 0.0375 0.70463 C 0.03646 0.71667 0.0368 0.72894 0.03437 0.74097 C 0.0335 0.74491 0.02951 0.74815 0.02812 0.75208 C 0.02535 0.75926 0.02187 0.77431 0.02187 0.77454 C 0.02291 0.80324 0.02326 0.83218 0.025 0.86088 C 0.02604 0.87639 0.02847 0.87292 0.03437 0.88611 C 0.04132 0.90139 0.0441 0.91782 0.05 0.93357 C 0.05104 0.98287 0.05035 1.03218 0.05312 1.08148 C 0.05382 1.09282 0.06041 1.1037 0.0625 1.11482 C 0.06146 1.13634 0.05937 1.17917 0.05937 1.1794 E">
                                      <p:cBhvr>
                                        <p:cTn id="234" dur="5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3.33333E-006 C -0.00712 0.0169 -0.00643 0.02523 -0.01597 0.03912 C -0.01528 0.06783 -0.03698 0.12917 -0.00521 0.16366 C 0.00156 0.18287 0.00069 0.17778 -0.00521 0.21227 C -0.00573 0.21459 -0.0092 0.21621 -0.01059 0.21829 C -0.01389 0.22292 -0.01493 0.23125 -0.01597 0.23565 C -0.01771 0.26389 -0.01459 0.29954 -0.02413 0.32709 C -0.01997 0.44746 -0.02778 0.44375 -0.00799 0.51574 C -0.00886 0.53658 -0.00903 0.55718 -0.01059 0.57801 C -0.01111 0.58449 -0.01858 0.59121 -0.01875 0.59746 C -0.01962 0.65533 -0.01875 0.71297 -0.01875 0.77084 E">
                                      <p:cBhvr>
                                        <p:cTn id="236" dur="5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0312 0.02431 -0.00833 0.03681 -0.01562 0.0581 C -0.02326 0.08056 -0.02621 0.10417 -0.03437 0.12639 C -0.03733 0.14908 -0.04149 0.16829 -0.04375 0.19121 C -0.04253 0.2382 -0.0526 0.30648 -0.025 0.35162 C -0.02049 0.3713 -0.01285 0.38148 -0.00937 0.40278 C -0.00712 0.41644 -0.00312 0.44375 -0.00312 0.44398 C -0.00469 0.6294 -0.00937 0.88056 -0.00312 1.07153 C -0.00295 1.07685 0.00104 1.08056 0.00313 1.08519 C 0.00556 1.10116 0.00625 1.11713 0.00938 1.13287 C 0.01354 1.15371 0.01858 1.15255 0.01875 1.17384 C 0.01979 1.27963 0.01875 1.38542 0.01875 1.49144 E">
                                      <p:cBhvr>
                                        <p:cTn id="238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4.81481E-006 C 0.01041 0.05555 0.00382 0.09907 -0.01736 0.14583 C -0.02414 0.16041 -0.0257 0.17662 -0.03247 0.19166 C -0.06181 0.35393 -0.04757 0.26226 -0.04757 0.61666 C -0.04757 0.87916 -0.04757 1.14166 -0.04757 1.40416 E">
                                      <p:cBhvr>
                                        <p:cTn id="240" dur="5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3.7037E-006 C 0.05399 0.00231 0.0441 0.00324 0.03958 0.00625 C 0.0316 0.0118 0.02517 0.02453 0.02517 0.02476 C 0.00521 0.19282 0.03281 0.36088 0.01805 0.52986 C 0.01719 0.53889 -0.00122 0.54583 -0.01094 0.55416 C -0.01563 0.5581 -0.02535 0.56643 -0.02535 0.56666 C -0.04688 0.6125 -0.04688 0.60532 -0.01806 0.68819 C -0.01563 0.69537 0.00121 0.70046 0.01076 0.70648 C 0.01562 0.70949 0.02517 0.71574 0.02517 0.71597 C 0.01996 0.73379 0.01198 0.75 0.00347 0.76759 C 0.00642 0.7949 0.02274 0.8375 0.01076 0.86805 C 0.01319 0.88032 0.01232 0.89259 0.01805 0.90463 C 0.01962 0.9081 0.03194 0.90972 0.03246 0.91365 C 0.03437 0.92592 0.0276 0.93796 0.02517 0.95023 C 0.03003 0.98287 0.02795 1.01574 0.03958 1.04768 C 0.0408 1.05069 0.05486 1.04907 0.06128 1.05069 C 0.06337 1.05115 0.06128 1.05277 0.06128 1.0537 E">
                                      <p:cBhvr>
                                        <p:cTn id="242" dur="3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007 0.05301 0.00105 0.10602 0.00261 0.15903 C 0.00348 0.18472 0.00677 0.18287 0.01424 0.20579 C 0.01823 0.21782 0.02587 0.24306 0.02587 0.24329 C 0.02361 0.33426 0.02848 0.34398 0.01424 0.40671 C 0.00157 0.46319 0.01389 0.4081 0.00556 0.4581 C 0.004 0.46736 -0.00017 0.48611 -0.00017 0.48634 C 0.0033 0.57893 -0.00173 0.62593 0.01997 0.69653 C 0.01771 0.74306 0.01789 0.75231 0.00851 0.79005 C 0.00938 0.85393 0.00868 0.91782 0.01129 0.98171 C 0.01146 0.98727 0.01598 0.99028 0.01719 0.99537 C 0.0191 1.00486 0.01789 1.01481 0.01997 1.02338 C 0.02188 1.03102 0.02622 1.03588 0.02865 1.04236 C 0.03507 1.0588 0.03473 1.06181 0.0375 1.07986 C 0.03646 1.10162 0.03646 1.12384 0.03455 1.14537 C 0.03351 1.15509 0.02865 1.17338 0.02865 1.17361 C 0.02778 1.2419 0.02587 1.31042 0.02587 1.37917 E">
                                      <p:cBhvr>
                                        <p:cTn id="244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7871 C 0.00174 0.09352 0.00139 0.10857 0.00313 0.12315 C 0.00452 0.13519 0.01007 0.13912 0.01441 0.14537 C 0.02275 0.15718 0.03004 0.16713 0.03924 0.17639 C 0.04202 0.18681 0.04809 0.19537 0.04827 0.20718 C 0.04931 0.28611 0.0474 0.38866 0.03924 0.46875 C 0.04011 0.53056 0.04306 0.5926 0.04375 0.6544 C 0.04427 0.7206 0.02049 1.17269 0.05712 1.38982 C 0.05625 1.4551 0.06528 1.52639 0.05052 1.58473 C 0.0474 1.59746 0.04236 1.60764 0.03924 1.62037 E">
                                      <p:cBhvr>
                                        <p:cTn id="246" dur="3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00799 0.04005 0.00139 0.08125 0.00937 0.12107 C 0.01076 0.14051 0.01562 0.15972 0.01562 0.1794 C 0.01562 0.17986 0.01163 0.41482 0.00937 0.44468 C 0.00816 0.46111 -0.00087 0.48588 -0.00313 0.50324 C -0.00521 0.65509 0.01007 0.67963 -0.01563 0.7757 C -0.01458 0.80417 -0.01493 0.83287 -0.0125 0.86134 C -0.01181 0.86945 -0.00833 0.87685 -0.00625 0.88472 C -0.00521 0.88866 -0.00313 0.8963 -0.00313 0.89653 C -0.00417 0.91065 -0.00399 0.92523 -0.00625 0.93912 C -0.00712 0.94491 -0.01059 0.94954 -0.0125 0.95486 C -0.01997 0.97593 -0.0184 0.97199 -0.02188 0.99375 C -0.02049 1.02431 -0.01563 1.07407 -0.02188 1.10695 C -0.02517 1.12431 -0.03299 1.14051 -0.0375 1.15764 C -0.03646 1.1706 -0.03681 1.1838 -0.03438 1.19653 C -0.03351 1.20116 -0.02813 1.20347 -0.02813 1.2081 C -0.02639 1.30671 -0.02708 1.37593 -0.05 1.46157 C -0.05104 1.47847 -0.05313 1.5125 -0.05313 1.51273 E">
                                      <p:cBhvr>
                                        <p:cTn id="248" dur="3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4.07407E-006 C -0.01372 0.01759 -0.01337 0.03402 -0.02709 0.04861 C -0.0257 0.0618 -0.02986 0.07592 -0.02292 0.08796 C -0.0191 0.09467 0.0026 0.1 0.0026 0.10023 C 0.01562 0.12777 0.01718 0.16018 -0.00591 0.18472 C -0.05504 0.30787 -0.03959 0.44004 -0.01007 0.56574 C -0.00868 0.59814 -0.0125 0.63055 -0.00591 0.66226 C -0.0033 0.67476 0.01389 0.68356 0.01961 0.6956 C 0.02187 0.8831 0.02812 1.02523 0.02812 1.20416 E">
                                      <p:cBhvr>
                                        <p:cTn id="250" dur="3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C -0.00469 0.15972 -0.0375 0.37523 0.00903 0.50926 C 0.0066 0.56527 0.00816 0.57916 -0.0066 0.62176 C -0.01042 0.64907 -0.01441 0.67639 -0.0191 0.70324 C -0.01806 0.83935 -0.01771 0.97615 -0.01285 1.11273 C -0.00677 1.28541 -0.02639 1.22222 -0.00347 1.28842 C -0.00365 1.31875 0.03021 1.62361 -0.01597 1.75694 C -0.02135 1.8574 -0.0191 1.79583 -0.0191 1.94166 E">
                                      <p:cBhvr>
                                        <p:cTn id="252" dur="5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12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8:57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