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0A4D-335C-434D-9034-0D5A7FF2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F67C-909F-4C96-9D75-12349810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D8713-7ABC-4396-8A8A-BD380117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93A0A-4DC3-4A4A-BAA8-A0802186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CB341-C7D1-4AF0-83C5-8FA49A34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72904-0EAE-429C-8ABF-9CC614E0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60AAF-A6A4-4742-8812-504371DA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816E7-4CB7-4747-AD98-E9D9BF3B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549A9-FCA2-4276-AC4D-09C11F88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B3CBF-5259-40F2-83B9-F05ADDB4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2BF9F-B890-421F-B43A-B52C992C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FF28-E8A1-4BFE-89A0-9B410A11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9174-7F7F-453A-8AF5-D9D84A29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883C-1412-4DC8-9678-91F53BCF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58E3-8BBF-4E69-A852-B73D7E32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F2EF-4523-4E9F-B616-0F253F9F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A6EF-FA02-4CDB-B1B4-5EDB3ED5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B079-D180-45C5-83DD-DBE39F9D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8E83-015E-436C-9186-153BA471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3B52-2376-462A-B04B-D00C64CE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B5F1-D6BA-42C1-9A60-18BAEBF4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1F8A-8546-402D-B555-EC24B99C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ACF1-8B5B-416B-A8D2-82009A54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E8F5-7261-43FF-81BF-310A03AC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5898-BF9D-4EF7-9E13-6CAE960E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A217-C476-4379-BAA7-35A9E880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52A99-DD18-4F22-AE08-EF81161E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1326C-4F0F-4432-9DD3-70DF6AC1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74658-7D5A-4209-B5E6-5F85072C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1476F-C4AE-404C-8D53-4A4D65A2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34790-6A78-4A39-B99F-9592BDBB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F937-6DA5-4B9C-A37F-85E5ACDD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EAB8D-0BE8-4547-A936-96C9FAA3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CFBA3-DD1D-42C1-8E75-AE6BBB7F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8C29A-6318-4668-BF69-F2739F9F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50704-A185-4FEC-BA61-D6F1E665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43D27-D77C-49B3-8DCC-B97F68F1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C5F6B-933E-4641-BAAF-15000FF9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6233F-3D43-4C47-9E75-491ADCD8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8AF19-FDE0-4D60-B4F4-6389CC5F2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F1DDF-9339-46E0-B9FB-A5749128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902A6-A33F-42FA-8626-6D375E81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C7CF-C3A1-4619-8BA2-6B9CEB94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53F4A-75CF-4677-BE7C-30D99952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D78C8-2FCB-4DFF-9CDE-033408EB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80ACA-D3A8-4767-A619-43A91238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3FE7F-EDC2-4211-90E7-D17A0727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09FC7-2F55-4129-A987-AC38F314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CD866-6798-40D1-AEC4-9C2BC4D7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6E427-AB3F-4ACE-9F26-5911DCB5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86E3C-57E5-49A2-9C05-FD3DC625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DC07C-E12A-4D59-B121-4E8B5F0F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E4524-9EDA-439C-8417-F7E13ECF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3FF4-89ED-4654-A58C-7B1CED77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08E65-9A8C-4DF0-A226-CC5A1FDF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47D65-690B-456F-87F0-8335530D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D0AFB-8F6A-42B7-9808-9C4CF96A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C4CF8-9F34-4E29-8F88-C22A08FD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79BB7-C434-41FB-8B51-1D8E906A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0E091-079E-4051-A46C-24D929FC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C4D80-A155-4548-AB4A-12554876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7A9CD-78A0-409A-9DAB-F5879A61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BE53E-4850-4418-A879-9217C25A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B77EE-F87E-41BD-9FDC-028F1E24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D7A4-A698-445A-890B-2C7A6E25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4021A-746C-45EC-A196-3990E537A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B5D93-30F6-4E14-9487-87ABD8EC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BA0CF-890B-400D-BEAB-A19E4425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72BFC-9103-44CA-BBFD-5CE922F7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3D1B4-82EF-4E45-8D24-604D2ED4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721B8-79BE-4824-BD96-E99BC0AE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B037B-0678-4F6D-8A7F-D5EE2063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FC912-8820-4086-A8B8-9D9D8763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2D19E-D794-4591-9A89-BEB6E4ED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076F6-A115-4AE5-8745-8E6C36A2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D398-3341-49C3-81E4-ED0AAF2F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CA13C-5249-42E4-AB29-2E0E005F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4A57E-E061-426D-99BD-01AF3BEC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5DD4E-0F6D-43C1-B4AD-C31275DB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64720-B0F7-4AB4-B927-0E5B451E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E22D6-3EF7-4C7B-B9DF-F61DB1D3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6F8DB-5878-4476-9DD1-A45A4BF3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B6DD0-85E5-4D6D-80C1-D5553977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6AAB1-EFBA-4D41-9777-C4EA761C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A9C36-86D0-4CC2-ABD3-D41B9128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95A33-A23A-4EED-A98C-2CB169E4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FEEE-33BA-45E4-B48D-CAA1FEC5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2DDAC-D2E1-474C-A7E2-1A7307B4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A3551-34B8-40CF-88C6-C1A1109A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B434E-008F-4DF4-8444-D186730D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371DD-F585-421F-B00F-4D0BAF3D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8BF87-5676-448E-A74A-730E79AD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3A535-2302-4B3C-B1A4-3AE0421A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0B5BF-5D5E-488F-B162-348B166F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2B765-2CB1-4DF8-B855-24633135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A2C42-BEE8-4A24-A4D9-944B58BE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985CF-737F-46A5-9494-1C1B60C3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1B50-A636-4E35-AF6C-E5085D2E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348FC-F3C9-4558-989A-30635140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06EAB-9A22-4772-98D1-37C12BBF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EC22D-88A2-46E2-B128-9296EF01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DDACF-87C0-463B-9372-9A16C308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49140-9612-4B39-A591-24BFCE18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2123E-F0C3-400D-931D-61866496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A4ECF-7642-4832-87FD-A656BF73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39DC8-F3C0-452C-BBF1-30618D69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A8101-9E2C-42CA-9113-A06617E6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2C768-224C-4933-9899-71DB5AD0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F617-D0D8-4010-B5FF-71013227F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4EF5-D6B5-4C94-90B9-0DD3FC9A6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A519-8A82-4753-B85D-2E690665D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5CB7-0CA1-46C5-8EFE-0C174CE05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4009-8FBB-4BE1-878D-225705439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E01B-239C-44C9-BF19-285DFDA75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20000"/>
                </a:srgbClr>
              </a:gs>
              <a:gs pos="100000">
                <a:srgbClr val="dcd9cc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BF91-9F97-4707-AAD7-F27DF7708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20000"/>
                </a:srgbClr>
              </a:gs>
              <a:gs pos="100000">
                <a:srgbClr val="dcd9cc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709A-E5D2-41A6-8BC6-93A277749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直接连接符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3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51408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直接连接符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3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51408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直接连接符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4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1408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622A-7B11-474B-AABF-10F88C40B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pic_141434"/>
          <p:cNvPicPr/>
          <p:nvPr/>
        </p:nvPicPr>
        <p:blipFill>
          <a:blip r:embed="rId1"/>
          <a:srcRect l="0" t="53244" r="0" b="68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WordArt 3" descr=""/>
          <p:cNvPicPr/>
          <p:nvPr/>
        </p:nvPicPr>
        <p:blipFill>
          <a:blip r:embed="rId2"/>
          <a:stretch/>
        </p:blipFill>
        <p:spPr>
          <a:xfrm>
            <a:off x="914400" y="1054080"/>
            <a:ext cx="7175520" cy="262728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1201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4"/>
          <p:cNvSpPr/>
          <p:nvPr/>
        </p:nvSpPr>
        <p:spPr>
          <a:xfrm>
            <a:off x="539640" y="1143000"/>
            <a:ext cx="860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幼圆"/>
              </a:rPr>
              <a:t>　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为什么说林务官的命令给森林带来了灾难了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1143000" y="407196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提示：仔细阅读第５、６自然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4"/>
          <p:cNvSpPr/>
          <p:nvPr/>
        </p:nvSpPr>
        <p:spPr>
          <a:xfrm>
            <a:off x="324000" y="189000"/>
            <a:ext cx="8604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想森林却从此遭了殃。几年过去了，橡树和菩提树的叶子越来越少，光秃秃的像一把把扫帚，有些树木甚至干枯了。</a:t>
            </a:r>
            <a:br>
              <a:rPr sz="3000"/>
            </a:br>
            <a:r>
              <a:rPr b="0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这究竟是怎么回事呢？是林务官异想天开的命令给森林带来了灾难。</a:t>
            </a:r>
            <a:br>
              <a:rPr sz="3000"/>
            </a:br>
            <a:r>
              <a:rPr b="0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原来，大自然中的一切事物都是互相联系的。这样，才能保持大自然的生态平衡。枯枝败叶，看起来是脏东西，其实，它们腐烂之后，变成了腐殖质，能增强土壤的肥力。它们还是一些小动物的食物和隐蔽场所。矮树丛也是许多动物栖息的地方。森林里的灌木和野草多了，昆虫、鸟类、兽类也就多了。许多动物以植物为食，像甲虫和毛毛虫吃树叶、嫩枝，而鸟儿在矮树丛里营巢，捕食森林里的害虫。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3708360" y="189000"/>
            <a:ext cx="151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遭了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6"/>
          <p:cNvSpPr/>
          <p:nvPr/>
        </p:nvSpPr>
        <p:spPr>
          <a:xfrm>
            <a:off x="5435640" y="692280"/>
            <a:ext cx="3240000" cy="0"/>
          </a:xfrm>
          <a:prstGeom prst="line">
            <a:avLst/>
          </a:prstGeom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7"/>
          <p:cNvSpPr/>
          <p:nvPr/>
        </p:nvSpPr>
        <p:spPr>
          <a:xfrm>
            <a:off x="468360" y="1197000"/>
            <a:ext cx="8136000" cy="0"/>
          </a:xfrm>
          <a:prstGeom prst="line">
            <a:avLst/>
          </a:prstGeom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8"/>
          <p:cNvSpPr/>
          <p:nvPr/>
        </p:nvSpPr>
        <p:spPr>
          <a:xfrm>
            <a:off x="468360" y="1628640"/>
            <a:ext cx="3382920" cy="0"/>
          </a:xfrm>
          <a:prstGeom prst="line">
            <a:avLst/>
          </a:prstGeom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9"/>
          <p:cNvSpPr/>
          <p:nvPr/>
        </p:nvSpPr>
        <p:spPr>
          <a:xfrm>
            <a:off x="1044720" y="1700280"/>
            <a:ext cx="71280" cy="360360"/>
          </a:xfrm>
          <a:custGeom>
            <a:avLst/>
            <a:gdLst>
              <a:gd name="textAreaLeft" fmla="*/ 20880 w 71280"/>
              <a:gd name="textAreaRight" fmla="*/ 71640 w 71280"/>
              <a:gd name="textAreaTop" fmla="*/ 14760 h 360360"/>
              <a:gd name="textAreaBottom" fmla="*/ 3456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0"/>
          <p:cNvSpPr/>
          <p:nvPr/>
        </p:nvSpPr>
        <p:spPr>
          <a:xfrm>
            <a:off x="3995640" y="2133720"/>
            <a:ext cx="71640" cy="431640"/>
          </a:xfrm>
          <a:custGeom>
            <a:avLst/>
            <a:gdLst>
              <a:gd name="textAreaLeft" fmla="*/ 0 w 71640"/>
              <a:gd name="textAreaRight" fmla="*/ 50400 w 71640"/>
              <a:gd name="textAreaTop" fmla="*/ 18000 h 431640"/>
              <a:gd name="textAreaBottom" fmla="*/ 41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4932000" y="204624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设问句，承上启下的过渡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1044360" y="2637000"/>
            <a:ext cx="73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~~~~~~~~~~~~~~~~~~~~~~~~~~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3"/>
          <p:cNvSpPr/>
          <p:nvPr/>
        </p:nvSpPr>
        <p:spPr>
          <a:xfrm>
            <a:off x="357480" y="3141720"/>
            <a:ext cx="60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~~~~~~~~~~~~~~~~~~~~~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圆角矩形标注 11"/>
          <p:cNvSpPr/>
          <p:nvPr/>
        </p:nvSpPr>
        <p:spPr>
          <a:xfrm>
            <a:off x="0" y="2143080"/>
            <a:ext cx="1071720" cy="571680"/>
          </a:xfrm>
          <a:prstGeom prst="wedgeRoundRectCallout">
            <a:avLst>
              <a:gd name="adj1" fmla="val 45231"/>
              <a:gd name="adj2" fmla="val 96046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中心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1100520" y="71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生态平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WordArt 3"/>
          <p:cNvSpPr txBox="1"/>
          <p:nvPr/>
        </p:nvSpPr>
        <p:spPr>
          <a:xfrm>
            <a:off x="2987640" y="1484280"/>
            <a:ext cx="187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树叶</a:t>
            </a:r>
            <a:endParaRPr b="0" lang="en-US" sz="1800" spc="-1" strike="noStrike">
              <a:ln w="9360">
                <a:solidFill>
                  <a:srgbClr val="00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5" name="WordArt 4"/>
          <p:cNvSpPr txBox="1"/>
          <p:nvPr/>
        </p:nvSpPr>
        <p:spPr>
          <a:xfrm>
            <a:off x="5364000" y="2781360"/>
            <a:ext cx="2089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000000">
                      <a:alpha val="50000"/>
                    </a:srgbClr>
                  </a:outerShdw>
                </a:effectLst>
                <a:latin typeface="宋体"/>
              </a:rPr>
              <a:t>腐殖质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00000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6" name="WordArt 5"/>
          <p:cNvSpPr txBox="1"/>
          <p:nvPr/>
        </p:nvSpPr>
        <p:spPr>
          <a:xfrm>
            <a:off x="1116000" y="2852640"/>
            <a:ext cx="136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963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害虫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7" name="WordArt 6"/>
          <p:cNvSpPr txBox="1"/>
          <p:nvPr/>
        </p:nvSpPr>
        <p:spPr>
          <a:xfrm>
            <a:off x="2124000" y="5018040"/>
            <a:ext cx="1008000" cy="10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7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鸟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58" name="WordArt 7"/>
          <p:cNvSpPr txBox="1"/>
          <p:nvPr/>
        </p:nvSpPr>
        <p:spPr>
          <a:xfrm>
            <a:off x="4572000" y="5013360"/>
            <a:ext cx="352728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808000"/>
                  </a:solidFill>
                  <a:miter/>
                </a:ln>
                <a:gradFill rotWithShape="0">
                  <a:gsLst>
                    <a:gs pos="0">
                      <a:srgbClr val="8f0603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7000"/>
                    </a:srgbClr>
                  </a:outerShdw>
                </a:effectLst>
                <a:latin typeface="宋体"/>
              </a:rPr>
              <a:t>矮树丛、树林</a:t>
            </a:r>
            <a:endParaRPr b="1" lang="en-US" sz="1800" spc="1" strike="noStrike">
              <a:ln w="25560">
                <a:solidFill>
                  <a:srgbClr val="808000"/>
                </a:solidFill>
                <a:miter/>
              </a:ln>
              <a:gradFill rotWithShape="0">
                <a:gsLst>
                  <a:gs pos="0">
                    <a:srgbClr val="8f0603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9" name="AutoShape 8"/>
          <p:cNvSpPr/>
          <p:nvPr/>
        </p:nvSpPr>
        <p:spPr>
          <a:xfrm rot="18712800">
            <a:off x="5274360" y="1789920"/>
            <a:ext cx="341280" cy="1222200"/>
          </a:xfrm>
          <a:custGeom>
            <a:avLst/>
            <a:gdLst>
              <a:gd name="textAreaLeft" fmla="*/ 49680 w 341280"/>
              <a:gd name="textAreaRight" fmla="*/ 291600 w 341280"/>
              <a:gd name="textAreaTop" fmla="*/ 178920 h 1222200"/>
              <a:gd name="textAreaBottom" fmla="*/ 1043280 h 1222200"/>
            </a:gdLst>
            <a:ahLst/>
            <a:rect l="textAreaLeft" t="textAreaTop" r="textAreaRight" b="textAreaBottom"/>
            <a:pathLst>
              <a:path w="22749" h="18936">
                <a:moveTo>
                  <a:pt x="17320" y="14227"/>
                </a:moveTo>
                <a:cubicBezTo>
                  <a:pt x="17876" y="13170"/>
                  <a:pt x="18167" y="11994"/>
                  <a:pt x="18167" y="10800"/>
                </a:cubicBezTo>
                <a:cubicBezTo>
                  <a:pt x="18167" y="8262"/>
                  <a:pt x="16860" y="5902"/>
                  <a:pt x="14709" y="4556"/>
                </a:cubicBezTo>
                <a:lnTo>
                  <a:pt x="16531" y="1646"/>
                </a:lnTo>
                <a:cubicBezTo>
                  <a:pt x="19684" y="3620"/>
                  <a:pt x="21600" y="7079"/>
                  <a:pt x="21600" y="10800"/>
                </a:cubicBezTo>
                <a:cubicBezTo>
                  <a:pt x="21600" y="12550"/>
                  <a:pt x="21174" y="14275"/>
                  <a:pt x="20359" y="15825"/>
                </a:cubicBezTo>
                <a:lnTo>
                  <a:pt x="22749" y="17081"/>
                </a:lnTo>
                <a:lnTo>
                  <a:pt x="16785" y="18936"/>
                </a:lnTo>
                <a:lnTo>
                  <a:pt x="14930" y="12971"/>
                </a:lnTo>
                <a:lnTo>
                  <a:pt x="17320" y="14227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9"/>
          <p:cNvSpPr/>
          <p:nvPr/>
        </p:nvSpPr>
        <p:spPr>
          <a:xfrm rot="834000">
            <a:off x="6019920" y="3852720"/>
            <a:ext cx="341280" cy="1222560"/>
          </a:xfrm>
          <a:custGeom>
            <a:avLst/>
            <a:gdLst>
              <a:gd name="textAreaLeft" fmla="*/ 49680 w 341280"/>
              <a:gd name="textAreaRight" fmla="*/ 291600 w 341280"/>
              <a:gd name="textAreaTop" fmla="*/ 178920 h 1222560"/>
              <a:gd name="textAreaBottom" fmla="*/ 1043640 h 1222560"/>
            </a:gdLst>
            <a:ahLst/>
            <a:rect l="textAreaLeft" t="textAreaTop" r="textAreaRight" b="textAreaBottom"/>
            <a:pathLst>
              <a:path w="22749" h="18936">
                <a:moveTo>
                  <a:pt x="17320" y="14227"/>
                </a:moveTo>
                <a:cubicBezTo>
                  <a:pt x="17876" y="13170"/>
                  <a:pt x="18167" y="11994"/>
                  <a:pt x="18167" y="10800"/>
                </a:cubicBezTo>
                <a:cubicBezTo>
                  <a:pt x="18167" y="8262"/>
                  <a:pt x="16860" y="5902"/>
                  <a:pt x="14709" y="4556"/>
                </a:cubicBezTo>
                <a:lnTo>
                  <a:pt x="16531" y="1646"/>
                </a:lnTo>
                <a:cubicBezTo>
                  <a:pt x="19684" y="3620"/>
                  <a:pt x="21600" y="7079"/>
                  <a:pt x="21600" y="10800"/>
                </a:cubicBezTo>
                <a:cubicBezTo>
                  <a:pt x="21600" y="12550"/>
                  <a:pt x="21174" y="14275"/>
                  <a:pt x="20359" y="15825"/>
                </a:cubicBezTo>
                <a:lnTo>
                  <a:pt x="22749" y="17081"/>
                </a:lnTo>
                <a:lnTo>
                  <a:pt x="16785" y="18936"/>
                </a:lnTo>
                <a:lnTo>
                  <a:pt x="14930" y="12971"/>
                </a:lnTo>
                <a:lnTo>
                  <a:pt x="17320" y="14227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0"/>
          <p:cNvSpPr/>
          <p:nvPr/>
        </p:nvSpPr>
        <p:spPr>
          <a:xfrm rot="9568200">
            <a:off x="1834920" y="3790800"/>
            <a:ext cx="341280" cy="1222560"/>
          </a:xfrm>
          <a:custGeom>
            <a:avLst/>
            <a:gdLst>
              <a:gd name="textAreaLeft" fmla="*/ 49680 w 341280"/>
              <a:gd name="textAreaRight" fmla="*/ 291600 w 341280"/>
              <a:gd name="textAreaTop" fmla="*/ 178920 h 1222560"/>
              <a:gd name="textAreaBottom" fmla="*/ 1043640 h 1222560"/>
            </a:gdLst>
            <a:ahLst/>
            <a:rect l="textAreaLeft" t="textAreaTop" r="textAreaRight" b="textAreaBottom"/>
            <a:pathLst>
              <a:path w="22749" h="18936">
                <a:moveTo>
                  <a:pt x="17320" y="14227"/>
                </a:moveTo>
                <a:cubicBezTo>
                  <a:pt x="17876" y="13170"/>
                  <a:pt x="18167" y="11994"/>
                  <a:pt x="18167" y="10800"/>
                </a:cubicBezTo>
                <a:cubicBezTo>
                  <a:pt x="18167" y="8262"/>
                  <a:pt x="16860" y="5902"/>
                  <a:pt x="14709" y="4556"/>
                </a:cubicBezTo>
                <a:lnTo>
                  <a:pt x="16531" y="1646"/>
                </a:lnTo>
                <a:cubicBezTo>
                  <a:pt x="19684" y="3620"/>
                  <a:pt x="21600" y="7079"/>
                  <a:pt x="21600" y="10800"/>
                </a:cubicBezTo>
                <a:cubicBezTo>
                  <a:pt x="21600" y="12550"/>
                  <a:pt x="21174" y="14275"/>
                  <a:pt x="20359" y="15825"/>
                </a:cubicBezTo>
                <a:lnTo>
                  <a:pt x="22749" y="17081"/>
                </a:lnTo>
                <a:lnTo>
                  <a:pt x="16785" y="18936"/>
                </a:lnTo>
                <a:lnTo>
                  <a:pt x="14930" y="12971"/>
                </a:lnTo>
                <a:lnTo>
                  <a:pt x="17320" y="14227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1"/>
          <p:cNvSpPr/>
          <p:nvPr/>
        </p:nvSpPr>
        <p:spPr>
          <a:xfrm flipV="1" rot="5052000">
            <a:off x="3790080" y="5094720"/>
            <a:ext cx="341280" cy="1221840"/>
          </a:xfrm>
          <a:custGeom>
            <a:avLst/>
            <a:gdLst>
              <a:gd name="textAreaLeft" fmla="*/ 49680 w 341280"/>
              <a:gd name="textAreaRight" fmla="*/ 291600 w 341280"/>
              <a:gd name="textAreaTop" fmla="*/ 178920 h 1221840"/>
              <a:gd name="textAreaBottom" fmla="*/ 1042920 h 1221840"/>
            </a:gdLst>
            <a:ahLst/>
            <a:rect l="textAreaLeft" t="textAreaTop" r="textAreaRight" b="textAreaBottom"/>
            <a:pathLst>
              <a:path w="22749" h="18936">
                <a:moveTo>
                  <a:pt x="17320" y="14227"/>
                </a:moveTo>
                <a:cubicBezTo>
                  <a:pt x="17876" y="13170"/>
                  <a:pt x="18167" y="11994"/>
                  <a:pt x="18167" y="10800"/>
                </a:cubicBezTo>
                <a:cubicBezTo>
                  <a:pt x="18167" y="8262"/>
                  <a:pt x="16860" y="5902"/>
                  <a:pt x="14709" y="4556"/>
                </a:cubicBezTo>
                <a:lnTo>
                  <a:pt x="16531" y="1646"/>
                </a:lnTo>
                <a:cubicBezTo>
                  <a:pt x="19684" y="3620"/>
                  <a:pt x="21600" y="7079"/>
                  <a:pt x="21600" y="10800"/>
                </a:cubicBezTo>
                <a:cubicBezTo>
                  <a:pt x="21600" y="12550"/>
                  <a:pt x="21174" y="14275"/>
                  <a:pt x="20359" y="15825"/>
                </a:cubicBezTo>
                <a:lnTo>
                  <a:pt x="22749" y="17081"/>
                </a:lnTo>
                <a:lnTo>
                  <a:pt x="16785" y="18936"/>
                </a:lnTo>
                <a:lnTo>
                  <a:pt x="14930" y="12971"/>
                </a:lnTo>
                <a:lnTo>
                  <a:pt x="17320" y="14227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2"/>
          <p:cNvSpPr/>
          <p:nvPr/>
        </p:nvSpPr>
        <p:spPr>
          <a:xfrm rot="14109000">
            <a:off x="2275560" y="1836000"/>
            <a:ext cx="341280" cy="1222200"/>
          </a:xfrm>
          <a:custGeom>
            <a:avLst/>
            <a:gdLst>
              <a:gd name="textAreaLeft" fmla="*/ 49680 w 341280"/>
              <a:gd name="textAreaRight" fmla="*/ 291600 w 341280"/>
              <a:gd name="textAreaTop" fmla="*/ 178920 h 1222200"/>
              <a:gd name="textAreaBottom" fmla="*/ 1043280 h 1222200"/>
            </a:gdLst>
            <a:ahLst/>
            <a:rect l="textAreaLeft" t="textAreaTop" r="textAreaRight" b="textAreaBottom"/>
            <a:pathLst>
              <a:path w="22749" h="18936">
                <a:moveTo>
                  <a:pt x="17320" y="14227"/>
                </a:moveTo>
                <a:cubicBezTo>
                  <a:pt x="17876" y="13170"/>
                  <a:pt x="18167" y="11994"/>
                  <a:pt x="18167" y="10800"/>
                </a:cubicBezTo>
                <a:cubicBezTo>
                  <a:pt x="18167" y="8262"/>
                  <a:pt x="16860" y="5902"/>
                  <a:pt x="14709" y="4556"/>
                </a:cubicBezTo>
                <a:lnTo>
                  <a:pt x="16531" y="1646"/>
                </a:lnTo>
                <a:cubicBezTo>
                  <a:pt x="19684" y="3620"/>
                  <a:pt x="21600" y="7079"/>
                  <a:pt x="21600" y="10800"/>
                </a:cubicBezTo>
                <a:cubicBezTo>
                  <a:pt x="21600" y="12550"/>
                  <a:pt x="21174" y="14275"/>
                  <a:pt x="20359" y="15825"/>
                </a:cubicBezTo>
                <a:lnTo>
                  <a:pt x="22749" y="17081"/>
                </a:lnTo>
                <a:lnTo>
                  <a:pt x="16785" y="18936"/>
                </a:lnTo>
                <a:lnTo>
                  <a:pt x="14930" y="12971"/>
                </a:lnTo>
                <a:lnTo>
                  <a:pt x="17320" y="14227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5710320" y="184464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腐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3478320" y="600228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营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5"/>
          <p:cNvSpPr/>
          <p:nvPr/>
        </p:nvSpPr>
        <p:spPr>
          <a:xfrm>
            <a:off x="1397160" y="4346640"/>
            <a:ext cx="37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6"/>
          <p:cNvSpPr/>
          <p:nvPr/>
        </p:nvSpPr>
        <p:spPr>
          <a:xfrm>
            <a:off x="6904080" y="4202280"/>
            <a:ext cx="1323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增强土壤肥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1684440" y="1898640"/>
            <a:ext cx="37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117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4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117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4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"/>
          <p:cNvSpPr/>
          <p:nvPr/>
        </p:nvSpPr>
        <p:spPr>
          <a:xfrm>
            <a:off x="611280" y="104760"/>
            <a:ext cx="267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生态平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WordArt 3"/>
          <p:cNvSpPr txBox="1"/>
          <p:nvPr/>
        </p:nvSpPr>
        <p:spPr>
          <a:xfrm>
            <a:off x="2987640" y="1484280"/>
            <a:ext cx="187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树叶</a:t>
            </a:r>
            <a:endParaRPr b="0" lang="en-US" sz="1800" spc="-1" strike="noStrike">
              <a:ln w="9360">
                <a:solidFill>
                  <a:srgbClr val="00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2" name="WordArt 4"/>
          <p:cNvSpPr txBox="1"/>
          <p:nvPr/>
        </p:nvSpPr>
        <p:spPr>
          <a:xfrm>
            <a:off x="5364000" y="2781360"/>
            <a:ext cx="2089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000000">
                      <a:alpha val="50000"/>
                    </a:srgbClr>
                  </a:outerShdw>
                </a:effectLst>
                <a:latin typeface="宋体"/>
              </a:rPr>
              <a:t>腐殖质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00000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3" name="WordArt 5"/>
          <p:cNvSpPr txBox="1"/>
          <p:nvPr/>
        </p:nvSpPr>
        <p:spPr>
          <a:xfrm>
            <a:off x="826920" y="2492280"/>
            <a:ext cx="935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963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害虫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4" name="WordArt 6"/>
          <p:cNvSpPr txBox="1"/>
          <p:nvPr/>
        </p:nvSpPr>
        <p:spPr>
          <a:xfrm>
            <a:off x="2124000" y="5018040"/>
            <a:ext cx="1008000" cy="10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7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鸟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75" name="WordArt 7"/>
          <p:cNvSpPr txBox="1"/>
          <p:nvPr/>
        </p:nvSpPr>
        <p:spPr>
          <a:xfrm>
            <a:off x="4572000" y="5013360"/>
            <a:ext cx="352728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808000"/>
                  </a:solidFill>
                  <a:miter/>
                </a:ln>
                <a:gradFill rotWithShape="0">
                  <a:gsLst>
                    <a:gs pos="0">
                      <a:srgbClr val="8f0603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7000"/>
                    </a:srgbClr>
                  </a:outerShdw>
                </a:effectLst>
                <a:latin typeface="宋体"/>
              </a:rPr>
              <a:t>矮树丛、树林</a:t>
            </a:r>
            <a:endParaRPr b="1" lang="en-US" sz="1800" spc="1" strike="noStrike">
              <a:ln w="25560">
                <a:solidFill>
                  <a:srgbClr val="808000"/>
                </a:solidFill>
                <a:miter/>
              </a:ln>
              <a:gradFill rotWithShape="0">
                <a:gsLst>
                  <a:gs pos="0">
                    <a:srgbClr val="8f0603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6" name="AutoShape 8"/>
          <p:cNvSpPr/>
          <p:nvPr/>
        </p:nvSpPr>
        <p:spPr>
          <a:xfrm rot="18712800">
            <a:off x="5274360" y="1789920"/>
            <a:ext cx="341280" cy="1222200"/>
          </a:xfrm>
          <a:custGeom>
            <a:avLst/>
            <a:gdLst>
              <a:gd name="textAreaLeft" fmla="*/ 49680 w 341280"/>
              <a:gd name="textAreaRight" fmla="*/ 291600 w 341280"/>
              <a:gd name="textAreaTop" fmla="*/ 178920 h 1222200"/>
              <a:gd name="textAreaBottom" fmla="*/ 1043280 h 1222200"/>
            </a:gdLst>
            <a:ahLst/>
            <a:rect l="textAreaLeft" t="textAreaTop" r="textAreaRight" b="textAreaBottom"/>
            <a:pathLst>
              <a:path w="22749" h="18936">
                <a:moveTo>
                  <a:pt x="17320" y="14227"/>
                </a:moveTo>
                <a:cubicBezTo>
                  <a:pt x="17876" y="13170"/>
                  <a:pt x="18167" y="11994"/>
                  <a:pt x="18167" y="10800"/>
                </a:cubicBezTo>
                <a:cubicBezTo>
                  <a:pt x="18167" y="8262"/>
                  <a:pt x="16860" y="5902"/>
                  <a:pt x="14709" y="4556"/>
                </a:cubicBezTo>
                <a:lnTo>
                  <a:pt x="16531" y="1646"/>
                </a:lnTo>
                <a:cubicBezTo>
                  <a:pt x="19684" y="3620"/>
                  <a:pt x="21600" y="7079"/>
                  <a:pt x="21600" y="10800"/>
                </a:cubicBezTo>
                <a:cubicBezTo>
                  <a:pt x="21600" y="12550"/>
                  <a:pt x="21174" y="14275"/>
                  <a:pt x="20359" y="15825"/>
                </a:cubicBezTo>
                <a:lnTo>
                  <a:pt x="22749" y="17081"/>
                </a:lnTo>
                <a:lnTo>
                  <a:pt x="16785" y="18936"/>
                </a:lnTo>
                <a:lnTo>
                  <a:pt x="14930" y="12971"/>
                </a:lnTo>
                <a:lnTo>
                  <a:pt x="17320" y="14227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9"/>
          <p:cNvSpPr/>
          <p:nvPr/>
        </p:nvSpPr>
        <p:spPr>
          <a:xfrm rot="834000">
            <a:off x="6019920" y="3852720"/>
            <a:ext cx="341280" cy="1222560"/>
          </a:xfrm>
          <a:custGeom>
            <a:avLst/>
            <a:gdLst>
              <a:gd name="textAreaLeft" fmla="*/ 49680 w 341280"/>
              <a:gd name="textAreaRight" fmla="*/ 291600 w 341280"/>
              <a:gd name="textAreaTop" fmla="*/ 178920 h 1222560"/>
              <a:gd name="textAreaBottom" fmla="*/ 1043640 h 1222560"/>
            </a:gdLst>
            <a:ahLst/>
            <a:rect l="textAreaLeft" t="textAreaTop" r="textAreaRight" b="textAreaBottom"/>
            <a:pathLst>
              <a:path w="22749" h="18936">
                <a:moveTo>
                  <a:pt x="17320" y="14227"/>
                </a:moveTo>
                <a:cubicBezTo>
                  <a:pt x="17876" y="13170"/>
                  <a:pt x="18167" y="11994"/>
                  <a:pt x="18167" y="10800"/>
                </a:cubicBezTo>
                <a:cubicBezTo>
                  <a:pt x="18167" y="8262"/>
                  <a:pt x="16860" y="5902"/>
                  <a:pt x="14709" y="4556"/>
                </a:cubicBezTo>
                <a:lnTo>
                  <a:pt x="16531" y="1646"/>
                </a:lnTo>
                <a:cubicBezTo>
                  <a:pt x="19684" y="3620"/>
                  <a:pt x="21600" y="7079"/>
                  <a:pt x="21600" y="10800"/>
                </a:cubicBezTo>
                <a:cubicBezTo>
                  <a:pt x="21600" y="12550"/>
                  <a:pt x="21174" y="14275"/>
                  <a:pt x="20359" y="15825"/>
                </a:cubicBezTo>
                <a:lnTo>
                  <a:pt x="22749" y="17081"/>
                </a:lnTo>
                <a:lnTo>
                  <a:pt x="16785" y="18936"/>
                </a:lnTo>
                <a:lnTo>
                  <a:pt x="14930" y="12971"/>
                </a:lnTo>
                <a:lnTo>
                  <a:pt x="17320" y="14227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0"/>
          <p:cNvSpPr/>
          <p:nvPr/>
        </p:nvSpPr>
        <p:spPr>
          <a:xfrm rot="9568200">
            <a:off x="1834920" y="3790800"/>
            <a:ext cx="341280" cy="1222560"/>
          </a:xfrm>
          <a:custGeom>
            <a:avLst/>
            <a:gdLst>
              <a:gd name="textAreaLeft" fmla="*/ 49680 w 341280"/>
              <a:gd name="textAreaRight" fmla="*/ 291600 w 341280"/>
              <a:gd name="textAreaTop" fmla="*/ 178920 h 1222560"/>
              <a:gd name="textAreaBottom" fmla="*/ 1043640 h 1222560"/>
            </a:gdLst>
            <a:ahLst/>
            <a:rect l="textAreaLeft" t="textAreaTop" r="textAreaRight" b="textAreaBottom"/>
            <a:pathLst>
              <a:path w="22749" h="18936">
                <a:moveTo>
                  <a:pt x="17320" y="14227"/>
                </a:moveTo>
                <a:cubicBezTo>
                  <a:pt x="17876" y="13170"/>
                  <a:pt x="18167" y="11994"/>
                  <a:pt x="18167" y="10800"/>
                </a:cubicBezTo>
                <a:cubicBezTo>
                  <a:pt x="18167" y="8262"/>
                  <a:pt x="16860" y="5902"/>
                  <a:pt x="14709" y="4556"/>
                </a:cubicBezTo>
                <a:lnTo>
                  <a:pt x="16531" y="1646"/>
                </a:lnTo>
                <a:cubicBezTo>
                  <a:pt x="19684" y="3620"/>
                  <a:pt x="21600" y="7079"/>
                  <a:pt x="21600" y="10800"/>
                </a:cubicBezTo>
                <a:cubicBezTo>
                  <a:pt x="21600" y="12550"/>
                  <a:pt x="21174" y="14275"/>
                  <a:pt x="20359" y="15825"/>
                </a:cubicBezTo>
                <a:lnTo>
                  <a:pt x="22749" y="17081"/>
                </a:lnTo>
                <a:lnTo>
                  <a:pt x="16785" y="18936"/>
                </a:lnTo>
                <a:lnTo>
                  <a:pt x="14930" y="12971"/>
                </a:lnTo>
                <a:lnTo>
                  <a:pt x="17320" y="14227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1"/>
          <p:cNvSpPr/>
          <p:nvPr/>
        </p:nvSpPr>
        <p:spPr>
          <a:xfrm flipV="1" rot="5052000">
            <a:off x="3790080" y="5094720"/>
            <a:ext cx="341280" cy="1221840"/>
          </a:xfrm>
          <a:custGeom>
            <a:avLst/>
            <a:gdLst>
              <a:gd name="textAreaLeft" fmla="*/ 49680 w 341280"/>
              <a:gd name="textAreaRight" fmla="*/ 291600 w 341280"/>
              <a:gd name="textAreaTop" fmla="*/ 178920 h 1221840"/>
              <a:gd name="textAreaBottom" fmla="*/ 1042920 h 1221840"/>
            </a:gdLst>
            <a:ahLst/>
            <a:rect l="textAreaLeft" t="textAreaTop" r="textAreaRight" b="textAreaBottom"/>
            <a:pathLst>
              <a:path w="22749" h="18936">
                <a:moveTo>
                  <a:pt x="17320" y="14227"/>
                </a:moveTo>
                <a:cubicBezTo>
                  <a:pt x="17876" y="13170"/>
                  <a:pt x="18167" y="11994"/>
                  <a:pt x="18167" y="10800"/>
                </a:cubicBezTo>
                <a:cubicBezTo>
                  <a:pt x="18167" y="8262"/>
                  <a:pt x="16860" y="5902"/>
                  <a:pt x="14709" y="4556"/>
                </a:cubicBezTo>
                <a:lnTo>
                  <a:pt x="16531" y="1646"/>
                </a:lnTo>
                <a:cubicBezTo>
                  <a:pt x="19684" y="3620"/>
                  <a:pt x="21600" y="7079"/>
                  <a:pt x="21600" y="10800"/>
                </a:cubicBezTo>
                <a:cubicBezTo>
                  <a:pt x="21600" y="12550"/>
                  <a:pt x="21174" y="14275"/>
                  <a:pt x="20359" y="15825"/>
                </a:cubicBezTo>
                <a:lnTo>
                  <a:pt x="22749" y="17081"/>
                </a:lnTo>
                <a:lnTo>
                  <a:pt x="16785" y="18936"/>
                </a:lnTo>
                <a:lnTo>
                  <a:pt x="14930" y="12971"/>
                </a:lnTo>
                <a:lnTo>
                  <a:pt x="17320" y="14227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12"/>
          <p:cNvSpPr/>
          <p:nvPr/>
        </p:nvSpPr>
        <p:spPr>
          <a:xfrm rot="14109000">
            <a:off x="2275560" y="1836000"/>
            <a:ext cx="341280" cy="1222200"/>
          </a:xfrm>
          <a:custGeom>
            <a:avLst/>
            <a:gdLst>
              <a:gd name="textAreaLeft" fmla="*/ 49680 w 341280"/>
              <a:gd name="textAreaRight" fmla="*/ 291600 w 341280"/>
              <a:gd name="textAreaTop" fmla="*/ 178920 h 1222200"/>
              <a:gd name="textAreaBottom" fmla="*/ 1043280 h 1222200"/>
            </a:gdLst>
            <a:ahLst/>
            <a:rect l="textAreaLeft" t="textAreaTop" r="textAreaRight" b="textAreaBottom"/>
            <a:pathLst>
              <a:path w="22749" h="18936">
                <a:moveTo>
                  <a:pt x="17320" y="14227"/>
                </a:moveTo>
                <a:cubicBezTo>
                  <a:pt x="17876" y="13170"/>
                  <a:pt x="18167" y="11994"/>
                  <a:pt x="18167" y="10800"/>
                </a:cubicBezTo>
                <a:cubicBezTo>
                  <a:pt x="18167" y="8262"/>
                  <a:pt x="16860" y="5902"/>
                  <a:pt x="14709" y="4556"/>
                </a:cubicBezTo>
                <a:lnTo>
                  <a:pt x="16531" y="1646"/>
                </a:lnTo>
                <a:cubicBezTo>
                  <a:pt x="19684" y="3620"/>
                  <a:pt x="21600" y="7079"/>
                  <a:pt x="21600" y="10800"/>
                </a:cubicBezTo>
                <a:cubicBezTo>
                  <a:pt x="21600" y="12550"/>
                  <a:pt x="21174" y="14275"/>
                  <a:pt x="20359" y="15825"/>
                </a:cubicBezTo>
                <a:lnTo>
                  <a:pt x="22749" y="17081"/>
                </a:lnTo>
                <a:lnTo>
                  <a:pt x="16785" y="18936"/>
                </a:lnTo>
                <a:lnTo>
                  <a:pt x="14930" y="12971"/>
                </a:lnTo>
                <a:lnTo>
                  <a:pt x="17320" y="14227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3"/>
          <p:cNvSpPr/>
          <p:nvPr/>
        </p:nvSpPr>
        <p:spPr>
          <a:xfrm>
            <a:off x="5710320" y="184464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腐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4"/>
          <p:cNvSpPr/>
          <p:nvPr/>
        </p:nvSpPr>
        <p:spPr>
          <a:xfrm>
            <a:off x="3478320" y="600228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营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5"/>
          <p:cNvSpPr/>
          <p:nvPr/>
        </p:nvSpPr>
        <p:spPr>
          <a:xfrm>
            <a:off x="1397160" y="4346640"/>
            <a:ext cx="37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6"/>
          <p:cNvSpPr/>
          <p:nvPr/>
        </p:nvSpPr>
        <p:spPr>
          <a:xfrm>
            <a:off x="6904080" y="4202280"/>
            <a:ext cx="1323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增强土壤肥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7"/>
          <p:cNvSpPr/>
          <p:nvPr/>
        </p:nvSpPr>
        <p:spPr>
          <a:xfrm>
            <a:off x="1684440" y="1898640"/>
            <a:ext cx="37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WordArt 18"/>
          <p:cNvSpPr txBox="1"/>
          <p:nvPr/>
        </p:nvSpPr>
        <p:spPr>
          <a:xfrm>
            <a:off x="1835280" y="2708280"/>
            <a:ext cx="934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963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害虫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7" name="WordArt 19"/>
          <p:cNvSpPr txBox="1"/>
          <p:nvPr/>
        </p:nvSpPr>
        <p:spPr>
          <a:xfrm>
            <a:off x="250920" y="2924280"/>
            <a:ext cx="934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963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害虫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8" name="WordArt 20"/>
          <p:cNvSpPr txBox="1"/>
          <p:nvPr/>
        </p:nvSpPr>
        <p:spPr>
          <a:xfrm>
            <a:off x="324000" y="3357720"/>
            <a:ext cx="934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963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害虫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9" name="WordArt 21"/>
          <p:cNvSpPr txBox="1"/>
          <p:nvPr/>
        </p:nvSpPr>
        <p:spPr>
          <a:xfrm>
            <a:off x="1476360" y="3141720"/>
            <a:ext cx="934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963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害虫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0" name="WordArt 22"/>
          <p:cNvSpPr txBox="1"/>
          <p:nvPr/>
        </p:nvSpPr>
        <p:spPr>
          <a:xfrm>
            <a:off x="1042920" y="2852640"/>
            <a:ext cx="935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963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害虫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1" name="WordArt 23"/>
          <p:cNvSpPr txBox="1"/>
          <p:nvPr/>
        </p:nvSpPr>
        <p:spPr>
          <a:xfrm>
            <a:off x="1332000" y="3500280"/>
            <a:ext cx="934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963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害虫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2" name="WordArt 24"/>
          <p:cNvSpPr txBox="1"/>
          <p:nvPr/>
        </p:nvSpPr>
        <p:spPr>
          <a:xfrm>
            <a:off x="1474920" y="3139920"/>
            <a:ext cx="934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963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害虫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117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4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117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4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2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6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8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0"/>
                            </p:stCondLst>
                            <p:childTnLst>
                              <p:par>
                                <p:cTn id="4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2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6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324000" y="549360"/>
            <a:ext cx="86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林务官把灌木丛砍了，把野草锄了，鸟儿飞走了，森林里的害虫就逞凶啦。它们大量繁殖，成群地向树木进攻，吃树叶，咬树根，钻树心。没有天敌来制服害虫，树林就渐渐给毁了。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12"/>
          <p:cNvSpPr/>
          <p:nvPr/>
        </p:nvSpPr>
        <p:spPr>
          <a:xfrm>
            <a:off x="7667640" y="2924280"/>
            <a:ext cx="649440" cy="647640"/>
          </a:xfrm>
          <a:prstGeom prst="ellipse">
            <a:avLst/>
          </a:prstGeom>
          <a:noFill/>
          <a:ln w="47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3"/>
          <p:cNvSpPr/>
          <p:nvPr/>
        </p:nvSpPr>
        <p:spPr>
          <a:xfrm>
            <a:off x="2268360" y="3645000"/>
            <a:ext cx="649440" cy="647640"/>
          </a:xfrm>
          <a:prstGeom prst="ellipse">
            <a:avLst/>
          </a:prstGeom>
          <a:noFill/>
          <a:ln w="47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14"/>
          <p:cNvSpPr/>
          <p:nvPr/>
        </p:nvSpPr>
        <p:spPr>
          <a:xfrm>
            <a:off x="4716360" y="3645000"/>
            <a:ext cx="649440" cy="647640"/>
          </a:xfrm>
          <a:prstGeom prst="ellipse">
            <a:avLst/>
          </a:prstGeom>
          <a:noFill/>
          <a:ln w="47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5"/>
          <p:cNvSpPr/>
          <p:nvPr/>
        </p:nvSpPr>
        <p:spPr>
          <a:xfrm>
            <a:off x="971640" y="5084640"/>
            <a:ext cx="649080" cy="648000"/>
          </a:xfrm>
          <a:prstGeom prst="ellipse">
            <a:avLst/>
          </a:prstGeom>
          <a:noFill/>
          <a:ln w="47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6"/>
          <p:cNvSpPr/>
          <p:nvPr/>
        </p:nvSpPr>
        <p:spPr>
          <a:xfrm>
            <a:off x="2580840" y="6095880"/>
            <a:ext cx="45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这四个动词，能交换位置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4" descr="无标题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WordArt 5"/>
          <p:cNvSpPr txBox="1"/>
          <p:nvPr/>
        </p:nvSpPr>
        <p:spPr>
          <a:xfrm>
            <a:off x="250920" y="333360"/>
            <a:ext cx="504180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交流感悟</a:t>
            </a:r>
            <a:endParaRPr b="1" lang="en-US" sz="9600" spc="-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503280" y="170028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了这篇文章，你获得了大自然的什么启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642960" y="571680"/>
            <a:ext cx="792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大自然中的一切事物都是互相联系的。我们要遵循大自然的规律，这样，才能保持大自然的生态平衡。否则只会好心办坏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WordArt 2"/>
          <p:cNvSpPr txBox="1"/>
          <p:nvPr/>
        </p:nvSpPr>
        <p:spPr>
          <a:xfrm>
            <a:off x="250920" y="333360"/>
            <a:ext cx="504180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主要内容</a:t>
            </a:r>
            <a:endParaRPr b="1" lang="en-US" sz="9600" spc="-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357120" y="2000160"/>
            <a:ext cx="85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类的老师</a:t>
            </a:r>
            <a:r>
              <a:rPr b="1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过生动的试验，介绍了科学家从蜻蜓、鲸等动物身上得到启示，有所发明、有所创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4"/>
          <p:cNvSpPr/>
          <p:nvPr/>
        </p:nvSpPr>
        <p:spPr>
          <a:xfrm>
            <a:off x="3791160" y="49291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cc"/>
                </a:solidFill>
                <a:latin typeface="Arial"/>
                <a:ea typeface="黑体"/>
              </a:rPr>
              <a:t>你能用课文的一句话来概括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571680" y="5715000"/>
            <a:ext cx="857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黑体"/>
              </a:rPr>
              <a:t>生物真是人类的好老师啊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7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274680" y="189000"/>
            <a:ext cx="8613720" cy="1725480"/>
            <a:chOff x="274680" y="189000"/>
            <a:chExt cx="8613720" cy="1725480"/>
          </a:xfrm>
        </p:grpSpPr>
        <p:pic>
          <p:nvPicPr>
            <p:cNvPr id="510" name="Rectangle 2" descr=""/>
            <p:cNvPicPr/>
            <p:nvPr/>
          </p:nvPicPr>
          <p:blipFill>
            <a:blip r:embed="rId2"/>
            <a:stretch/>
          </p:blipFill>
          <p:spPr>
            <a:xfrm>
              <a:off x="274680" y="189000"/>
              <a:ext cx="861372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 txBox="1"/>
            <p:nvPr/>
          </p:nvSpPr>
          <p:spPr>
            <a:xfrm>
              <a:off x="274680" y="189000"/>
              <a:ext cx="8613720" cy="17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4e3b30"/>
                </a:solidFill>
                <a:latin typeface="Franklin Gothic Medium"/>
              </a:endParaRPr>
            </a:p>
          </p:txBody>
        </p:sp>
      </p:grpSp>
      <p:sp>
        <p:nvSpPr>
          <p:cNvPr id="512" name=""/>
          <p:cNvSpPr txBox="1"/>
          <p:nvPr/>
        </p:nvSpPr>
        <p:spPr>
          <a:xfrm>
            <a:off x="539280" y="2276280"/>
            <a:ext cx="82090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、研究蜻蜓的翅膀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——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解决飞机机翼因剧烈抖动而破碎的问题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、研究鲸的“流线型”的外形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——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减少船只在水中的阻力，大大提高了航行的速度 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D8CF2-DBEB-4CEB-994E-C2DDA0FA55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19" descr="无标题3"/>
          <p:cNvPicPr/>
          <p:nvPr/>
        </p:nvPicPr>
        <p:blipFill>
          <a:blip r:embed="rId1"/>
          <a:stretch/>
        </p:blipFill>
        <p:spPr>
          <a:xfrm>
            <a:off x="-214200" y="0"/>
            <a:ext cx="9747000" cy="73152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2"/>
          <p:cNvSpPr/>
          <p:nvPr/>
        </p:nvSpPr>
        <p:spPr>
          <a:xfrm>
            <a:off x="1258920" y="476280"/>
            <a:ext cx="63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自由读课文，读准字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250920" y="2781360"/>
            <a:ext cx="23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幼圆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遭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2700360" y="2781360"/>
            <a:ext cx="20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扫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4932360" y="2781360"/>
            <a:ext cx="210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腐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6588000" y="2781360"/>
            <a:ext cx="32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土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611280" y="4292640"/>
            <a:ext cx="216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机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2484360" y="429264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省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4643280" y="429264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关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0"/>
          <p:cNvSpPr/>
          <p:nvPr/>
        </p:nvSpPr>
        <p:spPr>
          <a:xfrm>
            <a:off x="6694560" y="429264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鲸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1"/>
          <p:cNvSpPr/>
          <p:nvPr/>
        </p:nvSpPr>
        <p:spPr>
          <a:xfrm>
            <a:off x="826920" y="19890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yā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2"/>
          <p:cNvSpPr/>
          <p:nvPr/>
        </p:nvSpPr>
        <p:spPr>
          <a:xfrm>
            <a:off x="2987640" y="2000160"/>
            <a:ext cx="144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zhǒ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3"/>
          <p:cNvSpPr/>
          <p:nvPr/>
        </p:nvSpPr>
        <p:spPr>
          <a:xfrm>
            <a:off x="4932360" y="2016000"/>
            <a:ext cx="113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f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4"/>
          <p:cNvSpPr/>
          <p:nvPr/>
        </p:nvSpPr>
        <p:spPr>
          <a:xfrm>
            <a:off x="7020000" y="2060640"/>
            <a:ext cx="16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rǎ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5"/>
          <p:cNvSpPr/>
          <p:nvPr/>
        </p:nvSpPr>
        <p:spPr>
          <a:xfrm>
            <a:off x="1187280" y="3643200"/>
            <a:ext cx="88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y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6"/>
          <p:cNvSpPr/>
          <p:nvPr/>
        </p:nvSpPr>
        <p:spPr>
          <a:xfrm>
            <a:off x="2987640" y="3645000"/>
            <a:ext cx="122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lü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5076720" y="371628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ji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8"/>
          <p:cNvSpPr/>
          <p:nvPr/>
        </p:nvSpPr>
        <p:spPr>
          <a:xfrm>
            <a:off x="7020000" y="3716280"/>
            <a:ext cx="18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jīn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2"/>
          <p:cNvSpPr/>
          <p:nvPr/>
        </p:nvSpPr>
        <p:spPr>
          <a:xfrm>
            <a:off x="1643040" y="5130720"/>
            <a:ext cx="2357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ǎ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扫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3"/>
          <p:cNvSpPr/>
          <p:nvPr/>
        </p:nvSpPr>
        <p:spPr>
          <a:xfrm>
            <a:off x="2857680" y="5143680"/>
            <a:ext cx="302544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扫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扫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2854800" y="1006920"/>
            <a:ext cx="415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900"/>
                </a:solidFill>
                <a:latin typeface="Arial"/>
                <a:ea typeface="黑体"/>
              </a:rPr>
              <a:t>总结全文，拓展延伸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幼圆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179280" y="372204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99"/>
                </a:solidFill>
                <a:latin typeface="Arial"/>
                <a:ea typeface="幼圆"/>
              </a:rPr>
              <a:t>　　</a:t>
            </a:r>
            <a:r>
              <a:rPr b="0" lang="zh-CN" sz="3600" spc="-1" strike="noStrike">
                <a:solidFill>
                  <a:srgbClr val="ffff99"/>
                </a:solidFill>
                <a:latin typeface="黑体"/>
                <a:ea typeface="黑体"/>
              </a:rPr>
              <a:t>林务官打扫森林，结果给森林带来了灾难；人们从蜻蜓、鲸等动物身上得到启示，有所发明，有所创造。</a:t>
            </a:r>
            <a:r>
              <a:rPr b="0" lang="zh-CN" sz="3600" spc="-1" strike="noStrike">
                <a:solidFill>
                  <a:srgbClr val="ff9900"/>
                </a:solidFill>
                <a:latin typeface="黑体"/>
                <a:ea typeface="黑体"/>
              </a:rPr>
              <a:t>可见如果我们任意破坏大自然的生态平衡，就会遭到大自然的惩罚；如果我们拜大自然为师，虚心地向它学习，就能从中得到启发，造福人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4"/>
          <p:cNvSpPr/>
          <p:nvPr/>
        </p:nvSpPr>
        <p:spPr>
          <a:xfrm>
            <a:off x="1571760" y="57168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自然不愧是人类的老师，它警示我们要按自然规律办事，维护生态平衡，让人与自然和谐相处；它启迪我们的智慧，让我们人类有所发明，有所创造，促进了人类科技的进步，改善了人类的日常生活条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4"/>
          <p:cNvSpPr/>
          <p:nvPr/>
        </p:nvSpPr>
        <p:spPr>
          <a:xfrm>
            <a:off x="755640" y="310752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　　其实大自然带给我们的启示，远不止今天课文中所说的这些，希望同学们在综合性学习活动中继续探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6"/>
          <p:cNvPicPr/>
          <p:nvPr/>
        </p:nvPicPr>
        <p:blipFill>
          <a:blip r:embed="rId1"/>
          <a:srcRect l="11249" t="14910" r="15978" b="50003"/>
          <a:stretch/>
        </p:blipFill>
        <p:spPr>
          <a:xfrm>
            <a:off x="228600" y="990720"/>
            <a:ext cx="8429760" cy="26352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2005317115806"/>
          <p:cNvPicPr/>
          <p:nvPr/>
        </p:nvPicPr>
        <p:blipFill>
          <a:blip r:embed="rId2"/>
          <a:stretch/>
        </p:blipFill>
        <p:spPr>
          <a:xfrm>
            <a:off x="611280" y="3860640"/>
            <a:ext cx="7993080" cy="2708280"/>
          </a:xfrm>
          <a:prstGeom prst="rect">
            <a:avLst/>
          </a:prstGeom>
          <a:ln w="0">
            <a:noFill/>
          </a:ln>
        </p:spPr>
      </p:pic>
      <p:sp>
        <p:nvSpPr>
          <p:cNvPr id="523" name="WordArt 4"/>
          <p:cNvSpPr txBox="1"/>
          <p:nvPr/>
        </p:nvSpPr>
        <p:spPr>
          <a:xfrm>
            <a:off x="2895480" y="228600"/>
            <a:ext cx="2971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蜻蜓与仿生</a:t>
            </a:r>
            <a:endParaRPr b="1" lang="en-US" sz="1800" spc="-1" strike="noStrike">
              <a:ln w="0">
                <a:noFill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13"/>
          <p:cNvPicPr/>
          <p:nvPr/>
        </p:nvPicPr>
        <p:blipFill>
          <a:blip r:embed="rId1"/>
          <a:srcRect l="0" t="0" r="0" b="86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3"/>
          <p:cNvSpPr/>
          <p:nvPr/>
        </p:nvSpPr>
        <p:spPr>
          <a:xfrm>
            <a:off x="6516720" y="4869000"/>
            <a:ext cx="9936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6" descr="无标题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WordArt 3"/>
          <p:cNvSpPr txBox="1"/>
          <p:nvPr/>
        </p:nvSpPr>
        <p:spPr>
          <a:xfrm>
            <a:off x="1042920" y="1125360"/>
            <a:ext cx="731520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大自然的启示</a:t>
            </a:r>
            <a:endParaRPr b="1" lang="en-US" sz="9600" spc="-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1134000" y="3357720"/>
            <a:ext cx="24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打扫”森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5330880" y="335772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人类的老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WordArt 10"/>
          <p:cNvSpPr txBox="1"/>
          <p:nvPr/>
        </p:nvSpPr>
        <p:spPr>
          <a:xfrm>
            <a:off x="1332000" y="4508640"/>
            <a:ext cx="4665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？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4" name="WordArt 11"/>
          <p:cNvSpPr txBox="1"/>
          <p:nvPr/>
        </p:nvSpPr>
        <p:spPr>
          <a:xfrm>
            <a:off x="4716360" y="4437000"/>
            <a:ext cx="4669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？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5" name="Text Box 12"/>
          <p:cNvSpPr/>
          <p:nvPr/>
        </p:nvSpPr>
        <p:spPr>
          <a:xfrm>
            <a:off x="2124360" y="486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楷体_GB2312"/>
              </a:rPr>
              <a:t>怎么打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3"/>
          <p:cNvSpPr/>
          <p:nvPr/>
        </p:nvSpPr>
        <p:spPr>
          <a:xfrm>
            <a:off x="5941080" y="4797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楷体_GB2312"/>
              </a:rPr>
              <a:t>什么是人类的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无标题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WordArt 3"/>
          <p:cNvSpPr txBox="1"/>
          <p:nvPr/>
        </p:nvSpPr>
        <p:spPr>
          <a:xfrm>
            <a:off x="250920" y="333360"/>
            <a:ext cx="504180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初读感知</a:t>
            </a:r>
            <a:endParaRPr b="1" lang="en-US" sz="9600" spc="-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503280" y="170028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默读课文，说说每篇短文的主要内容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画出自己感受最深的句子，在旁边做批注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4" descr="12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5"/>
          <p:cNvSpPr/>
          <p:nvPr/>
        </p:nvSpPr>
        <p:spPr>
          <a:xfrm>
            <a:off x="2911680" y="260280"/>
            <a:ext cx="1018800" cy="109944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课文分析（一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395280" y="1700280"/>
            <a:ext cx="8748720" cy="1922760"/>
          </a:xfrm>
          <a:prstGeom prst="rect">
            <a:avLst/>
          </a:prstGeom>
          <a:gradFill rotWithShape="0">
            <a:gsLst>
              <a:gs pos="0">
                <a:srgbClr val="ffffff">
                  <a:alpha val="56078"/>
                </a:srgbClr>
              </a:gs>
              <a:gs pos="100000">
                <a:srgbClr val="ffffff">
                  <a:alpha val="6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幼圆"/>
              </a:rPr>
              <a:t>　　</a:t>
            </a:r>
            <a:r>
              <a:rPr b="0" lang="zh-CN" sz="6000" spc="-1" strike="noStrike">
                <a:solidFill>
                  <a:srgbClr val="800000"/>
                </a:solidFill>
                <a:latin typeface="Arial"/>
                <a:ea typeface="黑体"/>
              </a:rPr>
              <a:t>１、默读</a:t>
            </a:r>
            <a:r>
              <a:rPr b="0" lang="en-US" sz="6000" spc="-1" strike="noStrike">
                <a:solidFill>
                  <a:srgbClr val="800000"/>
                </a:solidFill>
                <a:latin typeface="Arial"/>
                <a:ea typeface="黑体"/>
              </a:rPr>
              <a:t>《“</a:t>
            </a:r>
            <a:r>
              <a:rPr b="0" lang="zh-CN" sz="6000" spc="-1" strike="noStrike">
                <a:solidFill>
                  <a:srgbClr val="800000"/>
                </a:solidFill>
                <a:latin typeface="Arial"/>
                <a:ea typeface="黑体"/>
              </a:rPr>
              <a:t>打扫”森林</a:t>
            </a:r>
            <a:r>
              <a:rPr b="0" lang="en-US" sz="6000" spc="-1" strike="noStrike">
                <a:solidFill>
                  <a:srgbClr val="800000"/>
                </a:solidFill>
                <a:latin typeface="Arial"/>
                <a:ea typeface="黑体"/>
              </a:rPr>
              <a:t>》</a:t>
            </a:r>
            <a:r>
              <a:rPr b="0" lang="zh-CN" sz="6000" spc="-1" strike="noStrike">
                <a:solidFill>
                  <a:srgbClr val="800000"/>
                </a:solidFill>
                <a:latin typeface="Arial"/>
                <a:ea typeface="黑体"/>
              </a:rPr>
              <a:t>，想想它主要讲了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324000" y="5013360"/>
            <a:ext cx="8351640" cy="825120"/>
          </a:xfrm>
          <a:prstGeom prst="rect">
            <a:avLst/>
          </a:prstGeom>
          <a:gradFill rotWithShape="0">
            <a:gsLst>
              <a:gs pos="0">
                <a:srgbClr val="ffffff">
                  <a:alpha val="41176"/>
                </a:srgbClr>
              </a:gs>
              <a:gs pos="100000">
                <a:srgbClr val="ffffff">
                  <a:alpha val="4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提示：可采用将各部分连起来的方法概括文章大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357120" y="214200"/>
            <a:ext cx="8678880" cy="3989160"/>
            <a:chOff x="357120" y="214200"/>
            <a:chExt cx="8678880" cy="3989160"/>
          </a:xfrm>
        </p:grpSpPr>
        <p:sp>
          <p:nvSpPr>
            <p:cNvPr id="425" name="Text Box 3"/>
            <p:cNvSpPr/>
            <p:nvPr/>
          </p:nvSpPr>
          <p:spPr>
            <a:xfrm>
              <a:off x="431640" y="1062000"/>
              <a:ext cx="860436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从前（                  ）有个林务官，一上任就命令护林工人把森林里（                      ）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（                ）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（                        ）砍光除尽，结果此举破坏了（                             ），好心办了（           ）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把森林渐渐给（           ）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4"/>
            <p:cNvSpPr/>
            <p:nvPr/>
          </p:nvSpPr>
          <p:spPr>
            <a:xfrm>
              <a:off x="357120" y="214200"/>
              <a:ext cx="3286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课文主要讲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Text Box 5"/>
          <p:cNvSpPr/>
          <p:nvPr/>
        </p:nvSpPr>
        <p:spPr>
          <a:xfrm>
            <a:off x="3419640" y="105264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德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1835280" y="22766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灌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6362640" y="2276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杂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1692360" y="292428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枯枝败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3492360" y="350028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自然的生态平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203640" y="407664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坏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1"/>
          <p:cNvSpPr/>
          <p:nvPr/>
        </p:nvSpPr>
        <p:spPr>
          <a:xfrm>
            <a:off x="1187280" y="4653000"/>
            <a:ext cx="15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毁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57120" y="1071720"/>
            <a:ext cx="835344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为什么题目“打扫”用上双引号？它具体指的是什么？找出课文的句子读一读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灌木统统砍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杂草统统除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连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地上的枯枝烂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不放过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的双引号属于什么用法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殊含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微软雅黑"/>
                <a:ea typeface="微软雅黑"/>
              </a:rPr>
              <a:t>提示：①从词语的意思出发：扫除；清理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微软雅黑"/>
                <a:ea typeface="微软雅黑"/>
              </a:rPr>
              <a:t>②</a:t>
            </a:r>
            <a:r>
              <a:rPr b="1" lang="zh-CN" sz="3200" spc="-1" strike="noStrike">
                <a:solidFill>
                  <a:srgbClr val="ff3399"/>
                </a:solidFill>
                <a:latin typeface="微软雅黑"/>
                <a:ea typeface="微软雅黑"/>
              </a:rPr>
              <a:t>而森林需不需要打扫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ff3399"/>
                </a:solidFill>
                <a:latin typeface="微软雅黑"/>
                <a:ea typeface="微软雅黑"/>
              </a:rPr>
              <a:t>这里的“打扫”含有批评之意，这一“打扫”对森林有着致命的破坏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68000" y="404280"/>
            <a:ext cx="83516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被打扫过的森林变得怎样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齐读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森林面貌顿时改观了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子里又宽敞又洁净，连一根杂草也没有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想森林却从此遭了殃。几年过去了，橡树和菩提树的叶子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越来越少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光秃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像一把把扫帚，有些树木甚至干枯了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1073880" y="4869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越来越少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1126080" y="566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光秃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8"/>
          <p:cNvSpPr/>
          <p:nvPr/>
        </p:nvSpPr>
        <p:spPr>
          <a:xfrm>
            <a:off x="3059280" y="5229360"/>
            <a:ext cx="57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能写出相同结构的词语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6:47:2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8:42:27Z</dcterms:modified>
  <cp:revision>2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