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2174-8C2C-45B8-8AED-8D1DACB7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966-866F-4EF4-B0B8-C05E70ED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F3B05-B74D-4458-87A3-70992E7E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9000A-4ADD-4675-B9C5-DCE3B8FB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26CA9-F389-496C-9C89-3F049716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A0EDE-8C90-4B4A-823D-78F87BC7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3982E-C634-4E23-A78E-1563CADC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EE895-738E-40B1-ACEA-F176629A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79BB2-6F39-45C7-898C-DFEE9AEC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A3CD6-ECBF-4C1F-A3B8-FEB99F31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11553-A8BB-4AF6-B907-81ECCFCB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A1532-6BC9-4EE3-9D07-79685C4A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8C8F-5AC7-4BD5-AC3E-846DFE20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8EDF0-82B7-4CFB-899B-0A95E223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5968A-56D3-440D-B081-BF89D5C5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DD83C-335D-4B3D-BA3A-BD5CB293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60DB8-907B-4A47-888F-594A7997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187A6-7F1B-4EB5-9FBC-AD708CFE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4DDC6-1835-4C92-A739-79615BD6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11130-76A6-4C79-A773-16842342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D895A-97A8-4812-93BE-A9D8A68F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D704D-3E53-420F-B30F-D5309DC4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E85E6-23ED-47B3-BA81-7DBB4A2A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CAB3-5EAD-41D1-869F-1400E787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1DE32-BDB8-46BB-9619-F258D068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8ED2F-1B01-4862-AC14-A590787E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61594-E6D8-449B-B8DC-BD650786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29151-A77C-4E9F-B71E-761F9636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B5F33-C812-4D68-9BF8-8FA8C9B4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FE7CB-C173-447D-98EC-C934FC4A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192EF-46E5-4364-85FC-64D6BE47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0FAFE-416C-4809-8B93-6C3DB231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EC5EF-E2E8-4833-980D-E3D3A609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B2D37-0D7B-4665-AE5B-53559BBB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5E8C-8150-4036-A8EF-579996F8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19B42-AA14-456A-96C6-1F67745A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2E812-D900-49E2-B7C0-F8B248DA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B7C4D-4C09-4FF0-88B1-01C8C6DF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B045D-2E50-4D16-B764-70F948AD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0B779-A73D-4F65-8412-4115430B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39D57-6B09-4679-8E98-3974A877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BE621-9B47-478C-B551-79491206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6C9DF-1185-462C-83BA-B162647D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8F160-01C3-4EA7-953F-4F651A5A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26E75-6EBA-4D15-94E7-0093B30A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6290-2560-4EF4-9160-194E71EB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CB0D9-3902-49A2-8437-8C32D298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54E96-4AAD-4558-925D-01F5E992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6A2BE-9946-4CBE-92E2-5A579BBB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A0EDA-7B8D-421B-99FB-27CA4455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0163F-F9B1-42DB-96C4-7CA545F8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84F29A-A9AB-4268-A5B5-A45D9091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F7C575-10E3-4E8C-959B-0179C105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0E8ED2-79FB-4905-ABDD-6371B1DB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7EE9E3-8658-42CB-829A-3EFB2DFA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C7949-B12F-4131-BACD-E0E447D5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F215-1B83-4745-BC1B-332F5C4D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CA7D7D-8D2A-4B52-A4DC-A1F550B0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0C77C2-1AC0-4B1B-9AE7-DB1D777E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2B4F4-9EF2-42E4-B4A8-C9B2EBBB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4860B-341D-4074-B854-48B6EDBC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AC9A88-9AA2-4E46-9588-4D120793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B26DD5-D534-462D-B83B-E015CFE8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141EB-C8EA-4FE6-BD87-F2C08CD2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D22E-3D00-40C0-97BC-3F656614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EA45-EE9C-4B16-96D3-23BF2CC7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E4B1-05FA-4B02-A667-DF4DD98A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0DFA-C88C-4C78-ABA3-92F24D98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149C-99A1-4573-8204-0EBA1CF1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2D10-455F-4599-91F6-02210C91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617C-CADA-412F-9576-1EBD6795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0529-F958-41B9-BA37-DBB325E8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64D5-10FC-4A27-BB39-A8A4EE46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1AA6-24C2-40C1-8DA4-FD79CD3E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5CE88-0BC0-4937-8A84-C07AF2D3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BDDF6-2E90-46F3-8959-29A1A787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F5994-C44D-4715-8A42-3CD0DEEC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CE68F-D686-4A0F-ACC5-99CB96FC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7B166-DA02-44D4-B17A-FAA9B8FB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F1DF-AD73-4A0E-95E4-A44A5369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2E8B5-31DA-4857-AA8E-31B14D86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58774-E051-4D5E-AAC9-9C7722C9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24A58-8BC3-410E-A544-924A71F5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FF96D-91DF-410A-8B8D-2106A7AD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51A02-3F39-4396-A729-1B975C23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CEA23-3673-4BED-A405-AD65DB6E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9BBBE-EFDA-42E4-B51D-CB181F5B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E04F8-48E8-4E85-9481-29439808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E48CD-53E0-4106-9A49-7AF93F69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DA7CE-4F5F-4A5C-A372-2F0E6033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EB98-B034-4D54-B8B9-A72A710C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2AC80-4E86-4D56-94A5-0E0AE309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C1347-E651-45F1-B65B-E8690590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D3F1C-3C83-467E-9D53-304431AE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14082-2D63-4CD0-BA29-1C9E931F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CC937-4517-4A7F-8FE8-3C779F0F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58C12-1A12-481A-8372-611E730B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8DA49-C4F9-4F0F-8662-9BBB6A7B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D3060-F07F-4012-B78A-2A2423FC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78069-14BA-4800-8520-688E7A91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1BE95-FBE1-462F-B060-8FA35B73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BDDB-9569-4028-AEC0-CE420D3C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CFD14-F573-4732-B4FD-0456D44C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614EF-43C5-4D7F-853A-F960591B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F2BA8-523D-4E45-9DEE-B6DC9DDF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DA857-D852-4D1B-A211-154F011B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187AD-C8E2-4E3A-AB79-D7BC55D6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2324A-6B4F-41B1-BB1A-D985A4E0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1D57E-23D3-4F0F-9878-DE9769F2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D7F74-057F-43CE-AE4E-0C8D21AE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DE1F8-51E5-4DF9-BC34-21A62C27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D227A-4C1C-4345-8302-8BA93D7C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B7E-BC1D-4538-ACCB-B12F1D63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E75EF-461C-4DF5-BF5F-CB1E566D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D9631-DDE5-42A3-9AAF-FB589231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EA466-4763-4675-BB7C-0023DE0E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1BA52-4324-4340-890B-6ABD9118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807FF-62D7-43BB-A301-43EE347F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24A0E-2A12-40B4-B9C8-316C25C5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EA48B-EE59-44D3-A61C-C2A289FD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1652E-9036-4202-941D-DEE7D140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8EC93-FF26-4CF9-805A-7FB9A1AF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5FD81-9822-48EB-B670-5EDBD0D2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B377-F4DA-4695-B2DE-C785A73B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5659B-CD0D-4DAD-BE8D-6C7E9631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BA001-63BD-4C70-A963-5E867EBE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71188-C498-43B0-A19B-2FB68B03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B4F10-21F4-4F58-85FB-A2E9053A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588A7-EBE1-4322-BA76-425542C1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A7EBC-A186-48AA-8D8D-C068B923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0CC58-E25C-4A05-9459-9C4A5500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FB64C-82BB-4083-9AB9-ECBCF2FD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EDA70-B595-4846-9101-87166F21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1B423-1F31-481A-B873-F42EE3B2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1E43-E73D-4D63-88B8-0412D7FA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0AAF9-2323-47DF-B021-858AF1C0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2E9DD-1696-41D8-B1CE-128A1165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9B12D-60DF-4E5E-8B8F-5521F78D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CB63F-E0BA-47A6-A57C-3DE19F8D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64A28-B05B-4DA7-AEDA-A6E08D6D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68C7D-2770-4809-B5EA-9AB65032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D3D0C-39AA-4F3A-8BEF-FF5C5FBC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CDA4B-A52A-408C-8444-CC33D9D8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D5D25-3DA6-485D-A6E2-C80C7E9B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0E306-38F3-49B1-A068-B0C155CF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CA40-6CCE-44CA-87F2-8523859A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1294B-ABEB-4684-8BCC-5CB7E733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5BAB0-3542-4F0D-9B17-6636308D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15255-1D78-4826-B35E-5523570A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A2389-C405-4933-A846-5B3D53C9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5E060-B61A-482F-A91C-702F03A5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91C11-A97C-452C-B55C-9F08A7D0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A7920-B0F6-4A52-8540-E8779E4F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1DEE4-4A16-421D-BC3A-C265D59E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947E4-E40A-44AF-B436-D16A7752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A4BD2-5798-4F9A-A14B-15C498C1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49D8-C21B-40CA-B10F-79C7E0F616A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437E-D95B-49C7-9C2D-3EBDCF1D96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0655-7019-4960-85BE-EA8F9FE9290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88D6-D863-409D-B883-B7345B4BD50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116A-B221-45F2-A35E-3819F3CB107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8154-0532-4671-ACA1-92ED5C81A6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430E-28E5-44E2-8FD0-C289E5DB233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CBD6-55ED-4EFA-892B-F839392E9CF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DDA8-85A4-4777-9DCB-D27BE9231AE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BA0D-D531-4627-B540-6B181871DA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3EAB-4C89-4527-960F-9DADA3EE599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63BB-D953-4F19-9FF1-F8E194414A7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3B4B-0CFC-4786-BF35-1581E32FB71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75C0-303B-4866-A447-CAED4D8565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AA6B-5708-4C80-8AE8-4906C0F54A8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BD97-CD2A-426E-816F-9A83E7A0E14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BE63-57E9-4B55-BA9E-B27D16B9E09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1F7C-6962-487E-B7EB-9441F18563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31CC-7E6B-444F-A844-6242E9A2824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65C7-10A9-4EB3-A394-581EABA6EA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DDC5-A887-40CF-9C7D-2AE2DAFF2D8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C08B-146A-4B42-AF3D-E573AEB96D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C1B0-17C8-4187-A5C1-E00A1979E10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F2B0-5187-43CF-B3FC-8327D78E1D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4D74-69AA-47D7-8E26-08FC02B48AE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8A43-B295-4535-80BA-B78B633502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" descr=""/>
          <p:cNvPicPr/>
          <p:nvPr/>
        </p:nvPicPr>
        <p:blipFill>
          <a:blip r:embed="rId2"/>
          <a:stretch/>
        </p:blipFill>
        <p:spPr>
          <a:xfrm>
            <a:off x="66600" y="-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Box 4"/>
          <p:cNvSpPr/>
          <p:nvPr/>
        </p:nvSpPr>
        <p:spPr>
          <a:xfrm>
            <a:off x="1143000" y="2214720"/>
            <a:ext cx="11383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5"/>
          <p:cNvSpPr/>
          <p:nvPr/>
        </p:nvSpPr>
        <p:spPr>
          <a:xfrm>
            <a:off x="1403280" y="508788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6"/>
          <p:cNvSpPr/>
          <p:nvPr/>
        </p:nvSpPr>
        <p:spPr>
          <a:xfrm>
            <a:off x="1801800" y="2071800"/>
            <a:ext cx="770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爽及其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1"/>
          <p:cNvSpPr/>
          <p:nvPr/>
        </p:nvSpPr>
        <p:spPr>
          <a:xfrm>
            <a:off x="2736360" y="9954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粉色清爽简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演示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7"/>
          <p:cNvSpPr/>
          <p:nvPr/>
        </p:nvSpPr>
        <p:spPr>
          <a:xfrm>
            <a:off x="195120" y="6381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矩形 8"/>
          <p:cNvSpPr/>
          <p:nvPr/>
        </p:nvSpPr>
        <p:spPr>
          <a:xfrm>
            <a:off x="13770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9"/>
          <p:cNvSpPr/>
          <p:nvPr/>
        </p:nvSpPr>
        <p:spPr>
          <a:xfrm>
            <a:off x="25689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7"/>
          <p:cNvSpPr/>
          <p:nvPr/>
        </p:nvSpPr>
        <p:spPr>
          <a:xfrm>
            <a:off x="292608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6"/>
          <p:cNvSpPr/>
          <p:nvPr/>
        </p:nvSpPr>
        <p:spPr>
          <a:xfrm>
            <a:off x="5069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6"/>
          <p:cNvSpPr/>
          <p:nvPr/>
        </p:nvSpPr>
        <p:spPr>
          <a:xfrm>
            <a:off x="4783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矩形 8"/>
          <p:cNvSpPr/>
          <p:nvPr/>
        </p:nvSpPr>
        <p:spPr>
          <a:xfrm>
            <a:off x="109116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7"/>
          <p:cNvSpPr/>
          <p:nvPr/>
        </p:nvSpPr>
        <p:spPr>
          <a:xfrm>
            <a:off x="3143160" y="2786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6"/>
          <p:cNvSpPr/>
          <p:nvPr/>
        </p:nvSpPr>
        <p:spPr>
          <a:xfrm>
            <a:off x="42120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6"/>
          <p:cNvSpPr/>
          <p:nvPr/>
        </p:nvSpPr>
        <p:spPr>
          <a:xfrm>
            <a:off x="52837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1284120" y="6364440"/>
            <a:ext cx="676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1"/>
          <p:cNvSpPr/>
          <p:nvPr/>
        </p:nvSpPr>
        <p:spPr>
          <a:xfrm>
            <a:off x="1643040" y="282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8"/>
          <p:cNvSpPr/>
          <p:nvPr/>
        </p:nvSpPr>
        <p:spPr>
          <a:xfrm>
            <a:off x="49266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6"/>
          <p:cNvSpPr/>
          <p:nvPr/>
        </p:nvSpPr>
        <p:spPr>
          <a:xfrm>
            <a:off x="39265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8"/>
          <p:cNvSpPr/>
          <p:nvPr/>
        </p:nvSpPr>
        <p:spPr>
          <a:xfrm>
            <a:off x="27835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矩形 8"/>
          <p:cNvSpPr/>
          <p:nvPr/>
        </p:nvSpPr>
        <p:spPr>
          <a:xfrm>
            <a:off x="10911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矩形 8"/>
          <p:cNvSpPr/>
          <p:nvPr/>
        </p:nvSpPr>
        <p:spPr>
          <a:xfrm>
            <a:off x="14486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7"/>
          <p:cNvSpPr/>
          <p:nvPr/>
        </p:nvSpPr>
        <p:spPr>
          <a:xfrm>
            <a:off x="3857760" y="4572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7"/>
          <p:cNvSpPr/>
          <p:nvPr/>
        </p:nvSpPr>
        <p:spPr>
          <a:xfrm>
            <a:off x="54266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6"/>
          <p:cNvSpPr/>
          <p:nvPr/>
        </p:nvSpPr>
        <p:spPr>
          <a:xfrm>
            <a:off x="39978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6"/>
          <p:cNvSpPr/>
          <p:nvPr/>
        </p:nvSpPr>
        <p:spPr>
          <a:xfrm>
            <a:off x="26406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39600" y="617364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矩形 8"/>
          <p:cNvSpPr/>
          <p:nvPr/>
        </p:nvSpPr>
        <p:spPr>
          <a:xfrm>
            <a:off x="10911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7"/>
          <p:cNvSpPr/>
          <p:nvPr/>
        </p:nvSpPr>
        <p:spPr>
          <a:xfrm>
            <a:off x="2500200" y="2643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5"/>
          <p:cNvSpPr/>
          <p:nvPr/>
        </p:nvSpPr>
        <p:spPr>
          <a:xfrm>
            <a:off x="54979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6"/>
          <p:cNvSpPr/>
          <p:nvPr/>
        </p:nvSpPr>
        <p:spPr>
          <a:xfrm>
            <a:off x="42120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8"/>
          <p:cNvSpPr/>
          <p:nvPr/>
        </p:nvSpPr>
        <p:spPr>
          <a:xfrm>
            <a:off x="130572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9"/>
          <p:cNvSpPr/>
          <p:nvPr/>
        </p:nvSpPr>
        <p:spPr>
          <a:xfrm>
            <a:off x="5497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5"/>
          <p:cNvSpPr/>
          <p:nvPr/>
        </p:nvSpPr>
        <p:spPr>
          <a:xfrm>
            <a:off x="24976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7"/>
          <p:cNvSpPr/>
          <p:nvPr/>
        </p:nvSpPr>
        <p:spPr>
          <a:xfrm>
            <a:off x="27835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8"/>
          <p:cNvSpPr/>
          <p:nvPr/>
        </p:nvSpPr>
        <p:spPr>
          <a:xfrm>
            <a:off x="56408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8"/>
          <p:cNvSpPr/>
          <p:nvPr/>
        </p:nvSpPr>
        <p:spPr>
          <a:xfrm>
            <a:off x="12340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7"/>
          <p:cNvSpPr/>
          <p:nvPr/>
        </p:nvSpPr>
        <p:spPr>
          <a:xfrm>
            <a:off x="2643120" y="3500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9"/>
          <p:cNvSpPr/>
          <p:nvPr/>
        </p:nvSpPr>
        <p:spPr>
          <a:xfrm>
            <a:off x="69267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7"/>
          <p:cNvSpPr/>
          <p:nvPr/>
        </p:nvSpPr>
        <p:spPr>
          <a:xfrm>
            <a:off x="11401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9"/>
          <p:cNvSpPr/>
          <p:nvPr/>
        </p:nvSpPr>
        <p:spPr>
          <a:xfrm>
            <a:off x="4997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39600" y="617364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矩形 8"/>
          <p:cNvSpPr/>
          <p:nvPr/>
        </p:nvSpPr>
        <p:spPr>
          <a:xfrm>
            <a:off x="1234080" y="571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7"/>
          <p:cNvSpPr/>
          <p:nvPr/>
        </p:nvSpPr>
        <p:spPr>
          <a:xfrm>
            <a:off x="28548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9"/>
          <p:cNvSpPr/>
          <p:nvPr/>
        </p:nvSpPr>
        <p:spPr>
          <a:xfrm>
            <a:off x="44978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6"/>
          <p:cNvSpPr/>
          <p:nvPr/>
        </p:nvSpPr>
        <p:spPr>
          <a:xfrm>
            <a:off x="39265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7"/>
          <p:cNvSpPr/>
          <p:nvPr/>
        </p:nvSpPr>
        <p:spPr>
          <a:xfrm>
            <a:off x="34977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09:04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