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2C4-A561-4A32-92DC-208A2C01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1B1-4D7D-40C2-A32D-30149588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3A1-BC2B-498C-951F-D2A99E26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23A-AF2A-482B-AF47-74CC5330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CB2-4985-40FD-8B30-2A3F3F82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5D0-A082-4CDF-8767-E00BCCBB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FFB-A63E-463A-89FB-9F79DB30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383-ECE6-42EB-98BA-086A6746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CA4F-EB3F-4E53-ABF2-52F94C97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B340-B450-4A57-B7E3-2C023F53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6CED-EA9C-4272-AD1D-80B45379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2C5-2EA0-4B61-BD2D-4035583A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F884-7166-4A61-9B4F-93E00452C6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57200" y="380880"/>
            <a:ext cx="8229600" cy="6095880"/>
            <a:chOff x="457200" y="380880"/>
            <a:chExt cx="8229600" cy="6095880"/>
          </a:xfrm>
        </p:grpSpPr>
        <p:graphicFrame>
          <p:nvGraphicFramePr>
            <p:cNvPr id="42" name="Object 4"/>
            <p:cNvGraphicFramePr/>
            <p:nvPr/>
          </p:nvGraphicFramePr>
          <p:xfrm>
            <a:off x="457200" y="380880"/>
            <a:ext cx="8229600" cy="609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80880"/>
                      <a:ext cx="8229600" cy="6095880"/>
                    </a:xfrm>
                    <a:prstGeom prst="rect">
                      <a:avLst/>
                    </a:prstGeom>
                    <a:ln w="19080">
                      <a:solidFill>
                        <a:srgbClr val="ffff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4" name="Object 5"/>
            <p:cNvGraphicFramePr/>
            <p:nvPr/>
          </p:nvGraphicFramePr>
          <p:xfrm>
            <a:off x="609480" y="533160"/>
            <a:ext cx="7925040" cy="581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533160"/>
                      <a:ext cx="7925040" cy="5810400"/>
                    </a:xfrm>
                    <a:prstGeom prst="rect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46" name="Picture 6" descr="C:\Documents and Settings\顾萍\桌面\2\bb-k03.gif"/>
            <p:cNvPicPr/>
            <p:nvPr/>
          </p:nvPicPr>
          <p:blipFill>
            <a:blip r:embed="rId5"/>
            <a:stretch/>
          </p:blipFill>
          <p:spPr>
            <a:xfrm>
              <a:off x="609480" y="533160"/>
              <a:ext cx="289584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7" descr="http://dragon.boo.jp/whiteboard.files/razubery.files/u-c.gif"/>
            <p:cNvPicPr/>
            <p:nvPr/>
          </p:nvPicPr>
          <p:blipFill>
            <a:blip r:embed="rId6"/>
            <a:stretch/>
          </p:blipFill>
          <p:spPr>
            <a:xfrm>
              <a:off x="7467480" y="4952880"/>
              <a:ext cx="10782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8" descr="http://dragon.boo.jp/whiteboard.files/razubery.files/un-c.gif"/>
            <p:cNvPicPr/>
            <p:nvPr/>
          </p:nvPicPr>
          <p:blipFill>
            <a:blip r:embed="rId7"/>
            <a:stretch/>
          </p:blipFill>
          <p:spPr>
            <a:xfrm>
              <a:off x="5410080" y="4800600"/>
              <a:ext cx="10782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9" descr="http://dragon.boo.jp/whiteboard.files/razubery.files/bb-line01.gif"/>
            <p:cNvPicPr/>
            <p:nvPr/>
          </p:nvPicPr>
          <p:blipFill>
            <a:blip r:embed="rId8"/>
            <a:stretch/>
          </p:blipFill>
          <p:spPr>
            <a:xfrm>
              <a:off x="1820880" y="3886200"/>
              <a:ext cx="6180120" cy="69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1"/>
          <p:cNvSpPr/>
          <p:nvPr/>
        </p:nvSpPr>
        <p:spPr>
          <a:xfrm>
            <a:off x="2396880" y="1989000"/>
            <a:ext cx="46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歌唱二小放牛郎</a:t>
            </a:r>
            <a:r>
              <a:rPr b="1" lang="zh-CN" sz="40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6560" y="652608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2839680" y="914400"/>
            <a:ext cx="3868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月十六那天早上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去一条山沟“扫荡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沟里潜伏着后方机关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还隐藏着几千个老乡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C624-5659-4488-B2BE-0E2C76ED34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600200" y="990720"/>
            <a:ext cx="6043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快要走到山口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昏头昏脑地迷失了方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抓住了二小叫他带路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假装顺从自有主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2819520" y="1219320"/>
            <a:ext cx="6043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快要走到山口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昏头昏脑地迷失了方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819520" y="1219320"/>
            <a:ext cx="6043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快要走到山口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昏头昏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</a:t>
            </a: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迷失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方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025640" y="228600"/>
            <a:ext cx="322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抓住了二小叫他带路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他假装顺从自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600200" y="990720"/>
            <a:ext cx="6043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快要走到山口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昏头昏脑地迷失了方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抓住了二小叫他带路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假装顺从自有主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323440" y="1565280"/>
            <a:ext cx="5209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王二小带路走在前面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敌人领进我们的埋伏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下里“乒乒乓乓”响起了枪声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才知道受了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2602080" y="243828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王二小带路走在前面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把敌人领进我们的埋伏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264400" y="243828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王二小带路走在前面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把敌人领进我们的</a:t>
            </a:r>
            <a:r>
              <a:rPr b="0" lang="zh-CN" sz="44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埋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伏圈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2323440" y="1600200"/>
            <a:ext cx="520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下里“乒乒乓乓”响起了枪声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才知道受了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2323440" y="1565280"/>
            <a:ext cx="5209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王二小带路走在前面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敌人领进我们的埋伏圈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下里“乒乒乓乓”响起了枪声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才知道受了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"/>
          <p:cNvGrpSpPr/>
          <p:nvPr/>
        </p:nvGrpSpPr>
        <p:grpSpPr>
          <a:xfrm>
            <a:off x="0" y="0"/>
            <a:ext cx="1600200" cy="6858000"/>
            <a:chOff x="0" y="0"/>
            <a:chExt cx="1600200" cy="6858000"/>
          </a:xfrm>
        </p:grpSpPr>
        <p:pic>
          <p:nvPicPr>
            <p:cNvPr id="53" name="Picture 2" descr="C:\Documents and Settings\顾萍\桌面\2\roseW-E021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6002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3" descr="C:\Documents and Settings\顾萍\桌面\2\roseW-E021.gif"/>
            <p:cNvPicPr/>
            <p:nvPr/>
          </p:nvPicPr>
          <p:blipFill>
            <a:blip r:embed="rId2"/>
            <a:stretch/>
          </p:blipFill>
          <p:spPr>
            <a:xfrm>
              <a:off x="0" y="2286000"/>
              <a:ext cx="16002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4" descr="C:\Documents and Settings\顾萍\桌面\2\roseW-E021.gif"/>
            <p:cNvPicPr/>
            <p:nvPr/>
          </p:nvPicPr>
          <p:blipFill>
            <a:blip r:embed="rId3"/>
            <a:stretch/>
          </p:blipFill>
          <p:spPr>
            <a:xfrm>
              <a:off x="0" y="4572000"/>
              <a:ext cx="160020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6"/>
          <p:cNvSpPr/>
          <p:nvPr/>
        </p:nvSpPr>
        <p:spPr>
          <a:xfrm>
            <a:off x="1219320" y="838080"/>
            <a:ext cx="7696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ɡōu   yǐn      zhuā    pīnɡp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隐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藏  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抓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  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乒乓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n shu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ǐ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nɡ  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骗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摔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死  胸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膛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敌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ɡuān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 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n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关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迷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顺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伏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z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àn                chóu          y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nɡ  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án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战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士  复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仇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传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扬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小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228600" y="0"/>
            <a:ext cx="6172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敌人把二小挑在枪尖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摔死在大石头的上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八路军战士从山上冲下来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复仇的子弹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将敌人的胸膛射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1676520" y="1371600"/>
            <a:ext cx="6019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秋风吹遍了每个村庄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动人的故事到处传扬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一个老乡都眼含热泪，歌唱着二小放牛郎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2666880" y="6858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秋风吹遍了每个村庄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动人的故事到处传扬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124080" y="152388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一个老乡都眼含热泪，歌唱着二小放牛郎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1676520" y="1371600"/>
            <a:ext cx="6019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秋风吹遍了每个村庄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动人的故事到处传扬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一个老乡都眼含热泪，歌唱着二小放牛郎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1077840" y="304920"/>
            <a:ext cx="231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牛儿还在山坡上吃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牛的却不知道哪儿去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是他贪玩耍丢了牛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牛的孩子王二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92720" y="4343400"/>
            <a:ext cx="2527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月十六那天早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去一条山沟“扫荡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沟里潜伏着后方机关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还隐藏着几千个老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52280" y="2362320"/>
            <a:ext cx="396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快要走到山口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昏头昏脑地迷失了方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抓住了二小叫他带路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假装顺从自有主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091840" y="304920"/>
            <a:ext cx="338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王二小带路走在前面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敌人领进我们的埋伏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下里“乒乒乓乓”响起了枪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才知道受了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4191120" y="4267080"/>
            <a:ext cx="403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秋风吹遍了每个村庄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动人的故事到处传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一个老乡都眼含热泪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歌唱着二小放牛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191120" y="2286000"/>
            <a:ext cx="49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把二小挑在枪尖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摔死在大石头的上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路军战士从山上冲下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仇的子弹将敌人的胸膛射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1600200" cy="6858000"/>
            <a:chOff x="0" y="0"/>
            <a:chExt cx="1600200" cy="6858000"/>
          </a:xfrm>
        </p:grpSpPr>
        <p:pic>
          <p:nvPicPr>
            <p:cNvPr id="121" name="Picture 3" descr="C:\Documents and Settings\顾萍\桌面\2\roseW-E021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6002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" descr="C:\Documents and Settings\顾萍\桌面\2\roseW-E021.gif"/>
            <p:cNvPicPr/>
            <p:nvPr/>
          </p:nvPicPr>
          <p:blipFill>
            <a:blip r:embed="rId2"/>
            <a:stretch/>
          </p:blipFill>
          <p:spPr>
            <a:xfrm>
              <a:off x="0" y="2286000"/>
              <a:ext cx="16002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5" descr="C:\Documents and Settings\顾萍\桌面\2\roseW-E021.gif"/>
            <p:cNvPicPr/>
            <p:nvPr/>
          </p:nvPicPr>
          <p:blipFill>
            <a:blip r:embed="rId3"/>
            <a:stretch/>
          </p:blipFill>
          <p:spPr>
            <a:xfrm>
              <a:off x="0" y="4572000"/>
              <a:ext cx="160020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Text Box 6"/>
          <p:cNvSpPr/>
          <p:nvPr/>
        </p:nvSpPr>
        <p:spPr>
          <a:xfrm>
            <a:off x="1219320" y="838080"/>
            <a:ext cx="7696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ɡōu   yǐn      zhuā    pīnɡp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隐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藏  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抓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  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乒乓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n shu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ǐ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nɡ  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骗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摔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死  胸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膛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敌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ɡuān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 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n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关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迷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顺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伏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z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àn                chóu          y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nɡ  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án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战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士  复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仇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传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扬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小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1600200" cy="6858000"/>
            <a:chOff x="0" y="0"/>
            <a:chExt cx="1600200" cy="6858000"/>
          </a:xfrm>
        </p:grpSpPr>
        <p:pic>
          <p:nvPicPr>
            <p:cNvPr id="126" name="Picture 3" descr="C:\Documents and Settings\顾萍\桌面\2\roseW-E021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6002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4" descr="C:\Documents and Settings\顾萍\桌面\2\roseW-E021.gif"/>
            <p:cNvPicPr/>
            <p:nvPr/>
          </p:nvPicPr>
          <p:blipFill>
            <a:blip r:embed="rId2"/>
            <a:stretch/>
          </p:blipFill>
          <p:spPr>
            <a:xfrm>
              <a:off x="0" y="2286000"/>
              <a:ext cx="16002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C:\Documents and Settings\顾萍\桌面\2\roseW-E021.gif"/>
            <p:cNvPicPr/>
            <p:nvPr/>
          </p:nvPicPr>
          <p:blipFill>
            <a:blip r:embed="rId3"/>
            <a:stretch/>
          </p:blipFill>
          <p:spPr>
            <a:xfrm>
              <a:off x="0" y="4572000"/>
              <a:ext cx="160020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Text Box 6"/>
          <p:cNvSpPr/>
          <p:nvPr/>
        </p:nvSpPr>
        <p:spPr>
          <a:xfrm>
            <a:off x="1219320" y="838080"/>
            <a:ext cx="7696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隐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藏  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抓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  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乒乓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骗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摔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死  胸</a:t>
            </a:r>
            <a:r>
              <a:rPr b="1" lang="zh-CN" sz="48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膛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敌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关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迷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顺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伏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战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士  复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仇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传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扬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小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-7920" y="0"/>
            <a:ext cx="8466120" cy="6858000"/>
            <a:chOff x="-7920" y="0"/>
            <a:chExt cx="8466120" cy="6858000"/>
          </a:xfrm>
        </p:grpSpPr>
        <p:sp>
          <p:nvSpPr>
            <p:cNvPr id="134" name="矩形 4"/>
            <p:cNvSpPr/>
            <p:nvPr/>
          </p:nvSpPr>
          <p:spPr>
            <a:xfrm>
              <a:off x="5702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-792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7"/>
            <p:cNvSpPr/>
            <p:nvPr/>
          </p:nvSpPr>
          <p:spPr>
            <a:xfrm rot="20926800">
              <a:off x="19130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6"/>
          <p:cNvSpPr/>
          <p:nvPr/>
        </p:nvSpPr>
        <p:spPr>
          <a:xfrm>
            <a:off x="399960" y="58770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3135600" y="1371600"/>
            <a:ext cx="3533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牛儿还在山坡吃草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牛的却不知道哪儿去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是他贪玩耍丢了牛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放牛的孩子王二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2907000" y="685800"/>
            <a:ext cx="353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牛儿还在山坡上吃草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牛的却不知道哪儿去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432080" y="1752480"/>
            <a:ext cx="353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是他贪玩耍丢了牛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牛的孩子王二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3135600" y="1371600"/>
            <a:ext cx="3533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牛儿还在山坡上吃草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牛的却不知道哪儿去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是他贪玩耍丢了牛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放牛的孩子王二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839680" y="914400"/>
            <a:ext cx="3868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月十六那天早上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敌人去一条山沟“扫荡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沟里潜伏着后方机关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还隐藏着几千个老乡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2663280" y="1828800"/>
            <a:ext cx="319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九月十六那天早上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敌人去一条山沟“扫荡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40960" y="1828800"/>
            <a:ext cx="319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九月十六那天早上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敌人去一条山沟“扫荡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2" name="Object 2" descr=""/>
            <p:cNvPicPr/>
            <p:nvPr/>
          </p:nvPicPr>
          <p:blipFill>
            <a:blip r:embed="rId1"/>
            <a:stretch/>
          </p:blipFill>
          <p:spPr>
            <a:xfrm>
              <a:off x="0" y="1025640"/>
              <a:ext cx="9144000" cy="58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Object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7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Group 8"/>
          <p:cNvGrpSpPr/>
          <p:nvPr/>
        </p:nvGrpSpPr>
        <p:grpSpPr>
          <a:xfrm>
            <a:off x="2839680" y="228600"/>
            <a:ext cx="3868920" cy="1434600"/>
            <a:chOff x="2839680" y="228600"/>
            <a:chExt cx="3868920" cy="1434600"/>
          </a:xfrm>
        </p:grpSpPr>
        <p:sp>
          <p:nvSpPr>
            <p:cNvPr id="75" name="Text Box 6"/>
            <p:cNvSpPr/>
            <p:nvPr/>
          </p:nvSpPr>
          <p:spPr>
            <a:xfrm>
              <a:off x="2839680" y="228600"/>
              <a:ext cx="38689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山沟里潜伏着后方机关，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还隐藏着几千个老乡。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5"/>
            <p:cNvSpPr/>
            <p:nvPr/>
          </p:nvSpPr>
          <p:spPr>
            <a:xfrm>
              <a:off x="2840040" y="228600"/>
              <a:ext cx="38685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山沟里</a:t>
              </a:r>
              <a:r>
                <a:rPr b="1" lang="zh-CN" sz="44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潜伏着</a:t>
              </a:r>
              <a:r>
                <a:rPr b="1" lang="zh-CN" sz="4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后方机关</a:t>
              </a:r>
              <a:r>
                <a:rPr b="1" lang="zh-CN" sz="44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，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还</a:t>
              </a:r>
              <a:r>
                <a:rPr b="1" lang="zh-CN" sz="44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隐藏着</a:t>
              </a:r>
              <a:r>
                <a:rPr b="1" lang="zh-CN" sz="4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几千个老乡</a:t>
              </a:r>
              <a:r>
                <a:rPr b="1" lang="zh-CN" sz="44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。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03:4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57:59Z</dcterms:modified>
  <cp:revision>1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